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4825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8AD1-2CAE-4BA3-935C-942049DA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E794-938A-4404-ADC8-6A87244B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9070-92A1-4B11-B2E4-1193ABFB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8D27-0159-48FD-9205-611260A8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0C32-41C4-4D93-A26D-934704E1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467A-790A-4A13-876C-8A382028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3323-F13B-4D28-8001-50AD762E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7C22-8953-4EC2-B7B1-A86749A2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687-3B27-4A97-B58F-7DDDE4F3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1447-6A5E-4FE4-84A7-3FCE2F29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A9DD-D65F-4DD5-BDFA-1CD0E4BF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CAC4-670F-422A-B352-96FB70B3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269D-8014-42EF-BCB9-C33A0C525B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691920"/>
            <a:ext cx="784692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es Feature Selection Really Work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97000"/>
            <a:ext cx="6400800" cy="26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r: Wenhui 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ta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ypoth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ity of datasets used in this study benefit greatly from aggressive feature selectio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se datasets have a small number of features that together allow to learn the underlying concept concisely, while the rest of the features do more harm than g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features by IG in several datas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4643280" cy="41767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46 benefit from feature selection immens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set 1 is characterized with smooth spectrum of IG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20NG dataset, feature selection was found particularly harm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gh IG imply feature sele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beneficia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1916280"/>
            <a:ext cx="4643280" cy="4176720"/>
            <a:chOff x="0" y="1916280"/>
            <a:chExt cx="4643280" cy="41767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1916280"/>
              <a:ext cx="4643280" cy="41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 txBox="1"/>
            <p:nvPr/>
          </p:nvSpPr>
          <p:spPr>
            <a:xfrm>
              <a:off x="0" y="1916280"/>
              <a:ext cx="4643280" cy="417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 31:IG values do not necessarily imply that feature selection is help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31: declines grace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st increasing of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 61:lower initial IG values, but IG graph declines very sharply, boosting the accuracy from 0.64 to 0.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G value is not the measure expec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lute values of information gain are of less importance tha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ed of dec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-li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eatures whose information gain is highly above that of all other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the number of features whose information gain is higher than 3 standard deviations above the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lier Count (O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87280" y="5013360"/>
            <a:ext cx="698508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ggressive feature selec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bined with extended feature s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ocument extended with constructed features, aggressive feature selection can significantly improve categorization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and Matwin change document representation from a bag of words to a bag of syn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geniy (et al) adopt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tend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g of words with WordNet-based features rather than syn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ture selec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; 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denote the joint probability that a random document contains ter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belongs to catego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note the number of training doc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Gain (IG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 Squ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-Normal Separation (B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4365720"/>
            <a:ext cx="5616720" cy="514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987640" y="4941720"/>
            <a:ext cx="554364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ual feature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ng the top scor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a predefined threshold on the feature score or a fixed percentage of all the features 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top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words occurring in less than three doc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SVM,C4.5 and K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VM with linear ker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ification accuracy as a measure of text categorization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single-labeled datasets, precision, recall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 and precision-recall break-even point (BEP) are equal to accuracy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egorization eval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zation platfor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gw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-fold cross-validatio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e frequently used datase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largest categories of Reuters-215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News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ie Revie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tion of Perform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78800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uters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w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um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92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warts Bekke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85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85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ovie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gwar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s) 0.81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.82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Categorization with Many Redundant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icient Feature Selection via Analysis of Relevance and Redund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idation of Performance cont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78800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 selection harms th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 square and BNS feature selection algorithms very similar to I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dicting the utility of feature s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859280" cy="4114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lower values of Outlier Count, aggressive feature selection is highly benefi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higher OC values, aggressive selection causes degradation in accura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formance of feature selection on Outlier Cou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he 100 used datasets, OC is nearly uniformly distributed between 6 and 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a single outlier value of 112 for Dataset 1, SVM accuracy dropped from 0.86 to 0.7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ture selection is harm or good?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uters-215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e Reviews 1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Newsgroups 3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C-an feasible measu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se findings, we can find that using Outlier Count for ordering datasets reflects the degree to which a dataset can be concisely described by only a few features, while the rest of the features are predominantly redundant and have detrimental effect on classification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arison of classif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71636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ison of SVM, C4.5 and KNN with 100%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4.5 mostly dominates SVM and KN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4.5 only declines in the rightmost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 of Feature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“without feature selection” and with the “optimal feature selec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26920" y="3429000"/>
            <a:ext cx="7740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gnificance of feature s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-te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ssess the significance of differences in classifier accuracy over the 100 data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3357720"/>
            <a:ext cx="6553440" cy="2560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700360" y="4508640"/>
            <a:ext cx="93492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3280" y="4941720"/>
            <a:ext cx="1081080" cy="432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effect on different feature s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8592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16360" y="1981080"/>
            <a:ext cx="41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4.5 performs better than SVM except for the most aggressive FS levels, where their accuracy becomes nearly eq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4.5 stays high above KNN at most FS lev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un FS by extended feature set based on Word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0" y="1989000"/>
            <a:ext cx="4859280" cy="4114800"/>
            <a:chOff x="0" y="1989000"/>
            <a:chExt cx="4859280" cy="41148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0" y="1989000"/>
              <a:ext cx="485928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0" y="1989000"/>
              <a:ext cx="485928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0" y="1981080"/>
            <a:ext cx="442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.5 clearly manages redundant features much better than both SVM and K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cy of SVM and KNN increases steadily with feature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using the optimal FS level, addition of WordNet features is only responsible for a minor improvement in SVM accuracy from 0.853 to 0.85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6093000"/>
            <a:ext cx="33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gure 6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 using 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tended feature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effect of using different FS algorith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00720" y="1989000"/>
            <a:ext cx="4643280" cy="4032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1936800"/>
            <a:ext cx="442764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all features intact for SVM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categorization algorithms represent documents as bags of words (huge numbers of fe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ity of these features are relevant for classification and SVM peaks when no feature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though most of these features are relevant, the concepts can be captured using only a few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ing all features harms categorization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redundant features the performance of C4.5 is superior to that of S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effect of using different FS algorithms (cont’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, CHI and BNS are the best performers, while the difference between them is not signific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contrast with prior studies, the best performance of SVM is obtained when only using a tiny fraction of features (0.5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ing the relevancy of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478800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: Whether the features discarded by selection are relev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ed all features by their information gain, and then removed larger fractions progress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: Yes, they are considered relevant, but a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dund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es Feature Selection Work? Yes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g of words naturally have to manage feature spaces of very high dimensi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vious works found that SVM text categorization peaks when no feature selection is performed ?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io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edundan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s boosts categorization accuracy of a host of class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4005360"/>
            <a:ext cx="28728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292720" y="4005360"/>
            <a:ext cx="28728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5589720"/>
            <a:ext cx="14436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132000" y="5444640"/>
            <a:ext cx="216000" cy="2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no feature selection is employed on such datasets, SVMs are significantly outperformed by C4.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henomenon happens when a small number of features are sufficient for capturing the underlying conce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asure named Outlier Count can help estimate the amount of feature redundancy through outlier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lier Count reliably predicts the amount of improvement gained through feature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Findings are proven by experiments both for the conventional bag of words, and for a extended representation based on Word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dundant features are in fact relevant for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about non-linear kern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oughout this experiment, researchers used an SVM classifier with a linear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ption: non-linear SVM kernel may fare better than a linear one when dealing with numerous redundant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: switching from a linear kernel to an RBF non-linear SVM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trast, accuracy with an RBF kernel was slightly below that of a linear one (0.849 vs. 0.85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cent prog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n (2004) proposed a novel feature selection algorithm named Bi-Normal Separation (BNS), which improved the performance of SVM text categorization on a range of datasets (500-1000 feat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using less than 100 features, more aggressive feature selection led to sharp degradation of the results (decrease by 5%-1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Obser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mprovement of Outlier count method in accuracy can be twice as high as found by Forman (2004) (namely, 8.4% vs. 4.2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le optimal performance is achieved when using much fewer features (between 5 and 40, depending on the data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in, Bi-Normal Separation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I Squ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most powerful feature selection algorithms, while the differences between them are not signific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u and Liu’s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u&amp;Liu:Traditional feature sele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plosion of fea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g of words usually leads to an explosion in the number of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ately-sized test collections often have thousands or even tens of thousands of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such high-dimensional spaces, feature selection (FS) is necessary to reduce noise and avoid overfi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u&amp;Liu:FCBF (Fast Correlation-Based Filte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68360" y="5950080"/>
            <a:ext cx="7905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geniy Gabrilovich and Shaul Markovitch:Text Categorization with Many Redundant Features: Using Aggressive Feature Selection to Make SVMs Competitive with C4.5.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ceedings of The Twenty-First International Conference on Machine Learn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ages 321-328, Banff, Alberta, Canada, 2004. Morgan Kaufman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i Yu, Huan Liu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Feature Selection via Analysis of Relevance and Redundanc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5-1224 Journal of Machine Learning Research, Volume 5, October 20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kkerman, R. (2003). Distributional clustering of words for text categorization. Master's thesis, CS Department, Technion|Israel Inst. of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Thank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previous idea of featu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achims (1998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M are very robust even on numerous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tude of text features are indeed useful for text categor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a Naive Bayes classifier with feature sets of increasing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s ordered by their discriminative capacity (information 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emove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st informative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lassifier better than random lab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kkerman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20 Newsgroups, feature selection degrades the accurac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M clas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Do not perform any feature selection at all 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Redundant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atur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geniy(et al)’s experi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Open Directory Project (OD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 data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tegorization difficulty (SVM accuracy) is evenly distributed from very easy to very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of them are can be told apart using a small number of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words add little differentiation power, and are therefo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dund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676520"/>
            <a:ext cx="815328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cent experi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4200" y="1588680"/>
            <a:ext cx="795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geniy (et al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feature selection, C4.5 capture the concept much better than either SVM or K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feature selection, C4.5 is still significantly superior to KNN and only marginally less capable than SV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experim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gressive feature selection is used for this class of problems on a different document re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the WordNet electronic dictionary to extend the conventional bag of word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VM performance steadily increases as fewer features are s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y to explain this res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 novel measure to predict the redunda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measure analyzes the information gain of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s whether feature selection will be beneficial (or harmfu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require to actually build a classif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ation of datas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Web directories, use 100 data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classification task of telling these two categories a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collect the documents from the subtrees rooted at these categories to populate the dataset (average of 150 docu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5 pages, and concatenated in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nthetic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nthetic docu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move HTML mark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yne</cp:lastModifiedBy>
  <dcterms:modified xsi:type="dcterms:W3CDTF">2005-03-30T16:12:47Z</dcterms:modified>
  <cp:revision>270</cp:revision>
  <dc:subject/>
  <dc:title>PowerPoint Presentation</dc:title>
</cp:coreProperties>
</file>