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B3F8-04A9-4D37-A880-2916CFDC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629A-C660-4A46-9354-CDF7BC3E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7822-B050-4B10-B28B-0071377A2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FC73-5080-44D5-AB18-F323909AA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DE57-87A7-4BC0-BCAC-1C95ACB9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74E4-1ECF-4BF0-9644-6FE3B5C5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04BE-DF6F-4283-9661-72C7D60E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BDFB-E242-4F3A-BC42-2688644B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B228-AFFB-45CC-8704-D167B933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4F24-2791-4D44-A0D4-B13F3420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FB57-1E11-45B5-84EF-1BF9BCF4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D52B-83C5-4DE4-B8B5-7AFE6CC1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34AD-BE87-4724-962D-450FF5B07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349360"/>
            <a:ext cx="914400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supervised Learning</a:t>
            </a:r>
            <a:br>
              <a:rPr sz="28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e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omas Fletcher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urrent Techniqu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co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640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results with expected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valid for labele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ial comparisons: Statistical/Geome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 comparison (SS, SD, DS, D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 statist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ccard coeffic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kes and Mallows ind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836640"/>
            <a:ext cx="9144000" cy="712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6300720" y="5084640"/>
                <a:ext cx="216072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M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∗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205240" y="4508640"/>
                <a:ext cx="158436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148280" y="4100400"/>
                <a:ext cx="12240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assify, then evalu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640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ustering is an abstract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erson’s noise is another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universal measurements of good/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s impose a hypothesis, some can be compared and others ca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know what you are looking for, then that can be incorporated into an algorithm that provides good similarity all th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836640"/>
            <a:ext cx="9144000" cy="712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assify, then evaluate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640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ying techniques allows users to decide what is best for them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ner in which clusters are 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of the data s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itivity of cluster to data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ization of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priate similarity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of data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mpare results only on similar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836640"/>
            <a:ext cx="9144000" cy="712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640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ing Unsupervised Learning i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s calculated for most metrics are readily on hand, often used directly as part of the unsupervised learning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Unsupervised Learning i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rics obtained may have no relevance against values obtained for other algorith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ct measures are hard to come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836640"/>
            <a:ext cx="9144000" cy="712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supervis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640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 Learn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tioning of data into subsets (aka Clust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classifier based on part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ing natural partitions of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ing interesting distributions and patterns in underly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data on a measure of simi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ulti-Disciplinary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836640"/>
            <a:ext cx="9144000" cy="712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L Process Deta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640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ustering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simila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di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ty den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er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 the clustering criterion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labels to data artific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 the classifier/cluster as more data arr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36640"/>
            <a:ext cx="9144000" cy="712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valuation 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640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ifferent techniques &amp;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imilarities, many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general framework or best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/Wrong depends on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ustering activity has its own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clus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archical/Non-hierarchic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algorithm/techniq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836640"/>
            <a:ext cx="9144000" cy="712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valuation Challeng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co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640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uster validity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time discussion, papers since 1970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resolution, just more data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of clustering activity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jective activity with different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36640"/>
            <a:ext cx="9144000" cy="712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80" y="4076640"/>
            <a:ext cx="3791160" cy="2333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356000" y="4005360"/>
            <a:ext cx="412452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valuation Stud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640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e that the data can be class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result to a known/expected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e against intuitive feel of the data (ie 2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patterns within a cluster are simi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is intrinsically appropriate f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son of one cluster result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836640"/>
            <a:ext cx="9144000" cy="712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valuation Metr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640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eneral concept of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ce and proxim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clidian/Vector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est neighbour ra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al meas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 criterion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hypothesis measure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oo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tional cost (processor/memo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tional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rate/out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836640"/>
            <a:ext cx="9144000" cy="712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urrent Techn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640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Compari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when making algorithm mod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comes compared directly for all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evaluate quality of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improving local “quality”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compare internal algorithm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es to apples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836640"/>
            <a:ext cx="9144000" cy="712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urrent Techniqu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co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640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ity Ind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compare outcomes of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ased towards particular criterion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es generally more precise than criter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mpts to measure quality of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indices/statistics per sce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gory ut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statistical measures (Hubert T-st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836640"/>
            <a:ext cx="9144000" cy="712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814920" y="4797360"/>
                <a:ext cx="53290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r>
                                      <m:t xml:space="preserve">(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[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  <m:r>
                                      <m:t xml:space="preserve">|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  <m:sSup>
                                      <m:e>
                                        <m:r>
                                          <m:t xml:space="preserve">]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[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  <m:sSup>
                                      <m:e>
                                        <m:r>
                                          <m:t xml:space="preserve">]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</m:e>
                            </m:nary>
                          </m:e>
                        </m:nary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3T01:41:28Z</dcterms:created>
  <dc:creator>Thomas Fletcher</dc:creator>
  <dc:description/>
  <dc:language>en-US</dc:language>
  <cp:lastModifiedBy>Thomas Fletcher</cp:lastModifiedBy>
  <dcterms:modified xsi:type="dcterms:W3CDTF">2005-02-09T18:05:35Z</dcterms:modified>
  <cp:revision>50</cp:revision>
  <dc:subject/>
  <dc:title>Performance of Parallel I/O Scheduling  Strategies on a Network of Workstations   Proc. IEEE International Conference  on  Parallel and Distributed Systems 2001   Authors: Fangyu Chen, Shikharesh Majumdar     Presenter: Thomas Fletcher   </dc:title>
</cp:coreProperties>
</file>