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80E-05E7-4E73-B30F-4284825B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CA7-16F4-4A95-AF98-35F4559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095-6C5E-4EE8-8DA5-F8FD6C57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301-CC48-4990-9CC4-77F3622E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7A6-824E-463A-A797-3083967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992-7E3F-4C91-B05B-6DE2A9AB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D11-71E7-4BBC-A22E-5B434096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C5C-B19E-4A97-A31F-3803D68A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28C-5729-415A-A34A-8B607A31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27E-02FD-4545-A308-F543C15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7F3-F803-46F4-8F17-C1849D6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125-43EC-4816-9366-0F4EFC4B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64F-7F0A-42DA-87AD-58C808D2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4936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ive Clustering of High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mensional Text Data Augmented b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 Search</a:t>
            </a:r>
            <a:br>
              <a:rPr sz="2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derjit Dhillon, Yuqiang Guan, J. Kogan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omas Fletcher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over spherical k-me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“troubled” data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clustering arran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al-world data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%-25% higher objective functio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 k-means often didn’t change de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cluster count increases, first-variation makes more and mor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over spherical k-me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lustering of “stuck” data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better with smal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ing of algorithms together exploits the strengths of both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 to improve objective function to allow variabl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document collection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feedback loop to conv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imensional Tex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reated as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cument has vector of possib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ocuments’ vectors are sp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mented by Local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of nearest data points to refin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his paper contrib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local search procedure “first-vari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on k-means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data points between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s the clu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s to a better local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luster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 k-means &amp; first-varia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lgorithm that uses both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cluste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content bearing words (feat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’ content represented as a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clusters based on document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vectors generally sp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ectors matching features (high dimens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fraction loc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cument clusters not evi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herical k-m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the Euclidean k-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y based on cosine of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measured on unit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 &amp;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s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ve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 qua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916360" y="4005360"/>
                <a:ext cx="568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492360" y="400464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h cluster containing n document vectors,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92360" y="4460760"/>
                <a:ext cx="10796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Π</m:t>
                        </m:r>
                      </m:sub>
                      <m:sup/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40360" y="4902120"/>
                <a:ext cx="1152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‖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‖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140360" y="5516640"/>
                <a:ext cx="2303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Π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‖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‖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00720" y="6021360"/>
                <a:ext cx="194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508720" y="501264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d expec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herical k-m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 random distribution of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each clusters’ concept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ocument vector calculate the closest concept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clusters based on closest concep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he new cluster “quality” to the old cluster “quality”.   If the difference is greater than the desired tolerance, set the new cluster as the current cluster and go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gets stuck at local maxim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converge for smal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411280" y="2637000"/>
                <a:ext cx="1584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k</m:t>
                        </m:r>
                      </m:lim>
                    </m:limLow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-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a vector from one partiti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 single vector that maximally increases the objective functio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-means compares the difference in context vector values (cosine similarity) of cluster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variation compares the difference achieved by one cluster composition to another by quality compa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43280" y="4005360"/>
                <a:ext cx="3529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mean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033640" y="5661000"/>
                <a:ext cx="5292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rstvaiat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-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place k-means in 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lgorithm, but next cluster content selection is based on the first-variation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ncreases in objective functio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nsive than k-me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echnique by “looking forward” and selecting the vector chains with high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rging k-means and first-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k-means and first-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 increases in objectiv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s local maximum (gets stu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vari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ower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vari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l search more accu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6640"/>
            <a:ext cx="9144000" cy="71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98920" y="5229360"/>
            <a:ext cx="1368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5229360"/>
            <a:ext cx="1511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2920" y="5302080"/>
            <a:ext cx="432000" cy="43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5302080"/>
            <a:ext cx="431640" cy="4320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5229360"/>
            <a:ext cx="934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3"/>
            <a:endCxn id="84" idx="1"/>
          </p:cNvCxnSpPr>
          <p:nvPr/>
        </p:nvCxnSpPr>
        <p:spPr>
          <a:xfrm>
            <a:off x="2193480" y="5516640"/>
            <a:ext cx="505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4" idx="3"/>
            <a:endCxn id="86" idx="1"/>
          </p:cNvCxnSpPr>
          <p:nvPr/>
        </p:nvCxnSpPr>
        <p:spPr>
          <a:xfrm>
            <a:off x="4066920" y="551772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6" idx="3"/>
            <a:endCxn id="85" idx="1"/>
          </p:cNvCxnSpPr>
          <p:nvPr/>
        </p:nvCxnSpPr>
        <p:spPr>
          <a:xfrm>
            <a:off x="4714560" y="551772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7" idx="1"/>
          </p:cNvCxnSpPr>
          <p:nvPr/>
        </p:nvCxnSpPr>
        <p:spPr>
          <a:xfrm>
            <a:off x="6875280" y="551772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6" idx="2"/>
            <a:endCxn id="88" idx="2"/>
          </p:cNvCxnSpPr>
          <p:nvPr/>
        </p:nvCxnSpPr>
        <p:spPr>
          <a:xfrm rot="5400000">
            <a:off x="3077640" y="4383360"/>
            <a:ext cx="70200" cy="2772000"/>
          </a:xfrm>
          <a:prstGeom prst="bentConnector3">
            <a:avLst>
              <a:gd name="adj1" fmla="val 4293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140000" y="494172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2720" y="4941720"/>
            <a:ext cx="74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5229360"/>
            <a:ext cx="5745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87" idx="3"/>
            <a:endCxn id="96" idx="2"/>
          </p:cNvCxnSpPr>
          <p:nvPr/>
        </p:nvCxnSpPr>
        <p:spPr>
          <a:xfrm>
            <a:off x="7667280" y="55177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7598160" y="530208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3120" y="5734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5080" y="5734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5300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229360"/>
            <a:ext cx="576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7" idx="2"/>
            <a:endCxn id="88" idx="2"/>
          </p:cNvCxnSpPr>
          <p:nvPr/>
        </p:nvCxnSpPr>
        <p:spPr>
          <a:xfrm rot="5400000">
            <a:off x="4554000" y="2906640"/>
            <a:ext cx="70200" cy="5725080"/>
          </a:xfrm>
          <a:prstGeom prst="bentConnector3">
            <a:avLst>
              <a:gd name="adj1" fmla="val 8881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2" idx="6"/>
            <a:endCxn id="88" idx="1"/>
          </p:cNvCxnSpPr>
          <p:nvPr/>
        </p:nvCxnSpPr>
        <p:spPr>
          <a:xfrm flipV="1">
            <a:off x="826920" y="551628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41:28Z</dcterms:created>
  <dc:creator>Thomas Fletcher</dc:creator>
  <dc:description/>
  <dc:language>en-US</dc:language>
  <cp:lastModifiedBy>Thomas Fletcher</cp:lastModifiedBy>
  <dcterms:modified xsi:type="dcterms:W3CDTF">2005-02-02T00:53:21Z</dcterms:modified>
  <cp:revision>36</cp:revision>
  <dc:subject/>
  <dc:title>Performance of Parallel I/O Scheduling  Strategies on a Network of Workstations   Proc. IEEE International Conference  on  Parallel and Distributed Systems 2001   Authors: Fangyu Chen, Shikharesh Majumdar     Presenter: Thomas Fletcher   </dc:title>
</cp:coreProperties>
</file>