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3C1-2B72-409D-9408-1DDE9FE8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09E-23F2-4D7F-81D7-12FFA254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EAF-57AB-4C67-B326-E2EFB163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F46-7CD0-4E48-A8E4-A9018273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9877-A57E-4803-96F8-5D808C3D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DCF9-AF2F-4DDD-91A2-E69D7AE9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F67D-72C0-4247-B962-B5E7FB07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D93F-3FDF-40BC-BD4C-F8BC376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DD60-A645-445E-8163-757EA3AC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7906-37FB-4F6D-9ACD-0AB08CE7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8783-6791-43C2-9327-98F18252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401-7C4F-498C-8CAD-49DB28F4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2832-240F-4DFB-B7AC-69001A02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866E-AC3B-4F81-ACAD-29737ABB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24F7-6794-4B48-9A19-5CFAC21C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04A5-0470-43DB-9215-90B13244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4F37-65D3-43A6-BBC5-C90E5CDB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298-7846-4FA9-AE5A-1CA1FE21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F5F-091D-4432-9D61-DD8EEC8D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A3C-4C0E-43FB-BC27-1DDB90E8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5EF-66C4-436A-A46E-E25A2087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C57-A735-4785-AA42-1259571B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30B-9AEA-490B-934F-E13BDB24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D64-9804-4987-967D-2AF7464C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57D0-A947-4A31-8A4A-561DC8A83C9F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7E8C-56CC-447C-8D18-6B91EAE0FD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C44E-641C-4FF4-8328-054130AEC51E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EC25-E73F-45D2-BD7B-623F15D3FBE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rational.com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java.sun.com/tutorials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java.sun.com/blueprints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junit.org/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jakarta.apache.org/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www.extremeprogramming.org/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www106.ibm.com/developerworks/java/library/j-diag1015.html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0320"/>
            <a:ext cx="777240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Cost-effective XP Approach for J2EE Test Using TTCN-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040" y="4038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i X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86613FD-FED9-44D5-9F34-75CB4A434A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utomatic Testing and Tool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t Test: Juni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gration/In-Container Test: Cac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cceptance/Functional Test: HttpUni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formance/Load Test: JUnitPerf, JM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6DA73-B968-47BB-9F5A-45242FD103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ontinuous Integratio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ilding a complete copy of the system and its full tests suite several times per da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sible progr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duced integration pa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s run frequent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C09E3-BACC-4356-95BE-84BE64D0D1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J2EE Environmen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6191280" cy="42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F9F11-7669-40E7-BD76-56B43F830D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omplexity of J2EE Development Process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 tiered archite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onents and contai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server, application server, EIS serv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ules (.jars .wars .ear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ployment Descript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iling, packaging, deploying, tes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4CB85-4617-4AF8-B02C-259FFA0CB2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pache Ant and J2E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ilation, archive creation and classpath manag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aging, wrapping and deploy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vironment configuration, documentation and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E5DD4-14FF-4F76-A9A8-0337DE42E9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Why TTCN-3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600200"/>
            <a:ext cx="731520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Version of an International Standard Test Languag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ffers Both Graphic(MSC and Tabular) and a Text Based Forma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cribe More Complicated Distributed Behavior, Instead of Pure OSI Conformance Test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st Practice in Today’s Testing approach (UML, SDL, TTCN, …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23B61-7EEB-4D5A-A0B8-BB53F54C68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ig Pictur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3200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2EE ap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4038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ain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1752480"/>
            <a:ext cx="441972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utomatic Tes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259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unctio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3200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ttpUn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590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312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UnitPerf/JMe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5638680"/>
            <a:ext cx="66294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inuous Integration: A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5320" y="4038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ctu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4952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Un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3048120"/>
            <a:ext cx="419112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514600"/>
            <a:ext cx="419112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53280" y="609480"/>
            <a:ext cx="304920" cy="5946120"/>
          </a:xfrm>
          <a:prstGeom prst="rect">
            <a:avLst/>
          </a:prstGeom>
          <a:solidFill>
            <a:srgbClr val="6f89f7"/>
          </a:solidFill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TCN-3 test sui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990720" y="3505320"/>
            <a:ext cx="0" cy="1676160"/>
          </a:xfrm>
          <a:prstGeom prst="line">
            <a:avLst/>
          </a:prstGeom>
          <a:ln w="1270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00400" y="3505320"/>
            <a:ext cx="0" cy="1676160"/>
          </a:xfrm>
          <a:prstGeom prst="line">
            <a:avLst/>
          </a:prstGeom>
          <a:ln w="1270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429000"/>
            <a:ext cx="914400" cy="0"/>
          </a:xfrm>
          <a:prstGeom prst="line">
            <a:avLst/>
          </a:prstGeom>
          <a:ln w="1270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1752480"/>
            <a:ext cx="19814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5029200"/>
            <a:ext cx="3200400" cy="76320"/>
          </a:xfrm>
          <a:custGeom>
            <a:avLst/>
            <a:gdLst>
              <a:gd name="textAreaLeft" fmla="*/ 500040 w 3200400"/>
              <a:gd name="textAreaRight" fmla="*/ 2800440 w 320040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4343400"/>
            <a:ext cx="2514600" cy="0"/>
          </a:xfrm>
          <a:prstGeom prst="line">
            <a:avLst/>
          </a:prstGeom>
          <a:ln w="76320">
            <a:solidFill>
              <a:srgbClr val="6f89f7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4952520" y="3657240"/>
            <a:ext cx="2590920" cy="609480"/>
          </a:xfrm>
          <a:prstGeom prst="line">
            <a:avLst/>
          </a:prstGeom>
          <a:ln w="76320">
            <a:solidFill>
              <a:srgbClr val="6f89f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105160" y="4419720"/>
            <a:ext cx="2438280" cy="761760"/>
          </a:xfrm>
          <a:prstGeom prst="line">
            <a:avLst/>
          </a:prstGeom>
          <a:ln w="76320">
            <a:solidFill>
              <a:srgbClr val="6f89f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F1400-79A8-48D8-A668-C4BAAD1D67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arser for TTCN-3 to Jav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ML as the starting poi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Java class-TTCN-3 modu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Java method-TTCN-3 testc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haring common Project dictionary and test d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ass name, method name, parameters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11FD1-5B79-4B5A-853C-431CD20C06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ample UML Sequence Diagra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D8787-98E0-4F7D-9DC0-5067652A28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TCN-3 Test Modul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80880" y="1015920"/>
            <a:ext cx="8458200" cy="530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F8D8A-3371-44AF-A123-FB87B46C5F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ftware develop process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XP (eXtreme Programming)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c testing and continuous integ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xity of J2EE development proces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ig pi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ser for TTCN-3 to ja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se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ation and future wor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153C1-6971-47F9-BDAC-0C3614363B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ample TTCN-3 Test Scrip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module CategorySystemTest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//type, port, component and function definitions…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function setup() runs on PTCType {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var PTCType ptc_CategorySystem;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ptc_CategorySystem.Creat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map(ptc_CategorySystem:pco, system:tsi_pco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connect(ptc_CategorySystem:cp, mtc:cp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testcase testGetCurrentCategory() runs on MTCType system TestSystemType{}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//other testcases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control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execute(testGetCurrentCategory()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} 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E499A-1ED9-41FA-9DA0-B41C272E49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ample TTCN-3 testcas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600200"/>
            <a:ext cx="7848360" cy="48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signature testCall(in charstring methodname, in integer methodpar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testcase testGetCurrentCategory() runs on MTCType system TestSystemType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setup();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pco.call(testcall{"getCurrentCategory",-}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alt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[]pco.getreply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verdict.set(pass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cp.send(verdict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[]pco.catch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verdict.set(fail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cp.send(verdict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stop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2203B-1417-44E8-8D95-60E2A78EDD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Generated Sample Java Test Scrip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1676520"/>
            <a:ext cx="71629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import junit.framework.*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import java.util.*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public class CategorySystemTest extends TestCase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CategorySystem categorysystem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… 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public static void main(java.lang.String[] args) 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junit.textui.TestRunner.run(suite()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 … 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protected void setup() throws Exception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categorysystem = new CategorySystem(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public void testGetCurrentCategory() throws Exception{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assertNotNull(categorysystem.getCurrentCategory())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//other testcases… 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Times New Roman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CB066-B0D1-4C7A-B792-07182618A7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se Stud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simplified Online pet store e-comm sy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-centric Archite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in 2.1.5, IBM cloudscape 5.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t test tool – Junit 3.8.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gration tool – Apache ant 1.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89352-7EB5-424C-B136-CCCEBAB38C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Web-centric Application Architectur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236232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29000" y="380988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b Contain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304" idx="2"/>
            <a:endCxn id="305" idx="1"/>
          </p:cNvCxnSpPr>
          <p:nvPr/>
        </p:nvCxnSpPr>
        <p:spPr>
          <a:xfrm flipH="1" rot="16200000">
            <a:off x="2025360" y="2822040"/>
            <a:ext cx="139788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7" name=""/>
          <p:cNvSpPr/>
          <p:nvPr/>
        </p:nvSpPr>
        <p:spPr>
          <a:xfrm>
            <a:off x="914400" y="3276720"/>
            <a:ext cx="914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TT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TM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M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48006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JSP,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rvlet,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Java Class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228600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IS resourc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5" idx="3"/>
            <a:endCxn id="309" idx="2"/>
          </p:cNvCxnSpPr>
          <p:nvPr/>
        </p:nvCxnSpPr>
        <p:spPr>
          <a:xfrm flipV="1">
            <a:off x="5334120" y="3117600"/>
            <a:ext cx="1676880" cy="11088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943600" y="4419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JDBC connec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8AE99-D137-4B7E-910E-11160ED6BA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ntegration and Automatic Test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205740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t build.xm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2895480"/>
            <a:ext cx="121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mpi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1560" y="3659040"/>
            <a:ext cx="121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ackag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1560" y="4344840"/>
            <a:ext cx="121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plo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1560" y="5106960"/>
            <a:ext cx="121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t test Junit 3.8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1280" y="2895480"/>
            <a:ext cx="1524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pplication director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4038480"/>
            <a:ext cx="1524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 server Resin2.1.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5029200"/>
            <a:ext cx="121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o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9920" y="5715000"/>
            <a:ext cx="1217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TM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76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65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362320" y="3200040"/>
            <a:ext cx="1218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4495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62320" y="53341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181480" y="518112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81480" y="54864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EF0AE-66DA-4CEE-A92F-E2E9D6D8FF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st Resul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4" name="test_failure_reason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91520" cy="463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D52A5-6242-40E6-A15C-ADCADF19D1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st Result - Failur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7" name="test_failure_reason_details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96080" cy="461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92A8F-346D-4D56-B401-7EC55438FE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Limitations and Future Work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ol dependen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hort term work: java based test tools, Cactus, HttpUnit, jMeter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ng term work: other e-commerce architectures, like .NET and Web Servic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C821C-BEE0-4DB6-94FA-4DE1B5008E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Resources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038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n Patton, Software testing, Sams publication, Nov 2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ational web site,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www.rational.co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2ee Tutorial,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http://java.sun.com/tutoria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va blue prints,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java.sun.com/blueprint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unit web site,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http://junit.or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ache Project,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http://jakarta.apache.or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treme programming official web site,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http://www.extremeprogramming.org/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http://www106.ibm.com/developerworks/java/library/j-diag1015.htm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628e"/>
                </a:solidFill>
                <a:latin typeface="Tahoma"/>
              </a:rPr>
              <a:t>Part 1: ES201 873-1 TTCN-3 Core Language</a:t>
            </a:r>
            <a:r>
              <a:rPr b="1" lang="en-US" sz="2000" spc="-1" strike="noStrike">
                <a:solidFill>
                  <a:srgbClr val="44628e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4628e"/>
                </a:solidFill>
                <a:latin typeface="Tahoma"/>
              </a:rPr>
              <a:t>version: 2.2.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628e"/>
                </a:solidFill>
                <a:latin typeface="Tahoma"/>
              </a:rPr>
              <a:t>Kent Beck, Test-driven development</a:t>
            </a:r>
            <a:r>
              <a:rPr b="0" lang="en-US" sz="2000" spc="-1" strike="noStrike">
                <a:solidFill>
                  <a:srgbClr val="44628e"/>
                </a:solidFill>
                <a:latin typeface="Arial"/>
              </a:rPr>
              <a:t>, Addison Wesley 20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53B62-DF65-4AC6-9856-076C6C04A8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oftware Development Processes Mode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software development process model is a description of the work practices, tools and techniques used to develop software. High quality software development process models support developers in creating software tha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tisfies customer requireme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th low cost and low numbers of defec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B74FC-E55C-4375-94CE-37B6B45BCB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stions and Discus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F704332-8B22-46D5-B209-AFCBA7A40E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7200" y="456840"/>
            <a:ext cx="76057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oftware Development Process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ig-Bang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de-and-Fix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aterfall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iral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D (Rapid Application Developmen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P (Rational Unified Proces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XP (eXtreme Programming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E05F4-E092-4267-A1F8-A105EA0D43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979720" y="3211560"/>
            <a:ext cx="2963880" cy="1600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54440" y="373392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1eb"/>
                </a:solidFill>
                <a:latin typeface="Arial"/>
              </a:rPr>
              <a:t>Code-and-Fi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632480"/>
            <a:ext cx="1981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1eb"/>
                </a:solidFill>
                <a:latin typeface="Arial"/>
              </a:rPr>
              <a:t>System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1eb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1eb"/>
                </a:solidFill>
                <a:latin typeface="Arial"/>
              </a:rPr>
              <a:t>(Mayb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38098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38098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7086600" y="3124080"/>
            <a:ext cx="1693800" cy="127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237800" y="4832280"/>
            <a:ext cx="1143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1eb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1eb"/>
                </a:solidFill>
                <a:latin typeface="Arial"/>
              </a:rPr>
              <a:t>(Mayb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42800" y="2895480"/>
            <a:ext cx="153828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6280" y="304920"/>
            <a:ext cx="7635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ode-and-fix Mode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242F0-2396-4D2E-97FC-B68002D56278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7560"/>
            <a:ext cx="7635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2040840"/>
            <a:ext cx="16970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c1eb"/>
                </a:solidFill>
                <a:latin typeface="Arial"/>
              </a:rPr>
              <a:t>Preliminary Investig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2970720"/>
            <a:ext cx="14684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c1eb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3885120"/>
            <a:ext cx="14684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c1eb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32360" y="4723200"/>
            <a:ext cx="253512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c1eb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5684040"/>
            <a:ext cx="2057400" cy="3682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c1eb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590920"/>
            <a:ext cx="0" cy="533160"/>
          </a:xfrm>
          <a:prstGeom prst="line">
            <a:avLst/>
          </a:prstGeom>
          <a:ln w="381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3124080"/>
            <a:ext cx="685800" cy="0"/>
          </a:xfrm>
          <a:prstGeom prst="line">
            <a:avLst/>
          </a:prstGeom>
          <a:ln w="3816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3429000"/>
            <a:ext cx="0" cy="685800"/>
          </a:xfrm>
          <a:prstGeom prst="line">
            <a:avLst/>
          </a:prstGeom>
          <a:ln w="381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4114800"/>
            <a:ext cx="685800" cy="0"/>
          </a:xfrm>
          <a:prstGeom prst="line">
            <a:avLst/>
          </a:prstGeom>
          <a:ln w="3816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4343400"/>
            <a:ext cx="0" cy="609480"/>
          </a:xfrm>
          <a:prstGeom prst="line">
            <a:avLst/>
          </a:prstGeom>
          <a:ln w="381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4952880"/>
            <a:ext cx="685800" cy="0"/>
          </a:xfrm>
          <a:prstGeom prst="line">
            <a:avLst/>
          </a:prstGeom>
          <a:ln w="3816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5181480"/>
            <a:ext cx="0" cy="685800"/>
          </a:xfrm>
          <a:prstGeom prst="line">
            <a:avLst/>
          </a:prstGeom>
          <a:ln w="381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77120" y="5867280"/>
            <a:ext cx="685800" cy="0"/>
          </a:xfrm>
          <a:prstGeom prst="line">
            <a:avLst/>
          </a:prstGeom>
          <a:ln w="3816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819520" y="2438280"/>
            <a:ext cx="0" cy="533520"/>
          </a:xfrm>
          <a:prstGeom prst="line">
            <a:avLst/>
          </a:prstGeom>
          <a:ln w="381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209680" y="2438280"/>
            <a:ext cx="609840" cy="0"/>
          </a:xfrm>
          <a:prstGeom prst="line">
            <a:avLst/>
          </a:prstGeom>
          <a:ln w="3816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419720" y="3200040"/>
            <a:ext cx="0" cy="685800"/>
          </a:xfrm>
          <a:prstGeom prst="line">
            <a:avLst/>
          </a:prstGeom>
          <a:ln w="381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505320" y="3200400"/>
            <a:ext cx="914400" cy="0"/>
          </a:xfrm>
          <a:prstGeom prst="line">
            <a:avLst/>
          </a:prstGeom>
          <a:ln w="3816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172200" y="4190760"/>
            <a:ext cx="0" cy="533160"/>
          </a:xfrm>
          <a:prstGeom prst="line">
            <a:avLst/>
          </a:prstGeom>
          <a:ln w="381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952520" y="4191120"/>
            <a:ext cx="1219320" cy="0"/>
          </a:xfrm>
          <a:prstGeom prst="line">
            <a:avLst/>
          </a:prstGeom>
          <a:ln w="3816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8077320" y="4952520"/>
            <a:ext cx="0" cy="685800"/>
          </a:xfrm>
          <a:prstGeom prst="line">
            <a:avLst/>
          </a:prstGeom>
          <a:ln w="381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467480" y="4952880"/>
            <a:ext cx="609840" cy="0"/>
          </a:xfrm>
          <a:prstGeom prst="line">
            <a:avLst/>
          </a:prstGeom>
          <a:ln w="3816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925FE-C754-42D3-9C37-24703097828F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8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685800" y="1600200"/>
            <a:ext cx="708660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3C7AD-4001-40E9-828C-D8B84BCA387C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Rational Unified Proces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5530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2B3B9-3D76-4572-855F-2C9DEEDB2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What Is XP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light weight software development process that focuses on feedback, communication, simplicity and cour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 of its 12 core practice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c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inuous integ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74E8A-8FBC-428C-8560-2DB8F13847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1:42:13Z</dcterms:created>
  <dc:creator>wxu</dc:creator>
  <dc:description/>
  <dc:language>en-US</dc:language>
  <cp:lastModifiedBy>wei</cp:lastModifiedBy>
  <dcterms:modified xsi:type="dcterms:W3CDTF">2003-08-19T14:24:20Z</dcterms:modified>
  <cp:revision>90</cp:revision>
  <dc:subject/>
  <dc:title>A Cost-effective XP Approach for J2EE Test Using TTCN-3</dc:title>
</cp:coreProperties>
</file>