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291-90FD-47E9-BF32-1C643E1C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17B-C145-433E-9927-092F365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9FF-229E-4D08-B6C9-31D924FF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F40-DE84-41FB-BD4A-2EA83762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932-D372-47F1-819F-DCA5A7B2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43C5-3FDE-44D4-8370-5A8AE4A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7B9-0F3C-4A06-AD0B-5E03356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5D2-61A9-4501-840F-C7AA30C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D374-C9BF-4B3E-A47F-944BB79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D55-255A-4C0C-8DBE-9FAEAE7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19E8-AE38-42AE-B2A5-B0919F6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EAE-D02F-4EFD-B6C4-40AC7D18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366-C8A2-4771-951F-A2AC9E2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B7AF-6E41-486C-80AD-4BF3641E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7AC4-897F-43BC-958D-F4B3D10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708-27F9-4E9C-8F48-93E54386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E9B1-3911-402A-A2B5-141704EB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849-1819-400D-AA57-799F94C3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F38-A6A0-4129-9133-AD351B6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13B-A93A-4BE2-AD01-3FF5E43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5E8-DB49-4C3F-BE74-9EAD8B9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50E-CE25-45FA-A50B-F2241F2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DBA-3D7B-4D20-9E7E-D2B48E91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3EF-3A19-445E-B36C-52C33BD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9C3-0E2C-42D9-B4E0-307CABB82571}" type="slidenum">
              <a:rPr b="0" lang="en-C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36E-A6D2-4958-A86D-B086DDB3A438}" type="slidenum">
              <a:rPr b="0" lang="en-C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Secur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eaker: Peter Qi Qi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TE, University of Ottaw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49F-9C99-4DD8-B317-B4E92A522E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Mess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TimesNewRomanPSMT"/>
              </a:rPr>
              <a:t> types of SIP messag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T87Eo00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NewRomanPSMT"/>
              </a:rPr>
              <a:t>Requests—sent from the client to the serv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T87Eo00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NewRomanPSMT"/>
              </a:rPr>
              <a:t>Responses—sent from the server to the cli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828800" y="4495680"/>
            <a:ext cx="5211720" cy="1526760"/>
            <a:chOff x="1828800" y="4495680"/>
            <a:chExt cx="5211720" cy="152676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828800" y="4724280"/>
              <a:ext cx="914400" cy="8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5943600" y="4495680"/>
              <a:ext cx="1096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743200" y="5029200"/>
              <a:ext cx="32004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514240" y="5562720"/>
              <a:ext cx="3429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94760" y="45370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9880" y="5562720"/>
              <a:ext cx="13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Respon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113-E174-42AE-9086-219A4AB3A0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Messages - Reque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8001000" cy="25477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re request METHODS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792504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06A-3AF6-413B-B04A-ABB9B72791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Messages – Request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198072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quest form composed of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quest line: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Request Method&gt; &lt;caller URI&gt; &lt;SIP versi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NewRomanPSMT"/>
              </a:rPr>
              <a:t>e.g. INVITE </a:t>
            </a:r>
            <a:r>
              <a:rPr b="1" lang="en-US" sz="1600" spc="-1" strike="noStrike">
                <a:solidFill>
                  <a:srgbClr val="ff0000"/>
                </a:solidFill>
                <a:latin typeface="TimesNewRomanPSMT"/>
              </a:rPr>
              <a:t>sip:bob@acme.com</a:t>
            </a:r>
            <a:r>
              <a:rPr b="0" lang="en-US" sz="1600" spc="-1" strike="noStrike">
                <a:solidFill>
                  <a:srgbClr val="003366"/>
                </a:solidFill>
                <a:latin typeface="TimesNewRomanPSMT"/>
              </a:rPr>
              <a:t> SIP/2.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ader lines: Via, From, To, Call-ID, Cseq, etc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ssage body (if any): SD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NewRomanPSMT"/>
              </a:rPr>
              <a:t>INVITE sip:bob@acme.com SIP/2.0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Via: SIP/2.0/UDP alice_ws.radvision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From: Alice A. &lt;sip:alice@radvision.com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To: Bob B. &lt;sip:bob@acme.com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all-ID: 2388990012@alice_ws.radvision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Seq: 1 INVIT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ontent-Type: application/SD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ontent-Length: </a:t>
            </a:r>
            <a:r>
              <a:rPr b="0" lang="en-US" sz="1400" spc="-1" strike="noStrike">
                <a:solidFill>
                  <a:srgbClr val="0066ff"/>
                </a:solidFill>
                <a:latin typeface="TimesNewRomanPSMT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3C4-F5BA-4AE7-9CD7-38FE25C99E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Messages - Respon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09640" y="221472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sponse code partly based on HTTP response co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.g. 180 means “ringing”; 200 means “success”; 401 means “unauthorized”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24852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A63-7422-4F74-89AE-D0AADD5446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Messages – Respon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sponse form composed of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quest line: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SIP version&gt; &lt;Response code&gt; &lt;reas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.g. SIP 2.0 200 O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ader lines: copied from Request most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ssage body (if any): SD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NewRomanPSMT"/>
              </a:rPr>
              <a:t>SIP/2.0 200 O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Via: SIP/2.0/UDP alice_ws.radvision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From: Alice A. &lt;sip:alice@radvision.com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To: Bob B. &lt;sip:bob@acme.com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all-ID: 2388990012@alice_ws.radvision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Seq: 1 INVIT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ontent-Type: application/SD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ff"/>
                </a:solidFill>
                <a:latin typeface="TimesNewRomanPSMT"/>
              </a:rPr>
              <a:t>Content-Length: </a:t>
            </a:r>
            <a:r>
              <a:rPr b="0" lang="en-US" sz="1400" spc="-1" strike="noStrike">
                <a:solidFill>
                  <a:srgbClr val="0066ff"/>
                </a:solidFill>
                <a:latin typeface="TimesNewRomanPSMT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7F4-FDFD-4A4F-9BE7-8A54912336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Call Flow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rect call establishment and termination between 2 UA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086600" cy="3276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65080" y="5943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6880" y="5943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l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09A-A14B-4598-A730-964DF7F473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Call Flow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all establishment between two UAs with intermediary Proxy server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600200" y="2438280"/>
          <a:ext cx="601992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6019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6A4-C81D-461C-A208-94FC235DDA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Part 2: SIP Security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19047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verview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rea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ecurity Mechanis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501-BEA6-4FE2-B152-08319F0047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ocol Secur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jority of Internet protocols were not designed with security in mi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ndors have been slow to implement security fea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ustomers seldom use available security fea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ck of realistic threat model and inadequate testing has slowed activity in standards bod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00% solutions are unlikely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CD3-3B0F-4E98-8800-4876824A05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ere do vulnerabilities occu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ecification &amp; Desig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adequate security requir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ack of security features (e.g. authentication, confidentiality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secure coding practices (e.g. not validating input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figuration &amp; Deploy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secure features enabled by defau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ailure to configure devices and applications proper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79A-6B80-493F-B5D1-C2133AC072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rt 1: Intro to S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rt 2: SIP Secur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urity Mechanis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787-9071-465E-A227-ED3CF997FC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rea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licious users exploit the vulnerabil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 known threat types to SI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Replay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The retransmission of a genuine message so that the device receiving the message reprocesses 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Man-in-the-middl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modifying headers and message in transi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Spoofin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intercepting the signaling path and attempts to gain the user’s credentials. e.g. acting as a server and tricking the user agent into supplying credential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Tearing Down Sessio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inserting forged request to modify or terminate targeted session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enial-of-Servi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rendering a SIP element unavail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8A9-0A51-4473-AC1B-F5406A56BC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reat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ring down sess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ert CANC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ert BY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ert re-INVI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495680" y="2895480"/>
            <a:ext cx="342900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55C-01E0-4499-9FB1-4CE0680B7B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reat Example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rver Spoof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7242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887-0FDA-4129-AE19-C76E7AD6A7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curity 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urity services expecte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uthentication/Authoriz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n-repudi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ADA-CE68-4EB7-B8A6-C843F35A16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TTP Digest Authent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sic Authenticatio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cheme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preciated due to clear text transf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TTP Digest Authent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vents Replay attac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ent to server auth on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mited integrity prot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wo typ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ser-to-User auth - 4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ser-to-Proxy auth – 407 (next pag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432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A25-DEF7-4777-AF8D-90A54D8237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802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1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640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AF6-1E5D-4CA2-AB8A-B8D355A9ED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wer-layer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provide Stronger Auth, Confidentiality and Integrity services, application layer mechanism is not enoug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wer layer mechanism, offering stronger protection mechanism, is required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LS (Transport Layer Security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tual authentication, confidentiality, integr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uns over TCP, not UD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PSec – network layer; optional in SI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PS URI scheme: signifies that each hop must be secured by TL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D60-A2C0-4DD4-8EF7-9103300A50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/MI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ssage bodies separately require the security services of authentication, confidentiality, and integrit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ure Multipurpose Internet Mail Extension (S/MIME) allows UAs to encrypt message bodies end-to-end without affecting headers – useful when UDP used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EE5-C565-4096-87C7-42CD8741E8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Security Sche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7958160" cy="388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FC2-FC58-44CF-90C9-21813AC3D7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earch Interes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Vulnerability research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– analysis and testing of design and implementation flaws in SIP and other protocol implementation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Security enhancement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– approaches to reduce vulnerabilities and mitigate threats to the protocol.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9A0-2D63-4CDD-85DD-37371F82B5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 1. Introduction to S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SIP: Session Initiation Protoc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9BF-FAC3-472B-8B97-155858B0CD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1] RFC3261 – SIP: Session Initiation Protoco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2] RFC2543 – SIP: Session Initiation Protoco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3]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nks, et al.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 Authentication: Basic and Digest Access Authenticatio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RFC2617, June 199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4]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ierks, T., Allen, C.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TLS Protocol, Version 1.0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FC 2246, January 199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5] Michael Thomas, “draft-thomas-sip-sec-framework-00.txt - SIP Security Framework”, 2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6] J.L. Griffin, Testing Protocol Implementation Robustness, 29</a:t>
            </a:r>
            <a:r>
              <a:rPr b="0" lang="en-CA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th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nnual International Symposium on Fault-Tolerant Computing, June 1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0B1-7D7F-4BA1-A81F-FE7A1FD537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660066"/>
                </a:solidFill>
                <a:latin typeface="Tahoma"/>
              </a:rPr>
              <a:t>SIP 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Application Layer Signalling Protoco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by IET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ed to establish, modify, and terminat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multimedia se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als with Signaling, not media (voice) transf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an use UDP, TCP, TL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imilar text-based structur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o HTT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Applications include (but not limited to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Voice, video, gaming, instant messaging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resence, call control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art of Internet Multimedia Architectur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next pag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FDB-3082-4FB4-8194-5AACA6371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Multimedia Protoco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7958160" cy="388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D26-F4ED-4E87-A9B0-00FA338428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S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etitor: H.323 protocol by ITU-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P is attractive because of flexibility. e.g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n be carried over several transport protocols such as UDP, TCP and TLS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oes not care what type of media is to be exchanged during a session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pports Presence, Instant Messag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centralize, scalable archite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P is relatively 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asy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 implemen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 and debu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5C6-64C9-4962-9AD7-1B7D6F9B7C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SIP S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7958160" cy="388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FBA-F1AD-488C-BEA6-573DBECA44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El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User Agen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ser termi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er Client – sending reque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er Server – receiving reques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h hardware and soft-phone availab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676520" y="4952880"/>
            <a:ext cx="1457280" cy="1086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1523880" cy="150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DA4-2466-4230-A469-A46E6F3842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P Elements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800" spc="-1" strike="noStrike" u="sng">
                <a:solidFill>
                  <a:srgbClr val="003366"/>
                </a:solidFill>
                <a:uFillTx/>
                <a:latin typeface="Times New Roman"/>
              </a:rPr>
              <a:t>SIP Registr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cept registration requests from user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for the purpose of updating a loca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800" spc="-1" strike="noStrike" u="sng">
                <a:solidFill>
                  <a:srgbClr val="003366"/>
                </a:solidFill>
                <a:uFillTx/>
                <a:latin typeface="Times New Roman"/>
              </a:rPr>
              <a:t>SIP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 Proxy serv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Intermediary entity that 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rwards or routes request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Acts as both a server and a client for the purpose of making requests on behalf of other client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800" spc="-1" strike="noStrike" u="sng">
                <a:solidFill>
                  <a:srgbClr val="003366"/>
                </a:solidFill>
                <a:uFillTx/>
                <a:latin typeface="Times New Roman"/>
              </a:rPr>
              <a:t>SIP Redirect Serv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edirects callers to other serv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A</a:t>
            </a:r>
            <a:r>
              <a:rPr b="0" lang="en-CA" sz="2400" spc="-1" strike="noStrike">
                <a:solidFill>
                  <a:srgbClr val="003366"/>
                </a:solidFill>
                <a:latin typeface="TimesNewRomanPSMT"/>
              </a:rPr>
              <a:t>ccepts a SIP request, maps the SIP address</a:t>
            </a: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TimesNewRomanPSMT"/>
              </a:rPr>
              <a:t>of the called party into new</a:t>
            </a:r>
            <a:r>
              <a:rPr b="0" lang="en-US" sz="2400" spc="-1" strike="noStrike">
                <a:solidFill>
                  <a:srgbClr val="003366"/>
                </a:solidFill>
                <a:latin typeface="TimesNewRomanPSMT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TimesNewRomanPSMT"/>
              </a:rPr>
              <a:t>addresses and returns them to the clien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P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9C6-72F8-4471-8AC3-29A112120D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Qiu</cp:lastModifiedBy>
  <dcterms:modified xsi:type="dcterms:W3CDTF">2003-08-06T14:53:18Z</dcterms:modified>
  <cp:revision>210</cp:revision>
  <dc:subject/>
  <dc:title>PowerPoint Presentation</dc:title>
</cp:coreProperties>
</file>