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5B5-00E4-4F56-8AA4-9456DCA6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143-CBAD-4E3F-9573-2D48FA81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8ED-326D-4367-B0C3-CBB67606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D3E-0519-40BF-815B-7898D5DE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F5B-7ED5-451D-9BA3-772F6199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F42-31DE-4EB5-A4F0-6C3DAED4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309-996E-41E7-8CA6-0E19152F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3C6-3AB2-4A3D-91F5-F1DDFFD9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771-9CF2-4C70-A4DA-FE15B19D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72C-3AAE-4057-81D5-D75BAF64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3F9-3951-43B4-B117-BEF1CA0C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480-9A49-488C-A981-196BA298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1295280"/>
            <a:ext cx="8275680" cy="5444640"/>
            <a:chOff x="216000" y="1295280"/>
            <a:chExt cx="8275680" cy="54446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933480" y="6184800"/>
              <a:ext cx="73724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216000" y="1295280"/>
              <a:ext cx="819000" cy="49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 rot="2678400">
              <a:off x="523440" y="5840280"/>
              <a:ext cx="76680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8153280" y="6171840"/>
              <a:ext cx="3384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2FEE-1601-4F44-BE69-914B2834C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8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delling Interactions and Behavi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an example with object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object’s life ends, this is shown with an X at the end of the lif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620120" cy="275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E13-4FC9-4651-9424-95E0613AF7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3411360"/>
            <a:ext cx="7543800" cy="7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402-C63B-4964-92CC-01B1504B65C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diagrams emphasise how the objects collaborate in order to realize an intera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munication diagram is a graph with the objects as the vert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links are added betwee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 are attached to these lin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n as arrows labelled with the message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rdering is indicated by prefixing the message with some numbering sche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528-3E82-459E-9E93-B35D924F2C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same example, mor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2022480"/>
            <a:ext cx="8153280" cy="23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EE0-E4C3-4274-8F57-5D86169C85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351000" indent="-177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munication link can exist between two objects whenever it is possible for one object to send a message to the other o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situations can make this message exchange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 classes of the two objects have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th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3840" indent="-20772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most common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3840" indent="-20772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messages are sent in the same direction, then probably the association can be made unidirec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3B5-1E11-4C05-A0E9-B0F2DF1999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communication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78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receiving object is stored in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 of the sending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214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ften happens when the object is created in the sending method or when some computation returns an 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214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reotype to be used is «local» or [L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 reference to the receiving object has been received a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ending meth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214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reotype is «parameter» or [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677-6540-46C8-8F63-FEA98FF229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communication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receiving object is glob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case when a reference to an object can be obtained using a static meth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reotype «global», or a [G] symbol is used in this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he objects communicate over a net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uggest to write «network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4D6-357D-47F1-8B60-3CA53F1656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hoose between using a sequence or 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muni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ia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diagr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explicit the time ordering of the inte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-21708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s make time ordering explicit to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-21708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equence diagrams are a natural choice when you build an interaction model from a use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it easy to add details to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-21708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diagrams have less space for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9ED-6AE5-4649-ABF6-370921C2EA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hoose between using a sequence or 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muni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diagram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seen as a projection of the class dia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be preferred when you a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interaction diagram from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so useful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ED7-193A-4D39-80D2-EFB000F296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 diagrams and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gram can be used to represent aspects of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patt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553440" cy="40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5CC-ACBB-40EB-A721-AE77C32C18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1 Interaction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 are used to model the dynamic aspects of a software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you to visualize how the system ru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action diagram is often built from a use case and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is to show how a set of objects accomplish the required interactions with an 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994-AC96-4C41-8065-5C88D941FE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2 Stat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diagram describes the behaviour of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m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ystem, or a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obje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-16200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ny given point in time, the system or object is in a certain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7800" indent="-18972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in a state means that it is will behave in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wa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response to any events that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-16200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vents will cause the system to chang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7800" indent="-18972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new state, the system will behave in a different way to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-1620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diagram is a directed graph where the nodes are states and the arcs are transi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257-6CF1-4CF1-B33F-EB1C45BAB9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-tac-toe game (also called noughts and cro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18148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7E3-C346-488C-9959-8206FC762E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324000" indent="-1641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ny given point in time, the system is in on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1641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remain in this state until an event occurs that causes it to change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1641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is represented by a rounded rectangle containing the name of th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1641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6080" indent="-19188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lack circle represents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6080" indent="-19188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ircle with a ring around it represents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32E-ABA6-459A-B18E-610326AD0D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ransition represents a change of state in response to an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idered to occur instantaneou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bel on each transition is the event that causes the change of sta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DB2-079C-444B-BFC2-B8FB380C48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 example of transi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time-outs and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982880"/>
            <a:ext cx="8229600" cy="3808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33720" y="1305000"/>
            <a:ext cx="1838160" cy="136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341-84CD-4444-8942-88A166ECCCE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 example with conditional transi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05000" y="2143080"/>
            <a:ext cx="7065720" cy="32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486-0986-4C53-9ACF-4CA4063BFE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ies in stat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omething that takes place while the system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a period of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may take a transition out of the state in response to completion of the activi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ther outgoing transition may resul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4880" indent="-19872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ruption of the activity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4880" indent="-19872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arly exit from the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5A4-2697-4C18-99D6-61BC53C206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 – an example with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248520" cy="15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B6D-4C35-40D0-B15C-EAB8CD668CD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 in stat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omething that takes place effectivel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aneous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particular transition is take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entry into a particular state, 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exit from a particular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ction should consume no noticeable amoun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920-A6CF-411B-A89F-6BBEA2FBEB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 – an example wi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1817640"/>
            <a:ext cx="7543800" cy="39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9F2-9E17-4047-A873-D3E6B42CE5A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s an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300960" indent="-1522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 show how a set of actors and objects communicate with each other to per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840" indent="-1782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ps of a use cas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840" indent="-1782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ps of some other piece of function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of steps, taken together, is called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 can show several different types of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840" indent="-1782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method calls, messages send over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840" indent="-1782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all referred to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6B7-8A5C-41C4-B2BB-79CCC546DC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701028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DE6-6D36-458C-BABE-2D27EE6C1D6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sted substates and guar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diagram can be nested inside a state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of the inner diagram are calle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t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2378160"/>
            <a:ext cx="8229600" cy="31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57C-D6ED-43C1-9152-077F47A5E9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 – an example with sub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543800" cy="34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B4E-DB37-4595-A601-C543C4A6445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3 Activity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354960" indent="-17964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agra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ike a state dia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 most transitions are caused by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ts, such as the completion of a compu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ctivity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used to understand the flow of work that an object or component perfor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lso be used to visualize the interrelation and interaction between different use cas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most often associated with several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strengths of activity diagrams is the representat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v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443-97A6-40EA-844D-03832EE84D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47516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ED6-E138-4AA3-847F-2E4F0BFDC02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cy is shown using forks, joins and rendezvo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one incoming transition and multiple outgoing transi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ecution splits into two concurrent threa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zv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multiple incoming and multiple outgoing tran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ll the incoming transitions occur  all the outgoing transitions may occu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920-8F61-40CA-8A38-0D4EEE7EC4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oming transitions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going transi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utgoing transition will be taken when all incoming transitions have occurr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oming transitions must be triggered in separate thre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incoming transition occurs, a wait condition occurs at the join until the other transitions occ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08D-DF6B-4A20-B77D-EDB32DC131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agrams are most often associated with several class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ition of activities among the existing classes can be explicitly shown usin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mla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2E7-1925-4B77-8329-3835267306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 – an example with swim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63920" y="838080"/>
            <a:ext cx="52084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608-6CB7-40B5-94CF-1953D09276D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4 Implementing Classes Based on Interaction and Stat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343440" indent="-173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these diagrams for the parts of your system that you find most co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not for every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, activity and state diagrams help you create a correct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particularly true when behaviour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ross several us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 state diagram is useful when different conditions cause instances to respond differently to the same ev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936-11BB-4814-90FF-339C5991E8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found in interactio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s of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n as boxes with the class and object identifier underl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tick-person symbol as in use case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n as arrows from actor to object, or from object to 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DC1-0BA3-40F0-95F4-8F6DA0E88A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5410080" cy="2490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6553440" cy="2906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666880" y="0"/>
            <a:ext cx="5951520" cy="85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B41-F77A-424C-98F8-8810A2471D6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ourseSectio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9040" indent="-146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osedOrCancelled == false &amp;&amp; open =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9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9040" indent="-146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led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osedOrCancelled == true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istrationList.size() =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9040" indent="0" algn="just">
              <a:spcBef>
                <a:spcPts val="601"/>
              </a:spcBef>
              <a:buNone/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9040" indent="-14652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’ (course section is too full, or being taugh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osedOrCancelled == true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istrationList.size()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45A-FF81-4AE8-A087-0ADC28E6AA5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ourseSectio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440" indent="-1875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’  (accepting registr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n =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4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440" indent="-1875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noughStudents’ (substate of ‘Open’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n == true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istrationList.size() &lt; course.getMinimum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440"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440" indent="-1875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ughStudents’  (substate of ‘Open’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n == true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istrationList.size() &gt;=   course.getMinimum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B25-168C-47BD-B289-2825C2378B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ourseSectio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473120"/>
            <a:ext cx="7772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class Course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The many-1 abstraction-occurrence association (Figure 8.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Course cour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The 1-many association to class Registration (Figure 8.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List registration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The following are present only to determine the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(as in Figure 8.19). The initial state is 'Planned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boolean open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boolean closedOrCanceled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B0B-E093-42B2-89FF-C741B25DF0F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ourseSectio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432080"/>
            <a:ext cx="7162920" cy="46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CourseSection(Course cours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his.course = cours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registrationList = new LinkedList(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void openRegistration(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if(!closedOrCanceled) // must be in 'Planned' st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open = true; // to 'OpenNotEnoughStudents' st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2C8-CE42-43C1-9DEB-9953DD85F1C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ourseSectio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void closeRegistration()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// to 'Canceled' or 'Closed' stat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open = false;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losedOrCanceled = true;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if (registrationList.size() &lt; course.getMinimum())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unregisterStudents(); // to 'Canceled' stat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void cancel()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// to 'Canceled' stat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open = false;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losedOrCanceled = true;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unregisterStudents();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934-240A-4A69-8A45-A8AE8D59861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ourseSectio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143000"/>
            <a:ext cx="8153280" cy="52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blic void requestToRegister(Student stu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(open) // must be in one of the two 'Open'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/ The interaction specified in the sequence diagram of Figure 8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urse prereq = course.getPrerequisi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(student.hasPassedCourse(prereq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/ Indirectly calls addToRegistration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w Registration(this, stud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/ Check for automatic transition to 'Closed'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(registrationList.size() &gt;= course.getMaximum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/ to 'Closed'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losedOrCanceled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A75-8CF4-4112-B81B-20FA5CD1A0B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ourseSectio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206360"/>
            <a:ext cx="73915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/ Private method to remove all regist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/ Activity associated with 'Canceled' st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vate void unregisterStudent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rator it = registrationList.itera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ile (it.hasNext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gistration r = (Registration)it.nex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.unregisterStud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.remov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/ Called within this package only, by the constructo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/ Registration to ensure the link is bi-dire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id addToRegistrationList(Registration newRegist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gistrationList.add(newRegistra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F4A-16A9-4126-B0AD-FCF9E0E553F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5 Difficulties and Risks in Modelling Interactions and Behavi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modelling is a difficult skill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560" indent="-167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large system there are a very large number of possible paths a system can t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560" indent="-167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ard to choose the classes to which to allocate each behaviou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-196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skilled developers lead the process, and ensure that all aspects of your models are properly review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-196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iterativel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2640" indent="-19656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initial class diagrams, use cases, responsibilities, interaction diagrams and state diagra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2640" indent="-19656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go back and verify that all of these are consistent, modifying them as necessa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-196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 different diagrams that capture related, but distinct, information will often highlight probl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535-CF87-4074-BC83-E3BE29222C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interactio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develop a class diagram and a use case model before starting to create an interaction diagra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kinds of interaction diagr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E1C-0BB9-4E9C-81DD-04830C8FE1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924680" cy="10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F51-6A13-4B1B-8383-1DAA19771E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quence diagram shows the sequence of messages exchanged by the set of objects performing a certain tas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are arranged horizontally across the dia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ctor that initiates the interaction is often shown on the lef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vertical dimension represents ti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rtical line, called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l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ttached to each object or a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feline becomes a broad box, called 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box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ve activ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sage is represented as an arrow between activation boxes of the sender and receiv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sage is labelled and can have an argument list and a return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F29-B0B0-46E6-8E15-F13145AE48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same example, mor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717560"/>
            <a:ext cx="8153280" cy="361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EB2-AAEC-4301-96EF-DAFD0CAA9ED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an example with replicate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 objects is indicated by an asterisk preceding the message 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71800" y="5257800"/>
            <a:ext cx="3695760" cy="9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00200" y="1971720"/>
            <a:ext cx="5743440" cy="32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DCF-BB31-4757-A83D-27DD789783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Lethbridge</cp:lastModifiedBy>
  <dcterms:modified xsi:type="dcterms:W3CDTF">2006-06-20T20:21:19Z</dcterms:modified>
  <cp:revision>178</cp:revision>
  <dc:subject/>
  <dc:title>SEG 2100 Software Design II</dc:title>
</cp:coreProperties>
</file>