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6C675F-D925-4AD2-B1AC-2F9C9BAD0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4163FD-7AE3-4AF4-888F-5A62D08C6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7D13E1-BE83-41F9-920A-4BD7C9B5F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839E10-E099-4221-B5CA-0A700F55A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9D1B46-2FB4-40B1-AA0F-32721253B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3500BE-5415-4A38-8152-3630B3AD1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090AEE-994E-4011-96F6-06D767F53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34B42B0-5C19-4B70-B208-D9A0A2C5F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4869B9D-8789-4009-9C8B-107AD16FB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6437C7-E969-4203-ACCB-13413C941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CBF2C4-232D-409D-ACB6-8A88924A1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C2AC2A-52EB-41DC-86BE-E78A28855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5BC8B6-1AC9-4BCF-ABCA-FCED2094F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A4472BD-5C89-4C97-BF7B-5D50A5B20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95003C-42B2-4B50-9E7E-CD6BD211B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5E4513-66C3-4CDD-917B-0E3FE7F7C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AD4913-BB4D-4DFC-80D8-4F02E533D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F096F0-EAD1-430C-9A59-672EB112B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5678D2-39DC-468F-8A65-A2C918E25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CE41DD-CC51-4B7F-B185-B6F0715B1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459E3C-D0BA-423F-A401-3FBF22DC5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B0DD17-23AF-4EA8-BE64-01A7FCC9F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A1D310-C6CC-4FC0-8F7F-2FFEA46FD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7F03DB-7BB6-4C89-98C3-759D77299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D7BA74-88C0-4239-A8AB-5F39E3B47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C70406F-3AE1-4AAC-9268-3753AA6D4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F957A3A-C9CE-4C94-ADD9-A1337EA38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B62C70D-1033-47C3-867D-3F27C1155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1EE413-C9B1-4121-8397-11F924767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54B888-9DE9-4C7E-9F2A-28A9F44CF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218E9A-AA0F-4716-97BB-009D39631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58685C-41DF-4ED3-BC58-301ED3B0A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BE9BB5-34F7-4BB6-A602-C250C1316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51AD23-627F-438A-94B1-364B13432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806A5A1-3DB5-4570-852C-98FEE6198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5FAB2C-E7AE-4FA2-A66D-5824EFA39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40C59D-3AAA-49F9-A402-C4472F0A6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75D7B3-62CF-412E-82A6-D8EE978CD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B2E7D83-BABB-416E-BCFB-42B693085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5C24D60-DC4C-40D5-AEBB-952954718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AAEBCCF-B437-4340-9080-790AF8F94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871C37-AB17-41B8-A069-930FBECEF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52EAF0-2087-44C6-B1EE-1F207C405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DFA347D-EB8F-4BDF-98BD-E38ED35A7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70DBC8-D49E-44E7-B03F-0BE0DDC33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2176020-DF75-466E-B846-6448201E6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371EDE-80B8-47B1-ADA1-1920CCDAA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36358E-6C27-4071-8285-684665E30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1958A57-D597-404F-BA97-F38A5FA6C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249-4394-4953-A9B5-8D8478B0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320" y="3802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F00-C902-4C9E-8F31-B505451A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294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3802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32000" y="3802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CF2-2BAF-492B-BB81-7F2B7785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6920" y="1294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7880" y="1294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320" y="3802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6920" y="3802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7880" y="3802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244-ACAA-4CEF-B563-800DF9E0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CD0-7209-427F-B363-A1D21663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D20-22FB-491D-9571-B97A8AE0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294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8C6-2E7E-46FF-A4BA-017584AD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309-883D-4D9C-B3E0-E1085687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4B8-F096-4B92-A6D0-D87EA32E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32000" y="1294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3802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9DE9-602A-48D5-8924-0E6B1008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32000" y="1294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32000" y="3802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13E-A28F-483A-8A6F-3CDABBB3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294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3802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673F-1C25-433B-BBA5-629AF2D1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"/>
          <p:cNvGrpSpPr/>
          <p:nvPr/>
        </p:nvGrpSpPr>
        <p:grpSpPr>
          <a:xfrm>
            <a:off x="216000" y="1219320"/>
            <a:ext cx="8275680" cy="5444640"/>
            <a:chOff x="216000" y="1219320"/>
            <a:chExt cx="8275680" cy="5444640"/>
          </a:xfrm>
        </p:grpSpPr>
        <p:pic>
          <p:nvPicPr>
            <p:cNvPr id="1" name="Picture 17" descr=""/>
            <p:cNvPicPr/>
            <p:nvPr/>
          </p:nvPicPr>
          <p:blipFill>
            <a:blip r:embed="rId2"/>
            <a:stretch/>
          </p:blipFill>
          <p:spPr>
            <a:xfrm>
              <a:off x="933480" y="6108840"/>
              <a:ext cx="73724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9" descr=""/>
            <p:cNvPicPr/>
            <p:nvPr/>
          </p:nvPicPr>
          <p:blipFill>
            <a:blip r:embed="rId3"/>
            <a:stretch/>
          </p:blipFill>
          <p:spPr>
            <a:xfrm>
              <a:off x="216000" y="1219320"/>
              <a:ext cx="819000" cy="493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8" descr=""/>
            <p:cNvPicPr/>
            <p:nvPr/>
          </p:nvPicPr>
          <p:blipFill>
            <a:blip r:embed="rId4"/>
            <a:stretch/>
          </p:blipFill>
          <p:spPr>
            <a:xfrm rot="2678400">
              <a:off x="523440" y="5764320"/>
              <a:ext cx="766800" cy="736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" name="Object 20"/>
            <p:cNvGraphicFramePr/>
            <p:nvPr/>
          </p:nvGraphicFramePr>
          <p:xfrm>
            <a:off x="8153280" y="6095880"/>
            <a:ext cx="338400" cy="258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" name="Object 2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153280" y="6095880"/>
                      <a:ext cx="338400" cy="25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4045-073A-4639-9B6A-9D260B41B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3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ng Software Development 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le Technolog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EBD8-4993-457A-AFD5-616C54254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4 The Client-Serv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syste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ystem in which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ations are performed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running on separate pieces of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ope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erform the task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gram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 servi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other programs that connect to it using a communication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gram that accesses a server (or several servers)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be accessed by many clients simultaneous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B6CB-B946-4408-897E-BD8A2DB82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of activities in a client-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starts run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waits for clie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nect.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start running and perform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35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perations involve requests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lient attempts to connect,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accepts the conne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it is willin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waits for messag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rrive from connected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message from a client arrives,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takes some 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response, then resumes wai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and servers continue functioning in this manner until they decide to shut down or disconn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2AE6-5148-4307-B163-831CC9C44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server program communicating with two client pro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"/>
          <p:cNvPicPr/>
          <p:nvPr/>
        </p:nvPicPr>
        <p:blipFill>
          <a:blip r:embed="rId1"/>
          <a:stretch/>
        </p:blipFill>
        <p:spPr>
          <a:xfrm>
            <a:off x="1676520" y="1224000"/>
            <a:ext cx="655308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BF1D-EEE5-49BC-8865-8E295383E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lternativ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o the client serv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progr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one computer that does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omputer performs the work separat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some mechanism other than client-server communication for exchang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ne program writes to a database; the other reads from the data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D015-4F7B-445F-95B5-E0AA484AD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vantag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of client-serv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 can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ong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s can access the server’s functionality from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and server can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oth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an be kept central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ely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an be distribu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ong many different geographically-distributed clients or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er can be accesse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many cl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ng clients can be writt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mmunicate with the same server, and vice-ver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1BAF-A7C7-42AC-B9F6-9002EE493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client-serv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ld Wid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Process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Displa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51C7-32AC-456E-994F-3F20214C3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8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5486400" cy="3124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a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sel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ts listening for cli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following types of ev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ting from cli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 connec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s to messag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conne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stop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eanly termin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4BCA-8840-4F2C-B33A-880A48BC5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a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sel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onne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following types of ev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ting fr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s to messag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conne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eanly termin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2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190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76FB-F7E8-4046-8F4B-98C7C122B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reads in a client-server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238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9B95-9454-42EC-8CF1-15F5C8969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in- versus fat-client 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client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 (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made as small as pos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work is done in the serv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easy to download over the net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-client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 (b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much work as possible is delegated to the cli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can handle more cli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2257560" y="4038480"/>
            <a:ext cx="48290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5E48-4DFA-40DB-8AA7-9BA2D4BAC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1 Building on the Experience of Oth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gineers should avoid re-developing software already develop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reu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of expert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of standard designs and algorith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of libraries of classes or proced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powerful commands built into languages and operating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of framewor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of complete appl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567C-631B-408D-9210-E548FFD82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cations protoco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ssages the client sends to the server form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er has to be programmed to understand that langua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ssages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ds to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so form a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o be programmed to understand that langua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lient and server are communicating, they are in effect having a conversation using these two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languages and the rules of the conversation, taken together, are called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FCE2-D336-445F-AE08-5CD265CDC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 to perform to develo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-serve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primary work to be performed by both client and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how the work will be distribu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details of the set of messages that will be s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mechanism fo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ing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ing and receiving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522C-7A4D-4E5A-83FF-86D75B342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5 Technology Needed to Build Client-Server 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Protocol (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messages from one computer to anot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messages are normally split up into small pie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Control Protocol (TC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two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 can then exchange many IP messages over a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r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the mess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een satisfactorily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ost has a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n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servers can run on the same ho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erver is identified by a port number (0 to 65535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itiate communication with a server, a client must know both the host name and the por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1A7B-E646-44D3-A23B-6B8EB746D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 connection in J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va.ne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s the creation of a TCP/IP connection between two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a connection can be established, the server must star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in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one of the port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Socket serverSocket = 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Socket(po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cket clientSocket = serverSocket.accep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client to connect to a 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cket clientSocket= new Socket(host, po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ECAA-FAC6-4CE9-9129-82ADEC907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ing information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rogram uses an instanc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putStre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ceive messages from the othe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putStre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nd messages to the othe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found in pack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ava.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tput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ientSocket.getOutputStream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put = clientSocket.getInputStream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008D-16B5-48A5-9118-6E1D5C70E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ing and receiving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out any filters (raw byt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put.write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s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g = input.rea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us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InputStre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OutputStre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l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put.writeDouble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s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s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input.readDoub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us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nputStre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OutputStre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l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put.writeObject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s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s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input.readObjec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A8BC-94A2-40B5-B55B-D0E5DBD35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6 The Object Client-Server Framework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(OCS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3" descr=""/>
          <p:cNvPicPr/>
          <p:nvPr/>
        </p:nvPicPr>
        <p:blipFill>
          <a:blip r:embed="rId1"/>
          <a:stretch/>
        </p:blipFill>
        <p:spPr>
          <a:xfrm>
            <a:off x="1219320" y="1293840"/>
            <a:ext cx="708660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EF49-5836-47E7-8169-B542E801C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OC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s using OCS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ify its three cl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subclass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abstract classes in the frame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public metho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re provided by the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ri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rtain slot and hook methods (explicitly designed to be overridde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30A3-7C68-43DA-B8E5-365FD44A6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7 The Client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 a single clas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Cli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subcl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subclass must provide an implementation f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ndleMessageFromSer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appropriate action when a message is received from a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s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unn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un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a loop that executes for the lifetime of the th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B943-F787-41AE-9F56-7375331FA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ublic interface of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Cl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method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Conn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Conn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To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 method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onn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H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H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Inet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EFDF-2E7A-4FB6-9AB3-6082FD36C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2 Reusability and Reuse i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esign f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be part of the culture of software development organiz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re are problems to overcom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take the extra time needed to develop something that will benefi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jects/customer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may only reward the efforts of people who creat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le ‘final products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le software is often created in a hurry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enough attention to qual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1050-3DF6-4D05-AE4B-C54FC0528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allback methods of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Cl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th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overridd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Establish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Clo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th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implemen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MessageFrom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1165-8C5F-4B01-86C1-4F3C87644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subclass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Cl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MessageFromServe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d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n instance of the new sub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Conn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s messages to the server using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To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ice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Clos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lb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Excep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lb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0C3F-DD0A-468A-A404-BCAB711F0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s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variable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keeps all the information about the connection to the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reams, a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OutputStre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n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runs usin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run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variables storing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9EC1-5305-4197-842C-303243905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he Server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lass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for the thread which listens for new connections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for the threads that handle the connections to clients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To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FD0E-4922-46C9-BBAE-5F9B28A3A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ublic interface of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method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List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ToAllCli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 method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List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ClientConne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Back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8A23-25B8-4307-8402-19E6A61B4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allback methods of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th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overridd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Star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Conn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Dis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ingExce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th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implemen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MessageFromCl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41BF-1ECC-432D-84F4-CD945057E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ublic interface of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To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method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ToCl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 method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Inet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In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In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C18F-E543-42CE-8A22-9CFE7CAC9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Server and ConnectionToClien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subclass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the slot metho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MessageFrom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d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n instance of the subclass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s messages to clients, u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8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ClientConnectio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To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ice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8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ToAllCli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one or more of the other callback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567E-5325-4809-BABE-0B54CC3CF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s of AbstractServer and ConnectionTo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Inf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Inf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s make use of a Java class calle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ethods in the server side a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lection of instances o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nectionToClien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tored using a special class calle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read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er must pause from listening every 500ms to see if th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pListenin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has been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, then it resumes listening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19C7-11E2-4266-9F32-48095AD15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n Instant Messaging Application: SimpleC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52480" y="4800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Conso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eventually be replaced b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GU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82" descr=""/>
          <p:cNvPicPr/>
          <p:nvPr/>
        </p:nvPicPr>
        <p:blipFill>
          <a:blip r:embed="rId1"/>
          <a:stretch/>
        </p:blipFill>
        <p:spPr>
          <a:xfrm>
            <a:off x="1143000" y="1952640"/>
            <a:ext cx="7696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302A-5088-473B-9EE1-700615DC5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viciou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rs tend not develop high quality reusable components, so there is often little to reus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olve the problem, recognize tha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cious cycle costs mon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reusable code is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reusable components is essent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at potential reusers have confidence in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quality of a software product is only as good as its lowest-quality reusable compo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usable components can often simplify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37FC-3696-43EE-9706-3481ADA1C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ubclass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creates a new instance and start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3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listens for clients and handles connections until the server is stopp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s just print out a message to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3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MessageFrom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Star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Stopp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eMessageFrom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l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ToAll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3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choes any mess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7454-A29A-4C9A-9249-4F783ACBC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de in  Echo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143000" y="1752480"/>
            <a:ext cx="7391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void handleMessageFromCl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Object msg, ConnectionToClient cli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.out.println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Message received: 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 msg + " from " + clie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s.sendToAllClients(ms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AF37-A114-4896-B2C5-60393C8D1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client program starts, it creates instances of two classe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t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class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ride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MessageFrom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lls th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of the 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Cons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class that implements the interfac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 implements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outputs to the 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 user input by calling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it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s all user input to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t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calling it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MessageFromClientU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, in turn, calls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To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2CED-DD55-49B1-BFA6-B9577FAEA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de in Chat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14400" y="135108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void handleMessageFromClientUI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 mess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ndToServer(messa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tch(IOException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entUI.display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"Could not send message. "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"Terminating client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75E8-E943-41A2-9A53-7C5AFB547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de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tCl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void handleMessageFromServer(Object msg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ientUI.display(msg.toString()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AA36-0506-4701-88D9-8AA622C91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10 Risks when reusing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quality reusable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developers of the reusable technolo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good software engineering prac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willing to provide active sup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ility not maint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obscure fe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-use technology that others are also re-u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3C5D-6EED-45FE-8789-681BBC38B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isks when developing reusable techn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 uncertain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the development of the reusable technology, just as if it was a product for a cl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not invented here syndrome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nfidence in the reusable technology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arantee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it is of high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ing to the needs of its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B90C-832F-4CB9-891F-A202237F7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isk when developing reusable technology –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usable technology must be as useful and as high quality as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g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endency of various groups to change technology in different w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it to be general enough, test it and review it in advanc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A0D9-C077-4A1F-89EE-3F9482605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isks when adopting a client-server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is a big problem with no perfect solutions: consider the use of encryption, firewall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for adaptive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all software is forward and backward compatible with other versions of clients and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FFE9-EA0C-4260-904A-249836222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3 Frameworks: Reusable Sub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eusable software that implements a generic solution to a generalized problem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provides common facilities applicable to different application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i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do different, but related, things tend to have quite similar desig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06ED-1246-4FBA-AAB3-686B818BC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s to promote 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work is intrinsically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es or methods are used by the framework, but are missing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function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ance is made for developer to provide 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oks or extension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rs us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the framework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n together the services are called the Application Program Interface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38CD-B798-4F03-AE61-2B62A2433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-oriented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object oriented paradigm, a framework is composed of a library of class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I is defined by the set of all public methods of these cla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 classes will normally be abstract and there are often many Interfa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amework for payroll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amework for frequent 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amework for university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amework for e-commerce web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0C4C-84A5-4DEA-8F5B-E8086ABE3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s and produc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duct line (or product family) is a set of products built on a common base of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ous products in the product line have different features to satisfy different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oftware technology common to all products in included in a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is produced by filling the available hooks and sl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software products offering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4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. 3: Basing Development on Reusable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8FDF-72D1-4C82-90C0-E44C3E325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yp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f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work provides general application facilities that a large number of applications can 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work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framework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ore ‘complete’ but still needs some slots to be filled to adapt it to specific application nee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1"/>
          <a:stretch/>
        </p:blipFill>
        <p:spPr>
          <a:xfrm>
            <a:off x="2133720" y="2798640"/>
            <a:ext cx="58672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Lethbridge</cp:lastModifiedBy>
  <dcterms:modified xsi:type="dcterms:W3CDTF">2011-09-20T12:53:43Z</dcterms:modified>
  <cp:revision>111</cp:revision>
  <dc:subject/>
  <dc:title>SEG 2100 Software Design II</dc:title>
</cp:coreProperties>
</file>