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ct" ContentType="image/x-pict"/>
  <Override PartName="/ppt/media/image8.png" ContentType="image/png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83B-2FD6-4829-84EC-4C0EE977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08D-037C-403E-B93E-50218EE3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154-9323-491E-8F8B-44A2BEE1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B45-2A2D-4B35-8310-E423B1EE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4F7-ACA7-4624-9B4B-380E8A5F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85E-BF60-4E24-8782-D5368519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B64-4F2B-484E-9DF5-072D90F2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63D-D462-4761-8B61-0AA95852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8D4-630E-444B-B1B7-B2032C5A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313-C2E5-4741-AE8F-14ABBFE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7CC-9E52-45DB-B162-17B9BE7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FCE-1FF4-4855-A37C-970F5A8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1276200"/>
            <a:ext cx="8275680" cy="5444640"/>
            <a:chOff x="216000" y="1276200"/>
            <a:chExt cx="8275680" cy="54446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933480" y="6165720"/>
              <a:ext cx="73724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216000" y="1276200"/>
              <a:ext cx="819000" cy="49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 rot="2678400">
              <a:off x="523440" y="5821200"/>
              <a:ext cx="7668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8153280" y="6152760"/>
              <a:ext cx="3384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7C0D-0501-4ACC-9BF5-917C1CB2D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4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veloping Requir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ty Requirement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must be verif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amples: Constraints 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from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ances for maintainability and enh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ances for reus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78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42F-643E-4CE6-9E06-0876851BA1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6 Use-Cases: describing h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will use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3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a typical sequence of actions that a user performs in order to complete a given tas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920" indent="-335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bjectiv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se case analys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o model the system from the point of view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users interact with thi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trying to achieve their objec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one of the key activities in 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920" indent="-335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se case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nsis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2040" indent="-3351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et of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2040" indent="-3351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optional description or diagram indicating how they are re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815-D0F5-46A0-8071-980AA6A3F0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use case shou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ver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ull sequence of step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rom the beginning of a task until the en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crib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ser’s inte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the syste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computations the system perfo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written so as to be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s possible from any particular user interface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ly include actions in which the actor interacts with the 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ons a user does 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860-418D-4CA6-A0B5-8CE2991D15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enar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of a use ca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pecific occurr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the use c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pecific acto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a specific ti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specific dat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BDF-F7E4-42CD-ABE0-E400486335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describe a single use 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N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ive a short, descriptive name to the use ca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Acto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st the actors who can perform this use cas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oa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plain what the actor or actors are trying to achie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re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ate of the system before the use ca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Summar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ive a short informal descrip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Related use c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Step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scribe each step using a 2-column forma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Post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ate of the system in following comple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nd G are the most import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9AF-D134-483E-AB61-2FAB7AE55A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cas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1209600"/>
            <a:ext cx="63248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353-1833-447D-BA4C-439064C619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mak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actions explicit or to handl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description of the basic use case si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DD9-4169-47B1-B492-33A075B5FA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ch like superclasses in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generalized use case represent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veral simila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or more specializations provides details of the similar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8AC-F2D4-40BB-91B2-65106344FE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one to expres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a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several different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included in other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very different use cases can share sequence of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 you to avoid repeating details in multiple us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he performing of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-level tas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a lower-level goal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B80-97FA-4C5C-B6DD-CB4D2FD116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generalization, extension and i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38320" y="1371600"/>
            <a:ext cx="73990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4A6-C73C-46FF-B117-B4172C89FA7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e process by which a software engineer learns about the domain to better understand the probl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general field of business or technology in which the clients will use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omain expe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person who has a deep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of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efits of performing domain analy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ion of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66D-C7EB-4F80-B738-3AAB8FF9FF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75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description of a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12840" y="1442880"/>
          <a:ext cx="739764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442880"/>
                    <a:ext cx="73976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6F3-E3C6-443D-8FE8-F0456CA148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054080" y="1442880"/>
          <a:ext cx="809640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442880"/>
                    <a:ext cx="80964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D6B-DD0F-4E5D-90D4-98BCFD2DD5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658880" y="1760400"/>
          <a:ext cx="7491600" cy="44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760400"/>
                    <a:ext cx="749160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1EC-8BAD-48B0-B74F-4A51AAAB17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03520" y="1717560"/>
          <a:ext cx="7605720" cy="50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3520" y="1717560"/>
                    <a:ext cx="760572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1D3-5FD6-4697-BBFF-9D35DC2AEA1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290600" y="1447920"/>
          <a:ext cx="757080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1447920"/>
                    <a:ext cx="75708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522-05B7-4EEF-BDED-094CAA9A93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ing processes: Choosing use cases on which to fo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one use case (or a very small number) can be identified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tire system can be built around this particular use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other reasons for focusing on particular use cas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use cases will represent a hi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for some reason their implementation is problem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use cases will have high political or commercial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C07-4143-4A39-A8EB-53394F0C8D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enefits of basing software development on use c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p to defin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use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development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used to both develop and validate the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 the basis for the definition of test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used to structure user manu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BCE-218A-45A4-AA04-CDDA16CFD3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 cases must not be seen as a panac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 use cases themselves must be vali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the requirements validation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aspects of software are not covered by use case analys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olutions may not be consi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A05-6AA8-4F44-992A-2FE12200B6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7 Some Techniques for Gathering and Analysing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 documents and discuss requirements with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dowing important potential users as they do their 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k the user to explain everything he or she is do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ssion videot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view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eries of intervie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k about specific detai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k about the stakeholder’s vision for the fu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k if they have alternative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k for other sources of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k them to draw diagra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A2F-04E7-46A6-BD14-2D9A51D036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thering and Analysing Requiremen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76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oint an experienced mod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76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range the attendees around a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76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de on a ‘trigger question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76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each participant to write an answer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 the paper to its neighb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Joint Application Development (JAD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a technique based on intensive brainstorming sessio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671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38480" y="3657600"/>
            <a:ext cx="175284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2CD-1C63-46F5-8E0E-E4E8EF75A3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Analysi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lo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l knowledge about th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stomers and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enviro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asks and procedures currently per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mpeting 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milarities to other doma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90F-1577-41E6-B87C-FE3C4DE35F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thering and Analysing Requiremen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toty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implest kind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aper prototy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et of pictures of the system that are shown to users in sequence to explain what would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common: a mock-up of the system’s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ritten in a rapid prototyp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ormally perform any computations, access any databases or interact with any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y prototype a particular aspect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025-0D65-4792-AEC9-3251507551A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thering and Analysing Requiremen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e case analy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e the classes of users that will use the facilities of this system (ac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e the tasks that each actor will need to do with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049-748C-4FCA-BD42-5C97B50CC18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8 Types of Requirements Doc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3962160"/>
            <a:ext cx="4267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quirements documents for large systems are normally arranged in a hierarc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815080" y="3097080"/>
            <a:ext cx="2554200" cy="3063960"/>
            <a:chOff x="5815080" y="3097080"/>
            <a:chExt cx="2554200" cy="3063960"/>
          </a:xfrm>
        </p:grpSpPr>
        <p:sp>
          <p:nvSpPr>
            <p:cNvPr id="125" name=""/>
            <p:cNvSpPr/>
            <p:nvPr/>
          </p:nvSpPr>
          <p:spPr>
            <a:xfrm>
              <a:off x="6718320" y="3097080"/>
              <a:ext cx="695160" cy="871560"/>
            </a:xfrm>
            <a:custGeom>
              <a:avLst/>
              <a:gdLst/>
              <a:ahLst/>
              <a:rect l="l" t="t" r="r" b="b"/>
              <a:pathLst>
                <a:path w="438" h="549">
                  <a:moveTo>
                    <a:pt x="0" y="0"/>
                  </a:moveTo>
                  <a:lnTo>
                    <a:pt x="438" y="0"/>
                  </a:lnTo>
                  <a:lnTo>
                    <a:pt x="438" y="549"/>
                  </a:lnTo>
                  <a:lnTo>
                    <a:pt x="0" y="5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18320" y="3097080"/>
              <a:ext cx="695160" cy="87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23000" y="3102120"/>
              <a:ext cx="685800" cy="8618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3920" y="4197240"/>
              <a:ext cx="706320" cy="884520"/>
            </a:xfrm>
            <a:custGeom>
              <a:avLst/>
              <a:gdLst/>
              <a:ahLst/>
              <a:rect l="l" t="t" r="r" b="b"/>
              <a:pathLst>
                <a:path w="445" h="557">
                  <a:moveTo>
                    <a:pt x="0" y="0"/>
                  </a:moveTo>
                  <a:lnTo>
                    <a:pt x="445" y="0"/>
                  </a:lnTo>
                  <a:lnTo>
                    <a:pt x="445" y="55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73920" y="4197240"/>
              <a:ext cx="70632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78600" y="4213080"/>
              <a:ext cx="696960" cy="873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41720" y="312732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38120" y="324180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37760" y="33037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38120" y="33656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37040" y="342900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7760" y="349092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37040" y="355284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7760" y="361620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38120" y="367812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36680" y="374004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89840" y="407340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system 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99520" y="407340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system 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7320" y="422928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3720" y="434340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3360" y="44053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3720" y="44672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2640" y="453060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3360" y="459252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2280" y="465444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3360" y="471636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3720" y="478008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2280" y="484200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45520" y="4208400"/>
              <a:ext cx="706320" cy="873360"/>
            </a:xfrm>
            <a:custGeom>
              <a:avLst/>
              <a:gdLst/>
              <a:ahLst/>
              <a:rect l="l" t="t" r="r" b="b"/>
              <a:pathLst>
                <a:path w="445" h="550">
                  <a:moveTo>
                    <a:pt x="0" y="0"/>
                  </a:moveTo>
                  <a:lnTo>
                    <a:pt x="445" y="0"/>
                  </a:lnTo>
                  <a:lnTo>
                    <a:pt x="445" y="550"/>
                  </a:lnTo>
                  <a:lnTo>
                    <a:pt x="0" y="5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45520" y="4208400"/>
              <a:ext cx="706320" cy="87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0200" y="4213080"/>
              <a:ext cx="696960" cy="8636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8920" y="422928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6760" y="433224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5320" y="444672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4960" y="450864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5320" y="457200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4240" y="463392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4960" y="469584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63880" y="475920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64960" y="48211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65320" y="48830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63880" y="494496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2960" y="4498920"/>
              <a:ext cx="706320" cy="873360"/>
            </a:xfrm>
            <a:custGeom>
              <a:avLst/>
              <a:gdLst/>
              <a:ahLst/>
              <a:rect l="l" t="t" r="r" b="b"/>
              <a:pathLst>
                <a:path w="445" h="550">
                  <a:moveTo>
                    <a:pt x="0" y="0"/>
                  </a:moveTo>
                  <a:lnTo>
                    <a:pt x="445" y="0"/>
                  </a:lnTo>
                  <a:lnTo>
                    <a:pt x="445" y="550"/>
                  </a:lnTo>
                  <a:lnTo>
                    <a:pt x="0" y="55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67640" y="4503600"/>
              <a:ext cx="696960" cy="863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77000" y="451944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75920" y="4624560"/>
              <a:ext cx="50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73040" y="473724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73040" y="480060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73400" y="486252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72320" y="492444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73040" y="498780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71960" y="5049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73040" y="511164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73400" y="517356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71960" y="523728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18200" y="516420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-subsys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0680" y="541332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-subsys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15080" y="533088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19760" y="5335560"/>
              <a:ext cx="34308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2640" y="53514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22640" y="539280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22640" y="54435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21560" y="54752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23000" y="5495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20120" y="552780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22280" y="555768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19400" y="558972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21560" y="56214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23000" y="56516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18320" y="56833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18040" y="547524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23080" y="5479920"/>
              <a:ext cx="342720" cy="4273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7400" y="549756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26320" y="554832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27400" y="558972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26320" y="56214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27760" y="56516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4880" y="568332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27040" y="57150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24160" y="574524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6320" y="57769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27760" y="58086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23080" y="58388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73920" y="5310360"/>
              <a:ext cx="35388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78600" y="531504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83280" y="53308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2920" y="538308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82920" y="54230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81840" y="54547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3280" y="5486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0400" y="55166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82560" y="55483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79680" y="558000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81840" y="56102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83280" y="56419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78600" y="567216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88040" y="5454720"/>
              <a:ext cx="35388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92720" y="545940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6240" y="547704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85160" y="552780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86240" y="55688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5160" y="560088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86600" y="5630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83720" y="56624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85880" y="569448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83000" y="572436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85160" y="57564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86600" y="57862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81920" y="58183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3560" y="5299200"/>
              <a:ext cx="35424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8240" y="530388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2920" y="531972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52920" y="536256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52920" y="541332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51840" y="54435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3280" y="54658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50400" y="54957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52560" y="55278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49680" y="55576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51840" y="55897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3280" y="5621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48600" y="56516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8320" y="544500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53360" y="5450040"/>
              <a:ext cx="3427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56240" y="54658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55160" y="551808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56240" y="555768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5160" y="55897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56600" y="5621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53720" y="56516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55880" y="56833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53000" y="571500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55160" y="57452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56600" y="57769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51920" y="580860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03840" y="527832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08880" y="5283360"/>
              <a:ext cx="3427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11760" y="52992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11760" y="535140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11760" y="539280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10680" y="54230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12120" y="54547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09240" y="548640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11400" y="55166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08520" y="554832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0680" y="55800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12120" y="56102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07440" y="56419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18320" y="542448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23000" y="5429160"/>
              <a:ext cx="34308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16520" y="54450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15440" y="549756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16520" y="55371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15440" y="55688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16880" y="56008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14000" y="56307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16160" y="56624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13280" y="56944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15440" y="57243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16880" y="5756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12200" y="578628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69120" y="558000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73800" y="5584680"/>
              <a:ext cx="343080" cy="4273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77040" y="56008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77040" y="564192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77040" y="569448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75960" y="57243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7400" y="57452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74520" y="577692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76680" y="58086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73440" y="583884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75960" y="58705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7400" y="5900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72720" y="59324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72440" y="5726160"/>
              <a:ext cx="353880" cy="434880"/>
            </a:xfrm>
            <a:custGeom>
              <a:avLst/>
              <a:gdLst/>
              <a:ahLst/>
              <a:rect l="l" t="t" r="r" b="b"/>
              <a:pathLst>
                <a:path w="223" h="274">
                  <a:moveTo>
                    <a:pt x="0" y="0"/>
                  </a:moveTo>
                  <a:lnTo>
                    <a:pt x="223" y="0"/>
                  </a:lnTo>
                  <a:lnTo>
                    <a:pt x="223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77120" y="5730840"/>
              <a:ext cx="344520" cy="425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81800" y="57466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80720" y="579924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81800" y="58388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80720" y="58705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82160" y="5900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79280" y="59324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81440" y="59641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78560" y="599436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80720" y="60260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82160" y="60580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77480" y="608796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27960" y="5559480"/>
              <a:ext cx="353880" cy="43668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32640" y="556416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37320" y="55800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37320" y="563256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37320" y="56721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36240" y="57038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37680" y="57355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34800" y="57657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36960" y="57974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34080" y="58294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36240" y="58593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37680" y="58910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33000" y="592308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7642080" y="5703840"/>
            <a:ext cx="354240" cy="436680"/>
          </a:xfrm>
          <a:custGeom>
            <a:avLst/>
            <a:gdLst/>
            <a:ahLst/>
            <a:rect l="l" t="t" r="r" b="b"/>
            <a:pathLst>
              <a:path w="223" h="275">
                <a:moveTo>
                  <a:pt x="0" y="0"/>
                </a:moveTo>
                <a:lnTo>
                  <a:pt x="223" y="0"/>
                </a:lnTo>
                <a:lnTo>
                  <a:pt x="223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47120" y="5708520"/>
            <a:ext cx="344520" cy="42732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40280" y="572616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39200" y="577692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40280" y="581832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39200" y="585000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40640" y="58802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37760" y="591192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39920" y="594360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37040" y="597384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39200" y="600552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40640" y="60372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35960" y="606744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97960" y="5548320"/>
            <a:ext cx="353880" cy="436680"/>
          </a:xfrm>
          <a:custGeom>
            <a:avLst/>
            <a:gdLst/>
            <a:ahLst/>
            <a:rect l="l" t="t" r="r" b="b"/>
            <a:pathLst>
              <a:path w="223" h="275">
                <a:moveTo>
                  <a:pt x="0" y="0"/>
                </a:moveTo>
                <a:lnTo>
                  <a:pt x="223" y="0"/>
                </a:lnTo>
                <a:lnTo>
                  <a:pt x="223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02640" y="5553000"/>
            <a:ext cx="3445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06960" y="557064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06960" y="5611680"/>
            <a:ext cx="162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06960" y="566244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05880" y="569448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07320" y="57150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04440" y="574524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6600" y="577692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03720" y="580860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05880" y="5838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07320" y="5870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02640" y="590076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02720" y="5694480"/>
            <a:ext cx="352440" cy="43632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07400" y="5699160"/>
            <a:ext cx="3427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10280" y="571500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09200" y="576756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10280" y="580860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09200" y="5838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10640" y="5870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07760" y="590076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09920" y="593244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07040" y="596412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09200" y="599436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910640" y="60260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05960" y="605808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058240" y="5527800"/>
            <a:ext cx="352440" cy="43632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062920" y="5532480"/>
            <a:ext cx="3427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67600" y="554832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67600" y="5600880"/>
            <a:ext cx="162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67600" y="564192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66520" y="567216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67960" y="57038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65080" y="573552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67240" y="576576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64360" y="579744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66520" y="582948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67960" y="585936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63280" y="589104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72360" y="5673600"/>
            <a:ext cx="352440" cy="43668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77040" y="5678640"/>
            <a:ext cx="34308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70560" y="569448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69480" y="574668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70560" y="578628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69480" y="581832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70920" y="58500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68040" y="588024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70200" y="591192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67320" y="594360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69480" y="5973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70920" y="6005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166240" y="603720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extr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formal outline of the requirements using a few paragraphs or simpl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ng list of specifications that contain thousands of pages of intricate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C67-4BC6-41E1-BC4E-B138CB3A90A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detail required in a requirement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etail should be provided depend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ize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ed to interface to other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ader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tage in requirements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evel of experience with the domain and the techn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that would be incurred if the requirements were faul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03F-A2C9-48EE-B8F9-BD9E625BFC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9 Reviewing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347040" indent="-175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ach individual requirement shoul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at outweigh the cos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develop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r the solution of the current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 expressed using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lear and consistent not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ogically consist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ad to a system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fficient qu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alist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available resou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if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 uniquel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dentif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es not over-constrain th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the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B1F-6EE2-4CAA-8D4E-4A5D1DAF56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s documents..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ocument should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fficiently 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ll organ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reed to by all th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ce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386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4724280" cy="180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2DC-7AB4-4CF1-9184-2BDA387C1C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s documen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ckground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vironment and system 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n-functional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5FD-604A-4404-A88A-3BEAD0FAE14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10 Managing Changing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irements change beca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siness process chan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chnology chan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blem becomes better underst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irements analysis never stop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e to interact with the clients and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benefits of changes must outweigh the co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rtain small changes (e.g. look and feel of the UI) are usually quick and easy to make at relatively little co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rger-scale changes have to be carefully ass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40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cing unexpected changes into a partially built system will probably result in a poor design and late deliv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7960" indent="-165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changes are enhancements in disgu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void making the syste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igg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only make i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et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217-4E37-4546-85F6-71051A3811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13 Difficulties and Risks in Domain and Requirements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343440" indent="-17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ck of understanding of the domain or the real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o domain analysis and prototy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ments change rapid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erform incremental development, build flexibility into the design, do regular revie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tempting to do too mu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ocument the problem boundaries at an early stage, carefully estimate the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may be hard to reconcile conflicting sets of requir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rainstorming, JAD sessions, competing prototy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is hard to state requirements precis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reak requirements down into simple sentences and review them carefully, look for potential ambiguity, make early proto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499-8851-48A2-A9A8-67FE8ABC97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2108160"/>
            <a:ext cx="6934320" cy="2997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2 The Starting Point for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956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657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ie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82D-D490-40D3-BCEF-FACA45789D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3 Defining the Problem and the 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problem can be expressed a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ifficul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users or customers are fac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as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pportun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at will result in some benefit such as improved productivity or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solution to the problem normally will entail developing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good problem statement is short and succinc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148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48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6EE-66F5-4F22-BB23-AD839130B7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ng the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arrow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by defining a more precise probl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all the things you might imagine the system do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clude some of these things if too 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e high-level goals if too n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ample: A university registration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4038480"/>
          <a:ext cx="7162560" cy="20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038480"/>
                    <a:ext cx="716256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F8D-83E3-4E2A-98EE-7ABAB8E315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4 What is a Requi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statement describing eith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-16200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an aspect of what the proposed system must 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-16200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2) a constraint on the system’s develo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-16200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either case it must contribute in some way towards adequately solving the customer’s probl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-16200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t of requirements as a whole represents a negotiated agreement among the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llection of require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equirements docum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0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70C-7110-4573-9229-18B7D9F410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5 Types of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cri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system should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Quality requirement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nstrai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 the design to meet specified levels of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latform requirement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nstrai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 the environment and technology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cess requirement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nstrai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 the project plan and development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AF8-B713-4AE3-AB9A-C88AC28AE1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system should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system should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ata the system shoul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that other systems might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mput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system should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iming and synchroniz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the ab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389-39A2-473C-AF9A-601A6B1543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Lethbridge</cp:lastModifiedBy>
  <dcterms:modified xsi:type="dcterms:W3CDTF">2006-06-20T19:47:33Z</dcterms:modified>
  <cp:revision>76</cp:revision>
  <dc:subject/>
  <dc:title>SEG 2100 Software Design II</dc:title>
</cp:coreProperties>
</file>