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6F1-5E7D-4646-89C0-F02FE5D5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331-EA0A-4643-B1DF-BC1EC73A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F32-968A-44EE-ADF3-2AF5EC24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610-26F1-4E08-BE42-93669E40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4B4-0796-45EE-8BE2-4243D01A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AF5-D21D-4BF2-9ADB-8955F605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2B7-4D19-4895-9997-5820F507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3B2-0531-49B6-857D-DA13020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28D-FFDD-49FD-ADE0-A0EA5AB8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CC8-9001-4EF9-9431-96600792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993-40CA-4BF1-A4D2-3C350511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6B0-6442-48D5-A12E-E9C2853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76200"/>
            <a:ext cx="8275680" cy="5444640"/>
            <a:chOff x="216000" y="127620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6572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7620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2120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5276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839C-4F03-4649-8515-4382CAB76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6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ing Design Pattern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7480" y="1447920"/>
            <a:ext cx="6972120" cy="2028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28680" y="3629160"/>
            <a:ext cx="4181400" cy="231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3962520"/>
            <a:ext cx="221940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D7F-B122-4112-BA72-A995BC0E33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ipatter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2328840"/>
            <a:ext cx="7925040" cy="20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3F2-3CE4-40C7-99F2-9CF506C477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4 The Player-R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articular set of properties associated with an object in a particular cont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ma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ent roles in different contex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best model players and roles so that a player can change roles or possess multiple ro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76E-8996-4B86-A1A3-E4C37F3806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sirable to improve encapsulation by capturing the information associated with each separate role in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nt to avoid multiple inherit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not allow an instance to change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502920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DD5-8725-4C50-8841-BABE8E0689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2287440"/>
            <a:ext cx="761976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EBC-0296-4C6A-BD7F-AED7DA9963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319480"/>
            <a:ext cx="8001000" cy="171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178-D8B5-4626-8A59-D28AAFDC78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all the properties and behaviours into a single «Player» class and not have «Role» classes at 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roles as subclasses of the «Player»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776-7BF0-417F-AA92-CC10852E87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5 The Sing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327960" indent="-165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common to find classes for which only one instance should ex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ensure that it is never possible to create more than one instance of a singleton cla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a public constructor cannot guarantee that no more than one instance will be creat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instance must also be accessible to all classes that requir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565-163C-4260-A26D-A586265DEE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374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4B6-E315-42CA-88AE-E015950267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6 The Ob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association is created between two classes, the code for the classes becomes insepar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you want to reuse one class, then you also have to reuse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reduce the interconnection between classes, especially between classes that belong to different modules or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maximize the flexibility of the system to the greatest extent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DEC-965C-4D3F-B60C-434A3702AD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tion to 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ring aspects of design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outline of a reusable solution to a general problem encountered in a particular co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m have been systematically documented for all software developers to 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pattern 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s genera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a solution that has been proven to effectively solve the problem in the indicated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patterns is an effective way to learn from the experience of other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7B4-7DBD-4CF4-A713-51DA20DD49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5410440" cy="4314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FB5-BCB2-43CD-8F37-44A99D2DCE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an observer directly to an observable so that they both have references to each 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observ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observ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C71-965D-49AB-A27C-C7D224BF80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7 The Del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designing a method in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realize that another class has a method which provides the required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because the isa rule does not ap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most effectively make use of a method that already exists in the other cla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minimize development cost by reusing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2F6-EDD7-47E9-B070-EA8002B26A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10280" cy="38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A51-89AF-45AE-A014-1257DBD2AD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37160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2443320"/>
            <a:ext cx="7543800" cy="26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488-2FB5-43CE-AD86-029EBDE083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use generalization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ethod that is to be re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creating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«Delegator» that does nothing other than call a method in the «Del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aving many different methods in the «Delegator» call the delegate’s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non-neighboring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pecificFlight.regularFlight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getRegularFlight()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450-F790-4C4C-85F8-F4976D4735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8 The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building an inheritance hierarchy and want to incorporate it into an existing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used class is also often already part of its own inheritance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tain the power of polymorphism when reusing a class whos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am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other methods in the hierarc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do not have access to multiple inheritance or you do not want to us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AE2-22CB-421B-8CB7-957DA50C5E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95880" cy="29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C99-B3DB-45C2-BA4F-4417AB40D8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629400" cy="31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F9C-321E-4A8A-B595-EBFE26713B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9 The Faç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339480" indent="-1717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an application contains several complex packa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mer working with such packages has to manipulate many different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simplify the view that programmers have of a complex packag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for a programmer to understand and use an entire sub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veral different application classes call methods of the complex package, then any modifications made to the package will necessitate a complete review of all thes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FD7-C346-4319-BC78-B4E6249F2C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situation in which the pattern app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ort sentence or two raising the main difficu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sues or concerns to consider when solving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mmended way to solve the problem in the given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3680" indent="-1872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alance the force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 that are inferior or do not work in this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Option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that are similar to this patter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developed or inspired the patter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E04-D76C-4812-B17C-C27004A35D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40080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4F8-D462-4DAC-84B2-170799A83B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0 The 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table object is an object that has a state that never changes after cre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create a class whose instances are immutab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ust be no loopholes that would allow ‘illegal’ modification of an immutable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constructor of the immutable class is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ce where the values of instance variables are set or modifi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methods which access properties must not have side eff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method that would otherwise modify an instance variable is required, then it has to return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of the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77A-639C-45AE-8991-978DA8BEAD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1 The Read-only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ometimes want certain privileged classes to be able to modify attributes of objects that are otherwise immu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create a situation where some classes see a class as read-only whereas others are able to make modif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ng access by using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s is not adequately sel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cces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kes it public for both reading and 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CBC-0CFE-4854-B28F-E06C8A1588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76520" y="1938240"/>
            <a:ext cx="6553080" cy="41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0B1-EB0B-47F4-AA9E-AFE436CE67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2047680" cy="45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F14-BA9B-4CF1-ACEA-228CCC4A63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read-only class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«Mutable»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 all methods that modify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hat they throw an 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555-4051-49A0-B520-CC62826D56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2 The Prox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354960" indent="-1796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it is time-consuming and complicated to create instances of a class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a time delay and a complex mechanism involved in creating the object in mem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reduce the need to create instances of a heavyweight clas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nt all the objects in a domain model to be available for programs to use when they execute a system’s various responsib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important for many objects to persist from run to run of the same 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949-A3E0-4F86-9F66-E61130F306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2B9-96ED-4E1C-8341-499CA86FEF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334120" cy="211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4343400" cy="221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FF8-0360-4804-99B6-B22EE1F0BB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3 The Fa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31644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usable framework needs to create objecs; however the class of the created objects depends on the applica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enable a programmer to add new application-specific class into a system built on such a framewor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nt to have the framework create and work with application-specific classes that the framework does not yet know ab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amework delegates the creation of application-specific classes to a specialized class, the Facto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ctory is a generic interface defined in the frame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ctory interface declares a method whose purpose is to create some subclass of a generic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80A-BEBB-4E62-BE53-230A871996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2 The Abstraction-Occur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in a domain model you find a set of related objec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s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mbers of such a set share comm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also differ from each other in important w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represent such sets of occurrences in a class dia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represent the members of each set of occurrences without duplicating the comm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84F-F03F-40E0-8AEB-19C23A8BBC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00240" y="2085840"/>
            <a:ext cx="4943520" cy="26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9C4-B258-4517-BBDB-D21FC1F0FF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57280" y="2043000"/>
            <a:ext cx="511020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8D1-5AD3-46AA-B650-ACCBE0218E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xample:  enhancing OCSF with some design patte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543800" cy="39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395-0B9D-4B64-BFF3-9B1726FCED7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servable layer of OCSF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192320"/>
            <a:ext cx="6324840" cy="490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929-A9F0-4A6F-A97D-024304A10EB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40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observabl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224000"/>
            <a:ext cx="7772400" cy="67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reate a class that implements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gister it as an observer of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MessageHandler(Observable clien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lient.addObserver(this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efine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in the new class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void update(Observable obs, Object messag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f (message instanceOf SomeClas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// process the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345-4733-450C-AB9F-69125ACF54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ies and Risks When Creating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are not a panace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you see an indication that a pattern should be applied, you might be tempted to blindly apply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lead to unwise design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understand in depth the forces that need to be balanced, and when other patterns better balance the fo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e you justify each design decision care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A45-8AE4-4572-A6C0-80DB2C5977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When Creating Cla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331560" indent="-167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patterns is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 good pattern takes considerable 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or pattern can be hard to apply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560" indent="-167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write patterns for others to use until you have considerable experience both in software design and in the use of patter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n in-depth course on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ly refine your patterns, and have them peer reviewed at each ite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FE7-00CB-4451-B2B5-C2B6369732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876560" cy="450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FE8-8A24-48C8-AAD9-512A8833C7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ttern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2122560"/>
            <a:ext cx="7620120" cy="31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3CC-56CD-4BB4-8EEA-00F4CA97D7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uare varia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D74-061A-4366-B2D0-96816852C0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3 The General 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351000" indent="-1778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cts in a hierarchy can have one or more objects above them (superior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or more objects below them (subordinat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bjects cannot have any subord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epres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hierarchy of objects, in which some objects cannot have subordinate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a flexible way of representing the hierarc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3840" indent="-20772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prevents certain objects from having sub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objects have many common properties and oper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1FF-4CB2-4B61-9C57-E19ED7539D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24240" y="2476440"/>
            <a:ext cx="429552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AB9-F8F7-4E3E-88BE-1922817990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06-06-20T20:09:41Z</dcterms:modified>
  <cp:revision>143</cp:revision>
  <dc:subject/>
  <dc:title>SEG 2100 Software Design II</dc:title>
</cp:coreProperties>
</file>