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7E32-FC9D-481C-802C-913F54870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E1C5-24CC-403D-83A7-990C5E84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F0FD-AF37-42BF-9E44-0DADF9D98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169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6788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169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6788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B839-DBEE-4EE3-95C8-0C53AFC6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B338-08CE-453C-99EA-B1F0C66D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D150-F1FC-4486-98F4-079CF936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BEEA-EB3C-40F1-964C-478DE196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E297-9878-4AD0-9195-D2208FA4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DA59-A7E1-4BA0-ADBA-B09755AA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49DF-82E0-41FB-A680-99A1093A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78CC-7764-4810-9DF9-2195E80F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8230-A5F2-4E0F-A42E-A51683E9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1276200"/>
            <a:ext cx="8275680" cy="5444640"/>
            <a:chOff x="216000" y="1276200"/>
            <a:chExt cx="8275680" cy="544464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933480" y="6165720"/>
              <a:ext cx="73724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216000" y="1276200"/>
              <a:ext cx="819000" cy="493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4"/>
            <a:stretch/>
          </p:blipFill>
          <p:spPr>
            <a:xfrm rot="2678400">
              <a:off x="523440" y="5821200"/>
              <a:ext cx="76680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5"/>
            <a:stretch/>
          </p:blipFill>
          <p:spPr>
            <a:xfrm>
              <a:off x="8153280" y="6152760"/>
              <a:ext cx="33840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167616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9CF6-C94B-4737-84A8-C08047286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Software Engineer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Software Development using UML and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ter 1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and Software Engineer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Software Engineering?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atic development and evolu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ngineering process involves apply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ll understood techniq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a organized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scipl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well-accepted practices have been formally standar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by the IEEE or I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development work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ol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8318-B0CB-4D60-A32D-690DA75FAEC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Software Engineering?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rge, high quality software syste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engineering techniques are needed because large system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nnot be completely underst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one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work and co-ordination are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challenge: Dividing up the work and ensuring that the parts of the system work properly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nd-product must be of sufficient qua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2975-5491-4446-AA63-87631BC54EA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Software Enginee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t, time and other constrai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te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nefit must outweigh the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 are competing to do the job cheaper and f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te estimates of cost and time have caused many project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FBF2-E3FE-4809-B9BC-E4F5634AF2F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3 Software Engineering and the Engineering Prof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erm Software Engineering was coined in 196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5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began to realize that the principles of engineering should be applied to software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 is a licensed profe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5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to protect the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5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ineers design artifacts following well accepted practices which involve the application of science, mathematics and econo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5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ical practice is also a key tenet of the prof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ny countries, much software engineering does not require an engineering licence, but is still engineer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2991-B1A3-496E-BBFF-BD1E376F42D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Engineering and the Engineering Prof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hics in Software Engineer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engineers shal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 consistently with public 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 in the best interests of their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and maintain with the highest standard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 integrity and in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ote an ethical approach in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ce the integrity and reputation of the prof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fair and supportive to colleag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699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ate in lifelong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4296-DAC9-49DC-A25D-C5555EB4A42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4 Stakeholders in Software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Us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se who use th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Custom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se who pay for th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Software develop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Development Manag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four roles can be fulfilled by the same pers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6B3E-E753-4292-9292-1B89FBD3425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5 Software Qualit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abil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12480" indent="-1580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can learn it and fast and get their job done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ficienc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12480" indent="-1580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doesn’t waste resources such as CPU time and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iabil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12480" indent="-1580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does what it is required to do without fa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tainabil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12480" indent="-1580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an be easily c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usabil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12480" indent="-1580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parts can be used in other projects, so reprogramming is not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5FA9-5E69-48DC-B25A-D4C8419829B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Quality and the Stake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236760" y="3197160"/>
            <a:ext cx="1973520" cy="801720"/>
            <a:chOff x="3236760" y="3197160"/>
            <a:chExt cx="1973520" cy="801720"/>
          </a:xfrm>
        </p:grpSpPr>
        <p:sp>
          <p:nvSpPr>
            <p:cNvPr id="82" name=""/>
            <p:cNvSpPr/>
            <p:nvPr/>
          </p:nvSpPr>
          <p:spPr>
            <a:xfrm>
              <a:off x="3236760" y="3197160"/>
              <a:ext cx="1973520" cy="801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10440" y="3259080"/>
              <a:ext cx="122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Times New Roman"/>
                </a:rPr>
                <a:t>QUALIT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698280" y="3560760"/>
              <a:ext cx="122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455480" y="4237200"/>
            <a:ext cx="1524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Develop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54000" y="4237200"/>
            <a:ext cx="15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93040" y="4537080"/>
            <a:ext cx="2439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asy to desig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53080" y="4836960"/>
            <a:ext cx="2743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asy to maintai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59400" y="5138640"/>
            <a:ext cx="350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asy to reuse its p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18760" y="1330200"/>
            <a:ext cx="915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Use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13840" y="1631880"/>
            <a:ext cx="228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asy to lear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90720" y="1932120"/>
            <a:ext cx="2743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fficient to us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26800" y="2232000"/>
            <a:ext cx="2896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helps get work d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18120" y="1230480"/>
            <a:ext cx="1372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Custom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30240" y="1230480"/>
            <a:ext cx="15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54880" y="1530360"/>
            <a:ext cx="2896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olves problems 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35000" y="1832040"/>
            <a:ext cx="335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n acceptable cost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91160" y="2131920"/>
            <a:ext cx="3658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erms of money paid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02120" y="2433600"/>
            <a:ext cx="213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resources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89880" y="4160880"/>
            <a:ext cx="3048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Development manag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02480" y="4160880"/>
            <a:ext cx="15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70360" y="4462560"/>
            <a:ext cx="228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ells more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1760" y="4762440"/>
            <a:ext cx="2743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pleases custom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35360" y="5064120"/>
            <a:ext cx="2896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hile costing l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19520" y="5364000"/>
            <a:ext cx="350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o develop and maint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08880" y="2301120"/>
            <a:ext cx="599040" cy="6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69" y="17978"/>
                </a:moveTo>
                <a:arcTo wR="10800" hR="10800" stAng="2499398" swAng="2451812"/>
                <a:lnTo>
                  <a:pt x="10800" y="10800"/>
                </a:lnTo>
                <a:close/>
              </a:path>
              <a:path fill="none" w="21600" h="21600">
                <a:moveTo>
                  <a:pt x="18869" y="17978"/>
                </a:moveTo>
                <a:arcTo wR="10800" hR="10800" stAng="2499398" swAng="2451812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32240" y="2825640"/>
            <a:ext cx="225360" cy="45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49520" y="4137840"/>
            <a:ext cx="599760" cy="6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012" y="1966"/>
                </a:moveTo>
                <a:arcTo wR="10800" hR="10800" stAng="-3293143" swAng="2416350"/>
                <a:lnTo>
                  <a:pt x="10800" y="10800"/>
                </a:lnTo>
                <a:close/>
              </a:path>
              <a:path fill="none" w="21600" h="21600">
                <a:moveTo>
                  <a:pt x="17012" y="1966"/>
                </a:moveTo>
                <a:arcTo wR="10800" hR="10800" stAng="-3293143" swAng="241635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074760" y="3911760"/>
            <a:ext cx="523800" cy="350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75040" y="4138200"/>
            <a:ext cx="596880" cy="60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41" y="4919"/>
                </a:moveTo>
                <a:arcTo wR="10800" hR="10800" stAng="-8820513" swAng="2398777"/>
                <a:lnTo>
                  <a:pt x="10800" y="10800"/>
                </a:lnTo>
                <a:close/>
              </a:path>
              <a:path fill="none" w="21600" h="21600">
                <a:moveTo>
                  <a:pt x="1741" y="4919"/>
                </a:moveTo>
                <a:arcTo wR="10800" hR="10800" stAng="-8820513" swAng="2398777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97280" y="3936960"/>
            <a:ext cx="20016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96360" y="2422800"/>
            <a:ext cx="599040" cy="602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57" y="20688"/>
                </a:moveTo>
                <a:arcTo wR="10800" hR="10800" stAng="6822610" swAng="2430535"/>
                <a:lnTo>
                  <a:pt x="10800" y="10800"/>
                </a:lnTo>
                <a:close/>
              </a:path>
              <a:path fill="none" w="21600" h="21600">
                <a:moveTo>
                  <a:pt x="6457" y="20688"/>
                </a:moveTo>
                <a:arcTo wR="10800" hR="10800" stAng="6822610" swAng="2430535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695480" y="2898720"/>
            <a:ext cx="299880" cy="351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E05B-86DB-4C67-AD07-15B659E9B4D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Quality: Conflict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different qualities can conflic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7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ing efficiency can reduce maintainability or reus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7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ing usability can reduce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ting objectives for quality is a key engineering activ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7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then design to meet the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7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s ‘over-engineering’ which wastes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timizing is also sometimes necessa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7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obtain the highest possible reliability using a fixed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DAEA-1E97-4067-AC39-DC019436D18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Quality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s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pects of the desig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an effect on the external quality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mount of commenting of the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mplexity of the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8728-20E4-4E98-BA33-882BD69715F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1 The Nature of Softwar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is intangib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to understand development 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is easy to reprodu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is in i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ther engineering products, manufacturing is the costly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dustry is labor-intensiv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to auto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3ACC-D4C0-4EB6-B362-F9C81524E50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Term Vs. Long Term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ort term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softw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eet the customer’s immediate nee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sufficiently efficient for the volume of data we ha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d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ng term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’s future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ability: Can the software handle larger volumes of da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EDED-C577-432C-8404-09AE418F795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6 Software Engineering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st projects 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olutionar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rojects, involving work o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gac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yste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1717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rre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jects: fixing de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1717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ap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jects: changing the system in response to chang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120" indent="-2008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120" indent="-2008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120" indent="-2008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and reg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1717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hanc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jects: adding new features for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1717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enginee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fe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jects: changing the system internally so it is more maintain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BFA4-52A6-41DE-A1F8-B3D65CE7727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Engineering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field’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inority of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B472-4569-4D27-B283-FA86A4F029F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Engineering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jects that involve building on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r a set of existing componen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17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ramework is an application that is missing some important det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120" indent="-20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Specific rules of this organ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17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proje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120" indent="-20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lve plugging togeth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7712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ready develop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07712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significant functiona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120" indent="-200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t from reusing reliable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120" indent="-200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much of the same freedom to innovate found in green field develop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D93D-B3BB-4EDD-9446-BABF197EB63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7 Activities Common to Software Project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irements and specific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ai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ng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gath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1760" indent="-22608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taining input from as many sources as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1760" indent="-22608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ing th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1760" indent="-22608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ing detailed instructions about how the software should beh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50BD-6A00-4B17-B27A-96C1B24F5C7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 Common to Software Project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440" indent="-17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ding how the requirements should be implemented, using the available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440" indent="-17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16400" indent="-203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ystems enginee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eciding what should be in hardware and what i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16400" indent="-203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ftware architec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ividing the system into subsystems and deciding how the subsystems will inte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16400" indent="-203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tailed desig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internals of a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16400" indent="-203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16400" indent="-203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ign of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6A45-9A14-41C4-842E-FC1C185540B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 Common to Software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representations of the domain or th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ase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al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and behavioural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m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s and insp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loy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aging the proce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659A-7CF1-410C-BBDB-A4B0B459C08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8 The Nine Themes of the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Understanding the customer and the us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Basing development on solid principles and reusable technolog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Object orient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Visual modeling using UM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Evaluation of alterna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Incorporating quantitative and logical thinkin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 Iterative and agile develop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 Communicating effectively using document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 Risk management in all SE activitie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D838-C248-4918-8FBF-EFBEC8C8991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9 Difficulties and Risks in Software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lexity and large numbers of detai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certainty about technolog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certainty about requir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certainty about software engineering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ant 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rioration of software desig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tical risk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176D-9C8A-4456-9196-B0315FD9534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ure of Software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rained people can hack something togeth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480" indent="-1854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 problems are hard to no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is easy to modif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480" indent="-1854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make changes without fully understand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does not ‘wear out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480" indent="-1854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teriora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aving its design chang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64640" indent="-2170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neously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64640" indent="-2170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ways that were not anticipated, thus making it 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64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2CCC-B63E-4A09-91FA-F3630CB7DF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ure of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ch software has poor design and is getting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and for software is high and r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in a perpetual ‘software crisi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to learn to ‘engineer’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3C72-0225-4EC5-9AC8-40EF84383B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Softwar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specific 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i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d on open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c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TS (Commercial Off The Shel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rink-wra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bedd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t into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to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4565-ECF1-4A5F-BF77-99603E84C8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erences among custom, generic and embedded softwa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066680" y="2514600"/>
          <a:ext cx="11811240" cy="290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514600"/>
                    <a:ext cx="11811240" cy="29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2375-2939-4B3E-ABA1-DD88293896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 time softwa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control and monitoring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react immedi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fety often a conc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processing softwa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run busin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cy and security of data are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me software has both asp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014F-FB7B-4FB6-9D0A-063BD116AD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2 What is Software Engineering?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rocess of solving customers’ problems by the systematic development and evolution of large, high-quality software systems within cost, time and other constrai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definition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2520" indent="-183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EEE: (1) the application of a systematic, disciplined, quantifiable approach to the development, operation, maintenance of software; that is, the application of engineering to software. (2) The study of approaches as in (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2520" indent="-183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anadian Standards Association: The systematic activities involved in the design, implementation and testing of software to optimize its production and suppo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AB2C-4B14-4D54-8F5C-6954919FC4A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Software Engineering?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ving customers’ proble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software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the solution i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y, not bu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ng unnecessary features does not help solve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engineers m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municate effectiv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identify and understand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928E-5AF7-4CFE-882F-ECF8A15A838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6:59:35Z</dcterms:created>
  <dc:creator>Timothy C. Lethbridge</dc:creator>
  <dc:description/>
  <dc:language>en-US</dc:language>
  <cp:lastModifiedBy>Timothy Lethbridge</cp:lastModifiedBy>
  <dcterms:modified xsi:type="dcterms:W3CDTF">2006-06-20T14:22:10Z</dcterms:modified>
  <cp:revision>34</cp:revision>
  <dc:subject/>
  <dc:title>SEG 2100 Software Design II</dc:title>
</cp:coreProperties>
</file>