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D22-DDE1-4444-91F6-CDAF0F88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18E-CF4B-4BC5-A2AD-7DEDDE88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C99-2179-4427-ABDA-83B4E247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E2B-251B-459D-A9D6-4D9C3508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98B-9C12-4A17-B9A1-643B52D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693-1371-4395-9296-C794D39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150-ED98-4A30-B0E8-FE394C37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2A8-A39A-4603-BFA3-44BA743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E24-ED9C-4DFF-90A3-EA90E3C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A69-4863-4D1E-AE70-BBEA6F4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800-CD45-4181-AB67-7254FCA2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AB5-9D39-4405-830E-605585D8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95280"/>
            <a:ext cx="8275680" cy="5444640"/>
            <a:chOff x="216000" y="129528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8480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9528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4028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7184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F6E-076B-456C-9A61-252449E8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7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cusing on Users and Their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4 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o not rely only on usability guidelines –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guidelines have exceptions; you can only be confident that a UI is good if you test it successfully with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Base UI designs on users’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use case analysis to structure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Ensure that the sequences of actions to achieve a task are a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amount of reading and manipulation the user has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e user does not have to navigate anywhere to do subsequent steps of a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2EB-750C-4A67-B1F4-13FCCFADF7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Ensure that the user always knows what he or she can and should do nex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user can s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mmands are avail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re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commands stand 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 Provide good feedback including effective error mess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 user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perations and of thei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y navig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goes wrong explain the situation in adequate detail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user to resolve the 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184-B776-496D-9967-FE9B38E224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 Ensure that the user can always get out, go back or undo an a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operations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it is easy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e 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where the user cam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 Ensure that response time is adequ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are very sensitive to slow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ompare your system t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response time less than a second for most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 users of longer delays and inform them of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57F-12EA-436C-9791-24C56BDA43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 Us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able encoding techniq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encoding techniques with c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abels to ensure all encoding techniques are fully understoo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 Ensure that the UI’s appearanc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utter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isplaying too much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the information eff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594-FBE2-47FB-B631-7CCB2A4EF8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 Consider the need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group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s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 people from differ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ople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system is usable by bo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 Provide all necessar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help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help with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help is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652-7BD5-4A5A-9C4C-DAB4532112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imilar layouts and graphic designs throughout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look-and-feel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imicking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7D8-7640-43EE-8DC9-BE6B0C6EF0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4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cod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and fo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abstract 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and bord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n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u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s and vide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27C-AD16-493E-B10B-C4460DF575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(bad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958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8530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106-2683-44E6-B9F8-072D9D5746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better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7212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72120" y="3535200"/>
            <a:ext cx="2911680" cy="332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3832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19520" y="3522600"/>
            <a:ext cx="29178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A7E-36A6-4B62-B8E7-D63FCCA1AE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ng User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istic eval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ome use cases to 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or each window, page or dialog that appears during the execution of the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it in detail to look for possible usability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en you discover a usability defect write down the following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description of the def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ideas for how the defect might be fix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311-F9D1-4070-AC88-E891D4DDAF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1 User Centre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velopment should focus on the needs of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your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oftware based on an understanding of the users’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users are involved in decision making pro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user interface following guidelines for good 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users work with and give their feedback about prototypes, on-line help and draft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F56-91CD-46F2-B5F5-1A2B38C8B6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ing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by observation of us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users corresponding to each of the most important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most important u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sufficient instructions about each of the scen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evaluation sessions with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urpose of the eval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ably videotape each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 with the users as they are performing the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users finish all the tasks, de-brief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note of any difficulties experienced by the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60" indent="-15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e recommende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ECB-1F50-4921-B633-69901130C3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ing a Simple GUI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tract Window Toolkit (AW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asic building blocks of any graphical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, TextField, List, Label, Scroll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 the components constituting the G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, Dialog an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Manag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fine the way components are laid out in a contai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Layout, Border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E7F-627E-4B20-9AC9-042297C277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371600"/>
            <a:ext cx="54104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blic class ClientGUI extends Frame implements Cha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Button closeB = new Button("Clos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Button openB = new Button("Open")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Button sendB = new Button("Sen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Button quitB = new Button("Qui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TextField portTxF = new TextField("12345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TextField hostTxF = new TextField("localhos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TextField message = new TextFiel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Label portLB = new Label("Port: ", Label.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Label hostLB = new Label("Host: ", Label.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Label messageLB = new Label("Message: ",    Label.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vate List messageList = new Li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113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5FF-7CFA-48A4-A6E1-D7CF5A0025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990720"/>
            <a:ext cx="67053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ublic ClientGUI(String host, int por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uper("Simple Chat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tSize(300,40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tVisible(true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tLayout(new BorderLayout(5,5)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nel bottom = new Panel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dd("Center", messageList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dd("South", bottom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setLayout(new GridLayout(5,2,5,5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hostL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hostTxF);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portL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portTxF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messageLB);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message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open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send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close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ttom.add(quitB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DD2-292B-414F-B5D2-1434C04C87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104840"/>
            <a:ext cx="746748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endB.addActionListener(new ActionListener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ublic void actionPerformed(ActionEvent 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end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}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blic void sen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.sendToServer(message.getText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tch (Exception 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List.add(ex.toString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List.makeVisible(messageList.getItemCount()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List.setBackground(Color.yello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284-1E54-41AD-BC3E-DF7F690E17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ies and Risks in UI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358560" indent="-18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differ wi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for differences among users when you design th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for internation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perform usability studies, try the system with many different types of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implementation technology changes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ck to simpler UI frameworks widely used b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ancy and unusual UI designs involving specialized controls that will be hard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B6B-60CC-41F2-91CC-68C3A6C44E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UI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and implementation can often take the majority of work in an appl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I design an integral part of the software engineer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e time for many iterations of prototyping and evalu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often underestimate the weaknesses of a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all software engineers have training in UI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 UIs of other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394-C1A5-4120-8EB0-3EE4CBDA79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focusing on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raining and suppor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ime to learn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efficiency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by only developing features that are n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associated with changing the system l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prioritizing of work for iterative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attractiveness of the system, so users will be more willing to buy and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37B-5C18-413C-BBAC-7AFAB8056F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2 Characteristics of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must develop an understanding of the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using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patterns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 the domain and of comp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ical traits and emotional feel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CF7-28FD-4727-990F-9343529C7C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3 Basics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should be done in conjunction with other software engineering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use case analysis to help define the tasks that the UI must help the user per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I prototyping to address the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prototyping will enable you to finalize th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82A-5951-4CF8-B4D9-4A89C84700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vs. Ut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provide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capabilit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the user to achieve their goal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allow the user t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and to 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aw capabilitie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utility and usability are essent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ust be measured in the context of particular types of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D6E-7150-4190-AD30-FF153E521A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s of us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can be divided into separate aspec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with which a new user can become proficient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st an expert user can do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it prevents the user from making errors, detects errors, and helps to correct err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us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26B-0ACC-4201-BF1F-2E3F5CA65D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arning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198440"/>
            <a:ext cx="8534520" cy="47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4CC-37D6-4956-9105-58566CD7C7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basic terminology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pecific window with which a user can interact, but which is not the main UI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dge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 components of a user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ord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 of operations that the user can do at any given point in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t any stage in the dialog, the system is displaying certain information in certain widgets, and has a certain affor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ituation in which the UI restricts what the user can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 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dialog in which the system is in a very restrictiv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from the 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ever the user does something, is called feedba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techniq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ays of encoding information so as to communicate it to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63E-BECF-4EE5-A211-6C7483430E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06-06-20T20:12:33Z</dcterms:modified>
  <cp:revision>107</cp:revision>
  <dc:subject/>
  <dc:title>SEG 2100 Software Design II</dc:title>
</cp:coreProperties>
</file>