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8.wmf" ContentType="image/x-wmf"/>
  <Override PartName="/ppt/media/image42.wmf" ContentType="image/x-wmf"/>
  <Override PartName="/ppt/media/image9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41.wmf" ContentType="image/x-wmf"/>
  <Override PartName="/ppt/media/image39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35DF59-B564-4F36-9E61-3964AC65E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C48179-8646-40E6-B4BC-F56C61C4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E9554C-9B78-4A66-A893-65FBC711C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7DD381-8160-4B22-BAA6-255E2505F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0C6E01-718A-45BC-8E60-F39B2D33A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739E9C-0E96-4C9C-9767-D0B3710F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770EAE-1703-44F5-8E89-F86D4732B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31613E-4BB5-4CC1-9C13-11BA0E675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C7C04F-A7BD-4A56-84D8-DA471024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A7839D-6FCD-4891-86C8-8D13308D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E25D25-A102-44BB-BF70-76C1DBCAF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D81127-FFEF-4902-94FB-928BF0C1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4550B2-CDE5-4271-AF67-7C6FDE67F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8F92E0-F554-405F-A627-8D4F2344D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337A68-1E0C-48D4-9833-6134CA38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458DE5-3D2B-4909-B519-85AE11E8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A5D0B9-5CE1-400F-9AE9-DED164B34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B19B30-EB85-498C-8B4D-74244203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88FF1D-B816-4504-BE28-FCABD30EC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8BE92B-AD10-4BBA-8F79-D596E38A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C60A8F-835D-439E-960D-F23D544E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A4343A-3E0F-436B-B742-FDF9C47D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A62602-D991-449D-B32A-BEDD0E040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BD5659-054B-4848-8E59-E0C9B6F5E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012437-1233-4F69-BC9C-63D081258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0D9C91-5F6F-4B6C-BF50-DBC4C609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131B98-FB5D-4B5B-A689-27554D62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DDD89E-9F79-4D35-9A53-67518A810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40D4B8-7C70-495D-89A1-3F61E7FF8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67A90C-D7A0-45B1-AEB2-1376E1B2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34AD75-4E0A-4317-B1C7-18C8D240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5EFCF1-0F38-490C-B096-21144AED1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5E6C19-02B4-405B-BC3C-C3362CCA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30062C-512E-49C3-A700-217D75B3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5349DB-AAC8-4243-B0A8-03F3C185F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237900-E966-4F22-BEBF-6038A612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1C7E92-418A-4866-B838-2ECE4C91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32ED80-C7B4-4138-9935-0C058F4B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FC428D-B450-496D-B628-61729B177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E51005-E911-491F-A19A-E0174211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09A865-715D-4A72-8B8C-571A440D2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D966A0-68F1-454A-857B-662D9FCDB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75CB50-7B1D-4BD7-98C4-4E59B148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A44829-4FFF-4C27-BF2C-1F62B4D9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E846B5-3AD2-4201-9E5D-D4099225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C7F225-7765-43B9-A82C-7CB44DCE8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A92359-F884-4E62-8338-FA756CB4A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FE8D1E-FBA0-414B-81C7-33A10C64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5BFF20-DA55-4227-B1D7-188AD991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5E25EA-948E-4A8D-8C22-6EE09929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B962D3-D43B-4F04-91EE-DD4923DD9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E9E359-CD1E-444E-A113-93961513D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C7BF61-CA3B-4304-82D1-4FE7E35C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CF0183-7F62-433E-BCCE-E6266799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45005B-F0A8-4591-A117-676D4FE5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6D4764-2A37-4255-9493-4BF4C9DEF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1039ED-C885-4930-8427-0D3162D6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B51335-F0BD-40D0-9C82-BF6197B5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276249-A6F0-4E1E-BC11-A1D8F2DF3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F54922-A735-467F-971E-141AA521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E5EF6C-7DC8-4B7E-B69A-956F3D32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F2600F-4AA9-412E-96ED-F5719324E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8FAF69-373E-4E3A-B3B3-A6A30EB55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155BBC-A96E-450B-B939-053153E68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116B58-4DC4-4FA5-9742-18E9857B9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1C6EE6-C5EE-424B-8DA8-C85C82834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E07E9F-0C0F-4F75-8F1B-0F3457C4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C35-1637-464A-BB4B-61A27A78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6CA-4638-41F0-9B3E-48D9C93F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794-D236-43AD-9940-B38E0581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EAE-7BC0-4E35-B565-B9C9AFCB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3C3-FADC-4E39-AA7E-A82952C3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B8F-F86F-4B2D-97AF-4F86211A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300-2B4A-4A2F-902E-C878D581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E2D-DE5F-44F8-B749-BFA41AD9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36B-FA16-4644-A80D-9F137B9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296-B139-4281-A6DD-D0D110F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050-A956-438E-9FC9-90E6F188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A58-9683-4245-827B-1D200A59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216000" y="1276200"/>
            <a:ext cx="8275680" cy="5444640"/>
            <a:chOff x="216000" y="1276200"/>
            <a:chExt cx="8275680" cy="5444640"/>
          </a:xfrm>
        </p:grpSpPr>
        <p:pic>
          <p:nvPicPr>
            <p:cNvPr id="1" name="Picture 9" descr=""/>
            <p:cNvPicPr/>
            <p:nvPr/>
          </p:nvPicPr>
          <p:blipFill>
            <a:blip r:embed="rId2"/>
            <a:stretch/>
          </p:blipFill>
          <p:spPr>
            <a:xfrm>
              <a:off x="933480" y="616572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" descr=""/>
            <p:cNvPicPr/>
            <p:nvPr/>
          </p:nvPicPr>
          <p:blipFill>
            <a:blip r:embed="rId3"/>
            <a:stretch/>
          </p:blipFill>
          <p:spPr>
            <a:xfrm>
              <a:off x="216000" y="127620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1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2120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2" descr=""/>
            <p:cNvPicPr/>
            <p:nvPr/>
          </p:nvPicPr>
          <p:blipFill>
            <a:blip r:embed="rId5"/>
            <a:stretch/>
          </p:blipFill>
          <p:spPr>
            <a:xfrm>
              <a:off x="8153280" y="615276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8F1B-6CD2-4D78-A4EC-6E1AF369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y.umple.org/?text=class%20Assistant%20%7B%7D%0A%0Aclass%20Manager%20%7B%0A%20%201..*%20supervisor%20--%20*%20Assistant;%0A%7D//$?%5BEnd_of_model%5D$?%0A%0Aclass%20Assistant%0A%7B%0A%20%20position%2049%2030%20109%2045;%0A%7D%0A%0Aclass%20Manager%0A%7B%0A%20%20position%2073%20127%20109%2045;%0A%7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try.umple.org/?text=class%20Company%20%7B%7D%0Aclass%20BoardOfDirectors%20%7B%7D%0A%0Aassociation%20%7B%0A%20%201%20Company%20--%201%20BoardOfDirectors;%0A%7D//$?%5BEnd_of_model%5D$?%0A%0Aclass%20Company%0A%7B%0A%20%20position%2050%2030%20109%2045;%0A%7D%0A%0Aclass%20BoardOfDirectors%0A%7B%0A%20%20position%2050%20130%20109%2045;%0A%7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5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delling with Class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27FC-BB85-43E7-905C-06073602F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y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mpany has many employ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mployee can only work for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company will not store data about the moonlighting activities of employee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mpany can have zero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a ‘shell’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not possible to be an employee unless you work for 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2362320" y="5105520"/>
            <a:ext cx="6248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462480" y="5416560"/>
            <a:ext cx="4047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517200" y="525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165640" y="5105520"/>
            <a:ext cx="6606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184720" y="516096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419960" y="5178600"/>
            <a:ext cx="1764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371680" y="5151600"/>
            <a:ext cx="108108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2470680" y="523404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7520040" y="5151600"/>
            <a:ext cx="108108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7657920" y="5234040"/>
            <a:ext cx="81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327800" y="5181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AAF-86BB-44B6-BA9E-A86CCF1F0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y-to-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ssistant can work for many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anager can have many assi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istants can work in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rs can have a group of assi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managers might have zero assist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t possible for an assistant to have, perhaps temporarily, zero mana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1523880" y="4952880"/>
            <a:ext cx="7315200" cy="642960"/>
            <a:chOff x="1523880" y="4952880"/>
            <a:chExt cx="7315200" cy="642960"/>
          </a:xfrm>
        </p:grpSpPr>
        <p:sp>
          <p:nvSpPr>
            <p:cNvPr id="120" name="AutoShape 5"/>
            <p:cNvSpPr/>
            <p:nvPr/>
          </p:nvSpPr>
          <p:spPr>
            <a:xfrm>
              <a:off x="1523880" y="4952880"/>
              <a:ext cx="73152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2811600" y="5275440"/>
              <a:ext cx="47401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917440" y="4995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6670080" y="5295960"/>
              <a:ext cx="82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erv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7359480" y="4995720"/>
              <a:ext cx="1065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7359480" y="4995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7359480" y="4995720"/>
              <a:ext cx="1065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7359480" y="4995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7359480" y="4995720"/>
              <a:ext cx="1065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7359480" y="4995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7359480" y="4995720"/>
              <a:ext cx="1065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7359480" y="4995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7359480" y="4995720"/>
              <a:ext cx="1065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7359480" y="4995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7359480" y="4995720"/>
              <a:ext cx="1065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7099560" y="49957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22"/>
            <p:cNvSpPr/>
            <p:nvPr/>
          </p:nvSpPr>
          <p:spPr>
            <a:xfrm>
              <a:off x="1535040" y="4964040"/>
              <a:ext cx="1265400" cy="6206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23"/>
            <p:cNvSpPr/>
            <p:nvPr/>
          </p:nvSpPr>
          <p:spPr>
            <a:xfrm>
              <a:off x="1675800" y="506088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i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562880" y="4964040"/>
              <a:ext cx="1265040" cy="6206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25"/>
            <p:cNvSpPr/>
            <p:nvPr/>
          </p:nvSpPr>
          <p:spPr>
            <a:xfrm>
              <a:off x="7764480" y="5060880"/>
              <a:ext cx="890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Box 27"/>
          <p:cNvSpPr/>
          <p:nvPr/>
        </p:nvSpPr>
        <p:spPr>
          <a:xfrm>
            <a:off x="7387560" y="58053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Open in 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598-539F-4F0C-B9F1-8CBFBB72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ne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company, there is exactly one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oard is the board of only on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mpany must always have a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oard must always be of some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31"/>
          <p:cNvGrpSpPr/>
          <p:nvPr/>
        </p:nvGrpSpPr>
        <p:grpSpPr>
          <a:xfrm>
            <a:off x="1600200" y="4432320"/>
            <a:ext cx="6781680" cy="596880"/>
            <a:chOff x="1600200" y="4432320"/>
            <a:chExt cx="6781680" cy="596880"/>
          </a:xfrm>
        </p:grpSpPr>
        <p:pic>
          <p:nvPicPr>
            <p:cNvPr id="147" name="Picture 1028" descr=""/>
            <p:cNvPicPr/>
            <p:nvPr/>
          </p:nvPicPr>
          <p:blipFill>
            <a:blip r:embed="rId1"/>
            <a:stretch/>
          </p:blipFill>
          <p:spPr>
            <a:xfrm>
              <a:off x="1600200" y="4432320"/>
              <a:ext cx="6781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1029"/>
            <p:cNvSpPr/>
            <p:nvPr/>
          </p:nvSpPr>
          <p:spPr>
            <a:xfrm>
              <a:off x="6460920" y="4508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030"/>
            <p:cNvSpPr/>
            <p:nvPr/>
          </p:nvSpPr>
          <p:spPr>
            <a:xfrm>
              <a:off x="2879640" y="4462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Box 1"/>
          <p:cNvSpPr/>
          <p:nvPr/>
        </p:nvSpPr>
        <p:spPr>
          <a:xfrm>
            <a:off x="7315200" y="56610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pen in 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9CAC-D4DD-4A55-A053-BA7A51569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unnecessary one-to-one associ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this                                do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35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548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CAF3-CE57-4C7C-9A97-3B7653088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re complex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booking is always for exactly one pa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booking with zero passen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booking coul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volve more than one passenge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assenger can have any number of Boo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assenger could have no bookings at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assenger could have more than one b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ound this diagram is an optional feature that any UML 2.0 may posses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6462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5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7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307C-756B-4C7F-B5B0-E42A5B796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ociation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times, an attribute that concerns two associated classes cannot be placed in either of the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are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4" descr=""/>
          <p:cNvPicPr/>
          <p:nvPr/>
        </p:nvPicPr>
        <p:blipFill>
          <a:blip r:embed="rId1"/>
          <a:stretch/>
        </p:blipFill>
        <p:spPr>
          <a:xfrm>
            <a:off x="2781360" y="2666880"/>
            <a:ext cx="3695760" cy="147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7" descr=""/>
          <p:cNvPicPr/>
          <p:nvPr/>
        </p:nvPicPr>
        <p:blipFill>
          <a:blip r:embed="rId2"/>
          <a:stretch/>
        </p:blipFill>
        <p:spPr>
          <a:xfrm>
            <a:off x="2209680" y="4776840"/>
            <a:ext cx="4972320" cy="785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5076720" y="5732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in Umple and extended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4EA1-1A4B-45B6-991C-BE11535D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xive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possible for an association to connect a class to itse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0" descr=""/>
          <p:cNvPicPr/>
          <p:nvPr/>
        </p:nvPicPr>
        <p:blipFill>
          <a:blip r:embed="rId1"/>
          <a:stretch/>
        </p:blipFill>
        <p:spPr>
          <a:xfrm>
            <a:off x="1676520" y="2676600"/>
            <a:ext cx="5181480" cy="1463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7543080" y="56610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in 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A7ED-EB59-4B32-BE50-F81362A2C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ionality in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ssociations are by default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i-direction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t is possible to limit the direction of an association by adding an arrow at one 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2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343400" cy="758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7315200" y="573264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in 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2954-D8B3-4EAB-931A-652AEECCF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4 Gener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pecializing a superclass into two or more subclas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eneralization se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a labeled group of generalizations with a common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abel (sometimes called th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discrimin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describes the criteria used in th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914400" y="3351240"/>
            <a:ext cx="7848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64C-1483-4A89-AEF7-A2E86817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ing unnecessary general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572000" y="45720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ppropriate hierarch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, which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96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62E5-2E89-4968-85BF-CD9DC40C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1 What is U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Unified Modelling Language is a standard graphical language for modelling object oriented softwa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 the end of the 1980s and the beginning of 1990s, the first object-oriented development processes appea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 proliferation of methods and notations tended to cause considerable confu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important methodologists Rumbaugh and Booch decided to merge their approaches in 19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y worked together at the Rational Software Corpo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1995, another methodologist, Jacobson,  joined 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work focused on use c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1997 the Object Management Group (OMG) started the process of UML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080-CE20-4560-A224-4D78D3450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ing unnecessary generalization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28"/>
          <p:cNvSpPr/>
          <p:nvPr/>
        </p:nvSpPr>
        <p:spPr>
          <a:xfrm>
            <a:off x="1295280" y="5425920"/>
            <a:ext cx="71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class diagram, with its corresponding instanc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3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4407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7"/>
          <p:cNvSpPr/>
          <p:nvPr/>
        </p:nvSpPr>
        <p:spPr>
          <a:xfrm>
            <a:off x="7458840" y="126828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in 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EA99-F90A-4D90-B8D0-83F91A86C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higher-level gene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54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74AC-67E7-45C2-8AE2-57C7CEA93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122" descr=""/>
          <p:cNvPicPr/>
          <p:nvPr/>
        </p:nvPicPr>
        <p:blipFill>
          <a:blip r:embed="rId1"/>
          <a:stretch/>
        </p:blipFill>
        <p:spPr>
          <a:xfrm>
            <a:off x="1409760" y="1371600"/>
            <a:ext cx="765792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multipl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Player-Role pattern (in Chapter 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3927-A729-445D-8466-EA4CB5FBB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ing having instances chan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instance should never need to change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4647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306-4AE5-420F-9361-B15E9639B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5 Object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an instance of an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same way that we say an object is an instance of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34" descr=""/>
          <p:cNvPicPr/>
          <p:nvPr/>
        </p:nvPicPr>
        <p:blipFill>
          <a:blip r:embed="rId1"/>
          <a:stretch/>
        </p:blipFill>
        <p:spPr>
          <a:xfrm>
            <a:off x="2057400" y="2192400"/>
            <a:ext cx="57150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9EB8-C24F-40F7-8721-BA2421A3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ociations versus generalizations in object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ociations describe the relationships that will exist betwe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t ru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you show an instance diagram generated from a class diagram, there will be an instanc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asses joined by an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lizations describe relationships betwe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class dia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do not appear in instance diagrams at 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instance of any class should also be considered to be an instance of each of that class’s super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A73-A1D9-4DED-8012-A1C584947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6 More Advanced Features: Ag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gregations are special associations that represent ‘part-whole’ relationshi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‘whole’ side is often called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symbol is a shorthand notation association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sPartO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7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4193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F631-20A6-4A9D-BB4B-3F10A47F0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o use an aggreg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 a general rule, you can mark an association as an aggregation if the following are tru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stat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rts ‘are part of’ the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the aggregate ‘is composed of’ the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something owns or controls the aggregate, then they also own or control the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5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ooter Placeholder 6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7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A40B-A2CD-48D5-B9F9-1F91F00FB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a strong kind of aggreg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the aggregate is destroyed, then the parts are destroyed as w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alternatives for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71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695760" cy="447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4" descr=""/>
          <p:cNvPicPr/>
          <p:nvPr/>
        </p:nvPicPr>
        <p:blipFill>
          <a:blip r:embed="rId2"/>
          <a:stretch/>
        </p:blipFill>
        <p:spPr>
          <a:xfrm>
            <a:off x="1523880" y="4087800"/>
            <a:ext cx="69343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52B2-05AA-455C-8678-02344B3F8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gregation 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6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5438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AEBE-8F6B-403C-A82E-8844A955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cribe classes and their 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action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 the behaviour of systems in terms of how objects interact with each 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diagrams and activity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 how systems behave inter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nent and deployment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 how the various components of systems are arranged logically and phys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7585-3E7B-4BDE-AA5C-472899DD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echanism where an operation in an aggregate is implemented by having the aggregate perform that operation on it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 the same time, properties of the parts are often propagated back to the aggre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pagation is to aggregation as inheritance is to generaliz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major difference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heritance is an implicit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pagation has to be programmed when requi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9" descr=""/>
          <p:cNvPicPr/>
          <p:nvPr/>
        </p:nvPicPr>
        <p:blipFill>
          <a:blip r:embed="rId1"/>
          <a:stretch/>
        </p:blipFill>
        <p:spPr>
          <a:xfrm>
            <a:off x="1905120" y="4400640"/>
            <a:ext cx="556236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CEDA-7783-496E-BFEA-412DBD58F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 interface describes a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ortion of the visible behaviou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of a set of objec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similar to a class, except it lacks instance variables and implemented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22" descr=""/>
          <p:cNvPicPr/>
          <p:nvPr/>
        </p:nvPicPr>
        <p:blipFill>
          <a:blip r:embed="rId1"/>
          <a:stretch/>
        </p:blipFill>
        <p:spPr>
          <a:xfrm>
            <a:off x="990720" y="3100320"/>
            <a:ext cx="79246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5AE-06FC-424A-A736-F85F910C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s and descriptiv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criptive text and oth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ed your diagrams in a larger doc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 can explain aspects of the system using any notation you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light and expand on important features, and give rat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note is a small block of text embedd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UML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acts like a comment in a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8586-4413-4026-9129-33B6E216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7 Object Constraint Language (OC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CL is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igned to formally specify constraints in software mod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OCL expression simply specifies a logical fact (a constraint) about the system that must rema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aint cannot have any side-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not compute a non-Boolean result nor modify any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L statements in class diagrams can specify what the values of attributes and associations must 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9467-F0A9-4CF8-AE2D-9569B3599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CL statements can be built fro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erences to role names, association names, attributes and the results of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gical value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s such a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equ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ing values such as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‘a string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gers and real nu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ithmetic operation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7051-DF89-4CFE-8ADC-F3AFE5B20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: constraints on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2" descr=""/>
          <p:cNvPicPr/>
          <p:nvPr/>
        </p:nvPicPr>
        <p:blipFill>
          <a:blip r:embed="rId1"/>
          <a:stretch/>
        </p:blipFill>
        <p:spPr>
          <a:xfrm>
            <a:off x="228600" y="1382760"/>
            <a:ext cx="86868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297-0875-48AD-909D-F3997C0AA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tretch/>
        </p:blipFill>
        <p:spPr>
          <a:xfrm>
            <a:off x="3352680" y="1090440"/>
            <a:ext cx="4800600" cy="38624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8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ed Example: A Class Diagram for Genea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44953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must have two pa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riages not properly account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E3BA-9B0D-4253-9455-BDE382DED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alogy example: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26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543800" cy="41752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2058120" y="54450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in 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5D3-A00F-46EB-BBB2-B94676844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9 The Process of Developing 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ou can create UML models at different stages and with different purposes and levels of detai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ploratory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ed in domain analysis to learn about th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stem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s aspects of the domain represented by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stem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es also classes used to build the user interface and system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EC5-C63E-49D1-ACDC-4F5CA991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domain model vs System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990720" y="1527120"/>
            <a:ext cx="754380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471-2060-46FA-8F38-C036755E5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detail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echan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an associated textu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 Constraint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O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objective of UML is to assist in software develo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not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4A2-5448-444D-A6E6-52B2CAFD0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domain model vs System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mits many classes that are needed to build a comple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ntain less than half the classes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developed to be used  independently of particular se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E34A-6837-49F5-9E0E-EC45D834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ggested sequence of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y a first set of candid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the ma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de on specific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ver the entir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the model is 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or delete classes, associations, attributes, generalizations, responsibilities or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design patterns (Chapter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too disorganized. Don’t be too rigid ei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50B3-D203-4142-B99E-6E1E21578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class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developing a domain model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isco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you work on the user interface or the system architecture,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v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ed to solve a particular design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venting may also occur when creating a domai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use should always be a conc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D4E4-8065-459F-87CA-F4DC7FD4F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technique for discovering domain class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ok at a source material such as a description of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ract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u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noun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vague or highly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needed in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attention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es in a domain model that repres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ypes of us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other a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02E7-DAD6-4EA0-A57B-1873016BF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associations and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 classes you think are mos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clear and obvious data it must contain and its relationships to other cla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outwards towards the classes that are less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oid adding many associations and attributes to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ystem is simpler if it manipulates less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856E-ED20-4052-9020-38686927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s about identifying and specifying valid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ssociation should exist if a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oss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s connec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s rela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s a par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as a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s a member o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a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ther class in your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e multiplicity at both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 it cl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5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ooter Placeholder 6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7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218-81A8-4899-B1E0-AD89FCF0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versus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 mistake is to represen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 if they were associ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63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2057400" cy="17240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8"/>
          <p:cNvSpPr/>
          <p:nvPr/>
        </p:nvSpPr>
        <p:spPr>
          <a:xfrm>
            <a:off x="1516320" y="4556160"/>
            <a:ext cx="285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ad, due to the use of associ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1516680" y="4757760"/>
            <a:ext cx="122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at ar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7"/>
          <p:cNvSpPr/>
          <p:nvPr/>
        </p:nvSpPr>
        <p:spPr>
          <a:xfrm>
            <a:off x="4553640" y="435276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etter: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8"/>
          <p:cNvSpPr/>
          <p:nvPr/>
        </p:nvSpPr>
        <p:spPr>
          <a:xfrm>
            <a:off x="5514840" y="43704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bo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9"/>
          <p:cNvSpPr/>
          <p:nvPr/>
        </p:nvSpPr>
        <p:spPr>
          <a:xfrm>
            <a:off x="6225480" y="4352760"/>
            <a:ext cx="162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create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0"/>
          <p:cNvSpPr/>
          <p:nvPr/>
        </p:nvSpPr>
        <p:spPr>
          <a:xfrm>
            <a:off x="7843320" y="43704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1"/>
          <p:cNvSpPr/>
          <p:nvPr/>
        </p:nvSpPr>
        <p:spPr>
          <a:xfrm>
            <a:off x="8317080" y="4352760"/>
            <a:ext cx="44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2"/>
          <p:cNvSpPr/>
          <p:nvPr/>
        </p:nvSpPr>
        <p:spPr>
          <a:xfrm>
            <a:off x="4552560" y="4556160"/>
            <a:ext cx="29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3"/>
          <p:cNvSpPr/>
          <p:nvPr/>
        </p:nvSpPr>
        <p:spPr>
          <a:xfrm>
            <a:off x="4856040" y="457344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4"/>
          <p:cNvSpPr/>
          <p:nvPr/>
        </p:nvSpPr>
        <p:spPr>
          <a:xfrm>
            <a:off x="5565960" y="455616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se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55"/>
          <p:cNvSpPr/>
          <p:nvPr/>
        </p:nvSpPr>
        <p:spPr>
          <a:xfrm>
            <a:off x="7085160" y="457344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ed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6"/>
          <p:cNvSpPr/>
          <p:nvPr/>
        </p:nvSpPr>
        <p:spPr>
          <a:xfrm>
            <a:off x="8502480" y="45561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57"/>
          <p:cNvSpPr/>
          <p:nvPr/>
        </p:nvSpPr>
        <p:spPr>
          <a:xfrm>
            <a:off x="4553280" y="4757760"/>
            <a:ext cx="72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ttrib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66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36957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AE68-745E-48E2-88AB-2F5F1C045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information that must be maintained about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al nouns rejected as classes, may now become 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tribute should generally contain a simple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tring,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C07D-A288-474E-9345-E6759F35E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about identifying and specifying valid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good to have many duplicate attribut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ubset of a clas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ttributes form a coherent group, then create a distinct class containing these attribu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70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772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8C2-F229-4FB4-94AA-1DF508F5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attributes and associ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90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5438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23A8-56DA-400B-866D-AD9116DF4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onstitutes a good mode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model shou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a standard no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understandable by clients and u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 software engineers to have insights about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s are us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help creat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ermit analysis and review of those desig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the core documentation describing the 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C1E0-0A05-4BC8-A88A-26B8C6F37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generalizations and 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ways to identify generaliz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oup together similar classes creating a new super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more general classes first, specialize them if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stead of a  superclass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es are very dissimilar except for having a few operations in comm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of the  classes already have their own super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implementations of the same class might be avail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B3A5-49E6-414D-BF2E-653D64501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gener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1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5438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D0D9-AE9E-4745-95FB-8DE14813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ng responsibilities to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something that the system is required to d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unctional requirement must be attributed to one of th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e responsibilities of a given class should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early rel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class has too many responsibilities, consi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into distinct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class has no responsibilities attached to it, then it is probab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responsibility cannot be attributed to any of the existing classes, the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ould be cre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termine responsibil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use case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verbs and nouns describ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system descri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A06F-B9EA-4EFE-ACB5-B80E02122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tegories of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 and getting the values of 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initializing new in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ing to and saving from persistent 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ing in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nd deleting links of associ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ying, converting, transforming, transmitting or outpu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ing numerical 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ing and sear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specialize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A18-3CE7-4A8E-B93B-7055D5667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40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257800" cy="4222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(responsib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new regular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ing for a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ing attributes of a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specific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ing a passeng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ling a book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5A7-BE44-43FD-9055-041F8CD37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ing a class diagram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you identify classes, you write their names on small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you identify attributes and responsibilities, you list them on the c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you cannot fit all the responsibilities on one c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suggests you should split the class into two related class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he cards around on a whiteboard to arrange them into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lines among the cards to represent associations and generaliz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02B2-B3B3-4C39-9DF2-49E31383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ope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s are needed to realize the responsibilities of each clas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ay be several operations per respon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operations that implement a responsibility are normally declar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ethods that collaborate to perform the responsibility must be as private as possi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5791-2BCA-4F28-93F6-94D069226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class collabo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3" descr=""/>
          <p:cNvPicPr/>
          <p:nvPr/>
        </p:nvPicPr>
        <p:blipFill>
          <a:blip r:embed="rId1"/>
          <a:stretch/>
        </p:blipFill>
        <p:spPr>
          <a:xfrm>
            <a:off x="1066680" y="1781280"/>
            <a:ext cx="7543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9D63-B536-44F9-85AF-E9A9C3EB1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 bi-directional link between two existing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dding a link between an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The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calls operation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6889680" y="419040"/>
            <a:ext cx="1035000" cy="681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7085520" y="6555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792680" y="457200"/>
            <a:ext cx="1219320" cy="681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4932360" y="65556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5"/>
          <p:cNvSpPr/>
          <p:nvPr/>
        </p:nvSpPr>
        <p:spPr>
          <a:xfrm flipH="1">
            <a:off x="6019920" y="814320"/>
            <a:ext cx="8460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6041160" y="669960"/>
            <a:ext cx="5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6625080" y="60948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EF22-282A-4206-8D1C-C507672C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object and linking it to an existing ob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linking it to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constructor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peration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makes a one-directional link to the new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non-public) Clas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Lo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onstru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809880" cy="701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6992640" y="60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9F3-616C-4937-A406-D8FC6215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2 Essentials of UML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main symbols shown on class diagrams are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resent the types of data themsel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resent linkages between instances of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simple data found in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resent the functions performed by the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oup classes into inheritance hierarch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028D-5236-4CB1-866E-3956591BE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189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association class, given two existing ob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reating an instance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ill link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nger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The instance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800" indent="-37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constructor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peration 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Clas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ing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onstructor, among its other a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800" indent="-37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nger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800" indent="-37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800" indent="-37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operations 3 and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800" indent="-37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800" indent="-37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4419720" y="254160"/>
            <a:ext cx="4686120" cy="7984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7392960" y="457200"/>
            <a:ext cx="2448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44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868720" y="517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8139-1548-4DC1-A40A-014B92B2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the destination of a li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hanging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o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om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s the link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opera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calls operation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non-public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s its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non-public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44323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79E-2AF3-467A-B6A9-9D99B83DE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 for an associated in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arching for a crew member associated with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has a certain n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an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all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w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s of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of them call operation 2, until it finds a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y be 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its n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4876920" y="484200"/>
            <a:ext cx="4038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8E8C-80A8-406D-AC18-4F8249E6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10 Implementing Class Diagram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tributes are implemented as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izations are implemented using exte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are implemented using 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ociations are normally implemented using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each two-way association into two one-way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each associated class has an instance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 one-way association where the multiplicity at the other end is ‘one’ or ‘optiona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clare a variable of that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refe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 one-way association where the multiplicity at the other end is ‘many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 a collection class implementing 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ED84-D861-47BF-925B-6FE1463F6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F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1066680" y="143676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Calendar d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RegularFlight regular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onstructor that should only be called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dd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Flight( Calendar aDate, RegularFlight aRegularFl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 aD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Flight = aRegular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539B-665B-46CA-8087-3023A17E2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1219320" y="1371600"/>
            <a:ext cx="7391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Regular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List specificFligh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ethod that has primary respons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addSpecificFlight(Calendar a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Flight newSpecific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pecificFlight = new SpecificFlight(aDate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Flights.add(newSpecificFl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BADF-97C8-4A80-8216-C68A717A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11 Difficulties and Risks when creating class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is particularly difficult sk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ven excellent programmers have difficulty thinking at the appropriate level of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ducation traditionally focus more on design and programming than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nsure that tem members have adequate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ave experienced modeler as part of th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view all models thorough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C37-C013-439A-85F4-1E727702D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lass is simply represented as a box with the name of the class insi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iagram may also show the attributes an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lete signature of an operation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Name(parameterName: parameterType …): return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77724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6235-7EDC-4638-8AA2-CC993FBA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3 Associations and Multipli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associatio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is used to show how two classes are related to each oth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mbols indicati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re shown at each end of the associ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438280" y="2811600"/>
            <a:ext cx="46483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: Modelling with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2A0-96B0-438F-A982-B5A031FE9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lling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association can be labelled, to make explicit the nature of the associ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5389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11-10-02T17:53:53Z</dcterms:modified>
  <cp:revision>204</cp:revision>
  <dc:subject/>
  <dc:title>SEG 2100 Software Design II</dc:title>
</cp:coreProperties>
</file>