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2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0F2EA-A473-4F4C-AB5F-0DEA43BE97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46058-F5BB-416B-AC21-F0E0B5F5AE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8709A-4858-4B99-9E35-388298099B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698FA-0B28-4D44-A6C9-002BF42B65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74804-6154-4371-923E-9F41E77725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B63DF-E5FE-4A8B-BF61-2911D7C627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E8C43-0EC0-4B32-B163-E0CDA6A9A1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72543-F1E4-4614-9362-20A544A926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73A5E-30DE-4439-A6BE-C44D32F8B0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272C5-048A-4959-9267-6EF089D1A7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DD5E6-4288-4038-A636-5CFD8B520F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6ABD1-EE82-4F10-9FEF-7D4FDC0882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569F4-37E0-4CB0-B0C2-7FE3297443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A90FE-E37F-4147-9CDF-2D1E8CB3CA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1055B-5AB4-428B-B8D8-FBC1A8552D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79302-08CB-48FC-A28A-F53F7D4A5E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17EFC-C4D9-4E45-A12A-21C0A883F4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2174E-A078-433C-A42C-9A8EA1EFC4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73A08-1CB0-46BC-9DC7-AEF094EDA5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5AEEA-A909-4F50-ACDF-3BBE9A0329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44FDC-20F3-4403-BDD1-529C77D35F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0FB63-F934-44AB-AC4F-7B95D53C72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E333B-382C-406B-BDEE-8346DDA0AD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975A8-36DE-4AF5-91CE-B2DAE04D6A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87C07-EDEE-4185-8249-CEFCB1C86D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09EE2-A174-4FCB-ACC6-FABA7BEA64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55DDD-5BA0-46F8-965A-BACE1D13DA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C4C4E-A136-4110-B73A-567137C0DE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4763B-D6CF-46F3-A8CD-4AAA2DDDF5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01DFF-8563-4F55-89C1-6AB810CDC7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72D20-D255-4F69-BFB1-D10F347248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E811C-752F-4BCB-8F78-D5395D0C11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035BD-8C7F-47AC-BFE8-115F186E47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DA0E5-14C5-4E19-8D50-EC0081DBB3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7A2E4-BA14-409A-B341-8B32A04558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7B8E9-3082-4862-AE80-91F0C425E1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DA021-60A3-476B-950E-D06BA06B80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250E0-4505-4D45-892B-ED3B381587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C13EC-9980-44E4-B813-72FBC45E9C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1D29B-2F19-454E-8544-4E6525CFC4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9B335-604C-47BB-AE1D-C237298E0B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256A0-D601-4C45-9F62-CD9B535C54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37D63-78CC-4E61-BD99-6336C10D31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88A0E-EC96-455E-BABD-AEBF4C3FA1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7EE21-B997-4718-B9B5-9F69E25C51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A07A-5A4D-447B-B9E3-714B96C80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066320" y="387864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BA34-C20C-4064-B244-D8BBD3957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3200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6632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EB08-2B6C-4F45-AAEE-C919B330F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616920" y="13712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67880" y="13712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066320" y="38786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616920" y="38786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67880" y="38786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349F-E1A5-4BB1-B5EC-AEE80DA5D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6A20-1C09-4454-BEF0-C7892202E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D62D-EB9E-4BE2-8A28-FBFF3668D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3200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BAC4-1C0F-4776-B097-175D2327C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5054-2B65-4C13-9DA8-59DAA6F13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80880" y="30492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B8A3-5BE4-4662-80C2-D56D59B50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3200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6632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482C-AF5D-4E12-BAAB-B9D3EFCE9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3200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3200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2A4A-1E13-4A98-8E6C-1B4E263D8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387864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886D-3DC9-437F-BD0B-BC1DD4CE9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2"/>
          <p:cNvGrpSpPr/>
          <p:nvPr/>
        </p:nvGrpSpPr>
        <p:grpSpPr>
          <a:xfrm>
            <a:off x="216000" y="1276200"/>
            <a:ext cx="8275680" cy="5444640"/>
            <a:chOff x="216000" y="1276200"/>
            <a:chExt cx="8275680" cy="5444640"/>
          </a:xfrm>
        </p:grpSpPr>
        <p:pic>
          <p:nvPicPr>
            <p:cNvPr id="1" name="Picture 13" descr=""/>
            <p:cNvPicPr/>
            <p:nvPr/>
          </p:nvPicPr>
          <p:blipFill>
            <a:blip r:embed="rId2"/>
            <a:stretch/>
          </p:blipFill>
          <p:spPr>
            <a:xfrm>
              <a:off x="933480" y="6165720"/>
              <a:ext cx="737244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Picture 14" descr=""/>
            <p:cNvPicPr/>
            <p:nvPr/>
          </p:nvPicPr>
          <p:blipFill>
            <a:blip r:embed="rId3"/>
            <a:stretch/>
          </p:blipFill>
          <p:spPr>
            <a:xfrm>
              <a:off x="216000" y="1276200"/>
              <a:ext cx="819000" cy="493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" name="Picture 15" descr=""/>
            <p:cNvPicPr/>
            <p:nvPr/>
          </p:nvPicPr>
          <p:blipFill>
            <a:blip r:embed="rId4"/>
            <a:stretch/>
          </p:blipFill>
          <p:spPr>
            <a:xfrm rot="2678400">
              <a:off x="523440" y="5821200"/>
              <a:ext cx="76680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" name="Picture 16" descr=""/>
            <p:cNvPicPr/>
            <p:nvPr/>
          </p:nvPicPr>
          <p:blipFill>
            <a:blip r:embed="rId5"/>
            <a:stretch/>
          </p:blipFill>
          <p:spPr>
            <a:xfrm>
              <a:off x="8153280" y="6152760"/>
              <a:ext cx="33840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1676160" y="647712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Lethbridge/Laganière 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80988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pter 2: Review of Object Orien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807732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6960A-589A-4472-81C8-FA4D5F20CA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-Oriented Software Engineering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actical Software Development using UML and J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6002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apter 2: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iew of Object Orientation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Date Placeholder 3"/>
          <p:cNvSpPr/>
          <p:nvPr/>
        </p:nvSpPr>
        <p:spPr>
          <a:xfrm>
            <a:off x="1676520" y="64771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Lethbridge/Laganière 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Footer Placeholder 4"/>
          <p:cNvSpPr/>
          <p:nvPr/>
        </p:nvSpPr>
        <p:spPr>
          <a:xfrm>
            <a:off x="380988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pter 2: Review of Object Orien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Slide Number Placeholder 5"/>
          <p:cNvSpPr/>
          <p:nvPr/>
        </p:nvSpPr>
        <p:spPr>
          <a:xfrm>
            <a:off x="807732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8F7B9-1B8A-4DF0-AECA-40E0E91D18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3 Instance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ariables defined inside a class corresponding to data present in each instanc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7040" indent="-17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so calle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iel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ember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7040" indent="-17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rib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24320" indent="-205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24320" indent="-205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teOfBir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7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7040" indent="-17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oci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24320" indent="-205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onships to other important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24320" indent="-205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upervis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ursesTa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24320" indent="-205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 on these in Chapter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Date Placeholder 3"/>
          <p:cNvSpPr/>
          <p:nvPr/>
        </p:nvSpPr>
        <p:spPr>
          <a:xfrm>
            <a:off x="1676520" y="64771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Lethbridge/Laganière 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Footer Placeholder 4"/>
          <p:cNvSpPr/>
          <p:nvPr/>
        </p:nvSpPr>
        <p:spPr>
          <a:xfrm>
            <a:off x="380988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pter 2: Review of Object Orien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Slide Number Placeholder 5"/>
          <p:cNvSpPr/>
          <p:nvPr/>
        </p:nvSpPr>
        <p:spPr>
          <a:xfrm>
            <a:off x="807732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0040C-F42A-4A26-A977-512779469F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ables vs. Ob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variabl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fer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an objec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refer to different objects at different points in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object can be referred to by several different variables at the same tim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of a variabl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ermines what classes of objects it may conta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Date Placeholder 3"/>
          <p:cNvSpPr/>
          <p:nvPr/>
        </p:nvSpPr>
        <p:spPr>
          <a:xfrm>
            <a:off x="1676520" y="64771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Lethbridge/Laganière 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Footer Placeholder 4"/>
          <p:cNvSpPr/>
          <p:nvPr/>
        </p:nvSpPr>
        <p:spPr>
          <a:xfrm>
            <a:off x="380988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pter 2: Review of Object Orien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Slide Number Placeholder 5"/>
          <p:cNvSpPr/>
          <p:nvPr/>
        </p:nvSpPr>
        <p:spPr>
          <a:xfrm>
            <a:off x="807732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32198-29C0-4F02-97BA-7AF9444F68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lass variab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90360" y="121896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 variable’s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 is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re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all instances of a class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35520" indent="-16992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so called a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ic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0648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35520" indent="-16992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one instance sets the value of a class variable, then all the other instances see the same changed valu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064880" indent="0" algn="just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35520" indent="-16992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 variables are useful f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00200" indent="-19872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 ‘constant’ values (e.g. P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00200" indent="-19872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okup tables and similar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0648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35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ution: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not over-use class variable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3"/>
          <p:cNvSpPr/>
          <p:nvPr/>
        </p:nvSpPr>
        <p:spPr>
          <a:xfrm>
            <a:off x="1676520" y="64771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Lethbridge/Laganière 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4"/>
          <p:cNvSpPr/>
          <p:nvPr/>
        </p:nvSpPr>
        <p:spPr>
          <a:xfrm>
            <a:off x="380988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pter 2: Review of Object Orien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5"/>
          <p:cNvSpPr/>
          <p:nvPr/>
        </p:nvSpPr>
        <p:spPr>
          <a:xfrm>
            <a:off x="807732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F865B-374F-41D3-BC10-46753F5DA9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4 Methods, Operations and Polymorph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pera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higher-level procedural abstrac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at specifie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type of behavi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ependent of any code which implements that behavi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 calculating area (in gener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Date Placeholder 3"/>
          <p:cNvSpPr/>
          <p:nvPr/>
        </p:nvSpPr>
        <p:spPr>
          <a:xfrm>
            <a:off x="1676520" y="64771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Lethbridge/Laganière 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Footer Placeholder 4"/>
          <p:cNvSpPr/>
          <p:nvPr/>
        </p:nvSpPr>
        <p:spPr>
          <a:xfrm>
            <a:off x="380988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pter 2: Review of Object Orien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Slide Number Placeholder 5"/>
          <p:cNvSpPr/>
          <p:nvPr/>
        </p:nvSpPr>
        <p:spPr>
          <a:xfrm>
            <a:off x="807732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51520-75A8-49E8-9175-6867856C70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hods, Operations and Polymorph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tho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78000" indent="-19152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procedural abstraction used to implement the behaviour of a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7800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78000" indent="-19152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veral different classes can have methods with the same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88760" indent="-22392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implement the same abstract operation in ways suitable to each cla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88760" indent="-22392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 calculating area in a rectangle is done differently from in a cir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Date Placeholder 3"/>
          <p:cNvSpPr/>
          <p:nvPr/>
        </p:nvSpPr>
        <p:spPr>
          <a:xfrm>
            <a:off x="1676520" y="64771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Lethbridge/Laganière 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Footer Placeholder 4"/>
          <p:cNvSpPr/>
          <p:nvPr/>
        </p:nvSpPr>
        <p:spPr>
          <a:xfrm>
            <a:off x="380988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pter 2: Review of Object Orien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Slide Number Placeholder 5"/>
          <p:cNvSpPr/>
          <p:nvPr/>
        </p:nvSpPr>
        <p:spPr>
          <a:xfrm>
            <a:off x="807732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7695A-97A4-41AA-869A-70A6F6AAC9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ymorph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perty of object oriented software by which an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stract operation may be performed in different ways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different classe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that there b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ltiple methods of the same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hoice of which one to execute depends on the object that is in a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duces the need for programmers to code many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-el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witc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Date Placeholder 3"/>
          <p:cNvSpPr/>
          <p:nvPr/>
        </p:nvSpPr>
        <p:spPr>
          <a:xfrm>
            <a:off x="1676520" y="64771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Lethbridge/Laganière 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Footer Placeholder 4"/>
          <p:cNvSpPr/>
          <p:nvPr/>
        </p:nvSpPr>
        <p:spPr>
          <a:xfrm>
            <a:off x="380988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pter 2: Review of Object Orien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Slide Number Placeholder 5"/>
          <p:cNvSpPr/>
          <p:nvPr/>
        </p:nvSpPr>
        <p:spPr>
          <a:xfrm>
            <a:off x="807732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DFE4E-9385-465C-A1F9-51F6836CCD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5 Organizing Classes into Inheritance Hierarch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201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perclass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51000" indent="-177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ain features common to a set of sub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51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heritance hierarchi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51000" indent="-177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w the relationships among superclasses and sub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51000" indent="-177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triangle show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ener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51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51000" indent="-177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mplic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ssession by all subclasses of features defined in its super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5" descr="Picture 1"/>
          <p:cNvPicPr/>
          <p:nvPr/>
        </p:nvPicPr>
        <p:blipFill>
          <a:blip r:embed="rId1"/>
          <a:stretch/>
        </p:blipFill>
        <p:spPr>
          <a:xfrm>
            <a:off x="5867280" y="3733920"/>
            <a:ext cx="6098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Date Placeholder 3"/>
          <p:cNvSpPr/>
          <p:nvPr/>
        </p:nvSpPr>
        <p:spPr>
          <a:xfrm>
            <a:off x="1676520" y="64771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Lethbridge/Laganière 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Footer Placeholder 4"/>
          <p:cNvSpPr/>
          <p:nvPr/>
        </p:nvSpPr>
        <p:spPr>
          <a:xfrm>
            <a:off x="380988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pter 2: Review of Object Orien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Slide Number Placeholder 5"/>
          <p:cNvSpPr/>
          <p:nvPr/>
        </p:nvSpPr>
        <p:spPr>
          <a:xfrm>
            <a:off x="807732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76349-71C4-4C03-A688-96FEC75700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Example Inheritance Hierarc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90720" y="4724280"/>
            <a:ext cx="7315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54960" indent="-179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mplic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ssession by all subclasses of features defined in its super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9" descr="Picture 2"/>
          <p:cNvPicPr/>
          <p:nvPr/>
        </p:nvPicPr>
        <p:blipFill>
          <a:blip r:embed="rId1"/>
          <a:stretch/>
        </p:blipFill>
        <p:spPr>
          <a:xfrm>
            <a:off x="914400" y="1447920"/>
            <a:ext cx="7899480" cy="2608200"/>
          </a:xfrm>
          <a:prstGeom prst="rect">
            <a:avLst/>
          </a:prstGeom>
          <a:ln w="0">
            <a:noFill/>
          </a:ln>
        </p:spPr>
      </p:pic>
      <p:sp>
        <p:nvSpPr>
          <p:cNvPr id="138" name="TextBox 7"/>
          <p:cNvSpPr/>
          <p:nvPr/>
        </p:nvSpPr>
        <p:spPr>
          <a:xfrm>
            <a:off x="6875640" y="4221000"/>
            <a:ext cx="165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e in U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Date Placeholder 3"/>
          <p:cNvSpPr/>
          <p:nvPr/>
        </p:nvSpPr>
        <p:spPr>
          <a:xfrm>
            <a:off x="1676520" y="64771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Lethbridge/Laganière 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Footer Placeholder 4"/>
          <p:cNvSpPr/>
          <p:nvPr/>
        </p:nvSpPr>
        <p:spPr>
          <a:xfrm>
            <a:off x="380988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pter 2: Review of Object Orien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Slide Number Placeholder 5"/>
          <p:cNvSpPr/>
          <p:nvPr/>
        </p:nvSpPr>
        <p:spPr>
          <a:xfrm>
            <a:off x="807732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A8A38-B500-44AE-A1C3-EF1EA5ED07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sa R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ways check generalizations to ensure they obey the isa rul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hecking account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s 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ccoun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villag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s 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unicipality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hould 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vince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be a subclass of 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untry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, it violates the isa r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rovinc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s 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untry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invali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Date Placeholder 3"/>
          <p:cNvSpPr/>
          <p:nvPr/>
        </p:nvSpPr>
        <p:spPr>
          <a:xfrm>
            <a:off x="1676520" y="64771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Lethbridge/Laganière 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Footer Placeholder 4"/>
          <p:cNvSpPr/>
          <p:nvPr/>
        </p:nvSpPr>
        <p:spPr>
          <a:xfrm>
            <a:off x="380988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pter 2: Review of Object Orien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Slide Number Placeholder 5"/>
          <p:cNvSpPr/>
          <p:nvPr/>
        </p:nvSpPr>
        <p:spPr>
          <a:xfrm>
            <a:off x="807732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63895-C2A3-4EB3-9193-536D256C91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 possible inheritance hierarchy of mathematical objec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1028" descr=""/>
          <p:cNvPicPr/>
          <p:nvPr/>
        </p:nvPicPr>
        <p:blipFill>
          <a:blip r:embed="rId1"/>
          <a:stretch/>
        </p:blipFill>
        <p:spPr>
          <a:xfrm>
            <a:off x="1828800" y="1281240"/>
            <a:ext cx="5715000" cy="48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Date Placeholder 3"/>
          <p:cNvSpPr/>
          <p:nvPr/>
        </p:nvSpPr>
        <p:spPr>
          <a:xfrm>
            <a:off x="1676520" y="64771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Lethbridge/Laganière 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80988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pter 2: Review of Object Orien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807732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491A6-BC87-44D8-A914-1492970066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1 What is Object Orient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90360" y="121896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cedural paradigm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171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ftwar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organized around the notion of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171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cedural abstr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08120" indent="-20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as long as the data is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171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ng data abstraction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08120" indent="-20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oups together the pieces of data that describe some ent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08120" indent="-20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ps reduce the system’s complexit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07712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ch as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ord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077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bject oriented paradigm: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171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ganizing procedural abstractions in the context of data abstr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08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Date Placeholder 3"/>
          <p:cNvSpPr/>
          <p:nvPr/>
        </p:nvSpPr>
        <p:spPr>
          <a:xfrm>
            <a:off x="1676520" y="64771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Lethbridge/Laganière 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Footer Placeholder 4"/>
          <p:cNvSpPr/>
          <p:nvPr/>
        </p:nvSpPr>
        <p:spPr>
          <a:xfrm>
            <a:off x="380988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pter 2: Review of Object Orien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5"/>
          <p:cNvSpPr/>
          <p:nvPr/>
        </p:nvSpPr>
        <p:spPr>
          <a:xfrm>
            <a:off x="807732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A57AA-F4A3-46D6-8D24-2EEDE7ACA6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Sure all Inherited Features Make Sense in Subcla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1029" descr=""/>
          <p:cNvPicPr/>
          <p:nvPr/>
        </p:nvPicPr>
        <p:blipFill>
          <a:blip r:embed="rId1"/>
          <a:stretch/>
        </p:blipFill>
        <p:spPr>
          <a:xfrm>
            <a:off x="1096920" y="1371600"/>
            <a:ext cx="74818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Date Placeholder 3"/>
          <p:cNvSpPr/>
          <p:nvPr/>
        </p:nvSpPr>
        <p:spPr>
          <a:xfrm>
            <a:off x="1676520" y="64771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Lethbridge/Laganière 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Footer Placeholder 4"/>
          <p:cNvSpPr/>
          <p:nvPr/>
        </p:nvSpPr>
        <p:spPr>
          <a:xfrm>
            <a:off x="380988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pter 2: Review of Object Orien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Slide Number Placeholder 5"/>
          <p:cNvSpPr/>
          <p:nvPr/>
        </p:nvSpPr>
        <p:spPr>
          <a:xfrm>
            <a:off x="807732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BFC2B-E8A5-4C66-9359-1F3913BD15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ture 10" descr="Picture 1"/>
          <p:cNvPicPr/>
          <p:nvPr/>
        </p:nvPicPr>
        <p:blipFill>
          <a:blip r:embed="rId1"/>
          <a:stretch/>
        </p:blipFill>
        <p:spPr>
          <a:xfrm>
            <a:off x="1600200" y="826920"/>
            <a:ext cx="6629400" cy="587880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5791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6 Inheritance, Polymorphism and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Date Placeholder 3"/>
          <p:cNvSpPr/>
          <p:nvPr/>
        </p:nvSpPr>
        <p:spPr>
          <a:xfrm>
            <a:off x="1676520" y="64771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Lethbridge/Laganière 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Footer Placeholder 4"/>
          <p:cNvSpPr/>
          <p:nvPr/>
        </p:nvSpPr>
        <p:spPr>
          <a:xfrm>
            <a:off x="380988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pter 2: Review of Object Orien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Slide Number Placeholder 5"/>
          <p:cNvSpPr/>
          <p:nvPr/>
        </p:nvSpPr>
        <p:spPr>
          <a:xfrm>
            <a:off x="807732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5DC29-3CBF-40BF-8953-2A7AA0AC38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Operations in the Shape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Object 3"/>
          <p:cNvGraphicFramePr/>
          <p:nvPr/>
        </p:nvGraphicFramePr>
        <p:xfrm>
          <a:off x="1866960" y="1371600"/>
          <a:ext cx="5943600" cy="4800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6960" y="1371600"/>
                    <a:ext cx="594360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Date Placeholder 3"/>
          <p:cNvSpPr/>
          <p:nvPr/>
        </p:nvSpPr>
        <p:spPr>
          <a:xfrm>
            <a:off x="1676520" y="64771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Lethbridge/Laganière 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Footer Placeholder 4"/>
          <p:cNvSpPr/>
          <p:nvPr/>
        </p:nvSpPr>
        <p:spPr>
          <a:xfrm>
            <a:off x="380988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pter 2: Review of Object Orien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Slide Number Placeholder 5"/>
          <p:cNvSpPr/>
          <p:nvPr/>
        </p:nvSpPr>
        <p:spPr>
          <a:xfrm>
            <a:off x="807732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15888-9E4A-4560-92BB-F8E7B40120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stract Classes and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 operation should be declared to exist at the highest class in the hierarchy where it makes sen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51000" indent="-177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e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y b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bstra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lacking implementation) at tha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51000" indent="-177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o,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a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lso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bstr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32240" indent="-207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instances can be c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32240" indent="-207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opposite of an abstract class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ncre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51000" indent="-177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a superclass has an abstract operation then its subclasses at some level must have a concrete method for the op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32240" indent="-207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f classes must have or inherit concrete methods for all 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32240" indent="-207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f classes must be concre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Date Placeholder 3"/>
          <p:cNvSpPr/>
          <p:nvPr/>
        </p:nvSpPr>
        <p:spPr>
          <a:xfrm>
            <a:off x="1676520" y="64771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Lethbridge/Laganière 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Footer Placeholder 4"/>
          <p:cNvSpPr/>
          <p:nvPr/>
        </p:nvSpPr>
        <p:spPr>
          <a:xfrm>
            <a:off x="380988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pter 2: Review of Object Orien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5"/>
          <p:cNvSpPr/>
          <p:nvPr/>
        </p:nvSpPr>
        <p:spPr>
          <a:xfrm>
            <a:off x="807732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024F4-AA03-4F75-AD7B-B5DBFF9175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ri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method would be inherited, but a subclass contains a new version instea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74040" indent="-18936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restri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80480" indent="-2214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cale(x,y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ould not work i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ir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74040" indent="-18936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xte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80480" indent="-2214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avingsAccou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ight charge an extra fee following every de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74040" indent="-18936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optim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80480" indent="-2214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PerimeterLeng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ethod i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irc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much simpler than the one i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llip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Date Placeholder 3"/>
          <p:cNvSpPr/>
          <p:nvPr/>
        </p:nvSpPr>
        <p:spPr>
          <a:xfrm>
            <a:off x="1676520" y="64771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Lethbridge/Laganière 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Footer Placeholder 4"/>
          <p:cNvSpPr/>
          <p:nvPr/>
        </p:nvSpPr>
        <p:spPr>
          <a:xfrm>
            <a:off x="380988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pter 2: Review of Object Orien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Slide Number Placeholder 5"/>
          <p:cNvSpPr/>
          <p:nvPr/>
        </p:nvSpPr>
        <p:spPr>
          <a:xfrm>
            <a:off x="807732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FF409-9F62-45CC-903B-7E7F54D570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a decision is made about which method to r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42640" y="175212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639360" indent="0" algn="just">
              <a:lnSpc>
                <a:spcPct val="96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there is a concrete method for the operation in the current class, run that method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39360" indent="0" algn="just">
              <a:lnSpc>
                <a:spcPct val="96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wise, check in the immediate superclass to see if there is a method there; if so, run i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39360" indent="0" algn="just">
              <a:lnSpc>
                <a:spcPct val="96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eat step 2, looking in successively higher superclasses until a concrete method is found and ru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39360" indent="0" algn="just">
              <a:lnSpc>
                <a:spcPct val="96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 method is found, then there is an erro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05480" indent="-185040" algn="just">
              <a:lnSpc>
                <a:spcPct val="96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Java and C++ the program would not have compi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Date Placeholder 3"/>
          <p:cNvSpPr/>
          <p:nvPr/>
        </p:nvSpPr>
        <p:spPr>
          <a:xfrm>
            <a:off x="1676520" y="64771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Lethbridge/Laganière 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Footer Placeholder 4"/>
          <p:cNvSpPr/>
          <p:nvPr/>
        </p:nvSpPr>
        <p:spPr>
          <a:xfrm>
            <a:off x="380988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pter 2: Review of Object Orien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Slide Number Placeholder 5"/>
          <p:cNvSpPr/>
          <p:nvPr/>
        </p:nvSpPr>
        <p:spPr>
          <a:xfrm>
            <a:off x="807732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36FC5-BD9C-4509-86EE-1F54866773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9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ynamic bi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6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curs when decision about which method to run can only be made at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tim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lnSpc>
                <a:spcPct val="96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ed wh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lnSpc>
                <a:spcPct val="96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variable is declared to have a superclass as its type,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lnSpc>
                <a:spcPct val="96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is more than one possible polymorphic method that could be run among the type of the variable and its sub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Date Placeholder 3"/>
          <p:cNvSpPr/>
          <p:nvPr/>
        </p:nvSpPr>
        <p:spPr>
          <a:xfrm>
            <a:off x="1676520" y="64771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Lethbridge/Laganière 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Footer Placeholder 4"/>
          <p:cNvSpPr/>
          <p:nvPr/>
        </p:nvSpPr>
        <p:spPr>
          <a:xfrm>
            <a:off x="380988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pter 2: Review of Object Orien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Slide Number Placeholder 5"/>
          <p:cNvSpPr/>
          <p:nvPr/>
        </p:nvSpPr>
        <p:spPr>
          <a:xfrm>
            <a:off x="807732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50F5A-1B58-4FC3-9CC9-634026BCAC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7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s that Define Object Orient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066680" y="1066680"/>
            <a:ext cx="78487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following are necessary for a system or language to be O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35520" indent="-1699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700200" indent="-198720"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object i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istin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rom each other object,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an be referred 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700200" indent="-198720"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 objects are distinc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ven if they have the same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35520" indent="-1699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700200" indent="-198720"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code is organized using classes, each of which describes a set of ob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35520" indent="-1699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700200" indent="-198720"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mechanism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re features in a hierarchy inherit from superclasses to sub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35520" indent="-1699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lymorphi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700200" indent="-198720"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echanism by which several methods can have the same name and implement the same abstract oper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1676520" y="64771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Lethbridge/Laganière 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380988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pter 2: Review of Object Orien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807732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AD4BC-F92E-418D-A8CE-E4A2C0586F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Key Conce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066320" y="1066680"/>
            <a:ext cx="7543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bstractio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 -&gt; something in the wor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ass -&gt; ob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perclass -&gt; sub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ion -&gt;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tributes and associations -&gt; instance vari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odularity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de can be constructed entirely of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ncapsulatio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tails can be hidden in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gives rise to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rmation hiding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mers do not need to know all the details of a cla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Date Placeholder 3"/>
          <p:cNvSpPr/>
          <p:nvPr/>
        </p:nvSpPr>
        <p:spPr>
          <a:xfrm>
            <a:off x="1676520" y="64771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Lethbridge/Laganière 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Footer Placeholder 4"/>
          <p:cNvSpPr/>
          <p:nvPr/>
        </p:nvSpPr>
        <p:spPr>
          <a:xfrm>
            <a:off x="380988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pter 2: Review of Object Orien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Slide Number Placeholder 5"/>
          <p:cNvSpPr/>
          <p:nvPr/>
        </p:nvSpPr>
        <p:spPr>
          <a:xfrm>
            <a:off x="807732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11971-7269-4646-A0D6-116D9DA3C7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asics of J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320" y="1066680"/>
            <a:ext cx="7543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istory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16440" indent="-160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irst object oriented programming language was Simula-67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659880" indent="-18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igned to allow programmers to write simulation program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16440" indent="-160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e early 1980’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malltalk was developed at Xerox PAR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659880" indent="-18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synta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 open-sour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reusable code, bytecode, platform independence, garbage collec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16440" indent="-160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te 1980’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 was developed by B. Stroustrup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659880" indent="-18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ognized the advantages of OO but also recognized that there were tremendous numbers of C programm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16440" indent="-160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1991, engineers at Sun Microsystems started a project to design a language that could be used in consumer ‘smart devices’: Oa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659880" indent="-1872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the Internet gained popularity, Sun saw an opportunity to exploit the technolog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659880" indent="-1872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new language, renamed Java, was formally presented in 1995 at the SunWorld ’95 conferen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Date Placeholder 3"/>
          <p:cNvSpPr/>
          <p:nvPr/>
        </p:nvSpPr>
        <p:spPr>
          <a:xfrm>
            <a:off x="1676520" y="64771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Lethbridge/Laganière 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80988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pter 2: Review of Object Orien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807732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3F923-8198-47F0-B2D8-57DF428DC4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 Oriented paradig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approach to the solution of problems in which all computations are performed in the context of objects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440" indent="-1738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objects are instances of classes, whi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16400" indent="-2034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data abstr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16400" indent="-2034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ain procedural abstractions that operate on the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16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440" indent="-1738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running program can be seen as a collection of objects collaborating to perform a given tas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Date Placeholder 3"/>
          <p:cNvSpPr/>
          <p:nvPr/>
        </p:nvSpPr>
        <p:spPr>
          <a:xfrm>
            <a:off x="1676520" y="64771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Lethbridge/Laganière 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Footer Placeholder 4"/>
          <p:cNvSpPr/>
          <p:nvPr/>
        </p:nvSpPr>
        <p:spPr>
          <a:xfrm>
            <a:off x="380988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pter 2: Review of Object Orien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Slide Number Placeholder 5"/>
          <p:cNvSpPr/>
          <p:nvPr/>
        </p:nvSpPr>
        <p:spPr>
          <a:xfrm>
            <a:off x="807732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37720-8850-4435-9F88-3729560FC8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 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oking up classes and methods is an essential skil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440" indent="-1738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king up unknown classes and methods will get you a long way towards understanding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ava documentation can be automatically generated by a program called Javado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440" indent="-1738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cumentation is generated from the code and its com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440" indent="-1738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should format your comments as shown in some of the book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 exam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16400" indent="-2034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may include embeded 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Date Placeholder 3"/>
          <p:cNvSpPr/>
          <p:nvPr/>
        </p:nvSpPr>
        <p:spPr>
          <a:xfrm>
            <a:off x="1676520" y="64771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Lethbridge/Laganière 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Footer Placeholder 4"/>
          <p:cNvSpPr/>
          <p:nvPr/>
        </p:nvSpPr>
        <p:spPr>
          <a:xfrm>
            <a:off x="380988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pter 2: Review of Object Orien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Slide Number Placeholder 5"/>
          <p:cNvSpPr/>
          <p:nvPr/>
        </p:nvSpPr>
        <p:spPr>
          <a:xfrm>
            <a:off x="807732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7AB75-7432-4063-9629-BF71F522EA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view of J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next few slides will remind you of several key Java featur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in the b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e the book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 web site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more detailed overview of 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ers to tutorials, books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Date Placeholder 3"/>
          <p:cNvSpPr/>
          <p:nvPr/>
        </p:nvSpPr>
        <p:spPr>
          <a:xfrm>
            <a:off x="1676520" y="64771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Lethbridge/Laganière 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Footer Placeholder 4"/>
          <p:cNvSpPr/>
          <p:nvPr/>
        </p:nvSpPr>
        <p:spPr>
          <a:xfrm>
            <a:off x="380988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pter 2: Review of Object Orien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Slide Number Placeholder 5"/>
          <p:cNvSpPr/>
          <p:nvPr/>
        </p:nvSpPr>
        <p:spPr>
          <a:xfrm>
            <a:off x="807732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1B29D-3862-484B-BA83-1A52A2CB8C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acters and Str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haracte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s a class representing Unicode character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62520" indent="-1836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 than a byte e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62520" indent="-1836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resent any world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6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s a primitive data type containing a Unicode characte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s a class containing collections of character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62520" indent="-1836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is the operator used to concatenate str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Date Placeholder 3"/>
          <p:cNvSpPr/>
          <p:nvPr/>
        </p:nvSpPr>
        <p:spPr>
          <a:xfrm>
            <a:off x="1676520" y="64771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Lethbridge/Laganière 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Footer Placeholder 4"/>
          <p:cNvSpPr/>
          <p:nvPr/>
        </p:nvSpPr>
        <p:spPr>
          <a:xfrm>
            <a:off x="380988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pter 2: Review of Object Orien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Slide Number Placeholder 5"/>
          <p:cNvSpPr/>
          <p:nvPr/>
        </p:nvSpPr>
        <p:spPr>
          <a:xfrm>
            <a:off x="807732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EA987-58BA-4B24-B1D0-E2EE1AC5C5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rays and Coll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rrays are of fixed size and lack methods to manipulate them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is the most widely used class to hold a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of other object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powerful than arrays, but less effic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terator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 are used to access members o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ector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umerations were formally used, but were more compl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 = new ArrayList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terator i = a.iterator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hile(i.hasNext(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Method(i.next(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Date Placeholder 3"/>
          <p:cNvSpPr/>
          <p:nvPr/>
        </p:nvSpPr>
        <p:spPr>
          <a:xfrm>
            <a:off x="1676520" y="64771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Lethbridge/Laganière 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Footer Placeholder 4"/>
          <p:cNvSpPr/>
          <p:nvPr/>
        </p:nvSpPr>
        <p:spPr>
          <a:xfrm>
            <a:off x="380988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pter 2: Review of Object Orien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Slide Number Placeholder 5"/>
          <p:cNvSpPr/>
          <p:nvPr/>
        </p:nvSpPr>
        <p:spPr>
          <a:xfrm>
            <a:off x="807732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515BF-265A-47AB-A865-11F705190C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066320" y="1125000"/>
            <a:ext cx="8077320" cy="504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ava is very strict about typ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31560" indent="-16776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variable v is declared to have type X, you can only invoke operations on v that are defined in X or its super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691920" indent="-19656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though an instance of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bcla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X may be actually stored in the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31560" indent="-16776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you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n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 instance of a subclass is stored, then you c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a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variable to the sub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691920" indent="-19656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.g. if I know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ect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ontains instances of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I can get the next element of it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terat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s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6919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String)i.next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691920" indent="-196560"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avoid casting you could also have used templates: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6919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 = ArrayList&lt;String&gt;; i=a.iterator(); i.next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691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Date Placeholder 3"/>
          <p:cNvSpPr/>
          <p:nvPr/>
        </p:nvSpPr>
        <p:spPr>
          <a:xfrm>
            <a:off x="1676520" y="64771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Lethbridge/Laganière 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Footer Placeholder 4"/>
          <p:cNvSpPr/>
          <p:nvPr/>
        </p:nvSpPr>
        <p:spPr>
          <a:xfrm>
            <a:off x="380988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pter 2: Review of Object Orien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Slide Number Placeholder 5"/>
          <p:cNvSpPr/>
          <p:nvPr/>
        </p:nvSpPr>
        <p:spPr>
          <a:xfrm>
            <a:off x="807732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860AD-C054-42AE-ABCF-6427032E33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p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ything that can go wrong should result in the raising of an Excep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58560" indent="-181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ce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 class with many subclasses for specific things that can go wr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e a try - catch block to trap an excep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48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748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748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/ some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748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748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tch (ArithmeticException 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748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748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/ code to handle division by ze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748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Date Placeholder 3"/>
          <p:cNvSpPr/>
          <p:nvPr/>
        </p:nvSpPr>
        <p:spPr>
          <a:xfrm>
            <a:off x="1676520" y="64771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Lethbridge/Laganière 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Footer Placeholder 4"/>
          <p:cNvSpPr/>
          <p:nvPr/>
        </p:nvSpPr>
        <p:spPr>
          <a:xfrm>
            <a:off x="380988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pter 2: Review of Object Orien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Slide Number Placeholder 5"/>
          <p:cNvSpPr/>
          <p:nvPr/>
        </p:nvSpPr>
        <p:spPr>
          <a:xfrm>
            <a:off x="807732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E196D-D8DC-490C-BE78-D7107E91D0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fa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ke abstract classes, but cannot have executable statemen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16440" indent="-1602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a set of operations that make sense in several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16440" indent="-1602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stract Data Ty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class can implement any number of interfac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16440" indent="-1602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must have concrete methods for the 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ou can declare the type of a variable to be an interfac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16440" indent="-1602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just like declaring the type to be an abstract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mportant interfaces in Java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 library includ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16440" indent="-160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nable, Collection, Iterator, Comparable, Clone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Date Placeholder 3"/>
          <p:cNvSpPr/>
          <p:nvPr/>
        </p:nvSpPr>
        <p:spPr>
          <a:xfrm>
            <a:off x="1676520" y="64771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Lethbridge/Laganière 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Footer Placeholder 4"/>
          <p:cNvSpPr/>
          <p:nvPr/>
        </p:nvSpPr>
        <p:spPr>
          <a:xfrm>
            <a:off x="380988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pter 2: Review of Object Orien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Slide Number Placeholder 5"/>
          <p:cNvSpPr/>
          <p:nvPr/>
        </p:nvSpPr>
        <p:spPr>
          <a:xfrm>
            <a:off x="807732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DF7C9-0BEA-45B6-853B-82FB3B0B30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ckages and impor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package combines related classes into subsystem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the classes in a particular direc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asses in different packages can have the same nam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hough not recommen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mporting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package is done as follows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ort finance.banking.accounts.*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Date Placeholder 3"/>
          <p:cNvSpPr/>
          <p:nvPr/>
        </p:nvSpPr>
        <p:spPr>
          <a:xfrm>
            <a:off x="1676520" y="64771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Lethbridge/Laganière 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Footer Placeholder 4"/>
          <p:cNvSpPr/>
          <p:nvPr/>
        </p:nvSpPr>
        <p:spPr>
          <a:xfrm>
            <a:off x="380988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pter 2: Review of Object Orien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Slide Number Placeholder 5"/>
          <p:cNvSpPr/>
          <p:nvPr/>
        </p:nvSpPr>
        <p:spPr>
          <a:xfrm>
            <a:off x="807732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E255F-9012-4C66-97B2-CDB25817A8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lies to methods and variabl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54960" indent="-179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40520" indent="-21024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class can a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54960" indent="-179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ote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40520" indent="-21024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code in the package, or subclasses can a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54960" indent="-1796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lan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40520" indent="-21024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code in the package can a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54960" indent="-179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v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40520" indent="-21024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code written in the class can a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40520" indent="-21024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heritance still occur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Date Placeholder 3"/>
          <p:cNvSpPr/>
          <p:nvPr/>
        </p:nvSpPr>
        <p:spPr>
          <a:xfrm>
            <a:off x="1676520" y="64771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Lethbridge/Laganière 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Footer Placeholder 4"/>
          <p:cNvSpPr/>
          <p:nvPr/>
        </p:nvSpPr>
        <p:spPr>
          <a:xfrm>
            <a:off x="380988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pter 2: Review of Object Orien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Slide Number Placeholder 5"/>
          <p:cNvSpPr/>
          <p:nvPr/>
        </p:nvSpPr>
        <p:spPr>
          <a:xfrm>
            <a:off x="807732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9B986-56B4-446E-8E70-B8B2E598C8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ads and concurr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read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480" indent="-1854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quence of executing statements that can be running concurrently with other thre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 create a thread in Java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480" indent="-1854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Create a class implementing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unn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 extending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480" indent="-1854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Implement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ethod as a loop that does something for a period of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480" indent="-1854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Create an instance of this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480" indent="-1854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Invoke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peration, which call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Date Placeholder 3"/>
          <p:cNvSpPr/>
          <p:nvPr/>
        </p:nvSpPr>
        <p:spPr>
          <a:xfrm>
            <a:off x="1676520" y="64771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Lethbridge/Laganière 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Footer Placeholder 4"/>
          <p:cNvSpPr/>
          <p:nvPr/>
        </p:nvSpPr>
        <p:spPr>
          <a:xfrm>
            <a:off x="380988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pter 2: Review of Object Orien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Slide Number Placeholder 5"/>
          <p:cNvSpPr/>
          <p:nvPr/>
        </p:nvSpPr>
        <p:spPr>
          <a:xfrm>
            <a:off x="807732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B6BCA-C468-46C6-8A69-46884866FE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View of the Two paradig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1066680" y="1600200"/>
            <a:ext cx="7848720" cy="4202280"/>
          </a:xfrm>
          <a:prstGeom prst="rect">
            <a:avLst/>
          </a:prstGeom>
          <a:ln w="0">
            <a:noFill/>
          </a:ln>
        </p:spPr>
      </p:pic>
      <p:sp>
        <p:nvSpPr>
          <p:cNvPr id="70" name="TextBox 2"/>
          <p:cNvSpPr/>
          <p:nvPr/>
        </p:nvSpPr>
        <p:spPr>
          <a:xfrm>
            <a:off x="5724360" y="5589720"/>
            <a:ext cx="31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e in U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Date Placeholder 3"/>
          <p:cNvSpPr/>
          <p:nvPr/>
        </p:nvSpPr>
        <p:spPr>
          <a:xfrm>
            <a:off x="1676520" y="64771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Lethbridge/Laganière 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Footer Placeholder 4"/>
          <p:cNvSpPr/>
          <p:nvPr/>
        </p:nvSpPr>
        <p:spPr>
          <a:xfrm>
            <a:off x="380988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pter 2: Review of Object Orien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Slide Number Placeholder 5"/>
          <p:cNvSpPr/>
          <p:nvPr/>
        </p:nvSpPr>
        <p:spPr>
          <a:xfrm>
            <a:off x="807732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487B8-E8A1-456B-8FE1-BC22264B0C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ming Style Guide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member that programs are for people to rea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ways choose the simpler altern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ject clever code that is hard to underst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rter code is not necessarily be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oose good nam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 them highly descrip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not worry about using long na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Date Placeholder 3"/>
          <p:cNvSpPr/>
          <p:nvPr/>
        </p:nvSpPr>
        <p:spPr>
          <a:xfrm>
            <a:off x="1676520" y="64771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Lethbridge/Laganière 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Footer Placeholder 4"/>
          <p:cNvSpPr/>
          <p:nvPr/>
        </p:nvSpPr>
        <p:spPr>
          <a:xfrm>
            <a:off x="380988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pter 2: Review of Object Orien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Slide Number Placeholder 5"/>
          <p:cNvSpPr/>
          <p:nvPr/>
        </p:nvSpPr>
        <p:spPr>
          <a:xfrm>
            <a:off x="807732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14912-6909-4F87-99F6-9CFF514595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ming style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ment extensivel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nt whatever is non-obvi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not comment the obvi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nts should be 25-50% of the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ganize class elements consistentl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s, constructors, public methods then private 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 consistent regarding layout of cod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Date Placeholder 3"/>
          <p:cNvSpPr/>
          <p:nvPr/>
        </p:nvSpPr>
        <p:spPr>
          <a:xfrm>
            <a:off x="1676520" y="64771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Lethbridge/Laganière 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Footer Placeholder 4"/>
          <p:cNvSpPr/>
          <p:nvPr/>
        </p:nvSpPr>
        <p:spPr>
          <a:xfrm>
            <a:off x="380988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pter 2: Review of Object Orien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Slide Number Placeholder 5"/>
          <p:cNvSpPr/>
          <p:nvPr/>
        </p:nvSpPr>
        <p:spPr>
          <a:xfrm>
            <a:off x="807732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D6DC3-85E6-46FF-88D8-6AD545768C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ming style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void duplication of cod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not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n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f pos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 a new method and call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ning results in two copies that may both have bu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24000" indent="-228600">
              <a:spcBef>
                <a:spcPts val="601"/>
              </a:spcBef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one copy of the bug is fixed, the other may be forgot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Date Placeholder 3"/>
          <p:cNvSpPr/>
          <p:nvPr/>
        </p:nvSpPr>
        <p:spPr>
          <a:xfrm>
            <a:off x="1676520" y="64771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Lethbridge/Laganière 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Footer Placeholder 4"/>
          <p:cNvSpPr/>
          <p:nvPr/>
        </p:nvSpPr>
        <p:spPr>
          <a:xfrm>
            <a:off x="380988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pter 2: Review of Object Orien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Slide Number Placeholder 5"/>
          <p:cNvSpPr/>
          <p:nvPr/>
        </p:nvSpPr>
        <p:spPr>
          <a:xfrm>
            <a:off x="807732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CBD47-6A61-4EB2-B0D0-35722F91A6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gramming style 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here to good object oriented principl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74040" indent="-18936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 the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a rul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74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ef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va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s opposed 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bli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 not mix user interface code with non-user interface cod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74040" indent="-18936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act with the user in separate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80480" indent="-2214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makes non-UI classes more reus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Date Placeholder 3"/>
          <p:cNvSpPr/>
          <p:nvPr/>
        </p:nvSpPr>
        <p:spPr>
          <a:xfrm>
            <a:off x="1676520" y="64771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Lethbridge/Laganière 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Footer Placeholder 4"/>
          <p:cNvSpPr/>
          <p:nvPr/>
        </p:nvSpPr>
        <p:spPr>
          <a:xfrm>
            <a:off x="380988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pter 2: Review of Object Orien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Slide Number Placeholder 5"/>
          <p:cNvSpPr/>
          <p:nvPr/>
        </p:nvSpPr>
        <p:spPr>
          <a:xfrm>
            <a:off x="807732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E9A49-153E-4BFE-BF57-BC5BD10055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10 Difficulties and Risks in Object-Oriented Program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 evolution and deprecated features: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58560" indent="-1814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va is evolving, so some features are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recated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very rel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58560" indent="-1814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the same thing is true of most other langu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48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an be a concern in some object oriented system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58560" indent="-1814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va can be less efficient than other langu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48440" indent="-2124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-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48440" indent="-2124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bi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Date Placeholder 3"/>
          <p:cNvSpPr/>
          <p:nvPr/>
        </p:nvSpPr>
        <p:spPr>
          <a:xfrm>
            <a:off x="1676520" y="64771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Lethbridge/Laganière 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Footer Placeholder 4"/>
          <p:cNvSpPr/>
          <p:nvPr/>
        </p:nvSpPr>
        <p:spPr>
          <a:xfrm>
            <a:off x="380988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pter 2: Review of Object Orien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Slide Number Placeholder 5"/>
          <p:cNvSpPr/>
          <p:nvPr/>
        </p:nvSpPr>
        <p:spPr>
          <a:xfrm>
            <a:off x="807732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A5691-A737-40A3-816D-B361F84E55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2 Classes and Ob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bjec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1960" indent="-19332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hunk of structured data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a running software syste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1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1960" indent="-19332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pe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96680" indent="-22608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resent its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1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1960" indent="-19332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havi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96680" indent="-22608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it acts and rea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96680" indent="-22608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simulate the behaviour of an object in the real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Date Placeholder 3"/>
          <p:cNvSpPr/>
          <p:nvPr/>
        </p:nvSpPr>
        <p:spPr>
          <a:xfrm>
            <a:off x="1676520" y="64771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Lethbridge/Laganière 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Footer Placeholder 4"/>
          <p:cNvSpPr/>
          <p:nvPr/>
        </p:nvSpPr>
        <p:spPr>
          <a:xfrm>
            <a:off x="380988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pter 2: Review of Object Orien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Slide Number Placeholder 5"/>
          <p:cNvSpPr/>
          <p:nvPr/>
        </p:nvSpPr>
        <p:spPr>
          <a:xfrm>
            <a:off x="807732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D52E8-FDD8-4254-80D1-7B160408E1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1" descr=""/>
          <p:cNvPicPr/>
          <p:nvPr/>
        </p:nvPicPr>
        <p:blipFill>
          <a:blip r:embed="rId1"/>
          <a:stretch/>
        </p:blipFill>
        <p:spPr>
          <a:xfrm>
            <a:off x="990720" y="1600200"/>
            <a:ext cx="7924680" cy="40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Date Placeholder 3"/>
          <p:cNvSpPr/>
          <p:nvPr/>
        </p:nvSpPr>
        <p:spPr>
          <a:xfrm>
            <a:off x="1676520" y="64771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Lethbridge/Laganière 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Footer Placeholder 4"/>
          <p:cNvSpPr/>
          <p:nvPr/>
        </p:nvSpPr>
        <p:spPr>
          <a:xfrm>
            <a:off x="380988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pter 2: Review of Object Orien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Slide Number Placeholder 5"/>
          <p:cNvSpPr/>
          <p:nvPr/>
        </p:nvSpPr>
        <p:spPr>
          <a:xfrm>
            <a:off x="807732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6CD0F-7F7E-425F-8A47-00E65563CD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class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54960" indent="-1796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unit of abstraction in an object oriented (OO) progra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54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54960" indent="-1796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resents similar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40520" indent="-21024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st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54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54960" indent="-1796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kind of software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40520" indent="-21024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cribes its instance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tructure (propert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40520" indent="-21024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ain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implement their behavi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Date Placeholder 3"/>
          <p:cNvSpPr/>
          <p:nvPr/>
        </p:nvSpPr>
        <p:spPr>
          <a:xfrm>
            <a:off x="1676520" y="64771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Lethbridge/Laganière 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Footer Placeholder 4"/>
          <p:cNvSpPr/>
          <p:nvPr/>
        </p:nvSpPr>
        <p:spPr>
          <a:xfrm>
            <a:off x="380988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pter 2: Review of Object Orien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Slide Number Placeholder 5"/>
          <p:cNvSpPr/>
          <p:nvPr/>
        </p:nvSpPr>
        <p:spPr>
          <a:xfrm>
            <a:off x="807732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61984-9342-4F9F-8E7C-2307E94F76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Something a Class or an Instan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18960" y="1066680"/>
            <a:ext cx="7543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lvl="1" marL="335520" indent="-16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thing should be a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f it could have insta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35520" indent="-16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thing should be an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anc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f it is clearly a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gl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ember of the set defined by a cla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6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m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35520" indent="-169920" algn="just">
              <a:lnSpc>
                <a:spcPct val="96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; instances are individual film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6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el of Film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35520" indent="-169920" algn="just">
              <a:lnSpc>
                <a:spcPct val="96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; instances are physical re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6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m reel with serial number SW19876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35520" indent="-169920" algn="just">
              <a:lnSpc>
                <a:spcPct val="96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ance of </a:t>
            </a:r>
            <a:r>
              <a:rPr b="1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elOfFil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6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ce Fictio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35520" indent="-169920" algn="just">
              <a:lnSpc>
                <a:spcPct val="96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ance of the class </a:t>
            </a:r>
            <a:r>
              <a:rPr b="1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enr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6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ce Fiction Film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35520" indent="-169920" algn="just">
              <a:lnSpc>
                <a:spcPct val="96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; instances include ‘Star Wars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6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wing of ‘Star Wars’ in the Phoenix Cinema at 7 p.m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35520" indent="-169920" algn="just">
              <a:lnSpc>
                <a:spcPct val="96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ance of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howingOfFil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Date Placeholder 3"/>
          <p:cNvSpPr/>
          <p:nvPr/>
        </p:nvSpPr>
        <p:spPr>
          <a:xfrm>
            <a:off x="1676520" y="64771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Lethbridge/Laganière 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Footer Placeholder 4"/>
          <p:cNvSpPr/>
          <p:nvPr/>
        </p:nvSpPr>
        <p:spPr>
          <a:xfrm>
            <a:off x="380988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pter 2: Review of Object Orien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Slide Number Placeholder 5"/>
          <p:cNvSpPr/>
          <p:nvPr/>
        </p:nvSpPr>
        <p:spPr>
          <a:xfrm>
            <a:off x="807732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621FF-E438-451F-B89C-EE7FC456B5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9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ing cla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381960" indent="-193320" algn="just">
              <a:lnSpc>
                <a:spcPct val="96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apit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et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96680" indent="-226080" algn="just">
              <a:lnSpc>
                <a:spcPct val="96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ankAccou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ankAcco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1960" indent="0" algn="just">
              <a:lnSpc>
                <a:spcPct val="96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1960" indent="-193320" algn="just">
              <a:lnSpc>
                <a:spcPct val="96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gul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u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1960" indent="0" algn="just">
              <a:lnSpc>
                <a:spcPct val="96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1960" indent="-193320" algn="just">
              <a:lnSpc>
                <a:spcPct val="96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the right level of gener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96680" indent="-226080" algn="just">
              <a:lnSpc>
                <a:spcPct val="96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unicipa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no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1960" indent="0" algn="just">
              <a:lnSpc>
                <a:spcPct val="96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1960" indent="-193320" algn="just">
              <a:lnSpc>
                <a:spcPct val="96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 sure the name has onl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ea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96680" indent="-226080" algn="just">
              <a:lnSpc>
                <a:spcPct val="96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s several mean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30T16:59:35Z</dcterms:created>
  <dc:creator>Timothy C. Lethbridge</dc:creator>
  <dc:description/>
  <dc:language>en-US</dc:language>
  <cp:lastModifiedBy>Timothy Lethbridge</cp:lastModifiedBy>
  <dcterms:modified xsi:type="dcterms:W3CDTF">2011-09-16T16:11:57Z</dcterms:modified>
  <cp:revision>58</cp:revision>
  <dc:subject/>
  <dc:title>SEG 2100 Software Design II</dc:title>
</cp:coreProperties>
</file>