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pct" ContentType="image/x-pict"/>
  <Override PartName="/ppt/media/image10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89D7-07C6-4CBA-8798-B18353F0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73FB-4599-4A17-A5DF-0DAB076A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BCA7-63A1-47A5-9A1A-135CE373E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169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6788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169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6788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9C7D-3471-4970-91AA-2BB56AC52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6F8E-D1C3-4CFD-B315-53433381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6FD7-84D7-421E-8AF0-3BA2A308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8D8C-78BD-490E-AEB0-7835E746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408C-F851-4497-97A6-8378C544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E73B-AA0D-48F4-824A-0B270CA4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3435-EAD3-4AF0-8C08-45CDA05F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13FF-3D2C-4873-81ED-8126D9AE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7C83-6F57-4907-A793-4D15EE43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1295280"/>
            <a:ext cx="8275680" cy="5444640"/>
            <a:chOff x="216000" y="1295280"/>
            <a:chExt cx="8275680" cy="544464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933480" y="6184800"/>
              <a:ext cx="73724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216000" y="1295280"/>
              <a:ext cx="819000" cy="493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" descr=""/>
            <p:cNvPicPr/>
            <p:nvPr/>
          </p:nvPicPr>
          <p:blipFill>
            <a:blip r:embed="rId4"/>
            <a:stretch/>
          </p:blipFill>
          <p:spPr>
            <a:xfrm rot="2678400">
              <a:off x="523440" y="5840280"/>
              <a:ext cx="76680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" descr=""/>
            <p:cNvPicPr/>
            <p:nvPr/>
          </p:nvPicPr>
          <p:blipFill>
            <a:blip r:embed="rId5"/>
            <a:stretch/>
          </p:blipFill>
          <p:spPr>
            <a:xfrm>
              <a:off x="8153280" y="6171840"/>
              <a:ext cx="33840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601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167616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ECD4-2F98-4E42-B445-2C49D61A0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144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Software Engineering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Software Development using UML and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pter 9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rchitecting and Designing Software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op-down and bottom-up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-down desig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design the very high level structure of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gradually work down to detailed decisions about low-level constru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 arrive at detailed decisions suc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rmat of particular data item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dividual algorithms that will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7DD3-49CB-44A4-9479-C1DEC2C1E9A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66680" y="1447920"/>
            <a:ext cx="784872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2280" bIns="152280" anchor="t">
            <a:spAutoFit/>
          </a:bodyPr>
          <a:p>
            <a:pPr marL="295200" indent="-18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18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Details of the desig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18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1807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si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1807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18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ur new commands will be accepted by handleMessageFromClientUI and passed unchanged to the serv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1807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18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es from the server will be displayed on the UI. There will be no need for handleMessageFromServer to understand that the responses are replies to the comma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1807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97B9-225D-493A-AC24-1F15A8314A18}" type="slidenum">
              <a:t>1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143000" y="685800"/>
            <a:ext cx="746748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 si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handleMessageFromClient will interpret #block commands by adding a record of the block in the data associated with the originating cli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ethod will modify the data in response to #unblo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formation will be stored by calling setValue("blockedUsers", ar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arg is a Vector containing the names of the blocked us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handleMessageFromServerUI will also have to have an implementation of #block and #unblo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will have to save the blocked users as elements of a new instance variable declared thus: Vector blockedUser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02A0-79BA-4B92-9328-E15747DBE105}" type="slidenum">
              <a:t>1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90720" y="1355760"/>
            <a:ext cx="7619760" cy="46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mplementations of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whoiblock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MessageFromClien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MessageFromServerUI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straightforwardly process the contents of the vecto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whoblocksm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 new method will be created in the server class that will be called by both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MessageFromClien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MessageFromServerU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will take a single argument (the name of the initiating client, or else 'SERVER'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ill check all the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edUsers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ctors of the connected clients and also the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edUsers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stance variable for matching clien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0D0F-A3E4-4FDD-9FDA-E0C5B6ECE238}" type="slidenum">
              <a:t>1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143000" y="1447920"/>
            <a:ext cx="693432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#forward, #msg and #private commands will be modified as needed to reflect the specif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of these will each examine the relevant blockedUsers vectors and take appropriate a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D028-E30B-4F2B-95A7-21844967F106}" type="slidenum">
              <a:t>1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9.9 Difficulties and Risks in Desig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 modelling, design is a skill that requires considerable experie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vidual software engineers should not attempt the design of large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iring software architects should actively study designs of othe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designs can lead to expensive mainten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you follow the principles discussed in this chap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462C-C72C-413C-A95C-1E9F748A3F1A}" type="slidenum">
              <a:t>10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ies and Risks in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requires constant effort to ensure a software system’s design remains good throughout its lif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 original design as flexible as possible so as to anticipate changes and extens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the design documentation is usable and at the correct level of d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change is carefully mana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D2E5-1413-4E50-8D4E-7462828D6D5D}" type="slidenum">
              <a:t>10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op-down and bottom-up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tom-up desig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decisions about reusable low-level util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decide how these will be put together to create high-level constru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ix of top-down and bottom-up approaches are normally us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-down design is almost always needed to give the system a good struc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tom-up design is normally useful so that reusable components can be cre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F252-0117-47CB-879D-4AA49B8B99A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 aspects of desig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tecture desig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vision into subsystems and component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hese will be connec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hey will intera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ir interfa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desig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arious features of cla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interface desig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hm desig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sign of computational mechanism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 desig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sign of communications protoco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DFAA-5667-4611-A457-8B09867A34A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9.2 Principles Leading to Good Desig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al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good design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ing profit by reducing cost and increasing reven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ing that we actually conform with the requir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lerating develop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ing qualitie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s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1157-75E7-494D-997F-34F07C33182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Principle 1: Divide and conqu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ying to deal with something big all at once is normally much harder than dealing with a series of smaller thin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arate people can work on each p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dividual software engineer can special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individual component is smaller, and therefore easier to underst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s can be replaced or changed without having to replace or extensively change other par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1DFA-6112-4E90-AD02-3987BA64830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ys of dividing a softwar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istributed system is divided up into clients and 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ystem is divided up into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ubsystem can be divided up into one or more pa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ackage is divided up into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ass is divided up into 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0FA1-15BE-41B4-8FED-E76D7E48B25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Principle 2: Increase cohesion where possi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ubsystem or module has high cohesion if it keeps together things that are related to each other, and keeps out other thing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akes the system as a whole easier to understand and chan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of cohe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al, Layer, Communicational, Sequential, Procedural, Temporal, Ut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78DF-9CA7-44A4-AC16-99E5C9989EF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unctional cohe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chieved when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the code that computes a particular resul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kept together - and everything else is kept o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 when a module only performs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putation, and returns a result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having side-effec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ts to the sy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ier to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re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ier to re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s that update a database, create a new file or interact with the us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not functionally cohes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451C-96AB-47DB-8FFA-B408F83A6F0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yer cohe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the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ies for providing or accessing a set of related services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kept together, and everything else is kept ou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ayers should form a hierarc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 layers can access services of lower layer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layers do not access higher 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t of procedures through which a layer provides its services is th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programming interface (AP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replace a layer without having any impact on the other 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just replicate the API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3F40-BEB6-4A0E-8D25-B673A4D3421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the use of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90720" y="1386000"/>
            <a:ext cx="754380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CA4D-8029-4C0C-A53B-385F0BED51E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9.1 The Process of Desig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problem-solving process whose objective is to find and describe a w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mplement the system’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al requiremen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 respecting the constraints imposed by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lity, platform and process requirement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ing the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while adhering to general principles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CE98-16D9-4617-B779-8CAE5672E2F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mmunicational cohe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the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s that access or manipulate certain dat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kept together (e.g. in the same class) - and everything else is kept o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ass would have good communicational cohe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ll the system’s facilities for storing and manipulating its data are contained in this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class does not do anything other than manage its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advantage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n you need to make changes to the data, you  find all the code in one pl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118C-3DAD-4C5F-8674-BA309E4FF42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tial cohe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, in which one procedure provides input to the nex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re kept together – and everything else is kept o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should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hieve sequential cohesion, only once you have already achieved the preceding types of cohesio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2C35-CE3B-4797-84C8-8DCE0B1874A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al cohe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that are used one after another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kept togeth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 if one does not necessarily provide input to the nex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aker than sequential cohe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0F76-BBF2-4A7E-BCFF-F03B93FCF8F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emporal Cohe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s that are performed during the same phase of the executio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program are kept together, and everything else is kept o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placing together the code used during system start-up or initial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aker than procedural cohe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0EF2-0F23-47C7-9C44-E7DCFA32C13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tility cohe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ed utilities which cannot be logically placed in other cohesive unit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kept togeth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utility is a procedure or class that has wide applicability to many different subsystems and is designed to be reus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ava.lang.Mat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D80B-74DC-4AD4-BF5A-CC73251D06B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Principle 3: Reduce coupling where possi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pling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ccurs when there are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dependencie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tween one module and anoth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interdependencies exist, changes in one place will require changes somewhere 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etwork of interdependencies makes it hard to see at a glance how some component wor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of coup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, Common, Control, Stamp, Data, Routine Call, Type use, Inclusion/Import, Exter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352680" y="5048280"/>
            <a:ext cx="3200400" cy="117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4943-0E30-4AE8-9460-34A273AF048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ntent coupl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when one component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reptitiously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ifies data that is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another compon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duce content coupling you should therefor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apsula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l 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are them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provide get and set 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worse form of content coupling occurs when you directly modify an instance variabl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instance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9AB1-3DB7-4B85-8A1E-62A3FE0972D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content cou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1143000"/>
            <a:ext cx="70866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 class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ivate Point start, en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 Point getStart() { return start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 Point getEnd()  { return end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 class 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ivate Line baseli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oid slant(int new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int theEnd = baseline.getEnd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End.setLocation(theEnd.getX(),new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4B42-88B6-4AA9-BA32-43E6EE6D095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mmon cou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whenever you use a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the components using the global variable become coupled to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weaker form of common coupling is when a variable can be accessed by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e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system’s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a Java pack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acceptable for creating global variables that represent system-wide default 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ngleton pattern provides encapsulated global access to an obj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E9D5-F427-47E7-94CF-34C599E8332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 coup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when one procedure calls another using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‘flag’ or ‘command’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explicitly controls what the second procedure do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ake a change you have to change both the calling and call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 of polymorphic operations is normally the best way to avoid control coupl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ay to reduce the control coupling could be to have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-up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are then mapped to a method that should be called when that command is issu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50C7-DD4D-4826-9494-CFA086B31E4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as a series of decis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esigner is faced with a series of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issue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are sub-problems of the overall design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issue normally has several alternative solution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signer makes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decis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solve each issu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rocess involves choosing the best option from among the alternativ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AAAB-A0A3-413C-A36A-9D184D96E15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 of control cou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1676520"/>
            <a:ext cx="5867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 routineX(String comman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f (command.equals("drawCircle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awCircl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awRectangl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FB08-C3C4-4877-8E3E-85A5D0A0D7A0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amp coupl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whenever one of your application classes is declared as the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 method argum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one class now uses the other, changing the system becomes ha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sing one class requires reusing the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ways to reduce stamp coupl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n interface as the argumen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ing simple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3E78-92C8-42BC-9C75-8B247C74DF5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stamp cou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1371600"/>
            <a:ext cx="7620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 class Emai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 void sendEmail(Employee e, String tex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{...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3870360"/>
            <a:ext cx="7620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 class Emai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 void sendEmail(String name, String email, String tex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{...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88200" y="3429000"/>
            <a:ext cx="450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imple data types to avoid 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84DD-41DE-422A-9E7D-CC8AE73AB020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stamp cou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1711440"/>
            <a:ext cx="7238880" cy="39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 interface Addresse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 abstract String getName(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 abstract String getEmail(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 class Employee implements Addressee {…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 class Email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 void sendEmail(Addressee e, String text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{...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4160" y="1143000"/>
            <a:ext cx="38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n interface to avoid 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84E2-4814-468F-A01C-75F08FDDD434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ata cou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whenever the types of method arguments are either primitive or else simple library clas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re arguments a method has, the higher the coupl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methods that use the method must pass all the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reduce coupling by not giving methods unnecessary 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a trade-off between data coupling and stamp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ing one often decreases the other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7C94-E288-4481-8DE0-0DB43F5DFC7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outine call cou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when one routine (or method in an object oriented system) calls anoth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outines are coupled because they depend on each other’s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e call coupling is always present in any syst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repetitively use a sequence of two or more methods to compute 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you can reduce routine call coupling by writing a single routine that encapsulates the sequenc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CFB5-DBB2-4459-B464-7B6A2528C01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ype use coupling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w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 a module uses a data type defined in another modul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occurs any time a class declares an instance variable or a local variable as having another class for its typ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sequence of type use coupling is that if the type definition changes, then the users of the type may have to chan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 declare the type of a variable to be the most general possible class or interface that contains the required oper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0604-B390-452F-AC0C-AEFF902AB8C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clusion or import coup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when one component imports a packa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s in Ja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when one component includes anoth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s in C++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cluding or importing component is now exposed to everything in the included or imported compon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included/imported component changes something or adds some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ay raises a conflict with something in the includer, forcing the includer to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tem in an impor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might hav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same name as something you have already def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72FE-F0CD-4A92-883F-6413451985B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ternal coup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 module has a dependency on such things as the operating system, shared libraries or the hardwa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best to reduce the number of places in the code where such dependencies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açade design pattern can reduce external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9FF6-00E1-47C6-A6C2-0B51BCD5C13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Principle 4: Keep the level of abstraction as high as possi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your designs allow you to hide or defer consideration of details, thus reducing complex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ood abstraction is said to provid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hi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ractions allow you to understand the essence of a subsystem without having to know unnecessary detai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B859-BD29-493E-8BAA-BDD8F82369C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king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ake each design decision, the software engineer use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quir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sign as created so f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chnology avail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design principles and ‘best practices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has worked well in the p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9577-2F93-4374-85BC-E009648C755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bstraction and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s are data abstractions that contain procedural abstra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raction is increased by defining all variables as priv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ewer public methods in a class, the better the abstra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classes and interfaces increase the level of abstra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es and associations are also data abstr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 are procedural abstra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abstractions are achieved by giving methods fewer paramet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362E-9C07-452C-A2E4-09A2D64266B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Principle 5: Increase reusability where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g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ious aspects of your system so that they can be used again in other contex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ize your design as much as poss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 the preceding three design princip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your system to contain hoo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fy your design as much as poss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2963-6F65-4A30-8699-8B1928C1625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Principle 6: Reuse existing designs and code where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with reuse is complementary to design for reusabil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ly reusing designs or code allows you to take advantage of the investment you or others have made in reusable compon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hould not be seen as a form of re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4BE6-C661-4ACC-B0FB-C44761D8733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Principle 7: Design for flexi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ly anticipate changes that a design may have to undergo in the future, and prepare for the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coupling and increase cohe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bstra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hard-code anyth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l options 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restrict the options of people who have to modify the system la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reusable code and make code reus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F7F4-0876-46B7-9B09-ECDC783EF7A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Principle 8: Anticipate obsolesc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 for changes in the technology or environment so the software will continue to run or can be easily chang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using early releases of technolo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using software libraries that are specific to particular environ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using undocumented features or little-used features of software librar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using software or special hardware from companies that are less likely to provide long-term sup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tandard languages and technologies that are supported by multiple vend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94A0-8C67-4E5C-B6E7-1D1692D1510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Principle 9: Design for Porta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the software run on as many platforms as poss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the use of facilities that are specific to one particular enviro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a library only available in Microsoft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0CC7-8BCA-4566-9026-A8F39D9F233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Principle 10: Design for Testa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steps to make testing easi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a program to automatically test th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ed more in 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all the functionality of the code can by driven by an external program, bypassing a graphical user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Java, you can create a main() method in each class in order to exercise the other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8BC8-200E-40FE-9B99-C3A1377C7AB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Principle 11: Design defens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ver trust how others will try to use a component you are design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 all cases where other code might attempt to use your component inappropri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that all of the inputs to your component are valid: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fortunately, over-zealous defensive design can result in unnecessari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petitive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2A3A-E8D0-46EC-AD04-7A49BB3F7F0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by con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echnique that allows you to design defensively in an efficient and systematic wa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method has an explici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its cal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tract has a set of assertions that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onditio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called method requires to be true when it starts execu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conditio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called method agrees to ensure are true when it finishes exec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arian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called method agrees will not change as it execu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BA34-42F8-4F48-B990-3B4357ACEE0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9.3 Techniques for making good design decis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priorities and objectives to decide among alterna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1: List and describe the alternatives for the design deci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2: List the advantages and disadvantages of each alternative with respect to your objectives and prior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3: Determine whether any of the alternatives prevents you from meeting one or more of the objecti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4: Choose the alternative that helps you to best meet your objectiv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5: Adjust priorities for subsequent decision making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0D19-9C2B-493D-8254-715972BFFC0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467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pace of possible designs that could be achieved by choosing different sets of alternatives is often called the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spac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701064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57EE-D5B2-4E5A-96AB-2F259E07E9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prioritie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ine a system has the following objectives, starting with top priorit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ncryption must not be breakable within 100 hours of computing time on a 400Mhz Intel processor, using known cryptanalysis techniqu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abilit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No specific objecti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U efficienc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Must respond to the user within one second when running on a 400MHz Intel process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bandwidth efficienc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ust not require transmission of more than 8KB of data per transa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ory efficienc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Must not consume over 20MB of R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ability.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be able to run on Windows 98, NT 4 and ME as well as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9048-1EF8-4372-9F2D-DD9F0F27971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evaluation of altern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53920" y="4568760"/>
            <a:ext cx="43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NMO’ mean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oes Not Meet the Obj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620120" cy="30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E6C6-6923-4545-ACD4-BEC34B4EC6F2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cost-benefit analysis to choose among altern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stimate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dd u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cremental cost of doing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engineer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ork, including ongoing mainten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cremental costs of an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technolog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qui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cremental costs t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-users and product support personn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experi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stimate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dd u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cremental software engineering time sav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cremental benefits measured in terms of either increased sales or else financial benefit to us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C112-ABA3-4F81-95E9-8E01969EF4E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9.5 Software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architectur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process of designing the global organization of a software system, includ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ing software into sub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ding how these will intera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ing their interfa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rchitecture is the core of the design, so all software engineers need to understand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rchitecture will often constrain the overall efficiency, reusability and maintainability of the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E7C8-82C0-4F92-8A91-1E14F7458FD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ortance of 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you need to develop an architectural model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nable everyone to better understand the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llow people to work on individual pieces of the system in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repare for extension of the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acilitate reuse and reus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54E2-25F7-495D-98E3-D8D42DBAFE7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ntents of a good architectural mod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ystem’s architecture will often be expressed in terms of several different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w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ogical breakdown into sub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rfaces among the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ynamics of the interaction among components at run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ata that will be shared among the sub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ponents that will exist at run time, and the machines or devices on which they will be loc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98BE-9AC1-43B5-B128-69E79D3EBAC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ab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nsure the maintainability and reliability of a system, an architectural model must be designed to be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bl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ing stable means that the new features can be easily added with only small changes to the architec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172E-92DF-4C88-B1F0-B67FA4B3137C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ing an architectural mod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by sketching an outline of the architectu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the principal requirements and use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the main components that will be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among the various architectural patt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ed 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gges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have several different teams independently develop a first draft of the architecture and merge together the best ide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7824-F83F-49E9-9FCB-69E4550BE8E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ing an architectura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ine the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main ways in which the components will interact and the interfaces between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de how each piece of data and functionality will be distributed among the various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if you can re-use an existing framework, if you can build a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each use case and adjust the architecture to make it realiz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ure the architec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CA25-97EB-4446-9CF8-8BE3FB81C44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cribing an architecture using UM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UML diagrams can be useful to describe aspects of the architectural 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r UML diagrams are particularly suitable for architecture modell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age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ystem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loyment diagra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5B52-9D7E-4516-A599-F1D363E0B3F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mpo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piece of software or hardware that has a clear role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ponent can be isolated, allowing you to replace it with a different component that has equivalent functiona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components are designed to be reus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ely, others perform special-purpose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1F89-5361-49CF-94F9-8C438197BEA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age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6477120" cy="169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C308-67CD-435D-AE4F-2545ADE2BE2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066680" y="3111480"/>
            <a:ext cx="5943600" cy="103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BAAF-C1B2-4014-B7AA-A0B40CBAA25B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loyment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066680" y="2590920"/>
            <a:ext cx="754380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4C1C-C526-4548-9C16-5E940E8F7C5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9.6 Architectural Patter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otion of patterns can be applied to software architecture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are called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chitectural patter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tectural styl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allows you to design flexible systems using compon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ponents are as independent of each other as possibl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17F1-77DA-4647-889A-C9982E96FC9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Multi-Layer architectural patte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 layered system, each layer communicates only with the layer immediately below it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layer has a well-defined interface used by the layer immediately abov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igher layer sees the lower layer as a set o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plex system can be built by superposing layers at increasing levels of abstra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important to have a separate layer for the U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ers immediately below the UI layer provide the application functions determined by the use-ca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tom layers provide general serv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 network communication, database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BF60-DA2C-430B-89C2-F34B807D2CE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 of multi-lay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066680" y="1386000"/>
            <a:ext cx="754380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7925-A553-4268-B32B-C3435ABF0CEA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ulti-layer architecture and design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e and conqu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layers can be independently desig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cohes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Well-designed layers have layer cohe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coupl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Well-designed lower layers do not know about the higher layers and the only connection between layers is through the AP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bstrac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you do not need to know the details of how the lower layers are implemen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reusabi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lower layers can often be designed generic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DBC0-8DCB-42AF-9D64-4145CDD4A3B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ulti-layer architecture and design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reu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You can often reuse layers built by others that provide the services you n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Increase flexibility: you can add new facilities built on lower-level services, or replace higher-level lay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cipate obsolescen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y isolating components in separate layers, the system becomes more resistant to obsolesc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for portabi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ll the dependent facilities can be isolated in one of the lower lay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for testabi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ayers can be tested independen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defensivel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APIs of layers are natural places to build in rigorous assertion-chec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E3C6-4527-4A33-90B1-7BC643ACD8A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Client-Server and other distributed architectural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at least one component that has the role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aiting for and then handling conne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at least one component that has the role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itiating connections in order to obtain some serv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urther extension is the Peer-to-Peer patte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ystem composed of various software components that are distributed over several ho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81D4-8CB3-4F0F-91A5-B49372D8F0D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n example of a distribute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7543800" cy="287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A715-6A15-4714-98DE-E8F31D7DEF6A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ponent that is defined at the programming languag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methods, classes and packages are modules in 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314B-D911-4000-BC76-475F9EDC6D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stributed architecture and design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e and conqu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ividing the system into client and server processes is a strong way to divide the syst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can be separately develop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cohes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server can provide a cohesive service to clien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coupl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re is usually only one communication channel exchanging simple messa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bstrac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eparate distributed components are often good abstra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reus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t is often possible to find suitable frameworks on which to build good distributed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client-server systems are often very application specif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66E8-C533-493B-AE33-643CE46D627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stributed architecture and design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for flexibi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istributed systems can often be easily reconfigured by adding extra servers or cli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for portabi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You can write clients for new platforms without having to port the ser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for testabi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You can test clients and servers independen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defensivel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You can put rigorous checks in the message handling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766E-2569-4145-8502-B783F7D3D11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Broker architectural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arently distribute aspects of the software system to different no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bject can call methods of another object without knowing that this object is remotely  loc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BA is a well-known open standard that allows you to build this kind of archit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6BAC-EF36-4022-9B52-0C0600A3C6F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a Broker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066680" y="2590920"/>
            <a:ext cx="7543800" cy="85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1DDE-A3AD-4A33-8783-01515CE09E1C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roker architecture and design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e and conqu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remote objects can be independently design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reusabilit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t is often possible to design the remote objects so that other systems can use them to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reus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You may be able to reuse remote objects that others have cre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for flexibilit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brokers can be updated as required, or the proxy can communicate with a different remote obj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for portabilit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You can write clients for new platforms while still accessing brokers and remote objects on other platfor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defensivel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You can provide careful assertion checking in the remote obj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D240-9C80-429B-9AEF-94E4FFCCE56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Transaction-Processing architectural patte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ocess reads a series of inputs one by one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input describes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ac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a command that typically some change to the data stored by th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a transactio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atch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ponent that decides what to do with each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dispatches a procedure call or message to one of a series of component that wil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transa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DA31-0104-400E-8D34-317F8E04887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a transaction-process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543800" cy="185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78C6-C89E-45E8-B224-7482A0F70C5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nsaction-processing architecture and design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e and conqu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transaction handlers are suitable system divisions that you can give to separate software engine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cohes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ransaction handlers are naturally cohesive un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coupl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eparating the dispatcher from the handlers tends to reduce coup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for flexibi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You can readily add new transaction handl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defensivel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You can add assertion checking in each transaction handler and/or in the dispatc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C177-7905-42C6-8247-51B37AF9471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Pipe-and-Filter architectural patte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ream of data, in a relatively simple format, is passed through a series of proces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of which transforms it in some wa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is constantly fed into the pipe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cesses work concurren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rchitecture is very flex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most all the components could be remov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s could be replac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components could be inserte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tain components could be reordere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2604-4120-42B5-AA69-4550DD0DB85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a pipe-and-filter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848360" cy="323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454F-81AA-4D47-B89B-C73EAFF6B77A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ogical entity, having a set of definable responsibilities or objectives, and consisting of hardware, software or both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ystem can have a specification which is then implemented by a collection of componen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ystem continues to exist, even if its components are changed or replac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oal of requirements analysis is to determine the responsibilities of a syst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yste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ystem that is part of a larger system, and which has a definite interf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3A74-C3AC-4236-AF4B-C5F3D646E2F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pe-and-filter architecture and design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e and conqu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separate processes can be independently desig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cohes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processes have functional cohe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coupl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processes have only one input and one outp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bstrac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pipeline components are often good abstractions, hiding their internal det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reusabi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processes can often be used in many different contex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reu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t is often possible to find reusable components to insert into a pipe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931A-0387-41B5-81B8-4378FD2FA52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pe-and-filter architecture and design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for flexibi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re are several ways in which the system is flex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for testabi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t is normally easy to test the individual proce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defensivel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You rigorously check the inputs of each component, or else you can use design by contra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2939-D8C6-4D74-8286-07D01F8BB69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Model-View-Controller (MVC) architectural patte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architectural pattern used to help separate the user interface layer from other parts of the syste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ains the underlying classes whose instances are to be viewed and manipul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ains objects used to render the appearance of the data from the model in the user 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l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ains the objects that control and handle the user’s interaction with the view and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bservable design pattern is normally used to separate the model from th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2CAF-0172-4C35-8405-C14D7F0987A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the MVC architecture for the 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543800" cy="289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D9E8-D4E8-4F62-A591-5E33EE2BEB84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MVC in Web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1143000"/>
            <a:ext cx="7543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onent generates the HTML code to be displayed by the brows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l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component that interprets ‘HTTP post’ transmissions coming back from the brows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underlying system that manages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76F9-4476-4D46-96C5-29472D3A934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VC architecture and design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e and conqu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three components can be somewhat independently design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cohes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components have stronger layer cohesion than if the view and controller were together in a single UI lay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coupl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communication channels between the three components are minim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reus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view and controller normally make extensive use of reusable components for various kinds of UI control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for flexibilit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t is usually quite easy to change the UI by changing the view, the controller, or bo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for testabilit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You can test the application separately from the U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09D1-1A33-42E3-B2A7-A3D2FEA495F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rvice-oriented architectural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architecture organizes an application as a collection of services that communicates using well-defined interfac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context of the Internet, the services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 servi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eb service is an application, accessible through the Internet, that can be integrated  with other services to form a complet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fferent components generally communicate with each other using open standards such as XM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35B4-8F48-4426-9A3C-C1E1E0BFF07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a service-oriented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057320" y="1738440"/>
            <a:ext cx="7029360" cy="338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54FC-36DA-4541-A78C-61D0E595F01E}" type="slidenum">
              <a:t>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rvice-oriented architecture and design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ivide and conqu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The application is made of independently designed ser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crease cohes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The Web services are structured as layers and generally have good functional cohe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educe coupl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Web-based applications are loosely coupled built by binding together distributed compon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crease reusabi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A Web service is a highly reusable compon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crease reu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Web-based applications are built by reusing existing Web ser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nticipate obsolescen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Obsolete services can be replaced by new implementation without impacting the applications that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5C9A-9201-4929-8C79-71B8FAD4D6F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rvice-oriented architecture and design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esign for portabi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A service can be implemented on any platform that supports the required stand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esign for testabi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Each service can be tested independen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ign defensive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eb services enforce defensive design since different applications can access the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1B62-78A9-4AFE-977D-A3E392CA99E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ML diagram of system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8076960" cy="198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41B5-0514-4A35-B5A5-E958C72B225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ssage-oriented architectural patte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der this architecture, the different sub-systems communicate and collaborate to accomplish some task only by exchanging messag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known as Message-oriented Middleware (MO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re of this architecture is an application-to-application messaging sys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ers and receivers need only to know what are the message form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ddition, the communicating applications do not have to be available at the same time (i.e. messages can be made persist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elf-contained messages are sent by one component (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through virtual channel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op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to which other interested software components can subscribe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ubscrib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E6B3-632D-4BA9-A7A4-F03CFF030A0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a Message-oriented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900000" y="1343160"/>
            <a:ext cx="7344000" cy="417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342C-F4E0-4784-BE51-2F076B65EF5B}" type="slidenum">
              <a:t>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ssage-oriented architecture and design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ivide and conqu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The application is made of isolated software compon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educe coupl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The components are loosely coupled since they share only data form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ncrease abstrac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The prescribed format of the messages are generally simple to manipulate, all the application details being hidden behind the messaging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ncrease reusabilit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A component will be resusable is the message formats are flexible enoug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ncrease reus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The components can be reused as long as the new system adhere to the proposed message forma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BB1F-F5AA-4C97-ABBE-140DB4EA0F4B}" type="slidenum">
              <a:t>9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066320" y="12189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esign for flexibi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The functionality of a message-oriented system can be easily updated or enhanced by adding or replacing components in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esign for testabi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Each component can be tested independen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ign defensive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Defensive design consists simply of validating all received messages before processing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ssage-oriented architecture and design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D6EB-AFD1-4CA1-B0C5-8C20FABCC604}" type="slidenum">
              <a:t>9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of architecture versus design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066680" y="1371600"/>
          <a:ext cx="7691400" cy="4572000"/>
        </p:xfrm>
        <a:graphic>
          <a:graphicData uri="http://schemas.openxmlformats.org/drawingml/2006/table">
            <a:tbl>
              <a:tblPr/>
              <a:tblGrid>
                <a:gridCol w="2819520"/>
                <a:gridCol w="442800"/>
                <a:gridCol w="443160"/>
                <a:gridCol w="442800"/>
                <a:gridCol w="442800"/>
                <a:gridCol w="443160"/>
                <a:gridCol w="442800"/>
                <a:gridCol w="442800"/>
                <a:gridCol w="443160"/>
                <a:gridCol w="442800"/>
                <a:gridCol w="442800"/>
                <a:gridCol w="4428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-lay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ient-ser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o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action proces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pe-and-fil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ce-orien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ssage-orien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B99C-7716-4CC8-8C05-8827327A92E1}" type="slidenum">
              <a:t>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9.7 Writing a Good Design Docu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documents as an aid to making better desig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force you to be explicit and consider the important issues before starting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llow a group of people to review the design and therefore to improv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documents as a means of communicatio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ose who will b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desig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ose who will need, in the future, 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desig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ose who need to create systems or subsystems t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the system being desig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F8A3-1151-4347-A7CE-664F2CDE2D1F}" type="slidenum">
              <a:t>9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ructure of a design docu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354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Purpos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40520" indent="-2102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system or part of the system this design document describ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40520" indent="-2102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reference to the requirements that are being implemented by this design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eability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4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General prioriti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40520" indent="-2102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the priorities used to guide the design process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4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Outline of the desig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40520" indent="-2102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 a high-level description of the design that allows the reader to quickly get a general feeling for it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4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Major design issu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40520" indent="-2102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 the important issues that had to be resolv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40520" indent="-2102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 the possible alternatives that were considered, the final decision and the rationale for the deci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Other details of the desig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4052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 any other details the reader may want to know that have not yet been mention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D5D8-F7AA-494F-BDD0-5D5373B032C2}" type="slidenum">
              <a:t>9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riting the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documenting information that would b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ily obvio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a skilled programmer or designe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writing details in a design document that would be better placed a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en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writing details that can b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acted automaticall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the code, such as the list of public 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6A7F-2DDC-41DE-9904-2428AAC2087B}" type="slidenum">
              <a:t>9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9.8 Design of a Feature of the SimpleCha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143000" y="1295280"/>
            <a:ext cx="777240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2280" bIns="152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Purp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document describes important aspects of the implementation of the #block, #unblock, #whoiblock and #whoblocksme commands of the SimpleChat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General Prior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sions in this document are made based on the following prior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ost important first): Maintainability, Usability, Portability,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Outline of th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ing information will be maintained in the ConnectionToClient objects. The various commands will update and query the data using setValue and get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5489-6A2D-42AC-9FED-C4723139D120}" type="slidenum">
              <a:t>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1066680"/>
            <a:ext cx="7696080" cy="51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2280" bIns="152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Major design iss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e 1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re should we store information regarding the establishment of blockin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.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tore the information in the ConnectionToClient object associated with the client requesting the blo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.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tore the information in the ConnectionToClient object associated with the client that is being block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s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oint 2.2 of the specification requires that we be able to block a client even if that client is not logged on. This means that we must choose option 1.1 since no ConnectionToClient will exist for clients that are logged o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BA7E-3FE0-406B-9CD7-DBB92E1D09EF}" type="slidenum">
              <a:t>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6:59:35Z</dcterms:created>
  <dc:creator>Timothy C. Lethbridge</dc:creator>
  <dc:description/>
  <dc:language>en-US</dc:language>
  <cp:lastModifiedBy>Timothy Lethbridge</cp:lastModifiedBy>
  <dcterms:modified xsi:type="dcterms:W3CDTF">2010-11-28T16:08:59Z</dcterms:modified>
  <cp:revision>193</cp:revision>
  <dc:subject/>
  <dc:title>SEG 2100 Software Design II</dc:title>
</cp:coreProperties>
</file>