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4.png" ContentType="image/png"/>
  <Override PartName="/ppt/media/image9.png" ContentType="image/png"/>
  <Override PartName="/ppt/media/image11.pct" ContentType="image/x-pi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ct" ContentType="image/x-pict"/>
  <Override PartName="/ppt/media/image8.png" ContentType="image/png"/>
  <Override PartName="/ppt/media/image13.png" ContentType="image/png"/>
  <Override PartName="/ppt/media/image6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D57D-A915-42A2-9D0A-C3A14FCF1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AD1F-F798-46C9-BD42-904D0AD8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B195-7C9A-4D77-BD67-5D72C8841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169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6788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169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6788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0241-8A0D-4E03-A353-380F5793D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49BA-862E-4745-92A4-465F4158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14FE-053E-4DB4-BC89-0BC527D3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A8DE-8DAB-408E-8B1C-FE2CC057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FAD7-4F73-4CA9-98A5-8928D053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FB28-BB29-4EA1-AB99-824F6F3E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1891-1732-4737-9FAA-1D3288A0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D094-E923-4A21-BD02-2EF7482E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FCBE-AF36-485E-BEF6-BA448D3D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1295280"/>
            <a:ext cx="8275680" cy="5444640"/>
            <a:chOff x="216000" y="1295280"/>
            <a:chExt cx="8275680" cy="544464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933480" y="6184800"/>
              <a:ext cx="73724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216000" y="1295280"/>
              <a:ext cx="819000" cy="493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" descr=""/>
            <p:cNvPicPr/>
            <p:nvPr/>
          </p:nvPicPr>
          <p:blipFill>
            <a:blip r:embed="rId4"/>
            <a:stretch/>
          </p:blipFill>
          <p:spPr>
            <a:xfrm rot="2678400">
              <a:off x="523440" y="5840280"/>
              <a:ext cx="76680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" descr=""/>
            <p:cNvPicPr/>
            <p:nvPr/>
          </p:nvPicPr>
          <p:blipFill>
            <a:blip r:embed="rId5"/>
            <a:stretch/>
          </p:blipFill>
          <p:spPr>
            <a:xfrm>
              <a:off x="8153280" y="6171840"/>
              <a:ext cx="33840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601"/>
              </a:spcBef>
              <a:buClr>
                <a:srgbClr val="000000"/>
              </a:buClr>
              <a:buFont typeface="Time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167616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CFED-70B6-4FB6-A655-F5853E0C0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144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Software Engineering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 Software Development using UML and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pter 11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Softwar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phased-releas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81280" y="1139760"/>
            <a:ext cx="6372000" cy="495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957F-6FF0-49F7-ADD7-F33D033BA5B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phased-releas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ntroduces the notion of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ment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560" indent="-1814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requirements gathering and planning, the project should be broken into separate subprojects, 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560" indent="-1814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phase can be released to customers when read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560" indent="-1814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s of the system will be available earlier than when using a strict waterfall approach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560" indent="-1814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continues to suggest that all requirements be finalized at the start of developmen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2A1C-E5E0-4874-9E27-08D57A42407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spira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47920" y="1527120"/>
            <a:ext cx="6400800" cy="414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9D5A-4038-4E5F-AE25-DDFA5927EC0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spira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explicitly embraces prototyping and an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rativ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pproach to software development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040" indent="-1756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by developing a small prototy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040" indent="-1756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ed by a mini-waterfall process, primarily to gather requirem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040" indent="-1756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, the first prototype is review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040" indent="-1756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ubsequent loops, the project team performs further requirements, design, implementation and revi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040" indent="-1756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thing to do before embarking on each new lo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risk analy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040" indent="-1756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enance is simply a type of on-going developmen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D86E-76AF-42B8-AEBB-8689DA51ABC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evolutionary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6600960" cy="142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BCDC-7D64-49E4-9977-25A3C316A2F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evolutionary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shows software development as a series of hills, each representing a separate loop of the spira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s that loops, or releases, tend to overlap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it clear that development work tends to reach a peak, at around the time of the deadline for comple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s that each prototype or release can tak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80480" indent="-2214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amounts of time to delive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80480" indent="-2214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ing amounts of eff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8E78-19F8-45F8-AE55-556646E65C0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ncurrent engineering model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71600" y="1459080"/>
            <a:ext cx="6400800" cy="4027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1766-44DE-4B62-9DD6-82F93ABDC86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ncurrent engineering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explicitly accounts for the divide and conquer principle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team works on its own component, typically following a spiral or evolutionary approa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has to be some initial planning, and periodic integratio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D6AB-90F3-4E1D-845C-DC3476408DB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ational Unified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is the most widely known methodology that embraces UM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ed to be adap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ggests a process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s to the project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-case-drive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tecture-centric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858B-B5EC-4D50-896D-86C446DA251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ile appro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se approaches encourage the development of particularly small itera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1717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l suited for small projects that involve uncertain, changing requirements and other high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1717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st famous agile technique is eXtreme Programming (X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08120" indent="-20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stakeholders work closely toge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08120" indent="-20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tories are written instead of requirement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08120" indent="-20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must be a series of small and frequent releases (1 to 3 week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08120" indent="-20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ject variable are: scope, resources and time (and qual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08120" indent="-20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cases are written before the software is develo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08120" indent="-20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arge amount of refactoring is encoura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08120" indent="-20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ir programming is recommen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17AC-8F30-42D9-8A85-009527BC83B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1.1 What is Project Managemen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management encompasses all the activities needed to plan and execute a projec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ding what needs to be d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ting co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ing there are suitable people to undertake th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ng responsibili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ing arrangement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 wor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e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42AA-EB7A-4775-A12E-A08CEA3FCFD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hoosing a process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351000" indent="-17784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e waterfall mod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32240" indent="-20772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rporate the notion of sta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7784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e phased-release model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32240" indent="-20772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rporate the notion of doing some initial high-level analysis, and then dividing the project into relea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7784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e spiral mod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32240" indent="-20772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rporate prototyping and risk analy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77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e evolutionary mod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32240" indent="-20772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rporate the notion of varying amounts of time and work, with overlapping relea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77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concurrent engineer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32240" indent="-20772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rporate the notion of breaking the system down into components and developing them in parallel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7523-D2F0-4B27-A134-542B3AC3C50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engin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odically project managers should set aside some time to re-engineer part or all of the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1915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tent of this work can vary considerabl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88760" indent="-22392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ning up the code to make it more reada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88760" indent="-22392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ly replacing a lay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88760" indent="-22392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-factor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 of the desig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1915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general, the objective of a re-engineering activity is to increase maintainability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C5AE-9669-4FE9-9C14-5EC17ADE952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1.3 Cost 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stimate how much software-engineering time will be required to do some wor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indent="-1699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aps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00200" indent="-19872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fference in time from the start date to the end date of a task or projec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indent="-1699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ef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00200" indent="-19872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mount of labour used i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-month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-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00200" indent="-19872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onvert an estimate of development effort to an amount of mone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0648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multiply it by th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ighted average cos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rden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st) of employing a software engineer for a month (or a day)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B597-9267-414E-A44F-BA3AEA10F64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nciples of effective cost 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 1: Divide and conqu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ake a better estimate, you should divide the project up into individual sub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divide each subsystem further into the activities that will be required to develop 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, you make a series of detailed estimates for each individual activ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sum the results to arrive at the grand total estimate for the pro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05CC-B80B-4B31-82F5-0AB5037B6A0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nciples of effective cost 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 2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 all activities when making estimate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ime required f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ment activities must be taken into acco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ty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pec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user docu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loyment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4BA8-298D-441B-BFF7-5F069D7DFE7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nciples of effective cost 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 3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 your estimates on past experience combined with knowledge of the current project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16440" indent="-160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are developing a project that has many similarities with a past pro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59880" indent="-18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expect it to take a similar amount of work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16440" indent="-160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 your estimates on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 judgem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your expe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59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16440" indent="-160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hmic model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in the software industry as a whole by analyzing a wide range of projects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598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take into account various aspects of a project’s size and complexity, and provide formulas to compute anticipated cost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6A5C-9F62-4D6D-8F33-89C69A2722A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ic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 you to systematically estimate development effort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040" indent="-1756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an estimate of some other factor that you can measure, or that is easier to estima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24320" indent="-20556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use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24320" indent="-20556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distinct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24320" indent="-20556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classes in the domai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24320" indent="-20556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widgets in the prototype user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24320" indent="-20556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stimate of the number of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AEF5-85E6-4942-A29B-EB3CE4FAF48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ic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ypical algorithmic model uses a formula like the follow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s Poi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27432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= a + bN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38280" y="4191120"/>
            <a:ext cx="632484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= W</a:t>
            </a:r>
            <a:r>
              <a:rPr b="0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W</a:t>
            </a:r>
            <a:r>
              <a:rPr b="0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W</a:t>
            </a:r>
            <a:r>
              <a:rPr b="0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3438-CE20-4C2C-BF77-D97BA02EE3D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nciples of effective cost 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 4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sure to account for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ce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n extrapolating from other project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indent="-1699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oftware develo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indent="-1699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development processes and maturity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indent="-1699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types of customers and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indent="-1699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chedule dem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indent="-1699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indent="-1699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technical complexity of the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indent="-1699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do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indent="-1699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levels of requirement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B5D2-52CA-4E8E-88A2-26527DAB946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nciples of effective cost 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 5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cipate the worst case and plan for contingencie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040" indent="-17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the most critical use cases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24320" indent="-205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project runs into difficulty, then the critical features are more likely to have been comple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040" indent="-17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ree estim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24320" indent="-205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mistic (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0160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ining a everything going perfec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24320" indent="-205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ly (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0160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ing for typical things going wr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24320" indent="-205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ssimistic 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0160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ing for everything that could go wr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A503-C094-44A9-9FBB-E3FF4F686A4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at is Project Manag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ing a technical lea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ing and approving decisions made by oth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ing morale and supporting staf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ing and controll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-ordinating the work with managers of other pro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r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ally striving to improve the proc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A4C4-60B2-4EF4-A4D8-3436E909415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nciples of effective cost 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 6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 multiple independent estimat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indent="-16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everal different techniques and compare the resul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indent="-16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re are discrepancies, analyze your calculations to discover what factors causing the differe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indent="-16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Delphi techniqu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00200" indent="-198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al individuals initially make cost estimates in priv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00200" indent="-198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then share their estimates to discover the discrepanc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0020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individual repeatedly adjusts his or her estimates until a consensus is reached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CA72-2526-4296-A1FD-23CFD5893BE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nciples of effective cost 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 7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se and refine estimates as work progress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you add detail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the requirements 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the risk management process uncovers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3788-D1E9-44FA-A9D7-8CEBB46F33D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1.4 Building Software Engineering Tea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engineering is a human process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appropriate people for a team, and assigning roles and responsibilities to the team members, is therefore an important project management ski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engineering teams can be organized in many different way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47920" y="3968640"/>
            <a:ext cx="7391160" cy="197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AAE6-D1C0-48AA-BC79-0DE6CA3A839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oless team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uch a team everybody is equal, and the team works together to achieve a common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sions are made by consensu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suited to difficult projects with many technical challeng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54BB-DCEE-44F8-8BDE-816C2117D50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erarchical manager-subordinate structu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individual reports to a manager and is responsible for performing the tasks delegated by that mana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table for large projects with a strict schedule where everybody is well-trained and has a well-defined ro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since everybody is only responsible for their own work, problems may go unnotice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92A3-CE0A-45E5-8582-619A1B83B22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ef programmer team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way between egoless and hierarchic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hief programmer leads and guides the pro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or she consults with, and relies on, individual specialist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9229-DC86-4866-8792-CFB6F28F1CA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hoosing an effective size for a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335520" indent="-1699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 given estimated development effort, in person months, there is an optimal team si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00200" indent="-19872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ing the size of a team will not halve the development tim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indent="-1699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ystems and teams should be sized such that the total amount of required knowledge and exchange of information is reduce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indent="-1699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 given project or project iteration, the number of people on a team will not be constan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indent="-1699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not generally add people if you get behind schedule, in the hope of catching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B325-5AFB-45A5-A9E2-2FB8836DA86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kills needed on a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t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ation management and build specia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interface specia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y specia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ware and third-party software specia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documentation specia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9BDC-8363-4A7D-AA83-6301C42A21A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1.5 Project Scheduling and Track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process of deci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what sequence a set of activities will be perform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y should start and be comple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ck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process of determining how well you are sticking to the cost estimate and schedul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87BC-733B-4F86-85C5-EA7DC4F2A9D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ER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ERT chart shows the sequence in which tasks must be completed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each node of a PERT chart, you typically show the elapsed time and effort estimat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tical pat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the minimum time in which it is possible to complete the projec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6A76-8AA6-472A-91EE-AB7AF8E0131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1.2 Software Process Mode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process models are general approaches for organizing a project into activities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 the project manager and his or her team to dec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80480" indent="-2214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ork should be don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80480" indent="-2214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what sequence to perform the wor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dels should be seen a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ds to think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t rigid prescriptions of the way to do thing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project ends up with its own unique pla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BE56-C2EF-43C7-B208-5F6B350170A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 of a PER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3520" y="1515960"/>
            <a:ext cx="8458200" cy="374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6283-E3ED-42EF-A3B5-DF20C04FC137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antt chart is used to graphically present the start and end dates of each software engineering tas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axis shows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ther axis shows the activities that will be perform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lack bars are the top-level task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hite bars are sub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amonds ar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est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80480" indent="-2214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ant deadline dates, at which specific events may occu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7668-9764-405B-8232-E9A42A0F2E6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 of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8051760" cy="397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CBFC-4CF7-45A5-BCC5-744BA7F08BF8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arne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ned valu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amount of work completed, measured according to the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get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ffort that the work was supposed to consu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lso called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geted cost of work perform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each task is completed, the number of person-months originally planned for that task is added to the earned value of the projec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0A33-1008-4F64-88B1-C1C17B794B8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arned value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earned value chart has three curve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udgeted cost of the work schedu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arned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ctual cost of the work performed so f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B7DB-337A-4DD8-93CE-9E30E52F2B1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 of an earned value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143000" y="995400"/>
            <a:ext cx="7315200" cy="53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698F-B403-43F2-BCCC-65BA48F5277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1.6 Contents of a Project Pl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 inform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es to be u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ystems and planned relea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ks and challeng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k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estim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e and mileston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5B1A-3316-456F-861B-960F4396515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1.7 Difficulties and Risks in Projec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335520" indent="-16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urately estimating costs is a constant challe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00200" indent="-198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 the cost estimation guideline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indent="-16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very difficult to measure progress and meet deadli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00200" indent="-198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your cost estimation skills so as to account for the kinds of problems that may occu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00200" indent="-198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a closer relationship with other members of the tea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00200" indent="-198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realistic in initial requirements gathering, and follow an iterative approac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00200" indent="-198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earned value charts to monitor progres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FB14-9EEC-43C9-95AE-45E9FBE0750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ifficulties and Risks in Projec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difficult to deal with lack of human resources or technology needed to successfully run a pro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determining the requirements and the project plan, take into consideration the resources availa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cannot find skilled people or suitable technology then you must limit the scope of your projec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D074-FEBB-4990-89B1-3B866815ECC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ifficulties and Risks in Projec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351000" indent="-177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ng effectively in a large project is ha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2240" indent="-20772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courses in communication, both written and or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2240" indent="-20772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rn how to run effective meeting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2240" indent="-20772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what information everybody should have, and make sure they have 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2240" indent="-20772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sure that project information is readily avai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2240" indent="-20772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‘groupware’ technology to help people exchange the information they need to kn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263F-FB86-4A5C-8363-FA6F37349D4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opportunistic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05120" y="2819520"/>
            <a:ext cx="5919840" cy="131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DA77-9A82-44B6-8686-E6F306AE8AE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ifficulties and Risks in Projec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351000" indent="-177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hard to obtain agreement and commitment from oth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2240" indent="-20772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courses in negotiating skills and leadershi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2240" indent="-20772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everybody understan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3840" indent="-20772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osition of everybody els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3840" indent="-20772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sts and benefits of each alternati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3840" indent="-20772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ationale behind any compromi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32240" indent="-20772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everybody’s proposed responsibility is clearly express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2240" indent="-20772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en to everybody’s opinion, but take assertive action, when needed, to ensure progress occur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A52F-9CFE-4881-A7C6-EFB6D923FB2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opportunistic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what occurs when an organization does not follow  good engineering practic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17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does not acknowledge the importance of working out the requirements and the design before implementing a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17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sign of software deteriorates faster if it is not well designe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17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there are no plans, there is nothing to aim toward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17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no explicit recognition of the need for systematic testing and other forms of quality assuranc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17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bove problems make the cost of developing and maintaining software very high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6046-B202-4353-9B31-2EC7C8769D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waterfal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486432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ABB8-2108-4C5B-A473-229AF41987B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waterfal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assic way of looking at S.E. that accounts for the importance of requirements, design and quality assura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del suggests that software engineers should work in a series of stag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ore completing each stage, they should perform quality assurance (verification and validation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aterfall model also recognizes, to a limited extent, that you sometimes have to step back to earlier st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47E5-2C1B-4E8B-BA04-39D6EE026F1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imitations of the waterfal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lvl="1" marL="320040" indent="-1620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del implies that you should attempt to complete a given stage before moving on to the next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7800" indent="-18972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not account for the fact that requirements constantly chang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7800" indent="-18972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also means that customers can not use anything until the entire system is complet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20040" indent="-1620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del makes no allowances for prototyp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20040" indent="-1620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mplies that you can get the requirements right by simply writing them down and reviewing th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20040" indent="-1620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del implies that once the product is finished, everything else is maintenanc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CFB1-CEF9-43C4-BA36-C6EB589620E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30T14:50:21Z</dcterms:created>
  <dc:creator>Robert Laganiere</dc:creator>
  <dc:description/>
  <dc:language>en-US</dc:language>
  <cp:lastModifiedBy>Timothy Lethbridge</cp:lastModifiedBy>
  <cp:lastPrinted>2001-08-30T21:48:01Z</cp:lastPrinted>
  <dcterms:modified xsi:type="dcterms:W3CDTF">2006-06-20T20:45:16Z</dcterms:modified>
  <cp:revision>42</cp:revision>
  <dc:subject/>
  <dc:title>PowerPoint Presentation</dc:title>
</cp:coreProperties>
</file>