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ct" ContentType="image/x-pict"/>
  <Override PartName="/ppt/media/image5.png" ContentType="image/png"/>
  <Override PartName="/ppt/media/image3.pct" ContentType="image/x-pict"/>
  <Override PartName="/ppt/media/image4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6DE9-190B-4E02-AB4A-8EB668691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32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FB3B-2228-4151-A462-3ABAE6045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3200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0C9F-5E9C-4EEA-A1C3-72A45F3DB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692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788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32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692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788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31E1-4390-4304-A35C-38F1F3B07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3A64-3918-4040-BC0F-F808609BC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9013-9389-485B-ABEC-9A2DCB33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A4FD-E0A5-4AEC-87AF-21F486189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6470-6FF6-4FBC-A64D-B6B9CF1CE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83BA-154B-4690-BBF9-8925D3EEB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A2E8-445F-4FC2-B2B7-AC2B2158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3200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038D-5556-402D-A18E-4B4441A0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7E5A-7998-46A9-B783-BF0BBDF5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llosengMaster" descr=""/>
          <p:cNvPicPr/>
          <p:nvPr/>
        </p:nvPicPr>
        <p:blipFill>
          <a:blip r:embed="rId2"/>
          <a:stretch/>
        </p:blipFill>
        <p:spPr>
          <a:xfrm>
            <a:off x="357120" y="1162080"/>
            <a:ext cx="8429760" cy="5619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601"/>
              </a:spcBef>
              <a:buClr>
                <a:srgbClr val="000000"/>
              </a:buClr>
              <a:buFont typeface="Time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304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304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304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67616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4FDF0-298E-4728-927C-63DF96AD7C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14400" y="1676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-Oriented Software Engineering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al Software Development using UML and 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6002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pter 6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Using Design Patterns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l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tipattern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7645320" y="4697280"/>
            <a:ext cx="1476360" cy="536760"/>
            <a:chOff x="7645320" y="4697280"/>
            <a:chExt cx="1476360" cy="536760"/>
          </a:xfrm>
        </p:grpSpPr>
        <p:sp>
          <p:nvSpPr>
            <p:cNvPr id="215" name=""/>
            <p:cNvSpPr/>
            <p:nvPr/>
          </p:nvSpPr>
          <p:spPr>
            <a:xfrm>
              <a:off x="7645320" y="4697280"/>
              <a:ext cx="1476360" cy="536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710120" y="4780080"/>
              <a:ext cx="1409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500" spc="-1" strike="noStrike">
                  <a:solidFill>
                    <a:srgbClr val="000000"/>
                  </a:solidFill>
                  <a:latin typeface="Arial"/>
                </a:rPr>
                <a:t>RockRecord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002280" y="4697280"/>
            <a:ext cx="1532160" cy="536760"/>
            <a:chOff x="6002280" y="4697280"/>
            <a:chExt cx="1532160" cy="536760"/>
          </a:xfrm>
        </p:grpSpPr>
        <p:sp>
          <p:nvSpPr>
            <p:cNvPr id="218" name=""/>
            <p:cNvSpPr/>
            <p:nvPr/>
          </p:nvSpPr>
          <p:spPr>
            <a:xfrm>
              <a:off x="6002280" y="4697280"/>
              <a:ext cx="1532160" cy="536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066720" y="4780080"/>
              <a:ext cx="1462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500" spc="-1" strike="noStrike">
                  <a:solidFill>
                    <a:srgbClr val="000000"/>
                  </a:solidFill>
                  <a:latin typeface="Arial"/>
                </a:rPr>
                <a:t>BluesRecord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4027320" y="4697280"/>
            <a:ext cx="1863720" cy="536760"/>
            <a:chOff x="4027320" y="4697280"/>
            <a:chExt cx="1863720" cy="536760"/>
          </a:xfrm>
        </p:grpSpPr>
        <p:sp>
          <p:nvSpPr>
            <p:cNvPr id="221" name=""/>
            <p:cNvSpPr/>
            <p:nvPr/>
          </p:nvSpPr>
          <p:spPr>
            <a:xfrm>
              <a:off x="4027320" y="4697280"/>
              <a:ext cx="1863720" cy="536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090320" y="4780080"/>
              <a:ext cx="177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500" spc="-1" strike="noStrike">
                  <a:solidFill>
                    <a:srgbClr val="000000"/>
                  </a:solidFill>
                  <a:latin typeface="Arial"/>
                </a:rPr>
                <a:t>ClassicalRecord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514600" y="4697280"/>
            <a:ext cx="1419120" cy="536760"/>
            <a:chOff x="2514600" y="4697280"/>
            <a:chExt cx="1419120" cy="536760"/>
          </a:xfrm>
        </p:grpSpPr>
        <p:sp>
          <p:nvSpPr>
            <p:cNvPr id="224" name=""/>
            <p:cNvSpPr/>
            <p:nvPr/>
          </p:nvSpPr>
          <p:spPr>
            <a:xfrm>
              <a:off x="2514600" y="4697280"/>
              <a:ext cx="1419120" cy="536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576520" y="4780080"/>
              <a:ext cx="1347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500" spc="-1" strike="noStrike">
                  <a:solidFill>
                    <a:srgbClr val="000000"/>
                  </a:solidFill>
                  <a:latin typeface="Arial"/>
                </a:rPr>
                <a:t>JazzRecord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1000080" y="4716360"/>
            <a:ext cx="1144800" cy="536760"/>
            <a:chOff x="1000080" y="4716360"/>
            <a:chExt cx="1144800" cy="536760"/>
          </a:xfrm>
        </p:grpSpPr>
        <p:sp>
          <p:nvSpPr>
            <p:cNvPr id="227" name=""/>
            <p:cNvSpPr/>
            <p:nvPr/>
          </p:nvSpPr>
          <p:spPr>
            <a:xfrm>
              <a:off x="1000080" y="4716360"/>
              <a:ext cx="1144800" cy="536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064160" y="4799160"/>
              <a:ext cx="1059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500" spc="-1" strike="noStrike">
                  <a:solidFill>
                    <a:srgbClr val="000000"/>
                  </a:solidFill>
                  <a:latin typeface="Arial"/>
                </a:rPr>
                <a:t>MusicVide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1757520" y="3532320"/>
            <a:ext cx="1457280" cy="534960"/>
            <a:chOff x="1757520" y="3532320"/>
            <a:chExt cx="1457280" cy="534960"/>
          </a:xfrm>
        </p:grpSpPr>
        <p:sp>
          <p:nvSpPr>
            <p:cNvPr id="230" name=""/>
            <p:cNvSpPr/>
            <p:nvPr/>
          </p:nvSpPr>
          <p:spPr>
            <a:xfrm>
              <a:off x="1757520" y="3532320"/>
              <a:ext cx="1457280" cy="53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820160" y="3614760"/>
              <a:ext cx="13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500" spc="-1" strike="noStrike">
                  <a:solidFill>
                    <a:srgbClr val="000000"/>
                  </a:solidFill>
                  <a:latin typeface="Arial"/>
                </a:rPr>
                <a:t>VideoRecod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5264280" y="3532320"/>
            <a:ext cx="1545120" cy="534960"/>
            <a:chOff x="5264280" y="3532320"/>
            <a:chExt cx="1545120" cy="534960"/>
          </a:xfrm>
        </p:grpSpPr>
        <p:sp>
          <p:nvSpPr>
            <p:cNvPr id="233" name=""/>
            <p:cNvSpPr/>
            <p:nvPr/>
          </p:nvSpPr>
          <p:spPr>
            <a:xfrm>
              <a:off x="5264280" y="3532320"/>
              <a:ext cx="1531800" cy="53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328720" y="3614760"/>
              <a:ext cx="1480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500" spc="-1" strike="noStrike">
                  <a:solidFill>
                    <a:srgbClr val="000000"/>
                  </a:solidFill>
                  <a:latin typeface="Arial"/>
                </a:rPr>
                <a:t>AudioRecord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2725560" y="3244680"/>
            <a:ext cx="2880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725560" y="3244680"/>
            <a:ext cx="1800" cy="258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3787920" y="2346480"/>
            <a:ext cx="1089000" cy="536400"/>
            <a:chOff x="3787920" y="2346480"/>
            <a:chExt cx="1089000" cy="536400"/>
          </a:xfrm>
        </p:grpSpPr>
        <p:sp>
          <p:nvSpPr>
            <p:cNvPr id="238" name=""/>
            <p:cNvSpPr/>
            <p:nvPr/>
          </p:nvSpPr>
          <p:spPr>
            <a:xfrm>
              <a:off x="3787920" y="2346480"/>
              <a:ext cx="1089000" cy="536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926160" y="2428920"/>
              <a:ext cx="942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500" spc="-1" strike="noStrike">
                  <a:solidFill>
                    <a:srgbClr val="000000"/>
                  </a:solidFill>
                  <a:latin typeface="Arial"/>
                </a:rPr>
                <a:t>Record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4313160" y="2984400"/>
            <a:ext cx="1800" cy="2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165560" y="2873520"/>
            <a:ext cx="276120" cy="222120"/>
          </a:xfrm>
          <a:custGeom>
            <a:avLst/>
            <a:gdLst/>
            <a:ahLst/>
            <a:rect l="l" t="t" r="r" b="b"/>
            <a:pathLst>
              <a:path w="174" h="140">
                <a:moveTo>
                  <a:pt x="93" y="0"/>
                </a:moveTo>
                <a:lnTo>
                  <a:pt x="174" y="140"/>
                </a:lnTo>
                <a:lnTo>
                  <a:pt x="0" y="140"/>
                </a:lnTo>
                <a:lnTo>
                  <a:pt x="9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165560" y="2873520"/>
            <a:ext cx="276120" cy="222120"/>
          </a:xfrm>
          <a:custGeom>
            <a:avLst/>
            <a:gdLst/>
            <a:ahLst/>
            <a:rect l="l" t="t" r="r" b="b"/>
            <a:pathLst>
              <a:path w="174" h="140">
                <a:moveTo>
                  <a:pt x="93" y="0"/>
                </a:moveTo>
                <a:lnTo>
                  <a:pt x="174" y="140"/>
                </a:lnTo>
                <a:lnTo>
                  <a:pt x="0" y="140"/>
                </a:lnTo>
                <a:lnTo>
                  <a:pt x="93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59120" y="4429080"/>
            <a:ext cx="3987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975280" y="4170240"/>
            <a:ext cx="1800" cy="258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827680" y="4059360"/>
            <a:ext cx="276120" cy="222120"/>
          </a:xfrm>
          <a:custGeom>
            <a:avLst/>
            <a:gdLst/>
            <a:ahLst/>
            <a:rect l="l" t="t" r="r" b="b"/>
            <a:pathLst>
              <a:path w="174" h="140">
                <a:moveTo>
                  <a:pt x="93" y="0"/>
                </a:moveTo>
                <a:lnTo>
                  <a:pt x="174" y="140"/>
                </a:lnTo>
                <a:lnTo>
                  <a:pt x="0" y="140"/>
                </a:lnTo>
                <a:lnTo>
                  <a:pt x="9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27680" y="4059360"/>
            <a:ext cx="276120" cy="222120"/>
          </a:xfrm>
          <a:custGeom>
            <a:avLst/>
            <a:gdLst/>
            <a:ahLst/>
            <a:rect l="l" t="t" r="r" b="b"/>
            <a:pathLst>
              <a:path w="174" h="140">
                <a:moveTo>
                  <a:pt x="93" y="0"/>
                </a:moveTo>
                <a:lnTo>
                  <a:pt x="174" y="140"/>
                </a:lnTo>
                <a:lnTo>
                  <a:pt x="0" y="140"/>
                </a:lnTo>
                <a:lnTo>
                  <a:pt x="93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13040" y="4170240"/>
            <a:ext cx="1440" cy="536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65440" y="4076640"/>
            <a:ext cx="277560" cy="222480"/>
          </a:xfrm>
          <a:custGeom>
            <a:avLst/>
            <a:gdLst/>
            <a:ahLst/>
            <a:rect l="l" t="t" r="r" b="b"/>
            <a:pathLst>
              <a:path w="175" h="140">
                <a:moveTo>
                  <a:pt x="93" y="0"/>
                </a:moveTo>
                <a:lnTo>
                  <a:pt x="175" y="140"/>
                </a:lnTo>
                <a:lnTo>
                  <a:pt x="0" y="140"/>
                </a:lnTo>
                <a:lnTo>
                  <a:pt x="9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765440" y="4076640"/>
            <a:ext cx="277560" cy="222480"/>
          </a:xfrm>
          <a:custGeom>
            <a:avLst/>
            <a:gdLst/>
            <a:ahLst/>
            <a:rect l="l" t="t" r="r" b="b"/>
            <a:pathLst>
              <a:path w="175" h="140">
                <a:moveTo>
                  <a:pt x="93" y="0"/>
                </a:moveTo>
                <a:lnTo>
                  <a:pt x="175" y="140"/>
                </a:lnTo>
                <a:lnTo>
                  <a:pt x="0" y="140"/>
                </a:lnTo>
                <a:lnTo>
                  <a:pt x="93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05560" y="3244680"/>
            <a:ext cx="1440" cy="258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746840" y="4429080"/>
            <a:ext cx="1800" cy="258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23080" y="4429080"/>
            <a:ext cx="1440" cy="258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978440" y="4429080"/>
            <a:ext cx="1440" cy="258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759120" y="4429080"/>
            <a:ext cx="1800" cy="258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F73A-FF7A-4E2C-8DDD-2529D69F956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6.4 The Player-Ro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x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l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particular set of properties associated with an object in a particular contex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object may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fferent roles in different context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do you best model players and roles so that a player can change roles or possess multiple ro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65E6-8062-4107-A083-CD05A6BD794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er-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c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desirable to improve encapsulation by capturing the information associated with each separate role in a 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ant to avoid multiple inherit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cannot allow an instance to change 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327480" y="3962520"/>
            <a:ext cx="1466640" cy="720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537000" y="4073400"/>
            <a:ext cx="1047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«Player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807080" y="4322880"/>
            <a:ext cx="6714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399360" y="4695840"/>
            <a:ext cx="1440" cy="49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200640" y="4695840"/>
            <a:ext cx="373320" cy="298440"/>
          </a:xfrm>
          <a:custGeom>
            <a:avLst/>
            <a:gdLst/>
            <a:ahLst/>
            <a:rect l="l" t="t" r="r" b="b"/>
            <a:pathLst>
              <a:path w="235" h="188">
                <a:moveTo>
                  <a:pt x="125" y="0"/>
                </a:moveTo>
                <a:lnTo>
                  <a:pt x="235" y="188"/>
                </a:lnTo>
                <a:lnTo>
                  <a:pt x="0" y="188"/>
                </a:lnTo>
                <a:lnTo>
                  <a:pt x="12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00640" y="4695840"/>
            <a:ext cx="373320" cy="298440"/>
          </a:xfrm>
          <a:custGeom>
            <a:avLst/>
            <a:gdLst/>
            <a:ahLst/>
            <a:rect l="l" t="t" r="r" b="b"/>
            <a:pathLst>
              <a:path w="235" h="188">
                <a:moveTo>
                  <a:pt x="125" y="0"/>
                </a:moveTo>
                <a:lnTo>
                  <a:pt x="235" y="188"/>
                </a:lnTo>
                <a:lnTo>
                  <a:pt x="0" y="188"/>
                </a:lnTo>
                <a:lnTo>
                  <a:pt x="125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5079600" y="5194440"/>
            <a:ext cx="13194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079960" y="5194440"/>
            <a:ext cx="1800" cy="223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770360" y="5413320"/>
            <a:ext cx="1467000" cy="720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029200" y="5541840"/>
            <a:ext cx="977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«Role1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399360" y="5194440"/>
            <a:ext cx="1466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866000" y="5194440"/>
            <a:ext cx="1800" cy="223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635880" y="5430960"/>
            <a:ext cx="1466640" cy="720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94720" y="5541840"/>
            <a:ext cx="977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«Role2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491080" y="3962520"/>
            <a:ext cx="1989360" cy="720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575320" y="4073400"/>
            <a:ext cx="1870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«AbstractRole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8BA0-0763-45B0-9380-8FA24A08722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er-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1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1219320" y="2486160"/>
            <a:ext cx="7162560" cy="201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DD3C-E6B3-4141-A40A-800359962C7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er-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2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1066680" y="2665440"/>
            <a:ext cx="8001000" cy="17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9F00-3310-42DA-A139-80CF6C6DEAA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er-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tipattern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ge all the properties and behaviours into a single «Player» class and not have «Role» classes at al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roles as subclasses of the «Player» cla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D542-244D-404E-80C2-74A2EA8521D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6.5 The Singlet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x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very common to find classes for which only one instance should exi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ton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do you ensure that it is never possible to create more than one instance of a singleton class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c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 of a public constructor cannot guarantee that no more than one instance will be created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ingleton instance must also be accessible to all classes that require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6106-5D9A-421F-97DE-F5AEDBEC9DA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65320" y="3487680"/>
            <a:ext cx="1573200" cy="114624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075040" y="3805200"/>
            <a:ext cx="15541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075040" y="4111560"/>
            <a:ext cx="15541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489040" y="3564000"/>
            <a:ext cx="810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Comp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07880" y="3889440"/>
            <a:ext cx="867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 u="sng">
                <a:solidFill>
                  <a:srgbClr val="000000"/>
                </a:solidFill>
                <a:uFillTx/>
                <a:latin typeface="Arial"/>
              </a:rPr>
              <a:t>theComp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206080" y="4197240"/>
            <a:ext cx="1326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ompany </a:t>
            </a:r>
            <a:r>
              <a:rPr b="1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1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207880" y="4402080"/>
            <a:ext cx="793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 u="sng">
                <a:solidFill>
                  <a:srgbClr val="000000"/>
                </a:solidFill>
                <a:uFillTx/>
                <a:latin typeface="Arial"/>
              </a:rPr>
              <a:t>getIn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141800" y="3701880"/>
            <a:ext cx="2716200" cy="93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132440" y="3692520"/>
            <a:ext cx="2717640" cy="94140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115520" y="3735360"/>
            <a:ext cx="1623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Geneva"/>
              </a:rPr>
              <a:t>if (theCompany==null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115880" y="3941640"/>
            <a:ext cx="232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Geneva"/>
              </a:rPr>
              <a:t>  </a:t>
            </a:r>
            <a:r>
              <a:rPr b="0" lang="en-CA" sz="1200" spc="-1" strike="noStrike">
                <a:solidFill>
                  <a:srgbClr val="000000"/>
                </a:solidFill>
                <a:latin typeface="Geneva"/>
              </a:rPr>
              <a:t>theCompany= new Company()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98320" y="4146480"/>
            <a:ext cx="4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03280" y="4351320"/>
            <a:ext cx="1454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Geneva"/>
              </a:rPr>
              <a:t>return theCompany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6703920" y="3684600"/>
            <a:ext cx="136440" cy="1364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2184480" y="2103480"/>
            <a:ext cx="1077840" cy="94140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193840" y="2421000"/>
            <a:ext cx="10591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193840" y="2727360"/>
            <a:ext cx="10591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241720" y="2179800"/>
            <a:ext cx="1009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1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26680" y="2505240"/>
            <a:ext cx="793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 u="sng">
                <a:solidFill>
                  <a:srgbClr val="000000"/>
                </a:solidFill>
                <a:uFillTx/>
                <a:latin typeface="Arial"/>
              </a:rPr>
              <a:t>theIn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326680" y="2813040"/>
            <a:ext cx="793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 u="sng">
                <a:solidFill>
                  <a:srgbClr val="000000"/>
                </a:solidFill>
                <a:uFillTx/>
                <a:latin typeface="Arial"/>
              </a:rPr>
              <a:t>getIn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BE7B-27EA-4BF5-B59C-DEDB99D21BA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6.6 The Observ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x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n association is created between two classes, the code for the classes becomes inseparab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you want to reuse one class, then you also have to reuse the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do you reduce the interconnection between classes, especially between classes that belong to different modules or subsyste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c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want to maximize the flexibility of the system to the greatest extent possi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A355-9A1C-4606-BBDE-35464744092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6172200" cy="4919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7C08-4D8C-488E-9ED3-8218B5FE854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6.1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Introduction to Patter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curring aspects of designs are calle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patterns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te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outline of a reusable solution to a general problem encountered in a particular contex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of them have been systematically documented for all software developers to u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good pattern shou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as general as po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in a solution that has been proven to effectively solve the problem in the indicated contex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ying patterns is an effective way to learn from the experience of others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5CAA-D811-4F7E-91EA-FC8BBB69882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tipattern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an observer directly to an observable so that they both have references to each ot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 observers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class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observab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02E6-9EFC-4F81-BCF8-0D696D07DAB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6.7 The Deleg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x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are designing a method in a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realize that another class has a method which provides the required serv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eritanc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not appropri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because the isa rule does not appl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can you most effectively make use of a method that already exists in the other class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c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want to minimize development cost by reusing metho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7D9E-66CC-4DD6-AFAE-0A7AF2FC347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20960" y="3789360"/>
            <a:ext cx="149544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987640" y="3789360"/>
            <a:ext cx="132876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800440" y="3705120"/>
            <a:ext cx="166680" cy="166680"/>
          </a:xfrm>
          <a:custGeom>
            <a:avLst/>
            <a:gdLst/>
            <a:ahLst/>
            <a:rect l="l" t="t" r="r" b="b"/>
            <a:pathLst>
              <a:path w="105" h="105">
                <a:moveTo>
                  <a:pt x="0" y="53"/>
                </a:moveTo>
                <a:lnTo>
                  <a:pt x="52" y="0"/>
                </a:lnTo>
                <a:lnTo>
                  <a:pt x="105" y="53"/>
                </a:lnTo>
                <a:lnTo>
                  <a:pt x="52" y="105"/>
                </a:lnTo>
                <a:lnTo>
                  <a:pt x="0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00440" y="3705120"/>
            <a:ext cx="166680" cy="166680"/>
          </a:xfrm>
          <a:custGeom>
            <a:avLst/>
            <a:gdLst/>
            <a:ahLst/>
            <a:rect l="l" t="t" r="r" b="b"/>
            <a:pathLst>
              <a:path w="105" h="105">
                <a:moveTo>
                  <a:pt x="0" y="53"/>
                </a:moveTo>
                <a:lnTo>
                  <a:pt x="52" y="0"/>
                </a:lnTo>
                <a:lnTo>
                  <a:pt x="105" y="53"/>
                </a:lnTo>
                <a:lnTo>
                  <a:pt x="52" y="105"/>
                </a:lnTo>
                <a:lnTo>
                  <a:pt x="0" y="53"/>
                </a:lnTo>
                <a:close/>
              </a:path>
            </a:pathLst>
          </a:custGeom>
          <a:solidFill>
            <a:srgbClr val="ffffff"/>
          </a:solidFill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110120" y="3726000"/>
            <a:ext cx="206280" cy="633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4109760" y="3789360"/>
            <a:ext cx="206280" cy="61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213080" y="3519360"/>
            <a:ext cx="20880" cy="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110120" y="3726000"/>
            <a:ext cx="206280" cy="633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4109760" y="3789360"/>
            <a:ext cx="206280" cy="61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325760" y="3465360"/>
            <a:ext cx="1229040" cy="226728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336920" y="3892680"/>
            <a:ext cx="120672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422600" y="3560760"/>
            <a:ext cx="1012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Linked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501800" y="3954600"/>
            <a:ext cx="692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addFir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501800" y="4203720"/>
            <a:ext cx="683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addLa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501800" y="4452840"/>
            <a:ext cx="724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addAft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501440" y="4702320"/>
            <a:ext cx="1011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removeFir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501440" y="4951440"/>
            <a:ext cx="1001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removeLa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543560" y="5200560"/>
            <a:ext cx="523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502520" y="5451480"/>
            <a:ext cx="68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isEmp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584360" y="3506760"/>
            <a:ext cx="1227240" cy="127008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595520" y="3933720"/>
            <a:ext cx="120492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99080" y="3602160"/>
            <a:ext cx="54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802880" y="3995640"/>
            <a:ext cx="41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pus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799280" y="424512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po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761120" y="4494240"/>
            <a:ext cx="68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isEmp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325760" y="2031840"/>
            <a:ext cx="1249560" cy="81288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401000" y="2127240"/>
            <a:ext cx="1070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Delegate</a:t>
            </a:r>
            <a:r>
              <a:rPr b="1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584360" y="2031840"/>
            <a:ext cx="1789200" cy="81288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865880" y="2127240"/>
            <a:ext cx="1160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Delegator</a:t>
            </a:r>
            <a:r>
              <a:rPr b="1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3360240" y="2313000"/>
            <a:ext cx="95580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884920" y="1990800"/>
            <a:ext cx="2411280" cy="95724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679720" y="1960560"/>
            <a:ext cx="2172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Courier New"/>
              </a:rPr>
              <a:t>delegatingMethod()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973840" y="2168640"/>
            <a:ext cx="343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CA" sz="15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165720" y="2376360"/>
            <a:ext cx="274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Courier New"/>
              </a:rPr>
              <a:t>delegate.method();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994720" y="2604960"/>
            <a:ext cx="343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CA" sz="15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8118360" y="1981080"/>
            <a:ext cx="166680" cy="16668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1595520" y="2479680"/>
            <a:ext cx="174456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36920" y="2479680"/>
            <a:ext cx="122724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759680" y="2541600"/>
            <a:ext cx="152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delegatingMetho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547520" y="2541600"/>
            <a:ext cx="639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884920" y="3444840"/>
            <a:ext cx="2411280" cy="95724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154920" y="3414600"/>
            <a:ext cx="68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Courier New"/>
              </a:rPr>
              <a:t>push(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973840" y="3622680"/>
            <a:ext cx="343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CA" sz="15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828040" y="3830760"/>
            <a:ext cx="1829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Courier New"/>
              </a:rPr>
              <a:t>list.addFirst(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994720" y="4059360"/>
            <a:ext cx="343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CA" sz="15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118360" y="3435480"/>
            <a:ext cx="166680" cy="166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393D-0D07-42BE-B1EB-0C5B584D2A9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066680" y="1371600"/>
            <a:ext cx="7543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888840" y="2451240"/>
            <a:ext cx="8229600" cy="234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3CAD-F1F7-42C2-90D4-4D9EA25DC53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tipatter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use generalization an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eri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method that is to be reus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ead of creating a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thod in the «Delegator» that does nothing other than call a method in the «Deleg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having many different methods in the «Delegator» call the delegate’s 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non-neighboring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905120" y="495288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specificFlight.regularFlight.flightNumber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getRegularFlight().flightNumber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F88B-8B7C-434D-BF7B-8C19F53ED8E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6.8 The Adap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x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are building an inheritance hierarchy and want to incorporate it into an existing clas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used class is also often already part of its own inheritance hierarch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btain the power of polymorphism when reusing a class whose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the same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same sign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the other methods in the hierarch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ce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do not have access to multiple inheritance or you do not want to use 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D3AB-45EA-47B7-87C6-DC8A7F56C43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dap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447920" y="2035080"/>
            <a:ext cx="7471800" cy="3070080"/>
            <a:chOff x="1447920" y="2035080"/>
            <a:chExt cx="7471800" cy="3070080"/>
          </a:xfrm>
        </p:grpSpPr>
        <p:sp>
          <p:nvSpPr>
            <p:cNvPr id="375" name=""/>
            <p:cNvSpPr/>
            <p:nvPr/>
          </p:nvSpPr>
          <p:spPr>
            <a:xfrm>
              <a:off x="6059520" y="4078080"/>
              <a:ext cx="2109240" cy="1027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072120" y="4646520"/>
              <a:ext cx="208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406560" y="4201920"/>
              <a:ext cx="1413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«Adaptee»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291000" y="4728960"/>
              <a:ext cx="1770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daptedMetho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4849560" y="4479840"/>
              <a:ext cx="1195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905440" y="4119480"/>
              <a:ext cx="2808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767200" y="4397400"/>
              <a:ext cx="277560" cy="8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5766840" y="4479840"/>
              <a:ext cx="277560" cy="84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447920" y="2493720"/>
              <a:ext cx="2554200" cy="1027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460520" y="3063600"/>
              <a:ext cx="25282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794240" y="2619360"/>
              <a:ext cx="18021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«Superclass»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678680" y="3146400"/>
              <a:ext cx="2224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olymorphicMetho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600360" y="3535200"/>
              <a:ext cx="1080" cy="528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378240" y="3535200"/>
              <a:ext cx="415440" cy="333360"/>
            </a:xfrm>
            <a:custGeom>
              <a:avLst/>
              <a:gdLst/>
              <a:ahLst/>
              <a:rect l="l" t="t" r="r" b="b"/>
              <a:pathLst>
                <a:path w="262" h="210">
                  <a:moveTo>
                    <a:pt x="140" y="0"/>
                  </a:moveTo>
                  <a:lnTo>
                    <a:pt x="262" y="210"/>
                  </a:lnTo>
                  <a:lnTo>
                    <a:pt x="0" y="210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378240" y="3535200"/>
              <a:ext cx="415440" cy="333360"/>
            </a:xfrm>
            <a:custGeom>
              <a:avLst/>
              <a:gdLst/>
              <a:ahLst/>
              <a:rect l="l" t="t" r="r" b="b"/>
              <a:pathLst>
                <a:path w="262" h="210">
                  <a:moveTo>
                    <a:pt x="140" y="0"/>
                  </a:moveTo>
                  <a:lnTo>
                    <a:pt x="262" y="210"/>
                  </a:lnTo>
                  <a:lnTo>
                    <a:pt x="0" y="210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197160" y="4078080"/>
              <a:ext cx="1638000" cy="8049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350160" y="4201920"/>
              <a:ext cx="1366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«Adapter»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682880" y="3701880"/>
              <a:ext cx="1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682880" y="3786120"/>
              <a:ext cx="1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682880" y="3813120"/>
              <a:ext cx="1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682880" y="3897000"/>
              <a:ext cx="14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682880" y="3924000"/>
              <a:ext cx="14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682880" y="4008240"/>
              <a:ext cx="14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682880" y="4035240"/>
              <a:ext cx="14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475160" y="2049480"/>
              <a:ext cx="4444560" cy="1638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488840" y="2062080"/>
              <a:ext cx="2896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polymorphicMethod(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822200" y="2617560"/>
              <a:ext cx="1220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return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822200" y="2923920"/>
              <a:ext cx="3963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daptee.adaptedMethod(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3" name="" descr=""/>
            <p:cNvPicPr/>
            <p:nvPr/>
          </p:nvPicPr>
          <p:blipFill>
            <a:blip r:embed="rId1"/>
            <a:stretch/>
          </p:blipFill>
          <p:spPr>
            <a:xfrm>
              <a:off x="8683560" y="2035080"/>
              <a:ext cx="221760" cy="22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4349160" y="2313000"/>
              <a:ext cx="457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{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349160" y="3146400"/>
              <a:ext cx="457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}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A35B-206D-43A2-B1BD-B9BE01E9232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1752480" y="2057400"/>
            <a:ext cx="7011000" cy="3325320"/>
            <a:chOff x="1752480" y="2057400"/>
            <a:chExt cx="7011000" cy="3325320"/>
          </a:xfrm>
        </p:grpSpPr>
        <p:sp>
          <p:nvSpPr>
            <p:cNvPr id="409" name=""/>
            <p:cNvSpPr/>
            <p:nvPr/>
          </p:nvSpPr>
          <p:spPr>
            <a:xfrm>
              <a:off x="6356160" y="4280040"/>
              <a:ext cx="1587240" cy="11026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369480" y="4890240"/>
              <a:ext cx="15602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476040" y="4412880"/>
              <a:ext cx="14288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TimsToru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580440" y="4978800"/>
              <a:ext cx="131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alc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141720" y="3787560"/>
              <a:ext cx="687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829680" y="3787560"/>
              <a:ext cx="1080" cy="44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141720" y="3369600"/>
              <a:ext cx="1080" cy="417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930040" y="3369600"/>
              <a:ext cx="396000" cy="357840"/>
            </a:xfrm>
            <a:custGeom>
              <a:avLst/>
              <a:gdLst/>
              <a:ahLst/>
              <a:rect l="l" t="t" r="r" b="b"/>
              <a:pathLst>
                <a:path w="262" h="210">
                  <a:moveTo>
                    <a:pt x="140" y="0"/>
                  </a:moveTo>
                  <a:lnTo>
                    <a:pt x="262" y="210"/>
                  </a:lnTo>
                  <a:lnTo>
                    <a:pt x="0" y="210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930040" y="3369600"/>
              <a:ext cx="396000" cy="357840"/>
            </a:xfrm>
            <a:custGeom>
              <a:avLst/>
              <a:gdLst/>
              <a:ahLst/>
              <a:rect l="l" t="t" r="r" b="b"/>
              <a:pathLst>
                <a:path w="262" h="210">
                  <a:moveTo>
                    <a:pt x="140" y="0"/>
                  </a:moveTo>
                  <a:lnTo>
                    <a:pt x="262" y="210"/>
                  </a:lnTo>
                  <a:lnTo>
                    <a:pt x="0" y="210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1320" y="2251440"/>
              <a:ext cx="1877760" cy="11030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295000" y="2861640"/>
              <a:ext cx="18518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322360" y="2413080"/>
              <a:ext cx="1800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hreeDShap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505600" y="2950200"/>
              <a:ext cx="822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2531880" y="3787560"/>
              <a:ext cx="6094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532240" y="3787560"/>
              <a:ext cx="1440" cy="44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752480" y="4249440"/>
              <a:ext cx="1560240" cy="863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083680" y="4384080"/>
              <a:ext cx="9471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pher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604320" y="4249440"/>
              <a:ext cx="1560240" cy="863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042080" y="4384080"/>
              <a:ext cx="776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Toru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178240" y="4682520"/>
              <a:ext cx="11642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077880" y="4591800"/>
              <a:ext cx="264600" cy="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077520" y="4682520"/>
              <a:ext cx="264600" cy="8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046840" y="3846960"/>
              <a:ext cx="10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046840" y="3935520"/>
              <a:ext cx="10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046840" y="3966480"/>
              <a:ext cx="10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046840" y="4055040"/>
              <a:ext cx="10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046840" y="4085640"/>
              <a:ext cx="10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046840" y="4174560"/>
              <a:ext cx="10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046840" y="4205160"/>
              <a:ext cx="10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926960" y="2072160"/>
              <a:ext cx="3835800" cy="17589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939560" y="2086200"/>
              <a:ext cx="1220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volume(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257440" y="2682720"/>
              <a:ext cx="1220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return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257440" y="3009960"/>
              <a:ext cx="350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daptee.calcVolume(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2" name="" descr=""/>
            <p:cNvPicPr/>
            <p:nvPr/>
          </p:nvPicPr>
          <p:blipFill>
            <a:blip r:embed="rId1"/>
            <a:stretch/>
          </p:blipFill>
          <p:spPr>
            <a:xfrm>
              <a:off x="8539200" y="2057400"/>
              <a:ext cx="211680" cy="2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4807800" y="2353680"/>
              <a:ext cx="457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{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807800" y="3248640"/>
              <a:ext cx="457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}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B2C9-3FB5-4549-8C42-2B1C0BF086B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6.9 The Faça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x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, an application contains several complex packag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rogrammer working with such packages has to manipulate many different class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do you simplify the view that programmers have of a complex packag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ce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hard for a programmer to understand and use an entire subsyste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several different application classes call methods of the complex package, then any modifications made to the package will necessitate a complete review of all these clas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42E2-B944-43B8-9D4B-F4DF6716226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aç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1828800" y="2057400"/>
            <a:ext cx="571500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1335-BD8B-45BE-B37F-5140267F222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tern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x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56360" indent="-2145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eneral situation in which the pattern appli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56360" indent="-2145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hort sentence or two raising the main difficul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c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56360" indent="-2145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ssues or concerns to consider when solving the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56360" indent="-2145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commended way to solve the problem in the given contex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150560" indent="-21456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balance the forces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patter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Option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56360" indent="-2145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s that are inferior or do not work in this contex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ed patter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Optional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56360" indent="-2145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terns that are similar to this patter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enc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56360" indent="-2145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 developed or inspired the pattern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2F1D-C94D-459D-ADD4-E9415497D03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6.10 The Immut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x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immutable object is an object that has a state that never changes after cre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do you create a class whose instances are immutable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ce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must be no loopholes that would allow ‘illegal’ modification of an immutable obj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that the constructor of the immutable class is the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ace where the values of instance variables are set or modifie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ce methods which access properties must not have side effec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a method that would otherwise modify an instance variable is required, then it has to return a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stance of the clas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24E7-F971-4328-BB70-6B24E3378FF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6.11 The Read-only Interfa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x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sometimes want certain privileged classes to be able to modify attributes of objects that are otherwise immuta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do you create a situation where some classes see a class as read-only whereas others are able to make modific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ce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ricting access by using the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tecte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eywords is not adequately selectiv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ing access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kes it public for both reading and writ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0E95-B8BF-4570-86E8-98EF16EE653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ead-only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413320" y="2394000"/>
            <a:ext cx="2359080" cy="6429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491440" y="2492280"/>
            <a:ext cx="2247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UnprivilegedClass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124160" y="4622760"/>
            <a:ext cx="123372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233960" y="4334040"/>
            <a:ext cx="219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159160" y="433404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159160" y="433404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159160" y="433404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159160" y="433404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159160" y="433404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159160" y="433404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369040" y="4300560"/>
            <a:ext cx="1301760" cy="6429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513400" y="4400640"/>
            <a:ext cx="1091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Mutator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173320" y="3924360"/>
            <a:ext cx="1940040" cy="148572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184480" y="4334040"/>
            <a:ext cx="191772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184480" y="4734000"/>
            <a:ext cx="191772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603520" y="4022640"/>
            <a:ext cx="111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Mutable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361240" y="4444920"/>
            <a:ext cx="1625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 «private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361240" y="4843440"/>
            <a:ext cx="1038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Attrib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360880" y="5110200"/>
            <a:ext cx="1027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Attrib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996920" y="2193840"/>
            <a:ext cx="2379960" cy="104292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008080" y="2870280"/>
            <a:ext cx="23590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604600" y="2271600"/>
            <a:ext cx="107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«interface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075760" y="2514600"/>
            <a:ext cx="2271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ReadOnlyInterface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184840" y="2936880"/>
            <a:ext cx="1038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Attrib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87680" y="2714760"/>
            <a:ext cx="10144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498920" y="2427120"/>
            <a:ext cx="2232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203800" y="24256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203800" y="24256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203800" y="24256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 flipV="1">
            <a:off x="4387320" y="2714400"/>
            <a:ext cx="220680" cy="66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4387680" y="2647800"/>
            <a:ext cx="220680" cy="669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203800" y="24256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203800" y="24256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065400" y="3247920"/>
            <a:ext cx="1800" cy="287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065400" y="3247920"/>
            <a:ext cx="180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065400" y="3270240"/>
            <a:ext cx="1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065400" y="3335400"/>
            <a:ext cx="1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065400" y="3357720"/>
            <a:ext cx="1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889360" y="3247920"/>
            <a:ext cx="331560" cy="265320"/>
          </a:xfrm>
          <a:custGeom>
            <a:avLst/>
            <a:gdLst/>
            <a:ahLst/>
            <a:rect l="l" t="t" r="r" b="b"/>
            <a:pathLst>
              <a:path w="209" h="167">
                <a:moveTo>
                  <a:pt x="111" y="0"/>
                </a:moveTo>
                <a:lnTo>
                  <a:pt x="209" y="167"/>
                </a:lnTo>
                <a:lnTo>
                  <a:pt x="0" y="167"/>
                </a:lnTo>
                <a:lnTo>
                  <a:pt x="11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889360" y="3247920"/>
            <a:ext cx="331560" cy="265320"/>
          </a:xfrm>
          <a:custGeom>
            <a:avLst/>
            <a:gdLst/>
            <a:ahLst/>
            <a:rect l="l" t="t" r="r" b="b"/>
            <a:pathLst>
              <a:path w="209" h="167">
                <a:moveTo>
                  <a:pt x="111" y="0"/>
                </a:moveTo>
                <a:lnTo>
                  <a:pt x="209" y="167"/>
                </a:lnTo>
                <a:lnTo>
                  <a:pt x="0" y="167"/>
                </a:lnTo>
                <a:lnTo>
                  <a:pt x="111" y="0"/>
                </a:lnTo>
                <a:close/>
              </a:path>
            </a:pathLst>
          </a:custGeom>
          <a:solidFill>
            <a:srgbClr val="ffffff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067200" y="35053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067200" y="3657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067200" y="38098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EADC-133C-4768-80B0-965758E248C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-only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3733920" y="2097000"/>
            <a:ext cx="1850760" cy="3770280"/>
            <a:chOff x="3733920" y="2097000"/>
            <a:chExt cx="1850760" cy="3770280"/>
          </a:xfrm>
        </p:grpSpPr>
        <p:sp>
          <p:nvSpPr>
            <p:cNvPr id="502" name=""/>
            <p:cNvSpPr/>
            <p:nvPr/>
          </p:nvSpPr>
          <p:spPr>
            <a:xfrm>
              <a:off x="3733920" y="3849840"/>
              <a:ext cx="1850760" cy="201744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744720" y="4259160"/>
              <a:ext cx="1828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744720" y="4924440"/>
              <a:ext cx="1828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853440" y="3948120"/>
              <a:ext cx="1626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utableper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920760" y="4370400"/>
              <a:ext cx="86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irst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920040" y="4635720"/>
              <a:ext cx="858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ast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920760" y="5035680"/>
              <a:ext cx="1207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tFirst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920760" y="5300640"/>
              <a:ext cx="1197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tLast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920760" y="5567400"/>
              <a:ext cx="82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et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427280" y="3151080"/>
              <a:ext cx="108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427280" y="3173400"/>
              <a:ext cx="108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427280" y="3238560"/>
              <a:ext cx="108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427280" y="3260880"/>
              <a:ext cx="108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427280" y="3327480"/>
              <a:ext cx="108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427280" y="3349800"/>
              <a:ext cx="108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427280" y="3416400"/>
              <a:ext cx="108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427280" y="3438720"/>
              <a:ext cx="108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427280" y="3505320"/>
              <a:ext cx="108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427280" y="3527640"/>
              <a:ext cx="108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27280" y="3594240"/>
              <a:ext cx="108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427280" y="3616200"/>
              <a:ext cx="108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427280" y="3683160"/>
              <a:ext cx="108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427280" y="3705120"/>
              <a:ext cx="108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427280" y="3772080"/>
              <a:ext cx="108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427280" y="3794040"/>
              <a:ext cx="108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250880" y="3151080"/>
              <a:ext cx="331560" cy="265320"/>
            </a:xfrm>
            <a:custGeom>
              <a:avLst/>
              <a:gdLst/>
              <a:ahLst/>
              <a:rect l="l" t="t" r="r" b="b"/>
              <a:pathLst>
                <a:path w="209" h="167">
                  <a:moveTo>
                    <a:pt x="111" y="0"/>
                  </a:moveTo>
                  <a:lnTo>
                    <a:pt x="209" y="167"/>
                  </a:lnTo>
                  <a:lnTo>
                    <a:pt x="0" y="167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250880" y="3151080"/>
              <a:ext cx="331560" cy="265320"/>
            </a:xfrm>
            <a:custGeom>
              <a:avLst/>
              <a:gdLst/>
              <a:ahLst/>
              <a:rect l="l" t="t" r="r" b="b"/>
              <a:pathLst>
                <a:path w="209" h="167">
                  <a:moveTo>
                    <a:pt x="111" y="0"/>
                  </a:moveTo>
                  <a:lnTo>
                    <a:pt x="209" y="167"/>
                  </a:lnTo>
                  <a:lnTo>
                    <a:pt x="0" y="167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ffffff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822480" y="2097000"/>
              <a:ext cx="1321920" cy="104328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833640" y="2773440"/>
              <a:ext cx="129960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899520" y="2174760"/>
              <a:ext cx="1070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«interface»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118760" y="2417760"/>
              <a:ext cx="77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009680" y="2840040"/>
              <a:ext cx="82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et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4419720" y="343836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419720" y="359100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419720" y="37432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C772-8122-4FA6-8094-E512AF2A4D3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-only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tipatterns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 read-only class a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clas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«Mutable»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ride all methods that modify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h that they throw an excep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EAE1-9C9B-4436-B190-568F71C169D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6.12 The Prox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381960" indent="-193320" algn="just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x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96680" indent="-226080" algn="just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, it is time-consuming and complicated to create instances of a class 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vyweigh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asses)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96680" indent="-226080" algn="just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 is a time delay and a complex mechanism involved in creating the object in memo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96680" indent="-22608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reduce the need to create instances of a heavyweight class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ce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96680" indent="-22608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want all the objects in a domain model to be available for programs to use when they execute a system’s various responsibiliti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96680" indent="-22608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also important for many objects to persist from run to run of the same progr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87EC-8366-470C-9A11-644E381A459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ox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776840" y="2452680"/>
            <a:ext cx="1336680" cy="8730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855680" y="2530440"/>
            <a:ext cx="107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«interface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921560" y="2778120"/>
            <a:ext cx="106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ClassIF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187960" y="4300560"/>
            <a:ext cx="6238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700600" y="4008600"/>
            <a:ext cx="2232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589720" y="4233960"/>
            <a:ext cx="222120" cy="66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5589360" y="4300560"/>
            <a:ext cx="222120" cy="66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700600" y="4008600"/>
            <a:ext cx="2232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589720" y="4233960"/>
            <a:ext cx="222120" cy="66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5589360" y="4300560"/>
            <a:ext cx="222120" cy="66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781360" y="4300560"/>
            <a:ext cx="106992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892240" y="400860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651120" y="400860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51120" y="400860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651120" y="400860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629160" y="4233960"/>
            <a:ext cx="222120" cy="66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3628800" y="4300560"/>
            <a:ext cx="222120" cy="66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651120" y="400860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651120" y="400860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651120" y="400860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629160" y="4233960"/>
            <a:ext cx="222120" cy="66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3628800" y="4300560"/>
            <a:ext cx="222120" cy="66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455840" y="3997440"/>
            <a:ext cx="1314360" cy="6508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689120" y="4098960"/>
            <a:ext cx="889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Client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823000" y="3975120"/>
            <a:ext cx="1873080" cy="6494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902920" y="4076640"/>
            <a:ext cx="1687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HeavyWeight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862440" y="3975120"/>
            <a:ext cx="1314360" cy="6494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074120" y="4076640"/>
            <a:ext cx="88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Proxy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5991120" y="3336840"/>
            <a:ext cx="1800" cy="627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991120" y="3336840"/>
            <a:ext cx="180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991120" y="3359160"/>
            <a:ext cx="1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991120" y="3427560"/>
            <a:ext cx="1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991120" y="3449520"/>
            <a:ext cx="180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991120" y="3516480"/>
            <a:ext cx="1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991120" y="3538440"/>
            <a:ext cx="180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991120" y="3606840"/>
            <a:ext cx="1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991120" y="3629160"/>
            <a:ext cx="1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991120" y="3695760"/>
            <a:ext cx="1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991120" y="3718080"/>
            <a:ext cx="1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991120" y="3784680"/>
            <a:ext cx="1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991120" y="3807000"/>
            <a:ext cx="1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991120" y="3875040"/>
            <a:ext cx="180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991120" y="3897360"/>
            <a:ext cx="1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811840" y="3336840"/>
            <a:ext cx="334800" cy="270000"/>
          </a:xfrm>
          <a:custGeom>
            <a:avLst/>
            <a:gdLst/>
            <a:ahLst/>
            <a:rect l="l" t="t" r="r" b="b"/>
            <a:pathLst>
              <a:path w="211" h="170">
                <a:moveTo>
                  <a:pt x="113" y="0"/>
                </a:moveTo>
                <a:lnTo>
                  <a:pt x="211" y="170"/>
                </a:lnTo>
                <a:lnTo>
                  <a:pt x="0" y="170"/>
                </a:lnTo>
                <a:lnTo>
                  <a:pt x="11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811840" y="3336840"/>
            <a:ext cx="334800" cy="270000"/>
          </a:xfrm>
          <a:custGeom>
            <a:avLst/>
            <a:gdLst/>
            <a:ahLst/>
            <a:rect l="l" t="t" r="r" b="b"/>
            <a:pathLst>
              <a:path w="211" h="170">
                <a:moveTo>
                  <a:pt x="113" y="0"/>
                </a:moveTo>
                <a:lnTo>
                  <a:pt x="211" y="170"/>
                </a:lnTo>
                <a:lnTo>
                  <a:pt x="0" y="170"/>
                </a:lnTo>
                <a:lnTo>
                  <a:pt x="113" y="0"/>
                </a:lnTo>
                <a:close/>
              </a:path>
            </a:pathLst>
          </a:custGeom>
          <a:solidFill>
            <a:srgbClr val="ffffff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4987800" y="3336840"/>
            <a:ext cx="1800" cy="627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987800" y="3336840"/>
            <a:ext cx="180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987800" y="3359160"/>
            <a:ext cx="1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987800" y="3427560"/>
            <a:ext cx="1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987800" y="3449520"/>
            <a:ext cx="180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987800" y="3516480"/>
            <a:ext cx="1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987800" y="3538440"/>
            <a:ext cx="180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987800" y="3606840"/>
            <a:ext cx="1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987800" y="3629160"/>
            <a:ext cx="1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987800" y="3695760"/>
            <a:ext cx="1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987800" y="3718080"/>
            <a:ext cx="1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987800" y="3784680"/>
            <a:ext cx="1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987800" y="3807000"/>
            <a:ext cx="1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987800" y="3875040"/>
            <a:ext cx="180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987800" y="3897360"/>
            <a:ext cx="1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809960" y="3336840"/>
            <a:ext cx="333720" cy="270000"/>
          </a:xfrm>
          <a:custGeom>
            <a:avLst/>
            <a:gdLst/>
            <a:ahLst/>
            <a:rect l="l" t="t" r="r" b="b"/>
            <a:pathLst>
              <a:path w="210" h="170">
                <a:moveTo>
                  <a:pt x="112" y="0"/>
                </a:moveTo>
                <a:lnTo>
                  <a:pt x="210" y="170"/>
                </a:lnTo>
                <a:lnTo>
                  <a:pt x="0" y="170"/>
                </a:lnTo>
                <a:lnTo>
                  <a:pt x="11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809960" y="3336840"/>
            <a:ext cx="333720" cy="270000"/>
          </a:xfrm>
          <a:custGeom>
            <a:avLst/>
            <a:gdLst/>
            <a:ahLst/>
            <a:rect l="l" t="t" r="r" b="b"/>
            <a:pathLst>
              <a:path w="210" h="170">
                <a:moveTo>
                  <a:pt x="112" y="0"/>
                </a:moveTo>
                <a:lnTo>
                  <a:pt x="210" y="170"/>
                </a:lnTo>
                <a:lnTo>
                  <a:pt x="0" y="170"/>
                </a:lnTo>
                <a:lnTo>
                  <a:pt x="112" y="0"/>
                </a:lnTo>
                <a:close/>
              </a:path>
            </a:pathLst>
          </a:custGeom>
          <a:solidFill>
            <a:srgbClr val="ffffff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DA28-FEFB-4239-9C8F-6821F4063A7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x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2432160" y="1143000"/>
            <a:ext cx="4959360" cy="2171520"/>
            <a:chOff x="2432160" y="1143000"/>
            <a:chExt cx="4959360" cy="2171520"/>
          </a:xfrm>
        </p:grpSpPr>
        <p:sp>
          <p:nvSpPr>
            <p:cNvPr id="608" name=""/>
            <p:cNvSpPr/>
            <p:nvPr/>
          </p:nvSpPr>
          <p:spPr>
            <a:xfrm>
              <a:off x="3278160" y="1143000"/>
              <a:ext cx="1338480" cy="8730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358800" y="1220760"/>
              <a:ext cx="1070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«interface»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667680" y="1467000"/>
              <a:ext cx="612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istI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916520" y="1287360"/>
              <a:ext cx="2475000" cy="120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905360" y="1276200"/>
              <a:ext cx="2475000" cy="120996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827600" y="1332000"/>
              <a:ext cx="203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The list elements wil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807800" y="1601640"/>
              <a:ext cx="191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be loaded into loca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811040" y="1870200"/>
              <a:ext cx="1888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memory only whe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865760" y="2138400"/>
              <a:ext cx="773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need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7" name="" descr=""/>
            <p:cNvPicPr/>
            <p:nvPr/>
          </p:nvPicPr>
          <p:blipFill>
            <a:blip r:embed="rId1"/>
            <a:stretch/>
          </p:blipFill>
          <p:spPr>
            <a:xfrm>
              <a:off x="7189920" y="1265400"/>
              <a:ext cx="179280" cy="1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"/>
            <p:cNvSpPr/>
            <p:nvPr/>
          </p:nvSpPr>
          <p:spPr>
            <a:xfrm>
              <a:off x="2432160" y="2665440"/>
              <a:ext cx="1314360" cy="64908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576520" y="2765520"/>
              <a:ext cx="1041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istProx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281480" y="2665440"/>
              <a:ext cx="1627200" cy="64908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359240" y="2765520"/>
              <a:ext cx="1510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rsistentLi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757680" y="2989080"/>
              <a:ext cx="5126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159440" y="2698920"/>
              <a:ext cx="21960" cy="29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048200" y="2922480"/>
              <a:ext cx="222120" cy="66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4047840" y="2989080"/>
              <a:ext cx="222120" cy="684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159440" y="2698920"/>
              <a:ext cx="21960" cy="29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048200" y="2922480"/>
              <a:ext cx="222120" cy="66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4047840" y="2989080"/>
              <a:ext cx="222120" cy="684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4449960" y="2027160"/>
              <a:ext cx="1440" cy="6271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449960" y="202716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449960" y="204948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449960" y="211608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449960" y="213840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449960" y="220644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449960" y="222876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449960" y="229536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449960" y="231768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449960" y="238608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449960" y="240840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449960" y="247500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449960" y="249696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449960" y="256392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449960" y="258588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270320" y="2027160"/>
              <a:ext cx="335160" cy="268200"/>
            </a:xfrm>
            <a:custGeom>
              <a:avLst/>
              <a:gdLst/>
              <a:ahLst/>
              <a:rect l="l" t="t" r="r" b="b"/>
              <a:pathLst>
                <a:path w="211" h="169">
                  <a:moveTo>
                    <a:pt x="113" y="0"/>
                  </a:moveTo>
                  <a:lnTo>
                    <a:pt x="211" y="169"/>
                  </a:lnTo>
                  <a:lnTo>
                    <a:pt x="0" y="169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270320" y="2027160"/>
              <a:ext cx="335160" cy="268200"/>
            </a:xfrm>
            <a:custGeom>
              <a:avLst/>
              <a:gdLst/>
              <a:ahLst/>
              <a:rect l="l" t="t" r="r" b="b"/>
              <a:pathLst>
                <a:path w="211" h="169">
                  <a:moveTo>
                    <a:pt x="113" y="0"/>
                  </a:moveTo>
                  <a:lnTo>
                    <a:pt x="211" y="169"/>
                  </a:lnTo>
                  <a:lnTo>
                    <a:pt x="0" y="169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ffffff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3513240" y="2027160"/>
              <a:ext cx="1440" cy="6271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513240" y="202716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513240" y="204948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513240" y="211608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13240" y="213840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513240" y="220644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513240" y="222876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513240" y="229536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513240" y="231768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513240" y="238608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513240" y="240840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513240" y="247500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513240" y="249696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513240" y="256392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513240" y="258588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335400" y="2027160"/>
              <a:ext cx="333360" cy="268200"/>
            </a:xfrm>
            <a:custGeom>
              <a:avLst/>
              <a:gdLst/>
              <a:ahLst/>
              <a:rect l="l" t="t" r="r" b="b"/>
              <a:pathLst>
                <a:path w="210" h="169">
                  <a:moveTo>
                    <a:pt x="112" y="0"/>
                  </a:moveTo>
                  <a:lnTo>
                    <a:pt x="210" y="169"/>
                  </a:lnTo>
                  <a:lnTo>
                    <a:pt x="0" y="169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335400" y="2027160"/>
              <a:ext cx="333360" cy="268200"/>
            </a:xfrm>
            <a:custGeom>
              <a:avLst/>
              <a:gdLst/>
              <a:ahLst/>
              <a:rect l="l" t="t" r="r" b="b"/>
              <a:pathLst>
                <a:path w="210" h="169">
                  <a:moveTo>
                    <a:pt x="112" y="0"/>
                  </a:moveTo>
                  <a:lnTo>
                    <a:pt x="210" y="169"/>
                  </a:lnTo>
                  <a:lnTo>
                    <a:pt x="0" y="169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ffffff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2057400" y="3772080"/>
            <a:ext cx="4233960" cy="2171520"/>
            <a:chOff x="2057400" y="3772080"/>
            <a:chExt cx="4233960" cy="2171520"/>
          </a:xfrm>
        </p:grpSpPr>
        <p:sp>
          <p:nvSpPr>
            <p:cNvPr id="664" name=""/>
            <p:cNvSpPr/>
            <p:nvPr/>
          </p:nvSpPr>
          <p:spPr>
            <a:xfrm flipV="1">
              <a:off x="4430880" y="4656240"/>
              <a:ext cx="1440" cy="6271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430880" y="465624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430880" y="467856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430880" y="474516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430880" y="476748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430880" y="483552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430880" y="485784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430880" y="492444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430880" y="494676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430880" y="501516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430880" y="503748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430880" y="510408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430880" y="512604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430880" y="519300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30880" y="521496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251240" y="4656240"/>
              <a:ext cx="335160" cy="268200"/>
            </a:xfrm>
            <a:custGeom>
              <a:avLst/>
              <a:gdLst/>
              <a:ahLst/>
              <a:rect l="l" t="t" r="r" b="b"/>
              <a:pathLst>
                <a:path w="211" h="169">
                  <a:moveTo>
                    <a:pt x="113" y="0"/>
                  </a:moveTo>
                  <a:lnTo>
                    <a:pt x="211" y="169"/>
                  </a:lnTo>
                  <a:lnTo>
                    <a:pt x="0" y="169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251240" y="4656240"/>
              <a:ext cx="335160" cy="268200"/>
            </a:xfrm>
            <a:custGeom>
              <a:avLst/>
              <a:gdLst/>
              <a:ahLst/>
              <a:rect l="l" t="t" r="r" b="b"/>
              <a:pathLst>
                <a:path w="211" h="169">
                  <a:moveTo>
                    <a:pt x="113" y="0"/>
                  </a:moveTo>
                  <a:lnTo>
                    <a:pt x="211" y="169"/>
                  </a:lnTo>
                  <a:lnTo>
                    <a:pt x="0" y="169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ffffff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282840" y="3772080"/>
              <a:ext cx="1336680" cy="8730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361680" y="3849840"/>
              <a:ext cx="1070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«interface»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560040" y="4096080"/>
              <a:ext cx="852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ud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49680" y="5618160"/>
              <a:ext cx="57960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118040" y="5328000"/>
              <a:ext cx="22320" cy="29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006800" y="5551560"/>
              <a:ext cx="222480" cy="66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>
              <a:off x="4006800" y="5618160"/>
              <a:ext cx="222480" cy="684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118040" y="5328000"/>
              <a:ext cx="22320" cy="29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006800" y="5551560"/>
              <a:ext cx="222480" cy="66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H="1">
              <a:off x="4006800" y="5618160"/>
              <a:ext cx="222480" cy="684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3449520" y="4656240"/>
              <a:ext cx="1800" cy="6271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449520" y="4656240"/>
              <a:ext cx="180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449520" y="4678560"/>
              <a:ext cx="180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449520" y="4745160"/>
              <a:ext cx="180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449520" y="4767480"/>
              <a:ext cx="180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449520" y="4835520"/>
              <a:ext cx="180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449520" y="4857840"/>
              <a:ext cx="180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449520" y="4924440"/>
              <a:ext cx="180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449520" y="4946760"/>
              <a:ext cx="180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449520" y="5015160"/>
              <a:ext cx="180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449520" y="5037480"/>
              <a:ext cx="180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449520" y="5104080"/>
              <a:ext cx="180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449520" y="5126040"/>
              <a:ext cx="180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49520" y="5193000"/>
              <a:ext cx="180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449520" y="5214960"/>
              <a:ext cx="180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272040" y="4656240"/>
              <a:ext cx="333360" cy="268200"/>
            </a:xfrm>
            <a:custGeom>
              <a:avLst/>
              <a:gdLst/>
              <a:ahLst/>
              <a:rect l="l" t="t" r="r" b="b"/>
              <a:pathLst>
                <a:path w="210" h="169">
                  <a:moveTo>
                    <a:pt x="112" y="0"/>
                  </a:moveTo>
                  <a:lnTo>
                    <a:pt x="210" y="169"/>
                  </a:lnTo>
                  <a:lnTo>
                    <a:pt x="0" y="169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272040" y="4656240"/>
              <a:ext cx="333360" cy="268200"/>
            </a:xfrm>
            <a:custGeom>
              <a:avLst/>
              <a:gdLst/>
              <a:ahLst/>
              <a:rect l="l" t="t" r="r" b="b"/>
              <a:pathLst>
                <a:path w="210" h="169">
                  <a:moveTo>
                    <a:pt x="112" y="0"/>
                  </a:moveTo>
                  <a:lnTo>
                    <a:pt x="210" y="169"/>
                  </a:lnTo>
                  <a:lnTo>
                    <a:pt x="0" y="169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ffffff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240080" y="5294520"/>
              <a:ext cx="2051280" cy="64908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319640" y="5394600"/>
              <a:ext cx="195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rsistentStud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057400" y="5294520"/>
              <a:ext cx="1581120" cy="64908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134800" y="5394600"/>
              <a:ext cx="1486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udentProx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4977-A9FC-4895-8B5A-39AB4B157A3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6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13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tailed Example:  The Observable layer of OCS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913360" y="4465800"/>
            <a:ext cx="1800" cy="3952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568600" y="4037040"/>
            <a:ext cx="1440" cy="8240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392640" y="4619520"/>
            <a:ext cx="159516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987800" y="4619520"/>
            <a:ext cx="1800" cy="2415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249800" y="4379760"/>
            <a:ext cx="1440" cy="239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113360" y="4379760"/>
            <a:ext cx="257040" cy="206640"/>
          </a:xfrm>
          <a:custGeom>
            <a:avLst/>
            <a:gdLst/>
            <a:ahLst/>
            <a:rect l="l" t="t" r="r" b="b"/>
            <a:pathLst>
              <a:path w="162" h="130">
                <a:moveTo>
                  <a:pt x="86" y="0"/>
                </a:moveTo>
                <a:lnTo>
                  <a:pt x="162" y="130"/>
                </a:lnTo>
                <a:lnTo>
                  <a:pt x="0" y="130"/>
                </a:lnTo>
                <a:lnTo>
                  <a:pt x="8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113360" y="4379760"/>
            <a:ext cx="257040" cy="206640"/>
          </a:xfrm>
          <a:custGeom>
            <a:avLst/>
            <a:gdLst/>
            <a:ahLst/>
            <a:rect l="l" t="t" r="r" b="b"/>
            <a:pathLst>
              <a:path w="162" h="130">
                <a:moveTo>
                  <a:pt x="86" y="0"/>
                </a:moveTo>
                <a:lnTo>
                  <a:pt x="162" y="130"/>
                </a:lnTo>
                <a:lnTo>
                  <a:pt x="0" y="130"/>
                </a:lnTo>
                <a:lnTo>
                  <a:pt x="86" y="0"/>
                </a:lnTo>
                <a:close/>
              </a:path>
            </a:pathLst>
          </a:custGeom>
          <a:solidFill>
            <a:srgbClr val="ffffff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392640" y="4619520"/>
            <a:ext cx="1440" cy="2415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343400" y="4869000"/>
            <a:ext cx="2058840" cy="39528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605840" y="4946760"/>
            <a:ext cx="1527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Observable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873080" y="4869000"/>
            <a:ext cx="2129040" cy="39528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221200" y="4946760"/>
            <a:ext cx="1466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Observable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321160" y="1917720"/>
            <a:ext cx="1355760" cy="49860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45280" y="2013120"/>
            <a:ext cx="1279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400" spc="-1" strike="noStrike">
                <a:solidFill>
                  <a:srgbClr val="000000"/>
                </a:solidFill>
                <a:latin typeface="Arial"/>
              </a:rPr>
              <a:t>Abstract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822320" y="1917720"/>
            <a:ext cx="1270080" cy="49860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844640" y="2013120"/>
            <a:ext cx="1218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400" spc="-1" strike="noStrike">
                <a:solidFill>
                  <a:srgbClr val="000000"/>
                </a:solidFill>
                <a:latin typeface="Arial"/>
              </a:rPr>
              <a:t>Abstract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675240" y="3873600"/>
            <a:ext cx="1063440" cy="49824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790080" y="3951360"/>
            <a:ext cx="971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Observ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981760" y="2424240"/>
            <a:ext cx="1440" cy="5666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845320" y="2424240"/>
            <a:ext cx="257040" cy="206280"/>
          </a:xfrm>
          <a:custGeom>
            <a:avLst/>
            <a:gdLst/>
            <a:ahLst/>
            <a:rect l="l" t="t" r="r" b="b"/>
            <a:pathLst>
              <a:path w="162" h="130">
                <a:moveTo>
                  <a:pt x="86" y="0"/>
                </a:moveTo>
                <a:lnTo>
                  <a:pt x="162" y="130"/>
                </a:lnTo>
                <a:lnTo>
                  <a:pt x="0" y="130"/>
                </a:lnTo>
                <a:lnTo>
                  <a:pt x="8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845320" y="2424240"/>
            <a:ext cx="257040" cy="206280"/>
          </a:xfrm>
          <a:custGeom>
            <a:avLst/>
            <a:gdLst/>
            <a:ahLst/>
            <a:rect l="l" t="t" r="r" b="b"/>
            <a:pathLst>
              <a:path w="162" h="130">
                <a:moveTo>
                  <a:pt x="86" y="0"/>
                </a:moveTo>
                <a:lnTo>
                  <a:pt x="162" y="130"/>
                </a:lnTo>
                <a:lnTo>
                  <a:pt x="0" y="130"/>
                </a:lnTo>
                <a:lnTo>
                  <a:pt x="86" y="0"/>
                </a:lnTo>
                <a:close/>
              </a:path>
            </a:pathLst>
          </a:custGeom>
          <a:solidFill>
            <a:srgbClr val="ffffff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036880" y="2424240"/>
            <a:ext cx="1440" cy="5490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900080" y="2424240"/>
            <a:ext cx="257400" cy="206280"/>
          </a:xfrm>
          <a:custGeom>
            <a:avLst/>
            <a:gdLst/>
            <a:ahLst/>
            <a:rect l="l" t="t" r="r" b="b"/>
            <a:pathLst>
              <a:path w="162" h="130">
                <a:moveTo>
                  <a:pt x="86" y="0"/>
                </a:moveTo>
                <a:lnTo>
                  <a:pt x="162" y="130"/>
                </a:lnTo>
                <a:lnTo>
                  <a:pt x="0" y="130"/>
                </a:lnTo>
                <a:lnTo>
                  <a:pt x="8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900080" y="2424240"/>
            <a:ext cx="257400" cy="206280"/>
          </a:xfrm>
          <a:custGeom>
            <a:avLst/>
            <a:gdLst/>
            <a:ahLst/>
            <a:rect l="l" t="t" r="r" b="b"/>
            <a:pathLst>
              <a:path w="162" h="130">
                <a:moveTo>
                  <a:pt x="86" y="0"/>
                </a:moveTo>
                <a:lnTo>
                  <a:pt x="162" y="130"/>
                </a:lnTo>
                <a:lnTo>
                  <a:pt x="0" y="130"/>
                </a:lnTo>
                <a:lnTo>
                  <a:pt x="86" y="0"/>
                </a:lnTo>
                <a:close/>
              </a:path>
            </a:pathLst>
          </a:custGeom>
          <a:solidFill>
            <a:srgbClr val="ffffff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191360" y="1917720"/>
            <a:ext cx="1716120" cy="49860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7247880" y="1995480"/>
            <a:ext cx="1689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ConnectionTo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286240" y="2998800"/>
            <a:ext cx="2060640" cy="145908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295960" y="3351240"/>
            <a:ext cx="20415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618160" y="3076560"/>
            <a:ext cx="1416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Adaptable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428800" y="3402000"/>
            <a:ext cx="1098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lientConn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428800" y="3608280"/>
            <a:ext cx="1283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lientDisconn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431320" y="3814920"/>
            <a:ext cx="918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erverStar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429880" y="4019400"/>
            <a:ext cx="995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erverStopp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427000" y="4226040"/>
            <a:ext cx="1826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handleMessageFrom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998640" y="2981160"/>
            <a:ext cx="2128680" cy="104796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008000" y="3333600"/>
            <a:ext cx="210996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415520" y="3059280"/>
            <a:ext cx="1355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Adaptable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137240" y="3386160"/>
            <a:ext cx="1532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onnectionEstablis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138680" y="3591000"/>
            <a:ext cx="1216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onnectionClo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138320" y="3797280"/>
            <a:ext cx="18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handleMessageFrom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684840" y="2166840"/>
            <a:ext cx="49860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066080" y="1944720"/>
            <a:ext cx="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066080" y="1944720"/>
            <a:ext cx="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066080" y="1944720"/>
            <a:ext cx="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066080" y="1944720"/>
            <a:ext cx="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066080" y="1944720"/>
            <a:ext cx="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066080" y="1944720"/>
            <a:ext cx="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421D-10AE-46BB-8F15-B1218CF42535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Observable layer of OCSF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" descr=""/>
          <p:cNvPicPr/>
          <p:nvPr/>
        </p:nvPicPr>
        <p:blipFill>
          <a:blip r:embed="rId1"/>
          <a:stretch/>
        </p:blipFill>
        <p:spPr>
          <a:xfrm>
            <a:off x="1981080" y="1379520"/>
            <a:ext cx="5410440" cy="428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E8E9-B14E-43BC-B551-B4E4BA0F66C6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6.2 The Abstraction-Occurr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x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in a domain model you find a set of related object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rences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embers of such a set share common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 algn="just"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also differ from each other in important way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the best way to represent such sets of occurrences in a class diagram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ce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want to represent the members of each set of occurrences without duplicating the common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B427-829B-47FE-AB3D-183809D24D4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407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observable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1371600" y="1143000"/>
            <a:ext cx="82296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Create a class that implements the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serve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erf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Register it as an observer of the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servabl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MessageHandler(Observable cli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ient.addObserver(thi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Define the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pda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thod in the new class: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update(Observable obs, Object messa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(message instanceOf SomeCla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process the mes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B8AA-BD3A-49E2-80D8-8BC3C1E642CB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6.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Difficulties and Risks When Creating Class Diagra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terns are not a panacea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ever you see an indication that a pattern should be applied, you might be tempted to blindly apply the pattern. However this can lead to unwise design decis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ways understand in depth the forces that need to be balanced, and when other patterns better balance the forc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re you justify each design decision careful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B577-A2E7-4170-9C5B-901B46DAFC6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ifficulties and Risks When Creating Class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patterns is h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a good pattern takes considerable wor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oor pattern can be hard to apply correc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not write patterns for others to use until you have considerable experience both in software design and in the use of patter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e an in-depth course on patte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ratively refine your patterns, and have them peer reviewed at each iteratio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0F2E-797A-4543-ADF8-AEAD47196B9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bstraction-Occurr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98680" y="2684520"/>
            <a:ext cx="1284480" cy="98892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08400" y="3057480"/>
            <a:ext cx="122400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449160" y="2774880"/>
            <a:ext cx="86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TV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65720" y="3159000"/>
            <a:ext cx="951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series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16840" y="3400560"/>
            <a:ext cx="70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produc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84680" y="2684520"/>
            <a:ext cx="1444680" cy="123012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94400" y="3057480"/>
            <a:ext cx="142380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71320" y="2774880"/>
            <a:ext cx="788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Epis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803200" y="3159000"/>
            <a:ext cx="604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805360" y="3400560"/>
            <a:ext cx="27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49560" y="3643200"/>
            <a:ext cx="1114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storySynop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571640" y="3178080"/>
            <a:ext cx="100332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38880" y="291780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38880" y="291780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38880" y="291780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38880" y="291780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38880" y="291780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38880" y="291780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84680" y="1838160"/>
            <a:ext cx="1505160" cy="58608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29760" y="1928880"/>
            <a:ext cx="1352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«Occurrence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117960" y="1838160"/>
            <a:ext cx="1465200" cy="58608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43960" y="1928880"/>
            <a:ext cx="135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«Abstraction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92520" y="2130480"/>
            <a:ext cx="98280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38880" y="187020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38880" y="187020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38880" y="187020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38880" y="187020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438880" y="187020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438880" y="187020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57480" y="4094280"/>
            <a:ext cx="1525680" cy="171432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68640" y="4468680"/>
            <a:ext cx="148284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71120" y="4186080"/>
            <a:ext cx="41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276720" y="4568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76360" y="4811760"/>
            <a:ext cx="506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auth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84680" y="4094280"/>
            <a:ext cx="1605240" cy="74772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94400" y="4468680"/>
            <a:ext cx="156348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777280" y="4186080"/>
            <a:ext cx="1104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LibraryI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51720" y="4568760"/>
            <a:ext cx="1315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barCode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4571640" y="4589640"/>
            <a:ext cx="100332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38880" y="432756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38880" y="432756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38880" y="432756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38880" y="432756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38880" y="432756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38880" y="432756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27400" y="5052960"/>
            <a:ext cx="328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isb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24880" y="5294160"/>
            <a:ext cx="1230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publication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25240" y="5537160"/>
            <a:ext cx="1131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libOfCong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A5C0-C802-498F-917B-31D2E20FE02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bstraction-Occurr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patterns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219320" y="2073240"/>
            <a:ext cx="7619760" cy="30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739B-0BC7-46A6-BF6A-33D27E93326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bstraction-Occur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quare varia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719440" y="1830240"/>
            <a:ext cx="1878120" cy="81288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30600" y="2225520"/>
            <a:ext cx="185580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78200" y="1927080"/>
            <a:ext cx="1625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Arial"/>
              </a:rPr>
              <a:t>ScheduledTrai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03120" y="2332080"/>
            <a:ext cx="649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49800" y="1830240"/>
            <a:ext cx="1536840" cy="81288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60960" y="2225520"/>
            <a:ext cx="151452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46640" y="1927080"/>
            <a:ext cx="1358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Arial"/>
              </a:rPr>
              <a:t>SpecificTrai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1880" y="2332080"/>
            <a:ext cx="374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4586040" y="2354400"/>
            <a:ext cx="55404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995360" y="2076480"/>
            <a:ext cx="7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95360" y="2076480"/>
            <a:ext cx="7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25920" y="2652840"/>
            <a:ext cx="214200" cy="318960"/>
          </a:xfrm>
          <a:custGeom>
            <a:avLst/>
            <a:gdLst/>
            <a:ahLst/>
            <a:rect l="l" t="t" r="r" b="b"/>
            <a:pathLst>
              <a:path w="135" h="201">
                <a:moveTo>
                  <a:pt x="135" y="107"/>
                </a:moveTo>
                <a:lnTo>
                  <a:pt x="68" y="201"/>
                </a:lnTo>
                <a:lnTo>
                  <a:pt x="0" y="107"/>
                </a:lnTo>
                <a:lnTo>
                  <a:pt x="68" y="0"/>
                </a:lnTo>
                <a:lnTo>
                  <a:pt x="135" y="10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25920" y="2652840"/>
            <a:ext cx="214200" cy="318960"/>
          </a:xfrm>
          <a:custGeom>
            <a:avLst/>
            <a:gdLst/>
            <a:ahLst/>
            <a:rect l="l" t="t" r="r" b="b"/>
            <a:pathLst>
              <a:path w="135" h="201">
                <a:moveTo>
                  <a:pt x="135" y="107"/>
                </a:moveTo>
                <a:lnTo>
                  <a:pt x="68" y="201"/>
                </a:lnTo>
                <a:lnTo>
                  <a:pt x="0" y="107"/>
                </a:lnTo>
                <a:lnTo>
                  <a:pt x="68" y="0"/>
                </a:lnTo>
                <a:lnTo>
                  <a:pt x="135" y="107"/>
                </a:lnTo>
                <a:close/>
              </a:path>
            </a:pathLst>
          </a:custGeom>
          <a:solidFill>
            <a:srgbClr val="ffffff"/>
          </a:solidFill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2949480"/>
            <a:ext cx="1440" cy="3207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652200" y="3078000"/>
            <a:ext cx="7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545080" y="2652840"/>
            <a:ext cx="212760" cy="339480"/>
          </a:xfrm>
          <a:custGeom>
            <a:avLst/>
            <a:gdLst/>
            <a:ahLst/>
            <a:rect l="l" t="t" r="r" b="b"/>
            <a:pathLst>
              <a:path w="134" h="214">
                <a:moveTo>
                  <a:pt x="134" y="107"/>
                </a:moveTo>
                <a:lnTo>
                  <a:pt x="67" y="214"/>
                </a:lnTo>
                <a:lnTo>
                  <a:pt x="0" y="107"/>
                </a:lnTo>
                <a:lnTo>
                  <a:pt x="67" y="0"/>
                </a:lnTo>
                <a:lnTo>
                  <a:pt x="134" y="10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545080" y="2652840"/>
            <a:ext cx="212760" cy="339480"/>
          </a:xfrm>
          <a:custGeom>
            <a:avLst/>
            <a:gdLst/>
            <a:ahLst/>
            <a:rect l="l" t="t" r="r" b="b"/>
            <a:pathLst>
              <a:path w="134" h="214">
                <a:moveTo>
                  <a:pt x="134" y="107"/>
                </a:moveTo>
                <a:lnTo>
                  <a:pt x="67" y="214"/>
                </a:lnTo>
                <a:lnTo>
                  <a:pt x="0" y="107"/>
                </a:lnTo>
                <a:lnTo>
                  <a:pt x="67" y="0"/>
                </a:lnTo>
                <a:lnTo>
                  <a:pt x="134" y="107"/>
                </a:lnTo>
                <a:close/>
              </a:path>
            </a:pathLst>
          </a:custGeom>
          <a:solidFill>
            <a:srgbClr val="ffffff"/>
          </a:solidFill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651640" y="2949480"/>
            <a:ext cx="1440" cy="3412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571720" y="3056040"/>
            <a:ext cx="7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719440" y="3281400"/>
            <a:ext cx="2027160" cy="108900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30600" y="3676680"/>
            <a:ext cx="198252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77840" y="3379680"/>
            <a:ext cx="1482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Arial"/>
              </a:rPr>
              <a:t>ScheduledLe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49800" y="3281400"/>
            <a:ext cx="1536840" cy="106848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60960" y="3676680"/>
            <a:ext cx="151452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46280" y="3379680"/>
            <a:ext cx="1215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Arial"/>
              </a:rPr>
              <a:t>SpecificLe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1240" y="3782880"/>
            <a:ext cx="1287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actualDepTim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4735080" y="3805200"/>
            <a:ext cx="40500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90680" y="3527280"/>
            <a:ext cx="7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0880" y="4038480"/>
            <a:ext cx="119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actualArrTim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00520" y="3782880"/>
            <a:ext cx="1649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scheduledDepTim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9800" y="4038480"/>
            <a:ext cx="1553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scheduledArrTim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44960" y="4778280"/>
            <a:ext cx="1068120" cy="44928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305880" y="4875120"/>
            <a:ext cx="733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052880" y="4359240"/>
            <a:ext cx="1440" cy="4255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3284640" y="4359240"/>
            <a:ext cx="1440" cy="4255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87040" y="4529160"/>
            <a:ext cx="470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79240" y="4529160"/>
            <a:ext cx="9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destin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369960" y="4379760"/>
            <a:ext cx="7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03480" y="4379760"/>
            <a:ext cx="7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EB96-B716-4BB6-BAE7-BD01EB1F301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6.3 The General Hierarch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90360" y="9903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x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jects in a hierarchy can have one or more objects above them (superiors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 algn="just"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one or more objects below them (subordinates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objects cannot have any subordinat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do y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represen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hierarchy of objects, in which some objects cannot have subordinates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ce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want a flexible way of representing the hierarch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 algn="just"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prevents certain objects from having subordin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45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the objects have many common properties and operati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8812-48CF-4C53-98FD-7B03B08A7FB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l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596360" y="1436760"/>
            <a:ext cx="1440" cy="903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69040" y="1436760"/>
            <a:ext cx="132732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25920" y="1436760"/>
            <a:ext cx="1043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«subordinate»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356880" y="1185840"/>
            <a:ext cx="7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637240" y="2214720"/>
            <a:ext cx="138888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26120" y="2214720"/>
            <a:ext cx="1800" cy="1476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14800" y="1152360"/>
            <a:ext cx="1244880" cy="61128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07840" y="1249200"/>
            <a:ext cx="784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Arial"/>
              </a:rPr>
              <a:t>«Node»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899320" y="2371680"/>
            <a:ext cx="1771560" cy="61128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972040" y="2467080"/>
            <a:ext cx="1674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Arial"/>
              </a:rPr>
              <a:t>«SuperiorNode»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76520" y="2371680"/>
            <a:ext cx="2171880" cy="61128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47800" y="2467080"/>
            <a:ext cx="2096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Arial"/>
              </a:rPr>
              <a:t>«NonSuperiorNode»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678120" y="4041720"/>
            <a:ext cx="141156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089680" y="4041720"/>
            <a:ext cx="1440" cy="8413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62360" y="3747960"/>
            <a:ext cx="104760" cy="27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767400" y="3790800"/>
            <a:ext cx="7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121280" y="3600360"/>
            <a:ext cx="841320" cy="3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41800" y="3622680"/>
            <a:ext cx="799920" cy="27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38000" y="3811680"/>
            <a:ext cx="786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supervis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60720" y="4913280"/>
            <a:ext cx="1244520" cy="61128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01920" y="5008680"/>
            <a:ext cx="890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3151080" y="4735440"/>
            <a:ext cx="2232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151080" y="4735440"/>
            <a:ext cx="1800" cy="1684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24240" y="3736800"/>
            <a:ext cx="1244520" cy="61128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65360" y="3811680"/>
            <a:ext cx="1023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Arial"/>
              </a:rPr>
              <a:t>Employe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29000" y="4913280"/>
            <a:ext cx="1244520" cy="61128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648160" y="5008680"/>
            <a:ext cx="1131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Arial"/>
              </a:rPr>
              <a:t>Technicia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76400" y="4913280"/>
            <a:ext cx="1244520" cy="61128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48120" y="5008680"/>
            <a:ext cx="986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Arial"/>
              </a:rPr>
              <a:t>Secretar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73400" y="4336920"/>
            <a:ext cx="1440" cy="3985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982960" y="4336920"/>
            <a:ext cx="315720" cy="250920"/>
          </a:xfrm>
          <a:custGeom>
            <a:avLst/>
            <a:gdLst/>
            <a:ahLst/>
            <a:rect l="l" t="t" r="r" b="b"/>
            <a:pathLst>
              <a:path w="199" h="158">
                <a:moveTo>
                  <a:pt x="106" y="0"/>
                </a:moveTo>
                <a:lnTo>
                  <a:pt x="199" y="158"/>
                </a:lnTo>
                <a:lnTo>
                  <a:pt x="0" y="158"/>
                </a:lnTo>
                <a:lnTo>
                  <a:pt x="10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82960" y="4336920"/>
            <a:ext cx="315720" cy="250920"/>
          </a:xfrm>
          <a:custGeom>
            <a:avLst/>
            <a:gdLst/>
            <a:ahLst/>
            <a:rect l="l" t="t" r="r" b="b"/>
            <a:pathLst>
              <a:path w="199" h="158">
                <a:moveTo>
                  <a:pt x="106" y="0"/>
                </a:moveTo>
                <a:lnTo>
                  <a:pt x="199" y="158"/>
                </a:lnTo>
                <a:lnTo>
                  <a:pt x="0" y="158"/>
                </a:lnTo>
                <a:lnTo>
                  <a:pt x="106" y="0"/>
                </a:lnTo>
                <a:close/>
              </a:path>
            </a:pathLst>
          </a:custGeom>
          <a:solidFill>
            <a:srgbClr val="ffffff"/>
          </a:solidFill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73400" y="4735440"/>
            <a:ext cx="117936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54560" y="4735440"/>
            <a:ext cx="1440" cy="1476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1866600" y="4735440"/>
            <a:ext cx="130644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866960" y="4735440"/>
            <a:ext cx="1440" cy="1476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637240" y="2025720"/>
            <a:ext cx="1440" cy="1681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68760" y="1773360"/>
            <a:ext cx="316080" cy="252360"/>
          </a:xfrm>
          <a:custGeom>
            <a:avLst/>
            <a:gdLst/>
            <a:ahLst/>
            <a:rect l="l" t="t" r="r" b="b"/>
            <a:pathLst>
              <a:path w="199" h="159">
                <a:moveTo>
                  <a:pt x="106" y="0"/>
                </a:moveTo>
                <a:lnTo>
                  <a:pt x="199" y="159"/>
                </a:lnTo>
                <a:lnTo>
                  <a:pt x="0" y="159"/>
                </a:lnTo>
                <a:lnTo>
                  <a:pt x="10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468760" y="1773360"/>
            <a:ext cx="316080" cy="252360"/>
          </a:xfrm>
          <a:custGeom>
            <a:avLst/>
            <a:gdLst/>
            <a:ahLst/>
            <a:rect l="l" t="t" r="r" b="b"/>
            <a:pathLst>
              <a:path w="199" h="159">
                <a:moveTo>
                  <a:pt x="106" y="0"/>
                </a:moveTo>
                <a:lnTo>
                  <a:pt x="199" y="159"/>
                </a:lnTo>
                <a:lnTo>
                  <a:pt x="0" y="159"/>
                </a:lnTo>
                <a:lnTo>
                  <a:pt x="106" y="0"/>
                </a:lnTo>
                <a:close/>
              </a:path>
            </a:pathLst>
          </a:custGeom>
          <a:solidFill>
            <a:srgbClr val="ffffff"/>
          </a:solidFill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4141800" y="2214720"/>
            <a:ext cx="149544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141800" y="2214720"/>
            <a:ext cx="1440" cy="1476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287480" y="213048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0..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759920" y="465120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0..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185320" y="4041720"/>
            <a:ext cx="71568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921880" y="4041720"/>
            <a:ext cx="1440" cy="8413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290080" y="3747960"/>
            <a:ext cx="106200" cy="27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274600" y="3790800"/>
            <a:ext cx="7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511120" y="3789360"/>
            <a:ext cx="613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contai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751880" y="4913280"/>
            <a:ext cx="1244520" cy="61128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973640" y="5008680"/>
            <a:ext cx="950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Arial"/>
              </a:rPr>
              <a:t>Director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7468920" y="4735440"/>
            <a:ext cx="2052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961320" y="4735440"/>
            <a:ext cx="1440" cy="1684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383160" y="3736800"/>
            <a:ext cx="1792440" cy="61128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522120" y="3811680"/>
            <a:ext cx="1585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Arial"/>
              </a:rPr>
              <a:t>FileSystemIte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657840" y="4913280"/>
            <a:ext cx="590760" cy="61128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29560" y="5008680"/>
            <a:ext cx="372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489800" y="4336920"/>
            <a:ext cx="1440" cy="3985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321680" y="4336920"/>
            <a:ext cx="315720" cy="250920"/>
          </a:xfrm>
          <a:custGeom>
            <a:avLst/>
            <a:gdLst/>
            <a:ahLst/>
            <a:rect l="l" t="t" r="r" b="b"/>
            <a:pathLst>
              <a:path w="199" h="158">
                <a:moveTo>
                  <a:pt x="106" y="0"/>
                </a:moveTo>
                <a:lnTo>
                  <a:pt x="199" y="158"/>
                </a:lnTo>
                <a:lnTo>
                  <a:pt x="0" y="158"/>
                </a:lnTo>
                <a:lnTo>
                  <a:pt x="10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321680" y="4336920"/>
            <a:ext cx="315720" cy="250920"/>
          </a:xfrm>
          <a:custGeom>
            <a:avLst/>
            <a:gdLst/>
            <a:ahLst/>
            <a:rect l="l" t="t" r="r" b="b"/>
            <a:pathLst>
              <a:path w="199" h="158">
                <a:moveTo>
                  <a:pt x="106" y="0"/>
                </a:moveTo>
                <a:lnTo>
                  <a:pt x="199" y="158"/>
                </a:lnTo>
                <a:lnTo>
                  <a:pt x="0" y="158"/>
                </a:lnTo>
                <a:lnTo>
                  <a:pt x="106" y="0"/>
                </a:lnTo>
                <a:close/>
              </a:path>
            </a:pathLst>
          </a:custGeom>
          <a:solidFill>
            <a:srgbClr val="ffffff"/>
          </a:solidFill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964200" y="4735440"/>
            <a:ext cx="117792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145360" y="4735440"/>
            <a:ext cx="1800" cy="1476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487360" y="465120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0..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796240" y="4567320"/>
            <a:ext cx="231840" cy="315720"/>
          </a:xfrm>
          <a:custGeom>
            <a:avLst/>
            <a:gdLst/>
            <a:ahLst/>
            <a:rect l="l" t="t" r="r" b="b"/>
            <a:pathLst>
              <a:path w="146" h="199">
                <a:moveTo>
                  <a:pt x="146" y="106"/>
                </a:moveTo>
                <a:lnTo>
                  <a:pt x="66" y="199"/>
                </a:lnTo>
                <a:lnTo>
                  <a:pt x="0" y="106"/>
                </a:lnTo>
                <a:lnTo>
                  <a:pt x="66" y="0"/>
                </a:lnTo>
                <a:lnTo>
                  <a:pt x="146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796240" y="4595760"/>
            <a:ext cx="231840" cy="316080"/>
          </a:xfrm>
          <a:custGeom>
            <a:avLst/>
            <a:gdLst/>
            <a:ahLst/>
            <a:rect l="l" t="t" r="r" b="b"/>
            <a:pathLst>
              <a:path w="146" h="199">
                <a:moveTo>
                  <a:pt x="146" y="106"/>
                </a:moveTo>
                <a:lnTo>
                  <a:pt x="66" y="199"/>
                </a:lnTo>
                <a:lnTo>
                  <a:pt x="0" y="106"/>
                </a:lnTo>
                <a:lnTo>
                  <a:pt x="66" y="0"/>
                </a:lnTo>
                <a:lnTo>
                  <a:pt x="146" y="106"/>
                </a:lnTo>
                <a:close/>
              </a:path>
            </a:pathLst>
          </a:custGeom>
          <a:solidFill>
            <a:srgbClr val="ffffff"/>
          </a:solidFill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627E-6474-4D50-AE02-89A94F56BD8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30T16:59:35Z</dcterms:created>
  <dc:creator>Timothy C. Lethbridge</dc:creator>
  <dc:description/>
  <dc:language>en-US</dc:language>
  <cp:lastModifiedBy>Timothy C. Lethbridge</cp:lastModifiedBy>
  <dcterms:modified xsi:type="dcterms:W3CDTF">2001-09-14T20:35:52Z</dcterms:modified>
  <cp:revision>99</cp:revision>
  <dc:subject/>
  <dc:title>SEG 2100 Software Design II</dc:title>
</cp:coreProperties>
</file>