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993-6882-43DE-B1C7-0DA6FA21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ADC-64E9-45E3-AA11-4D1185A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A16-FE56-4072-900C-F0A1F227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75C-7365-4837-8390-9A6E34B8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CC6-BB04-4F8C-A7E9-36237267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D7A-0087-40CA-90E2-5901E054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EF1-A1B7-4C8E-86B5-A0493AD1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307-0E9D-421C-81FA-300849A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100-6FEB-4EE0-9557-8232CC46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B04-72CA-41C7-B993-75CD11D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5D5-7DDF-44C8-A79B-08C51B4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88D-8E39-48FE-B338-98F10D53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5A80-E85D-4798-BC71-43ACC1ABB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ased-relea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33376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88A-060A-4819-A126-5D7AB5D947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ased-relea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troduces the notion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requirements gathering and planning, the project should be broken into separate subprojects,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hase can be released to customers when rea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the system will be available earlier than when using a strict waterfall approac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tinues to suggest that all requirements be finalized at the start of develop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F4A-1747-47CD-8C6F-5F07F4AC94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616040"/>
            <a:ext cx="6400800" cy="37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2FF-C429-431A-BF53-758ACD8381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licitly embraces prototyping and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ach to software developmen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by developing a small prot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ed by a mini-waterfall process, primarily to gather requir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the first prototype is re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bsequent loops, the project team performs further requirements, design, implementation and re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thing to do before embarking on each new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isk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is simply a type of on-going develop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BBB-60F9-44F9-A727-3E72643C7E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volutiona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71520" y="2743200"/>
            <a:ext cx="6272280" cy="13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380-D1E7-468A-AB4E-92BC4082F3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volutiona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s software development as a series of hills, each representing a separate loop of the spir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at loops, or releases, tend to overlap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it clear that development work tends to reach a peak, at around the time of the deadline for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at each prototype or release can t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mounts of time to deliv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ing amounts of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F68-C124-4EDD-A042-F4B63232CB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current engineering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1522440"/>
            <a:ext cx="5943600" cy="37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179-F2DF-44B2-AABE-C596C0B8EA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current engineer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licitly accounts for the divide and conquer princip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eam works on its own component, typically following a spiral or evolutionary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has to be some initial planning, and periodic integ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46E-B7F9-4780-8CC8-4CF52E00E8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a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waterfal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hased-release mod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doing some initial high-level analysis, and then dividing the project into rele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spir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prototyping and risk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evolutionary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varying amounts of time and work, with overlapping rele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concurrent engineer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breaking the system down into components and developing them in parallel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822-3F41-4F78-91EE-35563F701C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ally project managers should set aside some time to re-engineer part or all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of this work can vary considerab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ing up the code to make it more read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ly replacing a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factor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desig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the objective of a re-engineering activity is to increase maintainabilit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C77-774E-459F-8CA6-C3C49B98E2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1 What is Project Managemen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encompasses all the activities needed to plan and execute a projec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ing what needs to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ng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ere are suitable people to undertake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responsib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rrangement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4D6-DFA6-4A96-A71C-CF86B643A9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3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how much software-engineering time will be required to do some w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ps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in time from the start date to the end date of a task or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abour used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-month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-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an estimate of development effort to an amount of mon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ltiply it b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ed average 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) of employing a software engineer for a month (or a day)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EA8-619A-43B1-8686-116964FB94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1: Divide and conqu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better estimate, you should divide the project up into individual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divide each subsystem further into the activities that will be required to develop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, you make a series of detailed estimates for each individual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um the results to arrive at the grand total estimate for the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EC5-29C8-4F91-ADB4-57B59D45A9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2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all activities when making estimat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ime required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 activities must be taken into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user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AA0-EC5E-4DF1-816C-9B3ED9D2DE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3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your estimates on past experience combined with knowledge of the current projec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developing a project that has many similarities with a past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expect it to take a similar amount of wor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your estimates o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judg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your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ic mode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in the software industry as a whole by analyzing a wide range of project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ake into account various aspects of a project’s size and complexity, and provide formulas to compute anticipated co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237-2EC4-4711-B947-916882DFD4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you to systematically estimate development effor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an estimate of some other factor that you can measure, or that is easier to estim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distinc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lasses in the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widgets in the prototype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timate of the number of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8B0-374C-4505-B36A-C6FFA2AF5D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lgorithmic model uses a formula like the follow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Po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743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= a + bN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4191120"/>
            <a:ext cx="6324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B6B-2E1C-489A-BDFA-307F012DDF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4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account for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extrapolating from other project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oftware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velopment processes and maturit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stomers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chedule de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echnical complexity of th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levels of requirement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6A8-B740-4F2A-90E1-C404F92B76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5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e the worst case and plan for contingenci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 most critical use case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oject runs into difficulty, then the critical features are more likely to have been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ree estim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tic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ing a everything going perf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ing for typical things going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sim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for everything that could go w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F7C-B710-45CC-9F91-BAD3622BFF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6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multiple independent estim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everal different techniques and compare the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are discrepancies, analyze your calculations to discover what factors causing the dif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elphi techn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individuals initially make cost estimates in priv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hen share their estimates to discover the discrepanc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peatedly adjusts his or her estimates until a consensus is reach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F47-D08A-4620-9BEA-0D1C9CB1FA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7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and refine estimates as work progre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add detai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quirement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isk management process uncover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7BF-A08F-4774-91ED-490FC12803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Project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a technical l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ing and approving decisions made by ot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morale and supporting 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and control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rdinating the work with managers of other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lly striving to improve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BE9-A101-4B63-BF25-6881661D3A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4 Building Software Engineering Te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is a human proces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appropriate people for a team, and assigning roles and responsibilities to the team members, is therefore an important project management sk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teams can be organized in many different 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3968640"/>
            <a:ext cx="739116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E14-B047-4B7D-BB35-07F73765F5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oless tea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ch a team everybody is equal, and the team works together to achieve a common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are made by consens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uited to difficult projects with many technical challeng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942-140A-462D-84CC-A0215FDD44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manager-subordinate struc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ports to a manager and is responsible for performing the tasks delegated by tha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large projects with a strict schedule where everybody is well-trained and has a well-defined r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since everybody is only responsible for their own work, problems may go unnotic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5AF-A423-4A2C-90D3-3B98A1D503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programmer tea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way between egoless and hierarchi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ief programmer leads and guides the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or she consults with, and relies on, individual specialis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1EE-3F14-407C-8B50-44D7DB3416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an effective size for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given estimated development effort, in person months, there is an optimal team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ing the size of a team will not halve the development 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s and teams should be sized such that the total amount of required knowledge and exchange of information is reduc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given project or project iteration, the number of people on a team will not be consta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not generally add people if you get behind schedule, in the hope of catching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571-7635-403C-80EE-914632EE4F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 needed on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management and build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and third-party software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ocumentation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AAE-B1E1-4C88-8EA2-2FE2A00F75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5 Project Scheduling and Tr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ci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at sequence a set of activities will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y should start and be comple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termining how well you are sticking to the cost estimate and schedu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6B0-6D65-44CA-99A5-0F661EDC9A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T chart shows the sequence in which tasks must be complet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ach node of a PERT chart, you typically show the elapsed time and effort estimat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pa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the minimum time in which it is possible to complete the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C1B-9302-459F-B1BD-BA0B0918B8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 PER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30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EA8-2632-458F-ACC6-652E96E9091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antt chart is used to graphically present the start and end dates of each software engineering ta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xis show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axis shows the activities that will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ck bars are the top-level tas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hite bars are sub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monds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deadline dates, at which specific events may oc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5FC-A336-4B2F-97E5-50EED2A1E4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2 Software Process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process models are general approaches for organizing a project into activiti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 project manager and his or her team to de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ork should be d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at sequence to perform the 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s should be seen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s to think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t rigid prescriptions of the way to do th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ject ends up with its own unique pla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987-4572-4868-9968-C3E2D77C13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925040" cy="31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5DF-04E5-489B-AEDE-0DC5F068D71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n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ned val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work completed, measured according to the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ort that the work was supposed to cons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ed cost of work perform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ach task is completed, the number of person-months originally planned for that task is added to the earned value of the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266-0690-4C07-8F2D-62106D8499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ned value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arned value chart has three curv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dgeted cost of the work schedu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ned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cost of the work performed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FD6-3F1F-4AD7-877E-9B9CA89078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n earned valu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001880"/>
            <a:ext cx="6629400" cy="51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942-0AFF-405D-80EC-0C86C5748FB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6 Contents of a Project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s to be u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s and planned rel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s and challe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stim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nd milest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91E-FA69-4704-A0C9-C85EA37AB88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7 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ly estimating costs is a constant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cost estimation guidelin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 difficult to measure progress and meet dead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your cost estimation skills so as to account for the kinds of problems that may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closer relationship with other members of the te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realistic in initial requirements gathering, and follow an iterative appro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arned value charts to monitor prog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ECF-AE92-4BAC-896F-CF8EB2C4A73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ifficult to deal with lack of human resources or technology needed to successfully run a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etermining the requirements and the project plan, take into consideration the resources avail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not find skilled people or suitable technology then you must limit the scope of your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2B4-D342-4899-8624-8E20A675E80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 effectively in a large project is h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ourses in communication, both written and o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how to run effective meet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what information everybody should have, and make sure they have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hat project information is readily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‘groupware’ technology to help people exchange the information they need to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A42-2121-4758-8C5A-0A9DBE2928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obtain agreement and commitment from ot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ourses in negotiating skills and leadersh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everybody underst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ition of everybody el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s and benefits of each altern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ionale behind any compromi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everybody’s proposed responsibility is clearly expres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to everybody’s opinion, but take assertive action, when needed, to ensure progress occu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35B-BABF-449F-AEF4-2C2B994673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portunis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919840" cy="131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DB7-8B5E-4942-8827-46DA3FE413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portunis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what occurs when an organization does not follow  good engineering practi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acknowledge the importance of working out the requirements and the design before implementing a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software deteriorates faster if it is not well design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re are no plans, there is nothing to aim towar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explicit recognition of the need for systematic testing and other forms of quality assur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problems make the cost of developing and maintaining software very hi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ED2-C1F4-4E66-880D-275601C6B7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551480" cy="46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B13-7367-40FB-9EF9-AA216B25B5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ic way of looking at S.E. that accounts for the importance of requirements, design and quality assur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suggests that software engineers should work in a series of sta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completing each stage, they should perform quality assurance (verification and validatio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fall model also recognizes, to a limited extent, that you sometimes have to step back to earlier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3B6-5468-4396-8867-2ACDC73648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tions of 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implies that you should attempt to complete a given stage before moving on to the nex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ccount for the fact that requirements constantly chan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so means that customers can not use anything until the entire system is comple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makes no allowances for prototy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mplies that you can get the requirements right by simply writing them down and reviewing th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implies that once the product is finished, everything else is mainten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246-81C0-44E9-BAF8-0BF4F04056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4:50:21Z</dcterms:created>
  <dc:creator>Robert Laganiere</dc:creator>
  <dc:description/>
  <dc:language>en-US</dc:language>
  <cp:lastModifiedBy>Timothy C. Lethbridge</cp:lastModifiedBy>
  <cp:lastPrinted>2001-08-30T21:48:01Z</cp:lastPrinted>
  <dcterms:modified xsi:type="dcterms:W3CDTF">2001-09-14T20:37:42Z</dcterms:modified>
  <cp:revision>18</cp:revision>
  <dc:subject/>
  <dc:title>PowerPoint Presentation</dc:title>
</cp:coreProperties>
</file>