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AC8B-92C1-4181-B64C-50DCC318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41F1-999A-4312-810B-C580BB55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D30-95AD-41C3-8561-64EC5727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585-D484-4E21-BC9A-565A73DA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B71-5791-48BC-82A9-729D1FC3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00BD-6F7A-4DE3-B4A5-336FE291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727-B627-464F-BE8C-CD9387F4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C3F-C369-4612-AC62-200BA65C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8C65-7783-45CB-95EB-0D7D37BC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1C5D-3EE1-4443-9F53-191FED7B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4741-5828-4ABD-A26C-5B766551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026-17FF-48B7-9111-A82CD29A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F416-122C-41FD-97C0-989EAE31F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90440" y="1359000"/>
            <a:ext cx="8318520" cy="5537160"/>
            <a:chOff x="190440" y="1359000"/>
            <a:chExt cx="8318520" cy="553716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190440" y="5397480"/>
              <a:ext cx="1511280" cy="14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1701720" y="6235560"/>
              <a:ext cx="68072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4"/>
            <a:stretch/>
          </p:blipFill>
          <p:spPr>
            <a:xfrm>
              <a:off x="812880" y="1359000"/>
              <a:ext cx="127080" cy="40384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2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Object Orient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 Instanc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iables defined inside a class corresponding to data present in each inst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eOf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 to other important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vi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rsesT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on these in Chapter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F0F-6163-406A-B786-A4BE023EC10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 vs.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varia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refer to different objects at different points i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object can be referred to by several different variables at the same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a varia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s what classes of objects it may cont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C988-948A-496A-9BE7-07BAC612A99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variable’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 is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ll instances of a clas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called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one instance sets the value of a class variable, then all the other instances see the same changed valu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variables are useful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 ‘constant’ values (e.g. P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up tables and similar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tion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over-use class variab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BC40-8C65-4771-8CF1-367F23D84E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4 Methods, Operations and Poly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io_x001d_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igher-level procedural abstr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specifi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type of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of any code which implements that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calculating area (in gene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BC5-CC84-408B-B604-162C89A757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, Operations and Poly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cedural abstraction used to implement the behaviour of a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different classes can have methods with the sam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implement the same abstract operation in ways suitable to each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, calculating area in a rectangle is done differently from in a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25AA-7C38-44BA-9E2A-7611E8AF144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perty of object oriented software by which an abstract operation may be performed in different ways in different clas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at there be multiple methods of the sam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oice of which one to execute depends on the object that is in 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s the need for programmers to code man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-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02B2-52C8-482C-81D9-DE952D10046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5 Organizing Classes into Inheritance Hierarc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ercla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 features common to a set of sub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heritance hierarch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the relationships among superclasses and sub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iangle show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ne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lic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ession by all subclasses of features defined in its super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D41-2689-4F6F-AE9F-657B397ED27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Inheritance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19320" y="1143000"/>
          <a:ext cx="7924680" cy="295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792468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472428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lic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ession by all subclasses of features defined in its super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6A1-4F13-4C36-9C76-AE75898403D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sa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ways check generalizations to ensure they obey the isa ru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ecking accou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ou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illag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nicipalit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uld ‘Province’ be a subclass of ‘Country’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it violates the isa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vinc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ry” is invali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5637-5891-45AD-83EC-291D707C34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possible inheritance hierarchy of mathematical obje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281240"/>
            <a:ext cx="5715000" cy="48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5C0-F540-4E35-8DE7-241F838AC39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1 What is Object Orien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al paradig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480" indent="-18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rganized around the notion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480" indent="-18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edural abs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464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as long as the data i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480" indent="-18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data abstrac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464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 together the pieces of data that describe some ent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464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s reduce the system’s complex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628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a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6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oriented paradigm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480" indent="-18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ing procedural abstractions in the context of data abst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05E8-5DA1-4E8D-8109-50563A6351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all Inherited Features Make Sense in Sub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19320" y="1219320"/>
          <a:ext cx="6858000" cy="501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85800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8C2-5B91-432D-9987-5C55C2C569C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6 Inheritance, Polymorphism and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362320" y="152280"/>
          <a:ext cx="6324480" cy="61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52280"/>
                    <a:ext cx="6324480" cy="61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493-B3D6-466A-B3D9-04EB7ACAE74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perations in the Shap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866960" y="1371600"/>
          <a:ext cx="594360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371600"/>
                    <a:ext cx="59436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75B9-B129-4585-8681-05FA68C81DF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ct Classes and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peration should be declared to exist at the highest class in the hierarchy where it makes sen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eration may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acking implementation) at tha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, the class als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nstances can be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posite of an abstract class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superclass has an abstract operation then its subclasses at some level must have a concrete method for th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f classes must have or inherit concrete methods for all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f classes must be 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9E01-2180-4E17-8963-8973056D114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r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ethod would be inherited, but a subclass contains a new version inste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rest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le(x,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uld not work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avingsAc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ght charge an extra fee following every de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Perimeter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uch simpler than the on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li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558-175D-4CDF-A4FE-4B8D63D7C42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table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tance variables may only be set when an object is first cre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of the operations allow any changes to the 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could only create a new object, not modify an existing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319-2543-4B10-BA38-42CD22321ED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 decision is made about which method to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73200"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re is a concrete method for the operation in the current class, run that metho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3200"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, check in the immediate superclass to see if there is a method there; if so, run 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3200"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 step 2, looking in successively higher superclasses until a concrete method is found and ru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3200"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 method is found, then there is an err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8760" indent="-19512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Java and C++ the program would not have compi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8B15-6A24-4D20-BCC6-28429B6D720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 b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 decision about which method to run can only be made a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able is declared to have a superclass as its typ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more than one possible polymorphic method that could be run among the type of the variable and its sub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70E-E13B-4AF7-8F54-97532F03450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7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s that Define Object Ori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cessary for a system or language to be O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object is distinct from each other object, and can be referred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objects are distinct even if they have the sam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de is organized using classes, each of which describes a set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echanism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features in a hierarchy inherit from superclasses to sub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chanism by which several methods can have the same name and implement the same abstract operatio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A564-76EC-4F17-BAA3-97966311579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Key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-&gt; something in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-&gt;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class -&gt; sub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 -&gt;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 and associations -&gt; instanc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ular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 can be constructed entirely of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ails can be hidden in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gives rise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hid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rs do not need to know all the details of a 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73DA-26C1-4CB6-ADEE-68D19BCC1AE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Oriented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approach to the solution of problems in which all computations are performed in the context of object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s are instances of classes, whi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data abst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procedural abstractions that operation on th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unning program can be seen as a collection of objects collaborating to perform a given t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0BB3-6B82-4B04-8F9A-D528A29440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cs of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object oriented programming language was Simula-6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allow programmers to write simulation progra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early 1980’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talk was developed at Xerox PAR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synt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open-sour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reusable code, bytecode, platform independence, garbage coll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 1980’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 was developed by B. Stroustrup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d the advantages of OO but also recognized that there were tremendous numbers of C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991, engineers at Sun Microsystems started a project to design a language that could be used in consumer ‘smart devices’: Oa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Internet gained popularity, Sun saw an opportunity to exploit the technolog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w language, renamed Java, was formally presented in 1995 at the SunWorld ’95 confer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1513-525E-4E55-B641-3C2A74DBA45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up classes and methods is an essential skil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up unknown classes and methods will get you a long way towards understanding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documentation can be automatically generated by a program called Javad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ation is generated from the code and its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hould format your comments as shown in some of the book’s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may include embeded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187A-3871-428D-927D-50A44079488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ext few slides will remind you of several key Java feat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the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the book’s web sit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detailed overview of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 to tutorials, book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AFD-252C-4C91-AE8A-D6718783F2B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s and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ac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class representing Unicode charact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a byte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 any world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primitive data type containing a Unicode charac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class containing collections of charact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is the operator used to concatenate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49F0-1BC4-4A49-894A-6552059D8EB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s and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ays are of fixed size and lack methods to manipulate the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the most widely used class to hold a collection of other objec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0440" indent="-1875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powerful than arrays, but less 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are used to access member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0440" indent="-18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e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were formally used, but were more 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7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 = new Vecto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7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7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terator i = v.iterato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7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i.hasNext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7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7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Method(v.next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7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354B-AA08-43CD-BCF4-320822A4286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is very strict about typ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variable is declared to have the type X, you can only invoke operations on it that are defined in class X or its super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760" indent="-2239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an instance of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X may be actually stored in th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instance of a subclass is stored, then you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variable to the 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760" indent="-2239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if I kn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instance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 can get the next element of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tring)iterator.nex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2140-C291-43CD-B047-9DCA3C7EE9C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thing that can go wrong should result in the raising of an Excep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lass with many subclasses for specific things that can go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a try - catch block to trap an excep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som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tch (ArithmeticException 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ode to handle division by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5B96-A168-4EA0-B22E-6BD961E8C9A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abstract classes, but cannot have executable stat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set of operations that make sense in several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 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lass can implement any number of interfa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ust have concrete methods for the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can declare the type of a variable to be an interfa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just like declaring the type to be an abstrac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ant interfaces in Java’s library inclu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unnable, Collection, Iterator, Comparable, Clone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E6D-0794-411F-B4DF-2F998518448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s and im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ackage combines related classes into subsyst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classes in a particular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es in different packages can have the same na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not recomm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mport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ackage is done as follo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finance.banking.accounts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DF6-9DE6-4E39-9C4B-0D86AA92CBA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es to methods and variab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class ca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ode in the package, or subclasses ca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la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ode in the package ca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ode written in the class ca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 still occu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CCD0-A653-42C2-88E1-19144AAFB9F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iew of the Two paradig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66680" y="2478240"/>
          <a:ext cx="7543800" cy="258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78240"/>
                    <a:ext cx="7543800" cy="25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219-3D70-4A27-8DAA-BDE7D96D84A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s and con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a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of executing statements that can be running concurrently with other th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create a thread in Java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reate a class implement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unn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as a loop that does something for a period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reate an instance of this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nvok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ion, which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61C4-3C9D-4AA1-996B-6CFCD1526AF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Style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ember that programs are for people to re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choose the simpler alter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 clever code that is hard to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er code is not necessarily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good nam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them highly descrip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worry about using long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957-8E32-4BEA-9B70-D516B118B4D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styl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 extensiv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 whatever is non-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comment the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s should be 25-50% of th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ze class elements consistent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, constructors, public methods then private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consistent regarding layout of c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9DAE-8CDF-4E7C-AF88-E1A385628CA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styl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oid duplication of c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‘clone’ if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new method and call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ing results in two copies that may both have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one copy of the bug is fixed, the other may be forgo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CF1-6281-4DD0-92C8-D0D5C91F21E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style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ere to good object oriented princip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the ‘isa rul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f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s opposed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not mix user interface code with non-user interface c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 with the user in separate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akes non-UI classes more re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3B3-28C3-41D7-9261-70692702783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10 Difficulties and Risks in Object-Oriented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evolution and deprecated feature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is evolving, so some features are ‘deprecated’ at every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 same thing is true of most other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an be a concern in some object oriented syste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can be less efficient than other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D575-EEE2-4011-8033-BE66BA15D52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2 Classes and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unk of structured dat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running softwar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 its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t acts and re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simulate the behaviour of an object in the re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C93-19B9-4617-AAA7-36AA62FECD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6480" y="3479760"/>
            <a:ext cx="1870200" cy="104472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35560" y="3817800"/>
            <a:ext cx="185724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0920" y="357336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rgare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9920" y="3922560"/>
            <a:ext cx="166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birth: 1980/03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86040" y="4297320"/>
            <a:ext cx="99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: T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78520" y="4762440"/>
            <a:ext cx="1755720" cy="86508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97600" y="5100480"/>
            <a:ext cx="174132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31600" y="4856040"/>
            <a:ext cx="1416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ransaction 487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53480" y="5205240"/>
            <a:ext cx="106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: 2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52040" y="5416560"/>
            <a:ext cx="156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: 2001/09/01 14: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73080" y="2414520"/>
            <a:ext cx="1870200" cy="86688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92160" y="2752560"/>
            <a:ext cx="185580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05040" y="2508120"/>
            <a:ext cx="47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re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36880" y="2857680"/>
            <a:ext cx="166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birth: 1970/01/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40480" y="3068640"/>
            <a:ext cx="15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: 75 Object D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73080" y="4013280"/>
            <a:ext cx="2241720" cy="108252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92160" y="4343400"/>
            <a:ext cx="2222640" cy="144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90360" y="4113360"/>
            <a:ext cx="216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ortgage Account 29865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41560" y="445608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: 19876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37960" y="4673520"/>
            <a:ext cx="136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ed: 2000/08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34360" y="4883040"/>
            <a:ext cx="154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y: 75 Object D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76240" y="5505480"/>
            <a:ext cx="1967040" cy="65556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5320" y="5850000"/>
            <a:ext cx="195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68920" y="5605560"/>
            <a:ext cx="151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stant Teller 876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42920" y="5948280"/>
            <a:ext cx="176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: Java Valley Ca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96160" y="2165400"/>
            <a:ext cx="2157120" cy="86508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2514600"/>
            <a:ext cx="2133360" cy="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3800" y="2286000"/>
            <a:ext cx="20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avings Account 12876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64640" y="2608200"/>
            <a:ext cx="117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: 1976.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60680" y="2817720"/>
            <a:ext cx="136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ed: 1997/03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32200" y="1382760"/>
            <a:ext cx="1863720" cy="106344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44800" y="1720800"/>
            <a:ext cx="186228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16280" y="1463760"/>
            <a:ext cx="4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Jan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95640" y="1825560"/>
            <a:ext cx="166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birth: 1955/02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02480" y="2219400"/>
            <a:ext cx="121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: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00320" y="2022480"/>
            <a:ext cx="13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: 99 UML 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86040" y="4121280"/>
            <a:ext cx="149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: 150 C++ 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0DBC-0431-4789-AC68-C6AD1A792F7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unit of abstraction in an object oriented (OO)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s similar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kind of software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s its instances’ structure (proper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implement their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CEA-94F6-4CB0-BEF2-6F3A4402DD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omething a Class or an Inst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hing should be 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it could have in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hing should be a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it is clearly 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of the set defined by a 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; instances are individual fil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l of Film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; instances are physical re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 reel with serial number SW1987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of </a:t>
            </a:r>
            <a:r>
              <a:rPr b="1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elOf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Fi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of the class </a:t>
            </a:r>
            <a:r>
              <a:rPr b="1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n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Fiction Fil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; instances include ‘Star Wa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ing of ‘Star Wars’ in the Phoenix Cinema at 7 p.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of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howingOf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4D24-AE56-422A-86D8-C437D690C6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ing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gul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right level of gene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nicip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ure the name has on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‘bus’ has several mea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11AF-2111-4091-B59A-6A7055DB22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C. Lethbridge</cp:lastModifiedBy>
  <dcterms:modified xsi:type="dcterms:W3CDTF">2002-09-24T15:29:34Z</dcterms:modified>
  <cp:revision>36</cp:revision>
  <dc:subject/>
  <dc:title>SEG 2100 Software Design II</dc:title>
</cp:coreProperties>
</file>