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F62D-9404-4557-8C64-01A0C1F40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69DF-694F-4312-8471-7158817F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1DFB-5670-46E6-ABC2-38056B3EE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69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788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69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788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1D78-34BE-4E27-98AA-6BD3BD7C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397D-2883-43F3-8FDA-B5E4121D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384B-73B8-4E62-AFB1-ABFB6D2A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1929-8E18-463C-90D5-A9794846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8636-1A6E-4B52-9814-B0291ADF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6B97-AFD0-4853-9A84-08A36B7E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01EA-B7F0-4E04-A154-043741AB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1562-3848-44C9-8E3F-F8485F52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1AE9-2EB6-483D-B3E5-E3087E80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losengMaster" descr=""/>
          <p:cNvPicPr/>
          <p:nvPr/>
        </p:nvPicPr>
        <p:blipFill>
          <a:blip r:embed="rId2"/>
          <a:stretch/>
        </p:blipFill>
        <p:spPr>
          <a:xfrm>
            <a:off x="357120" y="1162080"/>
            <a:ext cx="8429760" cy="5619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7616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67DA-792A-4725-B13A-ABA95D5C2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Software Engineer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Software Development using UML and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002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pter 1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and Software Engineer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Software Engineer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t, time and other constrai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te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nefit must outweigh the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 are competing to do the job cheaper and f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te estimates of cost and time have caused many project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619A-45F5-402A-B287-CA33371B5B2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3 Software Engineering and the Engineering Prof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erm Software Engineering was coined in 196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began to realize that the principles of engineering should be applied to software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 is a licensed profe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to protect the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ineers design artifacts following well accepted practices which involve the application of science, mathematics and econo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ical practice is also a key tenet of the prof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1BEE-32F3-4749-8674-0664FADF969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4 Stakeholders in Software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Us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se who use th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Custom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se who pay for th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Software develop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Development Manag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four roles can be fulfilled by the same pers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4A6D-BC79-4617-A24C-6C340F013F2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5 Software Qualit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abil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91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can learn it and fast and get their job done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ficienc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91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doesn’t waste resources such as CPU time and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iabil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91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does what it is required to do without fa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tainabil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91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an be easily chan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usabil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91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parts can be used in other projects, so reprogramming is not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990A-A1DB-4A16-869D-F4EA824C5E6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Qualit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236760" y="3197160"/>
            <a:ext cx="1973520" cy="801720"/>
            <a:chOff x="3236760" y="3197160"/>
            <a:chExt cx="1973520" cy="801720"/>
          </a:xfrm>
        </p:grpSpPr>
        <p:sp>
          <p:nvSpPr>
            <p:cNvPr id="72" name=""/>
            <p:cNvSpPr/>
            <p:nvPr/>
          </p:nvSpPr>
          <p:spPr>
            <a:xfrm>
              <a:off x="3236760" y="3197160"/>
              <a:ext cx="1973520" cy="801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662280" y="3259080"/>
              <a:ext cx="1198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Times New Roman"/>
                </a:rPr>
                <a:t>QUALIT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86400" y="3560760"/>
              <a:ext cx="1373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1642680" y="4237200"/>
            <a:ext cx="1189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Develop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53360" y="423720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2200" y="4537080"/>
            <a:ext cx="1579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asy to desig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73280" y="4836960"/>
            <a:ext cx="1803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asy to maintai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9600" y="5138640"/>
            <a:ext cx="2180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asy to reuse its pa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0760" y="1330200"/>
            <a:ext cx="6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Use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6160" y="1631880"/>
            <a:ext cx="1422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asy to lear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60960" y="1932120"/>
            <a:ext cx="1648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fficient to us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78240" y="2232000"/>
            <a:ext cx="2064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helps get work d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43760" y="1230480"/>
            <a:ext cx="1162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Custom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29600" y="12304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68600" y="1530360"/>
            <a:ext cx="196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olves problems 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48440" y="1832040"/>
            <a:ext cx="2178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n acceptable cost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48440" y="2131920"/>
            <a:ext cx="2602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erms of money paid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39800" y="2433600"/>
            <a:ext cx="1495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resources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50880" y="4160880"/>
            <a:ext cx="254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Development manag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701840" y="41608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91920" y="4462560"/>
            <a:ext cx="1536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ells more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74640" y="4762440"/>
            <a:ext cx="1896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pleases custom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97320" y="5064120"/>
            <a:ext cx="1875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hile costing l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81480" y="5364000"/>
            <a:ext cx="2457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o develop and maint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08880" y="2301120"/>
            <a:ext cx="599040" cy="60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69" y="17978"/>
                </a:moveTo>
                <a:arcTo wR="10800" hR="10800" stAng="2499398" swAng="2451812"/>
                <a:lnTo>
                  <a:pt x="10800" y="10800"/>
                </a:lnTo>
                <a:close/>
              </a:path>
              <a:path fill="none" w="21600" h="21600">
                <a:moveTo>
                  <a:pt x="18869" y="17978"/>
                </a:moveTo>
                <a:arcTo wR="10800" hR="10800" stAng="2499398" swAng="2451812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2240" y="2825640"/>
            <a:ext cx="225360" cy="45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49520" y="4137840"/>
            <a:ext cx="599760" cy="60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012" y="1966"/>
                </a:moveTo>
                <a:arcTo wR="10800" hR="10800" stAng="-3293143" swAng="2416350"/>
                <a:lnTo>
                  <a:pt x="10800" y="10800"/>
                </a:lnTo>
                <a:close/>
              </a:path>
              <a:path fill="none" w="21600" h="21600">
                <a:moveTo>
                  <a:pt x="17012" y="1966"/>
                </a:moveTo>
                <a:arcTo wR="10800" hR="10800" stAng="-3293143" swAng="241635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074760" y="3911760"/>
            <a:ext cx="523800" cy="350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75040" y="4138200"/>
            <a:ext cx="596880" cy="60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41" y="4919"/>
                </a:moveTo>
                <a:arcTo wR="10800" hR="10800" stAng="-8820513" swAng="2398777"/>
                <a:lnTo>
                  <a:pt x="10800" y="10800"/>
                </a:lnTo>
                <a:close/>
              </a:path>
              <a:path fill="none" w="21600" h="21600">
                <a:moveTo>
                  <a:pt x="1741" y="4919"/>
                </a:moveTo>
                <a:arcTo wR="10800" hR="10800" stAng="-8820513" swAng="2398777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97280" y="3936960"/>
            <a:ext cx="20016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96360" y="2422800"/>
            <a:ext cx="599040" cy="602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57" y="20688"/>
                </a:moveTo>
                <a:arcTo wR="10800" hR="10800" stAng="6822610" swAng="2430535"/>
                <a:lnTo>
                  <a:pt x="10800" y="10800"/>
                </a:lnTo>
                <a:close/>
              </a:path>
              <a:path fill="none" w="21600" h="21600">
                <a:moveTo>
                  <a:pt x="6457" y="20688"/>
                </a:moveTo>
                <a:arcTo wR="10800" hR="10800" stAng="6822610" swAng="2430535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695480" y="2898720"/>
            <a:ext cx="299880" cy="351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B4A0-ED69-4DA8-BA17-E17F43ABF80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different qualities can conflic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ing efficiency can reduce maintainability or reus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ing usability can reduce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ting objectives for quality is a key engineering activ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then design to meet the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s ‘over-engineering’ which wastes 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timizing is also sometimes necessa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obtain the highest possible reliability using a fixed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C3D4-9090-41E3-BDBA-E80F2E0E3BB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Quality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ze aspects of the design of th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an effect on the external quality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mount of commenting of the 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lexity of the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A1CA-FE8C-44E2-9956-0446B26F211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hort Term Vs. Long Term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ort term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the software meet the customer’s immediate need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it sufficiently efficient for the volume of data we have tod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ng term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’s future need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F66F-D86C-47A9-A9DD-3C11B409EA6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6 Software Engineering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st projects are evolutionary or maintenance projects, involving work o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gac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yste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ive projects: fixing de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ptive projects: changing the system in response to chang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and reg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ment projects: adding new features for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engineering or  perfective projects: changing the system internally so it is more maintain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6FB8-0850-4645-91F8-3D1E7094A3B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Engineering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field’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inority of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F717-1C79-4DEF-B999-9F83E3CDA8A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1 The Nature of Softwar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is intangib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 to understand development 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is easy to reprodu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is in i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ther engineering products, manufacturing is the costly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dustry is labor-intensiv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 to auto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4E35-6BD2-4D14-AF46-05029589B23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Engineering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s that involve building on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wor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a set of existing componen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ramework is an application that is missing some important det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Specific rules of this organiz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proje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lve plugging togeth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ready develop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significant functiona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t from reusing reliable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much of the same freedom to innovate found in green field develop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D16A-2630-434D-8D1B-B2C387BFFDB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7 Activities Common to Software Project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quirements and specific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ain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ng 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gath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taining input from as many sources as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ing th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ing detailed instructions about how the software should beh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4CFB-6651-43BE-A26F-7B91C138D5C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 Common to Software Project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ding how the requirements should be implemented, using the available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s engineering: Deciding what should be in hardware and what in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architecture: Dividing the system into subsystems and deciding how the subsystems will inte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ed design of the internals of a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interfac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of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E100-5E1B-4369-8C0C-DC617DF11CC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 Common to Software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representations of the domain or th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ase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al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and behavioural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m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s and insp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loy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aging the proce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327A-FEDD-4ABE-ACF8-6B9D48DB832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8 The Eight Themes of the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Understanding the customer and the us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Basing development on solid principles and reusable technolog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Object orient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Visual modeling using UM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Evaluation of alterna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Iterative develop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 Communicating effectively using document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 Risk management in all SE activitie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1C8D-39D9-413B-B36C-74D7E13DF0D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9 Difficulties and Risks in Software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lexity and large numbers of detai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certainty about technolog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certainty about requir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ertainty about software engineering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ant 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rioration of software desig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tical risk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FE9D-8244-471A-B2FD-43711B2D347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ure of Software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rained people can hack something togeth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 problems are hard to no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is easy to modif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make changes without fully understand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does not ‘wear out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deteriorates by having its design chang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neously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ways that were not anticipated, thus making it 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E577-387F-41B2-AB2A-129FFAC6D6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ure of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ch software has poor design and is getting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and for software is high and r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in a perpetual ‘software crisi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to learn to ‘engineer’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721C-8F38-4B76-865F-4B1F7DCFC4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Softwar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specific 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i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d on open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c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TS (Commercial Off The Shel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rink-wra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bedd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t into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 to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DC66-1FDC-4FF6-A523-0FCF718B31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erences among custom, generic and embedded softwa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066680" y="2514600"/>
          <a:ext cx="11811240" cy="290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514600"/>
                    <a:ext cx="11811240" cy="29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E912-3E71-42EC-B3F0-E6B72A63C31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 time softwa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control and monitoring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react immedi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fety often a conc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processing softwa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run busin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cy and security of data are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me software has both asp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F310-5351-41CB-B4D9-6F3F799495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2 What is Software Engineering?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rocess of solving customers’ problems by the systematic development and evolution of large, high-quality software systems within cost, time and other constrai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ving customers’ proble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goal of software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the solution is to buy, not bu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ng unnecessary features does not help solve 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engineers must communicate effectively to identify and understand 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A3CC-55E9-4FB9-8619-BCBC7342DA1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Software Engineering?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atic development and evolu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ngineering process involves applying well understood techniques in a organized and disciplined 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well-accepted practices have been formally standard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by the IEEE or IS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development work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olu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, high quality software syste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 engineering techniques are needed because large systems cannot be completely understood by one 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mwork and co-ordination are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challenge: Dividing up the work and ensuring that the parts of the system work properly toge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nd-product that is produced must be of sufficient qua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D970-41E0-4F69-BF4D-494AC8A3328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6:59:35Z</dcterms:created>
  <dc:creator>Timothy C. Lethbridge</dc:creator>
  <dc:description/>
  <dc:language>en-US</dc:language>
  <cp:lastModifiedBy>Timothy C. Lethbridge</cp:lastModifiedBy>
  <dcterms:modified xsi:type="dcterms:W3CDTF">2001-08-02T23:36:51Z</dcterms:modified>
  <cp:revision>24</cp:revision>
  <dc:subject/>
  <dc:title>SEG 2100 Software Design II</dc:title>
</cp:coreProperties>
</file>