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3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ng" ContentType="image/png"/>
  <Override PartName="/ppt/media/image15.pct" ContentType="image/x-pict"/>
  <Override PartName="/ppt/media/image14.pct" ContentType="image/x-pict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B02-7987-4531-AE3A-2D7BCB38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64F-770C-4221-BBE9-56FF70C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EB7-121E-482A-A4D4-55C7BCE1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BD9-036B-4A98-9FBF-0384631E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B74-9C73-462D-808D-3682900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902-3930-48FB-B8A1-AE4FD244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D4D-FA6D-43B1-AA3E-029BF53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698-5DC6-454E-B1C5-04F611C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526-21DC-4C66-A3CD-15EE8A4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D46-91CF-40A0-8D33-E905CCC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6E7-FB9B-4259-85BB-1B8D1BA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778-FD88-4738-9F1A-8CC23122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3D3-1446-4BC2-969C-9C4C1CAB5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5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ling with Cla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has many employ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mployee can only work for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mpany will not store data about the moonlighting activities of employee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can have zer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‘shell’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possible to be an employee unless you work for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624816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113-43D6-4A2E-8AAA-5698B23569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-to-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cretary can work for many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can have many secret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es can work in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can have a group of secret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anagers might have zero secreta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possible for a secretary to have, perhaps temporarily, zero mana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73152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CBF-FE23-4EE2-8AD5-8ABCC3926C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ompany, there is exactly on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ard is the board of only on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must always have 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ard must always be of some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6781680" cy="5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80E-3FBF-4B0B-9ADA-05AB737D16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unnecessary one-to-one associ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th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48640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DCA-A87A-452A-835C-BA37566B5A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e complex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oking is always for exactly one passe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booking with zero pa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oking coul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 more than one passeng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an have any number of Boo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ould have no bookings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ould have more than one 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4781520"/>
            <a:ext cx="7925040" cy="7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F8A-152D-400A-9C2E-8F36169400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an attribute that concerns two associated classes cannot be placed in either of the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r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3200400"/>
            <a:ext cx="3925800" cy="1294920"/>
            <a:chOff x="2438280" y="3200400"/>
            <a:chExt cx="3925800" cy="1294920"/>
          </a:xfrm>
        </p:grpSpPr>
        <p:sp>
          <p:nvSpPr>
            <p:cNvPr id="81" name=""/>
            <p:cNvSpPr/>
            <p:nvPr/>
          </p:nvSpPr>
          <p:spPr>
            <a:xfrm>
              <a:off x="3646080" y="3880080"/>
              <a:ext cx="1124280" cy="6152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5800" y="4187160"/>
              <a:ext cx="11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06560" y="395604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0" y="42703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3200400"/>
              <a:ext cx="103500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38440" y="327564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3000" y="3200400"/>
              <a:ext cx="135108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2400" y="327564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463560" y="3441960"/>
              <a:ext cx="15242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68320" y="3225960"/>
              <a:ext cx="87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796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3760" y="3458520"/>
              <a:ext cx="1440" cy="64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63760" y="362340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63760" y="378972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4952880"/>
            <a:ext cx="5046480" cy="615960"/>
            <a:chOff x="1828800" y="4952880"/>
            <a:chExt cx="5046480" cy="615960"/>
          </a:xfrm>
        </p:grpSpPr>
        <p:sp>
          <p:nvSpPr>
            <p:cNvPr id="108" name=""/>
            <p:cNvSpPr/>
            <p:nvPr/>
          </p:nvSpPr>
          <p:spPr>
            <a:xfrm>
              <a:off x="3633840" y="4952880"/>
              <a:ext cx="1122120" cy="6159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261400"/>
              <a:ext cx="110340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92520" y="502812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0360" y="53431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952880"/>
              <a:ext cx="103500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8960" y="502812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4560" y="4952880"/>
              <a:ext cx="135072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83600" y="502812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6600" y="5194800"/>
              <a:ext cx="752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880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828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1720" y="5194800"/>
              <a:ext cx="754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09C-4A65-42DE-9778-020EE31862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for an association to connect a class to 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6160" y="3365640"/>
            <a:ext cx="1482480" cy="69660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2040" y="350208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3040" y="3471840"/>
            <a:ext cx="603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6400" y="3471840"/>
            <a:ext cx="1440" cy="453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3040" y="392580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1680" y="36543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71720" y="3502080"/>
            <a:ext cx="2850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isMutuallyExclusiveWi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76320" y="354168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86040" y="3541680"/>
            <a:ext cx="1440" cy="7556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76320" y="4297320"/>
            <a:ext cx="99720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0280" y="402588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28480" y="3571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9360" y="4287960"/>
            <a:ext cx="139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rerequisi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9240" y="3179880"/>
            <a:ext cx="120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1920" y="323064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4440" y="4056120"/>
            <a:ext cx="1440" cy="2412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8DA-1ED0-4B91-8AD6-359BE3777F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ionality in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are by defaul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direc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limit the direction of an association by adding an arrow at one 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36880" y="3959280"/>
            <a:ext cx="2193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45120" y="3506760"/>
            <a:ext cx="17748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85560" y="3648240"/>
            <a:ext cx="70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8280" y="3506760"/>
            <a:ext cx="13842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38240" y="3648240"/>
            <a:ext cx="58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E78-1AA5-4371-8DBC-770666F2B2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4 Gener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ing a superclass into two or more sub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iminat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bel that describes the criteria used in the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0509AnimalDiscriminators" descr=""/>
          <p:cNvPicPr/>
          <p:nvPr/>
        </p:nvPicPr>
        <p:blipFill>
          <a:blip r:embed="rId1"/>
          <a:stretch/>
        </p:blipFill>
        <p:spPr>
          <a:xfrm>
            <a:off x="1243080" y="3246480"/>
            <a:ext cx="6148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ED9-0206-464D-95B4-6F062BC397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unnecessary general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876920" cy="1752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40280" y="4979880"/>
            <a:ext cx="1170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88520" y="5180040"/>
            <a:ext cx="194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62360" y="4979880"/>
            <a:ext cx="112896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9360" y="51800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40160" y="4979880"/>
            <a:ext cx="11412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4640" y="5180040"/>
            <a:ext cx="38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4979880"/>
            <a:ext cx="1143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5200" y="5180040"/>
            <a:ext cx="18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jaz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979880"/>
            <a:ext cx="116028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0600" y="5180040"/>
            <a:ext cx="54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usic 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6560" y="4229280"/>
            <a:ext cx="120312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5240" y="44276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84480" y="4229280"/>
            <a:ext cx="119700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4520" y="4427640"/>
            <a:ext cx="24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5520" y="3446640"/>
            <a:ext cx="1125360" cy="398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400" y="3494160"/>
            <a:ext cx="106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5560" y="3559320"/>
            <a:ext cx="214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0120" y="3559320"/>
            <a:ext cx="1440" cy="161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5560" y="3720960"/>
            <a:ext cx="2145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04920" y="362412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38760" y="372096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0200" y="3645000"/>
            <a:ext cx="1103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3320" y="3687840"/>
            <a:ext cx="49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446640"/>
            <a:ext cx="633240" cy="5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840" y="34941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98720" y="3570120"/>
            <a:ext cx="762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31840" y="346248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07080" y="358128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as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5040" y="4600440"/>
            <a:ext cx="14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16080" y="4600440"/>
            <a:ext cx="10922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11360" y="4611600"/>
            <a:ext cx="75960" cy="363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5840" y="4600440"/>
            <a:ext cx="92052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65600" y="4600440"/>
            <a:ext cx="3168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644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31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477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308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084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0960" y="4395960"/>
            <a:ext cx="1190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2024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6500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872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548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1240" y="4395960"/>
            <a:ext cx="1198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396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1240" y="5168880"/>
            <a:ext cx="1147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24080" y="5168880"/>
            <a:ext cx="11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68840" y="5168880"/>
            <a:ext cx="1122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4676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732640"/>
            <a:ext cx="1094040" cy="5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9680" y="5952960"/>
            <a:ext cx="6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9th Sympho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8600" y="575928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5921280"/>
            <a:ext cx="1071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905280" y="535140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76840" y="5743440"/>
            <a:ext cx="1093680" cy="484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5640" y="594216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Let it 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4200" y="577044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83320" y="5931000"/>
            <a:ext cx="1071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94480" y="607068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80760" y="608184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eetho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175440" y="536256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7720" y="3645000"/>
            <a:ext cx="610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8680" y="3687840"/>
            <a:ext cx="16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08680" y="3817800"/>
            <a:ext cx="2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1430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propriate hierarch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, which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9840" y="3505320"/>
            <a:ext cx="3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class dia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ts corresp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1AD-DF52-4CB6-8185-7A605B9362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1 What is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fied Modelling Language is a standard graphical language for modelling object oriented softw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1980s and the beginning of 1990s, the first object-oriented development processes appea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proliferation of methods and notations tended to cause considerable conf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methodologists Rumbaugh and Booch decided to merge their approaches in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orked together at the Rational Software Corpo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5, another methodologist, Jacobson,  joined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work focused on use c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7 the Object Management Group (OMG) started the process of UML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C9B-FC00-4B13-A9AD-2558110228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05xxAnimalDupDisc" descr=""/>
          <p:cNvPicPr/>
          <p:nvPr/>
        </p:nvPicPr>
        <p:blipFill>
          <a:blip r:embed="rId1"/>
          <a:stretch/>
        </p:blipFill>
        <p:spPr>
          <a:xfrm>
            <a:off x="1371600" y="2151000"/>
            <a:ext cx="7391520" cy="33354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higher-level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212-CEF7-4AC3-A3B8-D921DEC2B8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Player-Role pattern (in Chapter 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70320" y="1373040"/>
            <a:ext cx="129564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67680" y="147168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7804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7640" y="20415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5360" y="2021040"/>
            <a:ext cx="144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3160" y="202104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ypeOfF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41920" y="2394000"/>
            <a:ext cx="1033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288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30072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9136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7720" y="2822400"/>
            <a:ext cx="12304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6260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Herb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0680" y="2822400"/>
            <a:ext cx="127296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arn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4000" y="2394000"/>
            <a:ext cx="1119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680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95280" y="2394000"/>
            <a:ext cx="198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95640" y="2394000"/>
            <a:ext cx="180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21320" y="2822400"/>
            <a:ext cx="13618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53000" y="2921040"/>
            <a:ext cx="123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Land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5160" y="2822400"/>
            <a:ext cx="168912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7720" y="292104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quatic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06440" y="4381560"/>
            <a:ext cx="2019240" cy="636480"/>
            <a:chOff x="1306440" y="4381560"/>
            <a:chExt cx="2019240" cy="636480"/>
          </a:xfrm>
        </p:grpSpPr>
        <p:sp>
          <p:nvSpPr>
            <p:cNvPr id="257" name=""/>
            <p:cNvSpPr/>
            <p:nvPr/>
          </p:nvSpPr>
          <p:spPr>
            <a:xfrm>
              <a:off x="1306440" y="4381560"/>
              <a:ext cx="201924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8132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14600" y="4381560"/>
            <a:ext cx="2041560" cy="636480"/>
            <a:chOff x="3414600" y="4381560"/>
            <a:chExt cx="2041560" cy="636480"/>
          </a:xfrm>
        </p:grpSpPr>
        <p:sp>
          <p:nvSpPr>
            <p:cNvPr id="260" name=""/>
            <p:cNvSpPr/>
            <p:nvPr/>
          </p:nvSpPr>
          <p:spPr>
            <a:xfrm>
              <a:off x="3414600" y="4381560"/>
              <a:ext cx="2041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8948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565600" y="4381560"/>
            <a:ext cx="1690920" cy="636480"/>
            <a:chOff x="5565600" y="4381560"/>
            <a:chExt cx="1690920" cy="636480"/>
          </a:xfrm>
        </p:grpSpPr>
        <p:sp>
          <p:nvSpPr>
            <p:cNvPr id="263" name=""/>
            <p:cNvSpPr/>
            <p:nvPr/>
          </p:nvSpPr>
          <p:spPr>
            <a:xfrm>
              <a:off x="5565600" y="4381560"/>
              <a:ext cx="169092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4012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365960" y="4381560"/>
            <a:ext cx="1690560" cy="636480"/>
            <a:chOff x="7365960" y="4381560"/>
            <a:chExt cx="1690560" cy="636480"/>
          </a:xfrm>
        </p:grpSpPr>
        <p:sp>
          <p:nvSpPr>
            <p:cNvPr id="266" name=""/>
            <p:cNvSpPr/>
            <p:nvPr/>
          </p:nvSpPr>
          <p:spPr>
            <a:xfrm>
              <a:off x="7365960" y="4381560"/>
              <a:ext cx="1690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960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23556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21640" y="3492360"/>
            <a:ext cx="1440" cy="482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7584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78040" y="3865680"/>
            <a:ext cx="3557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46640" y="3798720"/>
            <a:ext cx="17604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8720" y="3798720"/>
            <a:ext cx="17460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3790800"/>
            <a:ext cx="15228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3511440"/>
            <a:ext cx="1440" cy="460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86200" y="3975120"/>
            <a:ext cx="3841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46640" y="3909960"/>
            <a:ext cx="17604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3902040"/>
            <a:ext cx="1537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560" y="3492360"/>
            <a:ext cx="144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560" y="4062240"/>
            <a:ext cx="1338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0888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0040" y="3902040"/>
            <a:ext cx="15336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73680" y="3492360"/>
            <a:ext cx="180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53160" y="4194000"/>
            <a:ext cx="2722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64240" y="3798720"/>
            <a:ext cx="17568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754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6424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75400" y="3892680"/>
            <a:ext cx="153720" cy="15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64240" y="3997440"/>
            <a:ext cx="175680" cy="21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75400" y="3979800"/>
            <a:ext cx="153720" cy="1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5316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21400" y="4062240"/>
            <a:ext cx="1440" cy="308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816680" y="4194000"/>
            <a:ext cx="1800" cy="176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741920" y="3975120"/>
            <a:ext cx="1440" cy="3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05080" y="3865680"/>
            <a:ext cx="1800" cy="50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46640" y="2021040"/>
            <a:ext cx="180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0380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689-7C17-4D26-B93C-F94FDD8C0E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having instances chan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05XXStudentOneDisc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781440" cy="1951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should never need to change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AFB-7C9C-4BAE-A1B4-AA5FF72703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5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stance of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ame way that we say an object is an instance of a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57480" y="5103360"/>
            <a:ext cx="1359000" cy="250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4894200"/>
            <a:ext cx="335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075280" y="4894200"/>
            <a:ext cx="334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060520" y="3695760"/>
            <a:ext cx="336600" cy="1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463920" y="3695400"/>
            <a:ext cx="281160" cy="446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8480" y="3556080"/>
            <a:ext cx="336600" cy="139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49520" y="3179880"/>
            <a:ext cx="952560" cy="306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52520" y="4692600"/>
            <a:ext cx="116388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5760" y="475452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Carla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76440" y="3938760"/>
            <a:ext cx="981000" cy="406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64280" y="4002120"/>
            <a:ext cx="88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Ali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9840" y="3352680"/>
            <a:ext cx="12621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24800" y="341640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Wayne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51200" y="3492360"/>
            <a:ext cx="13035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9080" y="3556080"/>
            <a:ext cx="1230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OOCorp: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3960" y="3506760"/>
            <a:ext cx="130176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50400" y="3570120"/>
            <a:ext cx="1148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OOCorp's Board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6560" y="4719600"/>
            <a:ext cx="12891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65520" y="4782960"/>
            <a:ext cx="110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UML inc's 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63800" y="4692600"/>
            <a:ext cx="130500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50560" y="4754520"/>
            <a:ext cx="1230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UML inc: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8320" y="2766960"/>
            <a:ext cx="102420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7960" y="2830680"/>
            <a:ext cx="927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Pat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7840" y="5361120"/>
            <a:ext cx="11397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65000" y="542448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Terry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A30-C8F0-442F-A2AC-C6C2EB80EA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s versus generalizations in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describe the relationships that will exist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ru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show an instance diagram generated from a class diagram, there will be an instan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joined by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 describe relationships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dia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 not appear in instance diagram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of any class should also be considered to be an instance of each of that class’s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B69-4F91-4370-ADBB-B1CC7F79DC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6 More Advanced Features: 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s are special associations that represent ‘part-whole’ relationsh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whole’ side is often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ymbol is a shorthand notation association nam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Part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3120" y="4343400"/>
            <a:ext cx="1463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13120" y="5075280"/>
            <a:ext cx="1498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19720" y="4815000"/>
            <a:ext cx="105552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1640" y="489744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84800" y="4083120"/>
            <a:ext cx="1108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45280" y="41655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51120" y="481500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56320" y="489744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51120" y="408312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55240" y="416556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13B-57D1-4ADE-A866-AF3F9C7D53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o use an aggre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general rule, you can mark an association as an aggregation if the following are tru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ta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s ‘are part of’ the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aggregate ‘is composed of’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owns or controls the aggregate, then they also own or control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4B5-ABCB-463C-B48F-EA54A4DDB6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ong kind of aggre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ggregate is destroyed, then the parts are destroyed as 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s for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68560" y="3062160"/>
            <a:ext cx="17877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65680" y="2752560"/>
            <a:ext cx="1258920" cy="6192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98680" y="2849400"/>
            <a:ext cx="61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00280" y="2752560"/>
            <a:ext cx="1258920" cy="6192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2600" y="284940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46600" y="2955960"/>
            <a:ext cx="341280" cy="212760"/>
          </a:xfrm>
          <a:custGeom>
            <a:avLst/>
            <a:gdLst/>
            <a:ahLst/>
            <a:rect l="l" t="t" r="r" b="b"/>
            <a:pathLst>
              <a:path w="215" h="134">
                <a:moveTo>
                  <a:pt x="108" y="0"/>
                </a:moveTo>
                <a:lnTo>
                  <a:pt x="215" y="67"/>
                </a:lnTo>
                <a:lnTo>
                  <a:pt x="108" y="134"/>
                </a:lnTo>
                <a:lnTo>
                  <a:pt x="0" y="67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46600" y="2955960"/>
            <a:ext cx="341280" cy="212760"/>
          </a:xfrm>
          <a:custGeom>
            <a:avLst/>
            <a:gdLst/>
            <a:ahLst/>
            <a:rect l="l" t="t" r="r" b="b"/>
            <a:pathLst>
              <a:path w="215" h="134">
                <a:moveTo>
                  <a:pt x="108" y="0"/>
                </a:moveTo>
                <a:lnTo>
                  <a:pt x="215" y="67"/>
                </a:lnTo>
                <a:lnTo>
                  <a:pt x="108" y="134"/>
                </a:lnTo>
                <a:lnTo>
                  <a:pt x="0" y="67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362320" y="3962520"/>
            <a:ext cx="556236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006-0C3B-4922-A419-EC9196AFF4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ggregation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99800" y="299412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85840" y="299412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91040" y="2486160"/>
            <a:ext cx="289080" cy="419040"/>
          </a:xfrm>
          <a:custGeom>
            <a:avLst/>
            <a:gdLst/>
            <a:ahLst/>
            <a:rect l="l" t="t" r="r" b="b"/>
            <a:pathLst>
              <a:path w="182" h="264">
                <a:moveTo>
                  <a:pt x="182" y="132"/>
                </a:moveTo>
                <a:lnTo>
                  <a:pt x="83" y="264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91040" y="2486160"/>
            <a:ext cx="289080" cy="419040"/>
          </a:xfrm>
          <a:custGeom>
            <a:avLst/>
            <a:gdLst/>
            <a:ahLst/>
            <a:rect l="l" t="t" r="r" b="b"/>
            <a:pathLst>
              <a:path w="182" h="264">
                <a:moveTo>
                  <a:pt x="182" y="132"/>
                </a:moveTo>
                <a:lnTo>
                  <a:pt x="83" y="264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629160" y="2990880"/>
            <a:ext cx="37195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62200" y="461808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0396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10400" y="4930920"/>
            <a:ext cx="78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Whe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3640" y="4838760"/>
            <a:ext cx="188784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5080" y="4930920"/>
            <a:ext cx="173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496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98840" y="4930920"/>
            <a:ext cx="890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3192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11720" y="493092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0240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42040" y="33624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8520" y="3362400"/>
            <a:ext cx="137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BodyPan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5588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10840" y="3362400"/>
            <a:ext cx="1021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27640" y="172872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80800" y="1847880"/>
            <a:ext cx="9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19640" y="4016520"/>
            <a:ext cx="288720" cy="393480"/>
          </a:xfrm>
          <a:custGeom>
            <a:avLst/>
            <a:gdLst/>
            <a:ahLst/>
            <a:rect l="l" t="t" r="r" b="b"/>
            <a:pathLst>
              <a:path w="182" h="248">
                <a:moveTo>
                  <a:pt x="182" y="132"/>
                </a:moveTo>
                <a:lnTo>
                  <a:pt x="83" y="248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4016520"/>
            <a:ext cx="288720" cy="393480"/>
          </a:xfrm>
          <a:custGeom>
            <a:avLst/>
            <a:gdLst/>
            <a:ahLst/>
            <a:rect l="l" t="t" r="r" b="b"/>
            <a:pathLst>
              <a:path w="182" h="248">
                <a:moveTo>
                  <a:pt x="182" y="132"/>
                </a:moveTo>
                <a:lnTo>
                  <a:pt x="83" y="248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79640" y="4567320"/>
            <a:ext cx="59720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2916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6264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4868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79640" y="4567320"/>
            <a:ext cx="1440" cy="2617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38680" y="45925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08680" y="45925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51680" y="4592520"/>
            <a:ext cx="180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29280" y="2877840"/>
            <a:ext cx="1440" cy="104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552840" y="4416480"/>
            <a:ext cx="1440" cy="131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6B1-EF74-4E05-A9A5-2189E1D873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chanism where an operation in an aggregate is implemented by having the aggregate perform that operation on its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same time, properties of the parts are often propagated back to the aggreg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is to aggregation as inheritance is to gener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differen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is an implicit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has to be programmed when 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8120" y="5354640"/>
            <a:ext cx="500040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BFF-ED5A-499E-803D-865EA8C43A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classes and their 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behaviour of systems in terms of how objects interact with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diagrams and activity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systems behave inter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and deploym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the various components of systems are arranged logically and phys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ED8-C09C-4538-95CA-D094A2A0C1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face describes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on of the visible behaviou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et of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imilar to a class, except it lacks instance variables and implemented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78240" y="3227400"/>
            <a:ext cx="1081080" cy="1063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87600" y="3776760"/>
            <a:ext cx="1062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83720" y="327348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90360" y="347184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57880" y="381312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withdr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1920" y="402912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epos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63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63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17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5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89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68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608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7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33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1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05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225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765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95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4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67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21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385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925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1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65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828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6320" y="42991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6320" y="431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6320" y="4370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6320" y="438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6320" y="4441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6320" y="4460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6320" y="4514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6320" y="4532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6320" y="458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6320" y="4603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6320" y="465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6320" y="4675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6320" y="4729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6320" y="474804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63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82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36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54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08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25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7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98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2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70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23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4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5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14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8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85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39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57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0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843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01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55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3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27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6320" y="42991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6320" y="431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6320" y="4370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6320" y="438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6320" y="4441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6320" y="4460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6320" y="4514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6320" y="4532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6320" y="458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6320" y="4603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6320" y="4729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6320" y="474804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5924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14880" y="3848040"/>
            <a:ext cx="26964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14880" y="3848040"/>
            <a:ext cx="26964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6680" y="3867120"/>
            <a:ext cx="144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6196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6196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27520" y="332568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6720" y="339084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2752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55560" y="456876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9224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02120" y="456876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74600" y="3335400"/>
            <a:ext cx="1063800" cy="5238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02920" y="340056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6436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2000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2000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1180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6744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6744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85000" y="332568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54560" y="339084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5000" y="450360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13400" y="456876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5008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59960" y="456876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440" y="332568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56720" y="339084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74760" y="390204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913440" y="4299120"/>
            <a:ext cx="1800" cy="179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13720" y="4108320"/>
            <a:ext cx="199800" cy="200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90960" y="390204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729640" y="4299120"/>
            <a:ext cx="1440" cy="179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629560" y="4108320"/>
            <a:ext cx="200160" cy="200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8EC-86B8-4F61-8E6F-FA2FB6D5BE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tes and descriptiv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text and oth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 your diagrams in a larger 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can explain aspects of the system using any notation you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and expand on important features, and give ra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te is a small block of text embedd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ML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like a comment in a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533-82B5-4E14-AD3B-E21E372C5B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 Constraint Language (OC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is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formally specify constraints in software mod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CL expression simply specifies a logical fact (a constraint) about the system that must re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aint cannot have any side-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not compute a non-Boolean result nor modify any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statements in class diagrams can specify what the values of attributes and associations must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9EE-8C90-49B1-A417-14A82F604E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statements can be built fro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to role names, association names, attributes and the results of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value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such a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equ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values such a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‘a string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and real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3A8-0340-4539-A143-8B7A1421F2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: constraints on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99000" y="2454120"/>
            <a:ext cx="1320840" cy="36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478640" y="2789280"/>
            <a:ext cx="139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2680" y="2502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arSha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30120" y="2847960"/>
            <a:ext cx="126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rt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161480" y="261792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10120" y="2617920"/>
            <a:ext cx="244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06760" y="2406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81160" y="3228840"/>
            <a:ext cx="1951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765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11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67360" y="4071960"/>
            <a:ext cx="144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69280" y="2454120"/>
            <a:ext cx="141588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54240" y="2502000"/>
            <a:ext cx="119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03600" y="3487680"/>
            <a:ext cx="65088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69840" y="3516480"/>
            <a:ext cx="41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60840" y="3487680"/>
            <a:ext cx="59364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5800" y="3535200"/>
            <a:ext cx="39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18080" y="3487680"/>
            <a:ext cx="95580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83960" y="3535200"/>
            <a:ext cx="75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8480" y="4483080"/>
            <a:ext cx="170316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64880" y="4511520"/>
            <a:ext cx="146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31560" y="30384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d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74680" y="3575160"/>
            <a:ext cx="16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startPoint &lt;&gt; 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00760" y="2387520"/>
            <a:ext cx="62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orde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94520" y="3862440"/>
            <a:ext cx="102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size=1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83160" y="48369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81720" y="5010120"/>
            <a:ext cx="162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1.length = e2.length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02000" y="3038400"/>
            <a:ext cx="18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49600" y="167940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30240" y="1852560"/>
            <a:ext cx="68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1 &lt;&gt;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48160" y="2023920"/>
            <a:ext cx="256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lies e1.startPoint &lt;&gt; e2.start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4560" y="2197080"/>
            <a:ext cx="236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d e1.endPoint &lt;&gt; e2.endpoint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78640" y="3306600"/>
            <a:ext cx="139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31560" y="3306600"/>
            <a:ext cx="82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 : 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93880" y="3803760"/>
            <a:ext cx="63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9320" y="382428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6680" y="4091040"/>
            <a:ext cx="64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length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94160" y="426420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.length-&gt;su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32360" y="3228840"/>
            <a:ext cx="144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36200" y="384336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irst.startPoint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33320" y="4014720"/>
            <a:ext cx="1501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-&gt;last.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2205000"/>
            <a:ext cx="2392200" cy="84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71800" y="219708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 LinearShape is any sha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68200" y="2387520"/>
            <a:ext cx="243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at can be constructed of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71080" y="2579760"/>
            <a:ext cx="21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gments (in contrast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69640" y="2770200"/>
            <a:ext cx="22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apes that contain curv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1760" y="2195640"/>
            <a:ext cx="154080" cy="15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AFD-B378-4F2F-9917-10B4DDF39AD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xample: A Class Diagram for Genea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must have two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riages not properly account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600200" y="1054080"/>
            <a:ext cx="472428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0C1-354C-484B-8DB2-4981E5ADCD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alogy example: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47760" y="1619280"/>
            <a:ext cx="1184400" cy="1630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57480" y="1903320"/>
            <a:ext cx="11653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488680" y="166212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8080" y="19890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91400" y="240048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91400" y="260676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90320" y="281160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90320" y="30178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560" y="3900600"/>
            <a:ext cx="1374840" cy="1047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04920" y="4218120"/>
            <a:ext cx="1355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2640" y="397836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39560" y="430380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39560" y="451008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40280" y="471636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78200" y="2982960"/>
            <a:ext cx="1800" cy="1388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5480" y="437364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4149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02720" y="2778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95880" y="3000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40080" y="2982960"/>
            <a:ext cx="13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78320" y="4371840"/>
            <a:ext cx="1199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186000" y="3257640"/>
            <a:ext cx="1800" cy="635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74920" y="36702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06840" y="327492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97240" y="3274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37480" y="21956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21400" y="1638360"/>
            <a:ext cx="1184400" cy="1441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31120" y="1938240"/>
            <a:ext cx="1166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22000" y="16812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65760" y="20080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65040" y="22147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65040" y="241920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63960" y="262584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63960" y="28306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80000" y="4635360"/>
            <a:ext cx="137340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88280" y="4952880"/>
            <a:ext cx="13554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33240" y="469584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2560" y="502272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22560" y="522936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3280" y="543384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051840" y="2793960"/>
            <a:ext cx="1800" cy="2333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99120" y="512748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945560" y="4903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776360" y="2589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69160" y="279576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6560" y="4406760"/>
            <a:ext cx="29196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3303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24360" y="401328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4248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87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796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713720" y="2793960"/>
            <a:ext cx="1338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868880" y="5127480"/>
            <a:ext cx="1182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70248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622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4400" y="40132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fe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47396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1372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598800" y="3446640"/>
            <a:ext cx="1063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8024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9916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65800" y="3284640"/>
            <a:ext cx="1800" cy="153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72040" y="3676680"/>
            <a:ext cx="118584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04320" y="372096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24840" y="3676680"/>
            <a:ext cx="92700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71520" y="372096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02240" y="3327480"/>
            <a:ext cx="141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{partner-&gt;forAll(p1,p2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67760" y="3481560"/>
            <a:ext cx="63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1 &lt;&gt; p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72000" y="3635280"/>
            <a:ext cx="171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implies p1.sex &lt;&gt; p2.sex)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5B2-5F79-4AE1-B3EF-0A5AF5EC422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8 The Process of Developing 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reate UML models at different stages and with different purposes and levels of detai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ory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domain analysis to learn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spects of the domain represented by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also classes used to build the user interface and system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C48-67B0-4657-9014-BF87422FFB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omain model vs Syste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mits many classes that are needed to build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less than half the classes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developed to be used  independently of particular se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48A-C676-4C3D-98DE-3E6EA0C589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ed sequence of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 first set of candid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the 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specifi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the entir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the model is 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or delete classes, associations, attributes, generalizations, responsibilities or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design patterns (Chapter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too disorganized. Don’t be too rigid ei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EC5-81F2-4A49-8315-8C62D05B63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detail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an associated textu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Constraint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UML is to assist in software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5F3-B2BD-4776-8D4C-364F1D370B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class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veloping a domain model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work on the user interface or the system architecture,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to solve a particular design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venting may also occur when creating a domai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should always be a conc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43A-CAEC-4746-B1FC-204811511D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technique for discovering domain class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a source material such as a description of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 phr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noun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vague or highly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eeded in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attention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in a domain model that repres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us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other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54E-532A-432C-9347-57E497F30F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ssociations an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classes you think are mos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clear and obvious data it must contain and its relationships to other cla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outwards towards the classes that are less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adding many associations and attributes to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is simpler if it manipulates less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027-54D1-4B35-B4E4-C064811AA2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ps about identifying and specifying valid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ciation should exist if a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nec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la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mber 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class in you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e multiplicity at both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it cl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98F-75E7-4404-B081-71DCCE8ABEB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versus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on mistake is to repres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f they were asso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36800" y="3105000"/>
            <a:ext cx="144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964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658880" y="2708280"/>
            <a:ext cx="1366920" cy="388800"/>
            <a:chOff x="1658880" y="2708280"/>
            <a:chExt cx="1366920" cy="388800"/>
          </a:xfrm>
        </p:grpSpPr>
        <p:sp>
          <p:nvSpPr>
            <p:cNvPr id="720" name=""/>
            <p:cNvSpPr/>
            <p:nvPr/>
          </p:nvSpPr>
          <p:spPr>
            <a:xfrm>
              <a:off x="1658880" y="2708280"/>
              <a:ext cx="136692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03960" y="278460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478520" y="349416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bor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578480" y="3367080"/>
            <a:ext cx="1198440" cy="979560"/>
            <a:chOff x="4578480" y="3367080"/>
            <a:chExt cx="1198440" cy="979560"/>
          </a:xfrm>
        </p:grpSpPr>
        <p:sp>
          <p:nvSpPr>
            <p:cNvPr id="724" name=""/>
            <p:cNvSpPr/>
            <p:nvPr/>
          </p:nvSpPr>
          <p:spPr>
            <a:xfrm>
              <a:off x="4578480" y="3367080"/>
              <a:ext cx="1198440" cy="9795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86400" y="3679920"/>
              <a:ext cx="1164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9040" y="342576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17080" y="374652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borrow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17800" y="39146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due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17440" y="40831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return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1556640" y="4556160"/>
            <a:ext cx="285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ad, due to the use of associ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59520" y="4757760"/>
            <a:ext cx="122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at ar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83800" y="39654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42440" y="349416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658880" y="4143240"/>
            <a:ext cx="1451160" cy="389160"/>
            <a:chOff x="1658880" y="4143240"/>
            <a:chExt cx="1451160" cy="389160"/>
          </a:xfrm>
        </p:grpSpPr>
        <p:sp>
          <p:nvSpPr>
            <p:cNvPr id="744" name=""/>
            <p:cNvSpPr/>
            <p:nvPr/>
          </p:nvSpPr>
          <p:spPr>
            <a:xfrm>
              <a:off x="1658880" y="4143240"/>
              <a:ext cx="145116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22680" y="420228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612880" y="3105000"/>
            <a:ext cx="180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2500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091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232680" y="3298680"/>
            <a:ext cx="1384200" cy="389160"/>
            <a:chOff x="6232680" y="3298680"/>
            <a:chExt cx="1384200" cy="389160"/>
          </a:xfrm>
        </p:grpSpPr>
        <p:sp>
          <p:nvSpPr>
            <p:cNvPr id="750" name=""/>
            <p:cNvSpPr/>
            <p:nvPr/>
          </p:nvSpPr>
          <p:spPr>
            <a:xfrm>
              <a:off x="6232680" y="3298680"/>
              <a:ext cx="138420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77400" y="335916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232680" y="3973680"/>
            <a:ext cx="1450800" cy="388800"/>
            <a:chOff x="6232680" y="3973680"/>
            <a:chExt cx="1450800" cy="388800"/>
          </a:xfrm>
        </p:grpSpPr>
        <p:sp>
          <p:nvSpPr>
            <p:cNvPr id="753" name=""/>
            <p:cNvSpPr/>
            <p:nvPr/>
          </p:nvSpPr>
          <p:spPr>
            <a:xfrm>
              <a:off x="6232680" y="3973680"/>
              <a:ext cx="145080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11960" y="403380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5769000" y="344340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69000" y="411804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39560" y="3459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395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00440" y="435276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etter: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80440" y="4370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65800" y="4352760"/>
            <a:ext cx="162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create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978680" y="4370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355960" y="4352760"/>
            <a:ext cx="44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97560" y="4556160"/>
            <a:ext cx="29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1640" y="457344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22480" y="45561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se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85080" y="457344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ed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544240" y="4556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02600" y="475776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ttrib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D25-9DE1-435B-B398-74692497F6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information that must be maintained about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al nouns rejected as classes, may now become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ttribute should generally contain a simple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tring,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7BC-B181-4A3E-AD67-E428682720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ps about identifying and specifying vali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good to have many duplicate attribut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ubset of a class’s attributes form a coherent group, then create a distinct class containing thes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447920" y="2776680"/>
            <a:ext cx="7848360" cy="35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7D9-BB36-40D1-B7A2-D278D201CA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attributes and associ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137280" y="240048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320" y="2400480"/>
            <a:ext cx="1440" cy="353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137280" y="275436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37000" y="211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2680" y="27525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327800" y="1798560"/>
            <a:ext cx="1652760" cy="1155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340760" y="2235240"/>
            <a:ext cx="1627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12400" y="190332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84120" y="235260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8680" y="263520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50080" y="3036960"/>
            <a:ext cx="1440" cy="942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37320" y="306072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89160" y="30607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73240" y="1916280"/>
            <a:ext cx="1887480" cy="1109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66360" y="1974960"/>
            <a:ext cx="1220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8840" y="3036960"/>
            <a:ext cx="1800" cy="825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953800" y="4357800"/>
            <a:ext cx="2806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88280" y="2965320"/>
            <a:ext cx="1440" cy="1014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2240" y="3990960"/>
            <a:ext cx="169848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84840" y="4429080"/>
            <a:ext cx="1673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4680" y="4097160"/>
            <a:ext cx="158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22800" y="45464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0880" y="21636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02280" y="24462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mployee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49640" y="1727280"/>
            <a:ext cx="2076480" cy="1298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062240" y="2139840"/>
            <a:ext cx="2052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65160" y="1762200"/>
            <a:ext cx="1139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203000" y="270684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79600" y="3863880"/>
            <a:ext cx="146376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92200" y="4300560"/>
            <a:ext cx="143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1040" y="3970440"/>
            <a:ext cx="96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80840" y="441792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22000" y="24004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20560" y="2682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2352600"/>
            <a:ext cx="1839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59A-9970-4F9D-993B-0F49D189DE9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generalizations and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ways to identify generaliz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together similar classes creating a new super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more general classes first, specialize them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stead of a  superclass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es are very dissimilar except for having a few operations in 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of the  classes already have their own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implementations of the same class might be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30A-D9B3-41A9-A8DC-36AC95FDD0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gener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992920" y="324972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38960" y="3249720"/>
            <a:ext cx="1440" cy="333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992560" y="358308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152760" y="2960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68960" y="35830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16840" y="2681280"/>
            <a:ext cx="1558800" cy="109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28000" y="3094200"/>
            <a:ext cx="1536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93160" y="278280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6020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07280" y="347184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15080" y="3849840"/>
            <a:ext cx="1440" cy="890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614920" y="3871800"/>
            <a:ext cx="111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63880" y="3873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306440" y="3193920"/>
            <a:ext cx="1781280" cy="644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384920" y="329400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141640" y="3849840"/>
            <a:ext cx="1440" cy="779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987640" y="5097600"/>
            <a:ext cx="2649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72280" y="3782880"/>
            <a:ext cx="1800" cy="95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648400" y="4751280"/>
            <a:ext cx="1601640" cy="824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59560" y="5164200"/>
            <a:ext cx="1579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24720" y="485316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84920" y="5275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22600" y="1413000"/>
            <a:ext cx="1314720" cy="1090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33760" y="1824120"/>
            <a:ext cx="1292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59920" y="151272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59840" y="1936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13040" y="220356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521160" y="1913040"/>
            <a:ext cx="89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08200" y="2825640"/>
            <a:ext cx="2516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24600" y="2825640"/>
            <a:ext cx="1440" cy="1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08200" y="2247840"/>
            <a:ext cx="1800" cy="57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563560" y="2825640"/>
            <a:ext cx="442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563920" y="2825640"/>
            <a:ext cx="1440" cy="35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89400" y="3016080"/>
            <a:ext cx="1692360" cy="82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00560" y="3427560"/>
            <a:ext cx="1670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67160" y="311616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76960" y="353844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95520" y="4640400"/>
            <a:ext cx="1380960" cy="823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06680" y="5051520"/>
            <a:ext cx="1358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95040" y="474012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86320" y="516420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30480" y="1590840"/>
            <a:ext cx="1379520" cy="645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08240" y="169056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910-C004-4524-BF79-4B524FC37D5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onstitutes a good mode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del shou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standard no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understandable by clients and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software engineers to have insights about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re us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elp creat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ermit analysis and review of those desig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ore documentation describing the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431-01A3-4D1C-8CA6-75D12BF82E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ng responsibilities to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he system is required to d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al requirement must be attributed to one of th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sponsibilities of a given class sh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rel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too many responsibilities,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nto distinct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no responsibilities attached to it, then it is probab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responsibility cannot be attributed to any of the existing classes, the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cre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responsibil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use case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verbs and nouns describ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ystem 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6FD-5758-4878-B351-8961907A20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egories of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getting the values of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initializing new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ing to and saving from persistent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ing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d deleting links of asso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, converting, transforming, transmitting or outpu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ing numerical 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ng and sear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pecializ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A6B-884D-4540-AB87-6EA8CAF6C4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(responsi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59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new regular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ing for a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ing attributes of a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specific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ing a pa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ling a b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3216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89920" y="321624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810480" y="3502080"/>
            <a:ext cx="37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945480" y="2968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46920" y="3502080"/>
            <a:ext cx="82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65920" y="2732040"/>
            <a:ext cx="132408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775640" y="3083040"/>
            <a:ext cx="1305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831080" y="281628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65360" y="317808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23240" y="340668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59640" y="3730680"/>
            <a:ext cx="1440" cy="76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89720" y="3749760"/>
            <a:ext cx="936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529680" y="37479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28880" y="3168720"/>
            <a:ext cx="1513080" cy="552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94760" y="325440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538440" y="3730680"/>
            <a:ext cx="180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4257360" y="4794120"/>
            <a:ext cx="225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13800" y="3673440"/>
            <a:ext cx="1440" cy="8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518160" y="4491000"/>
            <a:ext cx="1360440" cy="70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26080" y="4842000"/>
            <a:ext cx="1343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580440" y="457524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76920" y="49370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153280" y="2170080"/>
            <a:ext cx="180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602400" y="1905120"/>
            <a:ext cx="814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477040" y="1647720"/>
            <a:ext cx="111600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6400" y="2000160"/>
            <a:ext cx="1096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768640" y="1733400"/>
            <a:ext cx="64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70000" y="2093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35440" y="23223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711320" y="2075040"/>
            <a:ext cx="75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35520" y="2855880"/>
            <a:ext cx="213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72120" y="2855880"/>
            <a:ext cx="180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35520" y="2360520"/>
            <a:ext cx="144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897360" y="285588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97360" y="2855880"/>
            <a:ext cx="144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364000" y="3016080"/>
            <a:ext cx="1436760" cy="704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373720" y="3368520"/>
            <a:ext cx="1417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3102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521320" y="346392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75120" y="4405320"/>
            <a:ext cx="117288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84480" y="4757760"/>
            <a:ext cx="1154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37200" y="449100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32080" y="48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29080" y="1800360"/>
            <a:ext cx="117324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95320" y="188424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426440" y="1609560"/>
            <a:ext cx="1114200" cy="55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751880" y="1695600"/>
            <a:ext cx="59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15B-EB4A-42C0-9E63-DEE09D4C89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ing a class diagram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identify classes, you write their names on small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identify attributes and responsibilities, you list them on the c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not fit all the responsibilities on one c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uggests you should split the class into two related clas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he cards around on a whiteboard to arrange them into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lines among the cards to represent associations and generaliz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F0D-B06D-4787-895E-A4D04305FA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ope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are needed to realize the responsibilities of each clas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several operations per respon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operations that implement a responsibility are normally declar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 that collaborate to perform the responsibility must be as private as poss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BF2-5A10-4E8D-A887-AD351BA167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class col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330960" y="3063960"/>
            <a:ext cx="2739960" cy="92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40320" y="3451320"/>
            <a:ext cx="2721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376040" y="314784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97640" y="3508200"/>
            <a:ext cx="234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SpecificFlight [a2, d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96920" y="3735360"/>
            <a:ext cx="224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eleteLinkToSpecificFlight [d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14680" y="3195720"/>
            <a:ext cx="2059200" cy="162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22600" y="3583080"/>
            <a:ext cx="20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0080" y="328140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78840" y="3639960"/>
            <a:ext cx="1578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specifyAirplane [a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80280" y="386712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reateFlightLog [b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51200" y="4888080"/>
            <a:ext cx="1450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makeBooking [c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79560" y="4075200"/>
            <a:ext cx="160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hangeAirplane [d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680280" y="4302000"/>
            <a:ext cx="171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findCrewMember [e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38360" y="1797120"/>
            <a:ext cx="14367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448080" y="2184480"/>
            <a:ext cx="1417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04600" y="188280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02160" y="2241720"/>
            <a:ext cx="113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getName [e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92800" y="4311720"/>
            <a:ext cx="13035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302520" y="4699080"/>
            <a:ext cx="1284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527880" y="4395960"/>
            <a:ext cx="86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FlightLo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455880" y="4754520"/>
            <a:ext cx="997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FlightLog [b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59000" y="3119400"/>
            <a:ext cx="1228680" cy="7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68360" y="3506760"/>
            <a:ext cx="1209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59240" y="320508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95520" y="356400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ooking [c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00080" y="4443480"/>
            <a:ext cx="2022480" cy="96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09800" y="4830840"/>
            <a:ext cx="20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10400" y="452772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202760" y="51148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4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1954080" y="3905280"/>
            <a:ext cx="1800" cy="52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03240" y="3941640"/>
            <a:ext cx="95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46080" y="39416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97040" y="3470400"/>
            <a:ext cx="908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582880" y="4660920"/>
            <a:ext cx="70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943960" y="44197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583240" y="3544920"/>
            <a:ext cx="719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645160" y="3319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4562640" y="2504880"/>
            <a:ext cx="144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92720" y="2523960"/>
            <a:ext cx="95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2440" y="25257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9244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39880" y="25066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rew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12360" y="3281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30040" y="45100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F01-3272-4207-AB87-C3A812F3AD3B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 bi-directional link between two existing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ding a link between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495680" y="411120"/>
            <a:ext cx="457200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1A2-2AED-4FBF-8E55-90C34896192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and linking it to an existing 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reating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linking it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makes a one-directional link to the new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Clas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onstru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80988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EE8-4FD5-4FAD-871F-3A45E40792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association class, given two existing ob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reating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link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Clas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onstructor, among its other 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s 3 and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4419720" y="254160"/>
            <a:ext cx="4686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D22-39DB-4E0E-975C-0799639DCD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the destination of a li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hanging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om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the link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its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non-public)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432320" cy="7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777-82C2-43EE-9D5B-BFB374ECA6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2 Essentials of UML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symbols shown on class diagrams are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types of data themsel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linkages between instances of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imple data found in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functions performed by the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classes into inheritance hierarch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B70-A671-44D6-A52D-145282A43F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n associated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arching for a crew member associated with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has a certain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all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w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s of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f them call operation 2, until it finds a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y be 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its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4876920" y="484200"/>
            <a:ext cx="403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794-7906-41FD-90E0-8AB2939118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9 Implementing Class Diagram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are implemented as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 are implemented usin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are implemented usin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are normally implemented using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each two-way association into two one-way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each associated class has an instance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one-way association where the multiplicity at the other end is ‘one’ or ‘optiona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a variable of that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ref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one-way association where the multiplicity at the other end is ‘many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implementing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511-3886-466C-99CB-225B00C33A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371600" y="1447920"/>
            <a:ext cx="73915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lendar 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RegularFlight regular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rminalOfAirport destin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irplane airpla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FlightLog flightLo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crew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f Employee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boo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3E0-EDB7-4AC7-9C46-265EEBD5A8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nstructor that should only be called fr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dd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endar aDat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 aRegularFligh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= aDat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 = aRegularFligh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8A5-FFA7-4C30-BDA7-696D1EAE43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47920" y="1066680"/>
            <a:ext cx="693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gular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specificFligh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thod that has 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ddSpecificFligh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endar a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 newSpecific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SpecificFligh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pecificFlight(aDate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s.add(newSpecificFl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37D-EB94-410B-90BF-D54582F0138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simply represented as a box with the name of the class ins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gram may also show the attribute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te signature of an operation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Name(parameterName: parameterType …): return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23888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A9A-4D5A-4D57-BF6E-23C9FEC796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3 Associations and Multipl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oci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show how two classes are related to each 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s indicat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hown at each end of the 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502PossibleMultip" descr=""/>
          <p:cNvPicPr/>
          <p:nvPr/>
        </p:nvPicPr>
        <p:blipFill>
          <a:blip r:embed="rId1"/>
          <a:stretch/>
        </p:blipFill>
        <p:spPr>
          <a:xfrm>
            <a:off x="1905120" y="2954160"/>
            <a:ext cx="419076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1F3-F786-4B35-8A44-4D291C9157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belling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ociation can be labelled, to make explicit the nature of the 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503PossibleMultipAssoc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162920" cy="39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501-8F20-48DA-A732-50F6E02EC1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07T04:37:24Z</dcterms:modified>
  <cp:revision>108</cp:revision>
  <dc:subject/>
  <dc:title>SEG 2100 Software Design II</dc:title>
</cp:coreProperties>
</file>