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449-01D1-4565-8FEB-9B122712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7E8-D79B-4411-82E7-477F50BA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E59-9F4F-4974-B639-2D64DD38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E51-30DD-49B5-978A-69831E96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4ED-97EC-4778-B2FE-90A7C775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EA8-A740-43AF-B8D8-AE5BEFF5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087-6CB9-45E1-A5D8-C61E9A01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6DA-2C11-4DEE-B3A5-ADA9E390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3BF-7AEF-4B5C-94FA-0F2CAA9C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BF0-0382-48A7-B75F-F6AF6F62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BB9-222C-4D02-ABAB-CAD25D68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DE9-2CF9-414C-B5C7-2AF82C4F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DBD7-F52A-4438-92B1-3FD9C704B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4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veloping Requir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n-functional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ust be verifia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main typ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ategories reflecting: usability, efficiency, reliability, maintainability and reus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y from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ances for maintainability and enhan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ances for reus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788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1CD-0108-4B61-8252-2B3A1ED356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n-function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ategor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in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 and technolog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to be us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ategor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i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plan and development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process (methodology) to be u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and delivery 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put in contract or project plan inst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9E4-2105-489C-BFED-0E7F8FA18A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6 Some Techniques for Gathering and Analysing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documents and discuss requirements with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ing important potential users as they do their 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the user to explain everything he or she is do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 videot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ies of intervie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about specific detai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about the stakeholder’s vision for the fu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if they have alternative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for other sources of in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them to draw diagra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88F-93DC-47C3-B97E-0067047EEF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athering and Analysing Requiremen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storm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oint an experienced mod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the attendees around a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on a ‘trigger question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each participant to write an answer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 the paper to its neighb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Application Development (JAD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technique based on intensive brainstorming session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6712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38480" y="3657600"/>
            <a:ext cx="1752840" cy="14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3F0-CE0C-485D-BEC1-A68E3C89A6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athering and Analysing Requiremen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mplest kind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r prototyp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t of pictures of the system that are shown to users in sequence to explain what would 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common: a mock-up of the system’s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ten in a rapid prototyp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rmally perform any computations, access any databases or interact with any oth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prototype a particular aspect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92F-B3CC-4FF0-B573-BA1CB5B5E0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athering and Analysing Requiremen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l use case analys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classes of users that will use the facilities of this system (ac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tasks that each actor will need to do with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on use cases in Chapter 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AC1-5EFB-4F50-8726-A1CF0BC441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7 Types of Requirements Docu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3962160"/>
            <a:ext cx="4267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documents for large systems are normally arranged in a hierarc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815080" y="3097080"/>
            <a:ext cx="2554200" cy="3063960"/>
            <a:chOff x="5815080" y="3097080"/>
            <a:chExt cx="2554200" cy="3063960"/>
          </a:xfrm>
        </p:grpSpPr>
        <p:sp>
          <p:nvSpPr>
            <p:cNvPr id="84" name=""/>
            <p:cNvSpPr/>
            <p:nvPr/>
          </p:nvSpPr>
          <p:spPr>
            <a:xfrm>
              <a:off x="6718320" y="3097080"/>
              <a:ext cx="695160" cy="871560"/>
            </a:xfrm>
            <a:custGeom>
              <a:avLst/>
              <a:gdLst/>
              <a:ahLst/>
              <a:rect l="l" t="t" r="r" b="b"/>
              <a:pathLst>
                <a:path w="438" h="549">
                  <a:moveTo>
                    <a:pt x="0" y="0"/>
                  </a:moveTo>
                  <a:lnTo>
                    <a:pt x="438" y="0"/>
                  </a:lnTo>
                  <a:lnTo>
                    <a:pt x="438" y="549"/>
                  </a:lnTo>
                  <a:lnTo>
                    <a:pt x="0" y="5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18320" y="3097080"/>
              <a:ext cx="695160" cy="87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23000" y="3102120"/>
              <a:ext cx="685800" cy="86184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73920" y="4197240"/>
              <a:ext cx="706320" cy="884520"/>
            </a:xfrm>
            <a:custGeom>
              <a:avLst/>
              <a:gdLst/>
              <a:ahLst/>
              <a:rect l="l" t="t" r="r" b="b"/>
              <a:pathLst>
                <a:path w="445" h="557">
                  <a:moveTo>
                    <a:pt x="0" y="0"/>
                  </a:moveTo>
                  <a:lnTo>
                    <a:pt x="445" y="0"/>
                  </a:lnTo>
                  <a:lnTo>
                    <a:pt x="445" y="55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73920" y="4197240"/>
              <a:ext cx="706320" cy="88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78600" y="4213080"/>
              <a:ext cx="696960" cy="8733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64840" y="312732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38120" y="324180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37760" y="330372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38120" y="336564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37040" y="342900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37760" y="3490920"/>
              <a:ext cx="16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37040" y="355284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37760" y="361620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38120" y="367812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36680" y="3740040"/>
              <a:ext cx="48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52480" y="407340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ubsystem 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2160" y="407340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ubsystem 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20440" y="422928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3720" y="434340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3360" y="440532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3720" y="446724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2640" y="453060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3360" y="4592520"/>
              <a:ext cx="16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2280" y="465444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3360" y="471636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93720" y="478008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2280" y="4842000"/>
              <a:ext cx="48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45520" y="4208400"/>
              <a:ext cx="706320" cy="873360"/>
            </a:xfrm>
            <a:custGeom>
              <a:avLst/>
              <a:gdLst/>
              <a:ahLst/>
              <a:rect l="l" t="t" r="r" b="b"/>
              <a:pathLst>
                <a:path w="445" h="550">
                  <a:moveTo>
                    <a:pt x="0" y="0"/>
                  </a:moveTo>
                  <a:lnTo>
                    <a:pt x="445" y="0"/>
                  </a:lnTo>
                  <a:lnTo>
                    <a:pt x="445" y="550"/>
                  </a:lnTo>
                  <a:lnTo>
                    <a:pt x="0" y="5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45520" y="4208400"/>
              <a:ext cx="706320" cy="87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50200" y="4213080"/>
              <a:ext cx="696960" cy="86364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92040" y="422928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83760" y="4332240"/>
              <a:ext cx="36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65320" y="444672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64960" y="450864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65320" y="457200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64240" y="463392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4960" y="4695840"/>
              <a:ext cx="16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3880" y="475920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64960" y="482112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65320" y="488304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3880" y="4944960"/>
              <a:ext cx="48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2960" y="4498920"/>
              <a:ext cx="706320" cy="873360"/>
            </a:xfrm>
            <a:custGeom>
              <a:avLst/>
              <a:gdLst/>
              <a:ahLst/>
              <a:rect l="l" t="t" r="r" b="b"/>
              <a:pathLst>
                <a:path w="445" h="550">
                  <a:moveTo>
                    <a:pt x="0" y="0"/>
                  </a:moveTo>
                  <a:lnTo>
                    <a:pt x="445" y="0"/>
                  </a:lnTo>
                  <a:lnTo>
                    <a:pt x="445" y="550"/>
                  </a:lnTo>
                  <a:lnTo>
                    <a:pt x="0" y="55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67640" y="4503600"/>
              <a:ext cx="696960" cy="863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00120" y="451944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07680" y="4624560"/>
              <a:ext cx="50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73040" y="473724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73040" y="480060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73400" y="486252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72320" y="492444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73040" y="4987800"/>
              <a:ext cx="16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71960" y="504972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73040" y="511164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73400" y="517356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71960" y="5237280"/>
              <a:ext cx="48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81200" y="5164200"/>
              <a:ext cx="636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ub-subsys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73320" y="5413320"/>
              <a:ext cx="636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ub-subsys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15080" y="533088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19760" y="5335560"/>
              <a:ext cx="34308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06880" y="535140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83840" y="539280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2640" y="544356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21560" y="54752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23000" y="549576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20120" y="552780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22280" y="555768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19400" y="558972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21560" y="562140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56516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8320" y="568332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18040" y="547524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23080" y="5479920"/>
              <a:ext cx="342720" cy="4273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11640" y="549756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00120" y="554832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27400" y="558972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26320" y="562140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27760" y="56516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24880" y="568332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27040" y="571500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24160" y="574524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26320" y="57769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27760" y="58086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3080" y="583884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73920" y="5310360"/>
              <a:ext cx="353880" cy="43632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0"/>
                  </a:moveTo>
                  <a:lnTo>
                    <a:pt x="223" y="0"/>
                  </a:lnTo>
                  <a:lnTo>
                    <a:pt x="223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78600" y="5315040"/>
              <a:ext cx="3445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67160" y="533088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44120" y="538308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82920" y="542304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1840" y="54547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3280" y="54864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0400" y="551664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82560" y="554832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79680" y="558000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13520" y="56102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11720" y="564192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01640" y="567216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88040" y="5454720"/>
              <a:ext cx="353880" cy="43632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0"/>
                  </a:moveTo>
                  <a:lnTo>
                    <a:pt x="223" y="0"/>
                  </a:lnTo>
                  <a:lnTo>
                    <a:pt x="223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2720" y="5459400"/>
              <a:ext cx="3445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70480" y="547704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8960" y="552780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15400" y="556884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16840" y="560088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15040" y="563076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19360" y="566244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15760" y="569448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20080" y="572436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16840" y="575640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15040" y="578628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04960" y="581832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43560" y="5299200"/>
              <a:ext cx="354240" cy="43632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0"/>
                  </a:moveTo>
                  <a:lnTo>
                    <a:pt x="223" y="0"/>
                  </a:lnTo>
                  <a:lnTo>
                    <a:pt x="223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48240" y="5303880"/>
              <a:ext cx="3445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37160" y="531972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14120" y="536256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82080" y="541332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83520" y="544356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81720" y="546588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86040" y="549576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82440" y="552780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86760" y="555768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83520" y="55897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1720" y="56214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71640" y="565164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48320" y="544500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53360" y="5450040"/>
              <a:ext cx="3427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40120" y="546588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28960" y="551808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85400" y="555768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6840" y="55897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85040" y="56214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89000" y="565164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85760" y="568332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90080" y="571500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86840" y="57452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85040" y="577692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74600" y="580860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03840" y="527832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08880" y="5283360"/>
              <a:ext cx="3427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95640" y="529920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72600" y="535140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40920" y="539280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42360" y="54230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40560" y="545472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44520" y="548640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41280" y="551664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5600" y="554832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2360" y="558000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40560" y="56102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30480" y="564192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18320" y="542448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23000" y="5429160"/>
              <a:ext cx="34308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00400" y="544500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89240" y="549756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45680" y="553716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47120" y="55688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45320" y="560088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49280" y="563076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46040" y="566244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50360" y="569448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47120" y="572436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45320" y="57564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35240" y="578628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69120" y="558000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73800" y="5584680"/>
              <a:ext cx="343080" cy="4273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60920" y="560088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37880" y="564192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6200" y="569448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07280" y="572436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05840" y="57452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09800" y="577692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06560" y="580860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10880" y="583884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07280" y="58705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05840" y="590076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95400" y="593244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72440" y="5726160"/>
              <a:ext cx="353880" cy="434880"/>
            </a:xfrm>
            <a:custGeom>
              <a:avLst/>
              <a:gdLst/>
              <a:ahLst/>
              <a:rect l="l" t="t" r="r" b="b"/>
              <a:pathLst>
                <a:path w="223" h="274">
                  <a:moveTo>
                    <a:pt x="0" y="0"/>
                  </a:moveTo>
                  <a:lnTo>
                    <a:pt x="223" y="0"/>
                  </a:lnTo>
                  <a:lnTo>
                    <a:pt x="223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77120" y="5730840"/>
              <a:ext cx="344520" cy="425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65680" y="574668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54160" y="579924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10960" y="583884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12040" y="58705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10600" y="590076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14560" y="593244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1320" y="596412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15640" y="599436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12040" y="60260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10600" y="605808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00160" y="608796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27960" y="5559480"/>
              <a:ext cx="353880" cy="43668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0"/>
                  </a:moveTo>
                  <a:lnTo>
                    <a:pt x="223" y="0"/>
                  </a:lnTo>
                  <a:lnTo>
                    <a:pt x="223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32640" y="5564160"/>
              <a:ext cx="3445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0" y="558000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98160" y="563256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66480" y="567216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67920" y="57038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66120" y="573552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70080" y="576576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66840" y="579744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71160" y="582948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67920" y="585936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66120" y="58910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55680" y="592308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642080" y="5703840"/>
            <a:ext cx="354240" cy="436680"/>
          </a:xfrm>
          <a:custGeom>
            <a:avLst/>
            <a:gdLst/>
            <a:ahLst/>
            <a:rect l="l" t="t" r="r" b="b"/>
            <a:pathLst>
              <a:path w="223" h="275">
                <a:moveTo>
                  <a:pt x="0" y="0"/>
                </a:moveTo>
                <a:lnTo>
                  <a:pt x="223" y="0"/>
                </a:lnTo>
                <a:lnTo>
                  <a:pt x="223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47120" y="5708520"/>
            <a:ext cx="344520" cy="42732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724520" y="572616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13000" y="5776920"/>
            <a:ext cx="2217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69440" y="581832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70880" y="585000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69080" y="588024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73400" y="591192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70160" y="594360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74120" y="597384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70880" y="600552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69080" y="603720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59000" y="606744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97960" y="5548320"/>
            <a:ext cx="353880" cy="436680"/>
          </a:xfrm>
          <a:custGeom>
            <a:avLst/>
            <a:gdLst/>
            <a:ahLst/>
            <a:rect l="l" t="t" r="r" b="b"/>
            <a:pathLst>
              <a:path w="223" h="275">
                <a:moveTo>
                  <a:pt x="0" y="0"/>
                </a:moveTo>
                <a:lnTo>
                  <a:pt x="223" y="0"/>
                </a:lnTo>
                <a:lnTo>
                  <a:pt x="223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802640" y="5553000"/>
            <a:ext cx="344520" cy="4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891200" y="557064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68160" y="5611680"/>
            <a:ext cx="162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36120" y="566244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37560" y="569448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835760" y="571500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40080" y="574524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36840" y="577692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0800" y="580860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37560" y="583884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35760" y="587052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25680" y="590076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02720" y="5694480"/>
            <a:ext cx="352440" cy="436320"/>
          </a:xfrm>
          <a:custGeom>
            <a:avLst/>
            <a:gdLst/>
            <a:ahLst/>
            <a:rect l="l" t="t" r="r" b="b"/>
            <a:pathLst>
              <a:path w="222" h="275">
                <a:moveTo>
                  <a:pt x="0" y="0"/>
                </a:moveTo>
                <a:lnTo>
                  <a:pt x="222" y="0"/>
                </a:lnTo>
                <a:lnTo>
                  <a:pt x="222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07400" y="5699160"/>
            <a:ext cx="342720" cy="4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94520" y="571500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83000" y="5767560"/>
            <a:ext cx="2217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39440" y="580860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940880" y="583884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39080" y="587052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3400" y="590076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939800" y="593244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944120" y="596412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940880" y="599436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39080" y="602604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29000" y="605808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58240" y="5527800"/>
            <a:ext cx="352440" cy="436320"/>
          </a:xfrm>
          <a:custGeom>
            <a:avLst/>
            <a:gdLst/>
            <a:ahLst/>
            <a:rect l="l" t="t" r="r" b="b"/>
            <a:pathLst>
              <a:path w="222" h="275">
                <a:moveTo>
                  <a:pt x="0" y="0"/>
                </a:moveTo>
                <a:lnTo>
                  <a:pt x="222" y="0"/>
                </a:lnTo>
                <a:lnTo>
                  <a:pt x="222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62920" y="5532480"/>
            <a:ext cx="342720" cy="4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151480" y="554832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128440" y="5600880"/>
            <a:ext cx="162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96760" y="564192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97840" y="567216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96400" y="570384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100360" y="573552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097120" y="576576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101440" y="579744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097840" y="582948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096400" y="585936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85960" y="589104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72360" y="5673600"/>
            <a:ext cx="352440" cy="436680"/>
          </a:xfrm>
          <a:custGeom>
            <a:avLst/>
            <a:gdLst/>
            <a:ahLst/>
            <a:rect l="l" t="t" r="r" b="b"/>
            <a:pathLst>
              <a:path w="222" h="275">
                <a:moveTo>
                  <a:pt x="0" y="0"/>
                </a:moveTo>
                <a:lnTo>
                  <a:pt x="222" y="0"/>
                </a:lnTo>
                <a:lnTo>
                  <a:pt x="222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177040" y="5678640"/>
            <a:ext cx="343080" cy="4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54800" y="569448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43280" y="5746680"/>
            <a:ext cx="2217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199720" y="578628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01160" y="581832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199360" y="585000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03680" y="588024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00080" y="591192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04400" y="594360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01160" y="597384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199360" y="600552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66240" y="603720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extre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formal outline of the requirements using a few paragraphs or simpl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ng list of specifications that contain thousands of pages of intricate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C1D-8513-44CC-8A92-622D9039DA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detail required in a requirements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uch detail should be provided depend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ze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interface to other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der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ge in requirements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vel of experience with the domain and the techn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 that would be incurred if the requirements were faul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045-C2EC-47EF-9589-4F6BFA402D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8 Reviewing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ndividual requirement shoul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outweigh the cost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evelop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solution of the current prob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expressed using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and consistent not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mbigu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ly consist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 to a system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cient qua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st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available resour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if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uniquely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over-constrain the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ys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FC3-8908-4251-B169-20AE03F301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ments documents..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ocument should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ciently comp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organ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d to by all the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3864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4724280" cy="180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62A-3148-4D28-8BFE-7432D6EA8D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main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process by which a software engineer learns about the domain to better understand the probl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general field of business or technology in which the clients will use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expe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person who has a deep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of th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of performing domain analysi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ipation of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B6A-AFB9-405B-BA14-31909CB33D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ments documen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 and system mod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functional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9B3-E047-4C11-9BCE-E7AC576C27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9 Managing Changing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change beca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process chan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chan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 becomes better underst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analysis never stop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o interact with the clients and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nefits of changes must outweigh the co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small changes (e.g. look and feel of the UI) are usually quick and easy to make at relatively little co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r-scale changes have to be carefully ass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ing unexpected changes into a partially built system will probably result in a poor design and late deliv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hanges are enhancements in disgui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making the system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g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nly make i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715C-2EFA-4B16-B947-43538AD3C0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13 Difficulties and Risks in Domain and Requirements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understanding of the domain or the real prob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domain analysis and prototy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change rapid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incremental development, build flexibility into the design, do regular revie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ing to do too mu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the problem boundaries at an early stage, carefully estimate the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ay be hard to reconcile conflicting sets of requir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storming, JAD sessions, competing prototyp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hard to state requirements precis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 requirements down into simple sentences and review them carefully, look for potential ambiguity, make early prototy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CEE-92D4-406C-A826-488F95DB02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Analysis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knowledge about the do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and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viro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s and procedures currently perfor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ng 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ities to other doma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6A6-0C14-4F12-B075-47FEB08659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2108160"/>
            <a:ext cx="6934320" cy="299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2 The Starting Point for Softwar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956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657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iel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216-A520-4DDD-9E5D-5D89CDCCE2C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3 Defining the Problem and the 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blem can be expressed a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users or customers are fac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s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will result in some benefit such as improved productivity or s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lution to the problem normally will entail developing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ood problem statement is short and succinc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48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148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FB8-F811-4D5F-B858-35DEC524C8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ng the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row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defining a more precise probl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all the things you might imagine the system do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de some of these things if too 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high-level goals if too na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A university registration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447920" y="4038480"/>
          <a:ext cx="7162560" cy="20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038480"/>
                    <a:ext cx="716256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4F4-83A2-49F3-8393-4252F2AD0C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4 What is a Requi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: 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 about the proposed system that all stakeholders agree must be made true in order for the customer’s problem to be adequately solv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and concise piece of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s something about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stakeholders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elps solve the customer’s probl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on of require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docum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C84-A4A1-41DE-85AE-6AD8878CAA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5 Types of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ystem should 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functional requirement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strai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must be adhered to during develo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C5E-7064-4D48-AEF0-2FAF0DEBDD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al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ystem should 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ystem should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ata the system shoul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at other systems might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a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ystem should per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and synchroniz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ab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F9F-FDD7-4E88-A8E6-78E2D1D04B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1-09-14T20:47:31Z</dcterms:modified>
  <cp:revision>63</cp:revision>
  <dc:subject/>
  <dc:title>SEG 2100 Software Design II</dc:title>
</cp:coreProperties>
</file>