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85F-162E-4F02-84E7-EF382292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DE8-45E1-4B25-9F02-F8C3BC76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8DF-B7DC-46C5-A1B4-4E781BF6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4AA-6F9D-403B-A545-2836B66E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FEF-74DE-4E62-861A-A35DC592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9CD-EFD9-4D29-A1F3-094ED610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A49-7201-4F16-A7F4-E55D0F8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297-7092-43BA-8B4A-8A3AA95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CFD-ED56-41C9-9CD7-02197021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B53-9E6D-4633-97C4-76BEB86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942-7D64-45A8-BABB-7F19F7AF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908-4AB2-451C-A07D-C7D10FA8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E87C-6D1F-4CAE-AA4F-EC0A18341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3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ng Software Development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Technolo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4 The Client-Serv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ystem in which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s are performed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running on separate pieces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pe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erform the task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hat provides a service for other programs that connect to it using a communicatio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hat accesses a server (or several servers) to obtai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accessed by many clients simultaneous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BE1-62C8-4B8B-8123-2081F0162F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of activities in a client-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starts ru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waits for cli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nect.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start running and perform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perations involve requests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ient attempts to connect,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accepts the conne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it is will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waits for messa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rrive from connected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message from a client arrives,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takes some 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sponse, then resumes wai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and servers continue functioning in this manner until they decide to shut down or dis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26B-8662-4814-B994-1F88120A28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server program communicating with two client pr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1335240"/>
            <a:ext cx="5715000" cy="46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A52-7E01-400B-A907-26249B7CAC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client serv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rogr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one computer that does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omputer performs the work separ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mechanism other than client-server communication for exchang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ne program writes to a database; the other reads from the data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8A7-57DB-475C-BC95-00C9E0E324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vantag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of client-serv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ong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s can access the server’s functionality from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and server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oth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an be kept central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ly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an be 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ong many different geographically-distributed clients or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can be access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many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ng clients can be writt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mmunicate with the same server, and vice-ver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515-6BBC-4EFD-939C-528B62F553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client-serv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Wid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Disp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BB9-B3BC-40DA-B616-3F96BF3567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e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ts listening for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following types of ev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ing from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conne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s to mess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onn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to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nly termin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59320" y="1752480"/>
            <a:ext cx="376884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2D2-19FE-4301-A611-C343133345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62640" y="4865760"/>
            <a:ext cx="1800" cy="249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a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el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onne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following types of ev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ing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s to mess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onn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nly termin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539040" y="5135400"/>
            <a:ext cx="1440" cy="330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72280" y="509256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02320" y="530064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9960" y="5321160"/>
            <a:ext cx="144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5321160"/>
            <a:ext cx="144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532116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75400" y="530064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245360" y="3146040"/>
            <a:ext cx="1440" cy="35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35720" y="300024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09000" y="333216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7720" y="335268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45360" y="3352680"/>
            <a:ext cx="1440" cy="1256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62640" y="335268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1720" y="33321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0560" y="3125520"/>
            <a:ext cx="1440" cy="33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30920" y="297972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03840" y="32907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22920" y="3311640"/>
            <a:ext cx="144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40560" y="3311640"/>
            <a:ext cx="144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59280" y="331164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76920" y="329076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5960" y="1841400"/>
            <a:ext cx="1440" cy="435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6320" y="1862280"/>
            <a:ext cx="1908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29240" y="21099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8320" y="213048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65960" y="2130480"/>
            <a:ext cx="1440" cy="12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83240" y="213048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2320" y="21099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5840" y="2297160"/>
            <a:ext cx="188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4680" y="2284560"/>
            <a:ext cx="2178360" cy="60480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1120" y="2357280"/>
            <a:ext cx="18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e a conn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3640" y="258588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2320" y="3519360"/>
            <a:ext cx="255600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91160" y="3506760"/>
            <a:ext cx="2559240" cy="1522440"/>
          </a:xfrm>
          <a:prstGeom prst="roundRect">
            <a:avLst>
              <a:gd name="adj" fmla="val 11366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74840" y="3497400"/>
            <a:ext cx="167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ev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75920" y="3726000"/>
            <a:ext cx="203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ed by th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4880" y="40575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14880" y="4057560"/>
            <a:ext cx="183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d to messag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18120" y="42656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6320" y="4471920"/>
            <a:ext cx="1216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ndle server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onn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0560" y="3463920"/>
            <a:ext cx="1779480" cy="1393920"/>
          </a:xfrm>
          <a:prstGeom prst="roundRect">
            <a:avLst>
              <a:gd name="adj" fmla="val 11028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36440" y="3538440"/>
            <a:ext cx="147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act with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6080" y="3767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34280" y="3994200"/>
            <a:ext cx="175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 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37520" y="4222800"/>
            <a:ext cx="118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34640" y="4449600"/>
            <a:ext cx="119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3440" y="5529240"/>
            <a:ext cx="1068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21360" y="5514840"/>
            <a:ext cx="1071720" cy="60660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39080" y="55897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1239840"/>
            <a:ext cx="106992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9200" y="1227240"/>
            <a:ext cx="1073160" cy="60624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5480" y="13017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2560" y="3125880"/>
            <a:ext cx="1722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65960" y="2876400"/>
            <a:ext cx="1440" cy="249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62520" y="5105520"/>
            <a:ext cx="157320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883120" y="4865760"/>
            <a:ext cx="1800" cy="249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210440" y="5028840"/>
            <a:ext cx="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AD3-6267-4EF1-86C5-85D7141E3B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s in a client-server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00240"/>
            <a:ext cx="8076960" cy="48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40C-9981-4D8C-892A-A7BF5547422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n- versus fat-client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cli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 (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made as small as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work is done in the ser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easy to download over the 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-cli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 (b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much work as possible is delegated to the cl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can handle more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03ThinFatClient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5181480" cy="18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F31-23D4-4428-97BB-7199E53747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1 Building on the Experience of Ot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gineers should avoid re-developing software already develop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reu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expert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standard designs and 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libraries of classes or proced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owerful commands built into languages and operating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frame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complete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A62-FF73-4D91-A0D3-EA1D9D386C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s protoc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ssages the client sends to the server form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has to be programmed to understand that langu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ssages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ds to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so form a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programmed to understand that langu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ient and server are communicating, they are in effect having a conversation using these two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languages and the rules of the conversation, taken together, are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432-2197-4F1B-8E50-64C9AD2A3F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 to perform to devel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primary work to be performed by both client and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how the work will be distrib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details of the set of messages that will be s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mechanism f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ing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7EA-B5FB-4298-B993-122327FE9A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5 Technology Needed to Build Client-Server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rotocol (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messages from one computer to ano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messages are normally split up into small pie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Control Protocol (TC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wo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can then exchange many IP messages over a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the mess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satisfactorily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ost has a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n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ervers can run on the same ho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rver is identified by a port number (0 to 65535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itiate communication with a server, a client must know both the host name and th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E70-D5DA-4DF6-84E6-F969869778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 connection in 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ne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ck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the creation of a TCP/IP connection between tw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a connection can be established, the server must star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one of the por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ocket serverSocket =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ocket(po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cket clientSocket = serverSocket.accep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client to connect to a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cket clientSocket= new Socket(host, po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FC7-AF4E-4CD5-8EC0-A237EFC6CF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ing information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rogram uses an ins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ceive messages from the oth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nd messages to the oth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found in packag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tput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Socket.getOutputStream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= clientSocket.getInputStream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9E3-2479-470C-9B40-6132512DE8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and receiving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out any filters (raw byte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writ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g = input.rea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ilt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writeDoubl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input.readDoub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ilt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writeObject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input.readObje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17D-30D5-438E-8323-329A50B04B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6 The Object Client-Server Framewor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(OCS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5400" y="1738440"/>
            <a:ext cx="2163600" cy="19033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74760" y="2062080"/>
            <a:ext cx="2144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0400" y="183528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stract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2149560"/>
            <a:ext cx="111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9040" y="2567160"/>
            <a:ext cx="113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11200" y="2357280"/>
            <a:ext cx="9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To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7240" y="3195720"/>
            <a:ext cx="153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08680" y="277668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8320" y="3405240"/>
            <a:ext cx="18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ndleMessageFrom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74760" y="2131920"/>
            <a:ext cx="2144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7960" y="2986200"/>
            <a:ext cx="141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114800" y="1720800"/>
            <a:ext cx="4781160" cy="3159000"/>
            <a:chOff x="4114800" y="1720800"/>
            <a:chExt cx="4781160" cy="3159000"/>
          </a:xfrm>
        </p:grpSpPr>
        <p:sp>
          <p:nvSpPr>
            <p:cNvPr id="166" name=""/>
            <p:cNvSpPr/>
            <p:nvPr/>
          </p:nvSpPr>
          <p:spPr>
            <a:xfrm>
              <a:off x="6216480" y="2376360"/>
              <a:ext cx="9241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48520" y="1738440"/>
              <a:ext cx="1746360" cy="1274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57880" y="2062080"/>
              <a:ext cx="1727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06480" y="1817640"/>
              <a:ext cx="168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To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3960" y="2149560"/>
              <a:ext cx="90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To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96120" y="23572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95760" y="25671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95400" y="27766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1720800"/>
              <a:ext cx="2093760" cy="31590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4160" y="2044800"/>
              <a:ext cx="2075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23040" y="181764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bstract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62400" y="21319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59520" y="2341440"/>
              <a:ext cx="90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pListe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62400" y="25495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58800" y="317808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Conn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58800" y="3387600"/>
              <a:ext cx="128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Disconn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1680" y="380700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Star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57360" y="4643280"/>
              <a:ext cx="182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handleMessageFrom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4160" y="2114640"/>
              <a:ext cx="2075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57880" y="2131920"/>
              <a:ext cx="1727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59880" y="4014720"/>
              <a:ext cx="99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Sto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59880" y="275904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ToAllCl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7720" y="2968560"/>
              <a:ext cx="145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ClientConne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0960" y="4433760"/>
              <a:ext cx="90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59880" y="359712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58440" y="42242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ing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338-C9A0-43E5-A23D-0EF71009D46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O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s using OCS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y its three 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sub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bstract classes in the frame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public metho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re provided by the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rtain slot and hook methods (explicitly designed to be overridde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CA0-C5AC-4E0D-9236-B9256E4D53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7 The Client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a single class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subcl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ubclass must provide an implementation for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appropriate action when a message is received from a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unn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u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loop that executes for the lifetime of the th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962-FBCA-405B-828C-D3C6A8BD5F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Conn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et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D40-100C-482B-A03B-F3EBB236FF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2 Reusability and Reus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esign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part of the culture of software development organiz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re are problems to overcom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take the extra time needed to develop something that will benefi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cts/customer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may only reward the efforts of people who create the visible ‘final products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software is often created in a hurry and without enough attention to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CDA-896A-4B79-AF21-BA85022C3A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llback methods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overridd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Establis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Cl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impleme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A94-15E0-4346-8E09-C71197683E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ubclas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d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nstance of the new sub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messages to the server using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ice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Clos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Excep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0E2-4DA6-465F-953E-CD5EB7BEBC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ck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keeps all the information about the connection to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reams, a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Out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runs using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un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variables storing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C4F-C03F-4690-BFFB-028EC060B3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e Server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s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or the thread which listens for new connections 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or the threads that handle the connections to clients 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1AA-C9A9-4471-9A4B-C2968E4D78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Liste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All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Liste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lientConn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Back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B52-433E-4F10-BDA8-0861F7F453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llback methods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overridd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tart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Conn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Dis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eningExce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impleme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88A-907A-4BCA-AA2E-18C1A19590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Cli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et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nf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f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626-A696-4D67-9C75-A2188A213D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ubclas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slot metho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d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nstance of the subclas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messages to clients,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8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lientConne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ic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8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All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one or more of the other callback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BA4-2D18-44A6-8C81-5DCCAD5B23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nectionTo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nf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f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make use of a Java class calle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ethods in the server side ar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lection of instances of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nnectionToCli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tored using a special class called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hread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must pause from listening every 500ms to see if the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opListen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has been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, then it resumes listening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B91-9D21-40CA-BF31-302B156AB7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88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11 An Instant Messaging Application: SimpleC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45320" y="2897280"/>
            <a:ext cx="2363760" cy="141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54680" y="3255840"/>
            <a:ext cx="2345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54440" y="2984400"/>
            <a:ext cx="106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o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3000" y="3351240"/>
            <a:ext cx="21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080" y="3584520"/>
            <a:ext cx="107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080" y="3816360"/>
            <a:ext cx="116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to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7680" y="40482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727360" y="3719520"/>
            <a:ext cx="549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0000" y="1735200"/>
            <a:ext cx="1100160" cy="90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50800" y="2287440"/>
            <a:ext cx="1079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3960" y="1752480"/>
            <a:ext cx="115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&lt;interface&g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39160" y="2016000"/>
            <a:ext cx="59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I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2720" y="238284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17760" y="2897280"/>
            <a:ext cx="2363760" cy="118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27480" y="3255840"/>
            <a:ext cx="2344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01120" y="2984400"/>
            <a:ext cx="95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76160" y="335124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76880" y="3584520"/>
            <a:ext cx="230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Client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81560" y="38163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51760" y="1793880"/>
            <a:ext cx="1446120" cy="5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17280" y="1881360"/>
            <a:ext cx="137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bstract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5000" y="3381480"/>
            <a:ext cx="1336680" cy="118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14360" y="3740040"/>
            <a:ext cx="1319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960" y="3468600"/>
            <a:ext cx="128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entCons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67000" y="3835440"/>
            <a:ext cx="52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67720" y="406872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69160" y="430056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02560" y="2365200"/>
            <a:ext cx="144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8480" y="2365200"/>
            <a:ext cx="274680" cy="231840"/>
          </a:xfrm>
          <a:custGeom>
            <a:avLst/>
            <a:gdLst/>
            <a:ahLst/>
            <a:rect l="l" t="t" r="r" b="b"/>
            <a:pathLst>
              <a:path w="183" h="146">
                <a:moveTo>
                  <a:pt x="97" y="0"/>
                </a:moveTo>
                <a:lnTo>
                  <a:pt x="183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8480" y="2365200"/>
            <a:ext cx="274680" cy="231840"/>
          </a:xfrm>
          <a:custGeom>
            <a:avLst/>
            <a:gdLst/>
            <a:ahLst/>
            <a:rect l="l" t="t" r="r" b="b"/>
            <a:pathLst>
              <a:path w="183" h="146">
                <a:moveTo>
                  <a:pt x="97" y="0"/>
                </a:moveTo>
                <a:lnTo>
                  <a:pt x="183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954080" y="2653920"/>
            <a:ext cx="180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54080" y="26542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54080" y="26748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54080" y="27320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54080" y="27511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28098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4080" y="28288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54080" y="28875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54080" y="29066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296532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54080" y="29844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54080" y="3041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54080" y="30621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54080" y="31194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54080" y="31384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54080" y="31971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54080" y="32162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54080" y="327492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54080" y="32940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54080" y="3352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8560" y="2654280"/>
            <a:ext cx="274680" cy="233280"/>
          </a:xfrm>
          <a:custGeom>
            <a:avLst/>
            <a:gdLst/>
            <a:ahLst/>
            <a:rect l="l" t="t" r="r" b="b"/>
            <a:pathLst>
              <a:path w="183" h="147">
                <a:moveTo>
                  <a:pt x="98" y="0"/>
                </a:moveTo>
                <a:lnTo>
                  <a:pt x="183" y="147"/>
                </a:lnTo>
                <a:lnTo>
                  <a:pt x="0" y="147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98560" y="2654280"/>
            <a:ext cx="274680" cy="233280"/>
          </a:xfrm>
          <a:custGeom>
            <a:avLst/>
            <a:gdLst/>
            <a:ahLst/>
            <a:rect l="l" t="t" r="r" b="b"/>
            <a:pathLst>
              <a:path w="183" h="147">
                <a:moveTo>
                  <a:pt x="98" y="0"/>
                </a:moveTo>
                <a:lnTo>
                  <a:pt x="183" y="147"/>
                </a:lnTo>
                <a:lnTo>
                  <a:pt x="0" y="147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9040" y="2365200"/>
            <a:ext cx="144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4960" y="2365200"/>
            <a:ext cx="272880" cy="231840"/>
          </a:xfrm>
          <a:custGeom>
            <a:avLst/>
            <a:gdLst/>
            <a:ahLst/>
            <a:rect l="l" t="t" r="r" b="b"/>
            <a:pathLst>
              <a:path w="182" h="146">
                <a:moveTo>
                  <a:pt x="97" y="0"/>
                </a:moveTo>
                <a:lnTo>
                  <a:pt x="182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4960" y="2365200"/>
            <a:ext cx="272880" cy="231840"/>
          </a:xfrm>
          <a:custGeom>
            <a:avLst/>
            <a:gdLst/>
            <a:ahLst/>
            <a:rect l="l" t="t" r="r" b="b"/>
            <a:pathLst>
              <a:path w="182" h="146">
                <a:moveTo>
                  <a:pt x="97" y="0"/>
                </a:moveTo>
                <a:lnTo>
                  <a:pt x="182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66960" y="1793880"/>
            <a:ext cx="1355760" cy="5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2120" y="1881360"/>
            <a:ext cx="130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bstract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3314880"/>
            <a:ext cx="232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27480" y="3313080"/>
            <a:ext cx="2344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14360" y="3797280"/>
            <a:ext cx="1319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50800" y="2344680"/>
            <a:ext cx="1079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92000" y="2422080"/>
            <a:ext cx="165240" cy="194040"/>
            <a:chOff x="2592000" y="2422080"/>
            <a:chExt cx="165240" cy="194040"/>
          </a:xfrm>
        </p:grpSpPr>
        <p:sp>
          <p:nvSpPr>
            <p:cNvPr id="291" name=""/>
            <p:cNvSpPr/>
            <p:nvPr/>
          </p:nvSpPr>
          <p:spPr>
            <a:xfrm flipH="1" flipV="1">
              <a:off x="2592000" y="2422080"/>
              <a:ext cx="1652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92360" y="2422440"/>
              <a:ext cx="9144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114720" y="3662280"/>
            <a:ext cx="18252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114360" y="3719520"/>
            <a:ext cx="1825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611440" y="2441520"/>
            <a:ext cx="658800" cy="6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Conso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eventually be replaced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GU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220-BE28-4192-9208-65FA9D0112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iciou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tend not develop high quality reusable components, so there is often little to reu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olve the problem, recognize tha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cious cycle costs mon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usable code i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reusable components is ess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 potential reusers have confidence i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ality of a software product is only as good as its lowest-quality reusable 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usable components can often simplify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D0B-B353-40EF-9283-4F04D383A8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cho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bclas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creates a new instance and start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istens for clients and handles connections until the server is stopp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just print out a message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ta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topp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All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choes any mess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F01-B9A0-4A96-9F09-316D125B8AF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cho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17524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handleMessageFrom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msg, ConnectionToClient cl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Message received: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msg + " from " + cli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sendToAllClients(ms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092-2D65-433F-8714-4F8BEA6DCC4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client program starts, it creates instances of two class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class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lls th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of the 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 that implements the interfac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implement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outputs to the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user input by call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t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u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all user input to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calling it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, in turn, call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3EE-85E4-44A3-893F-0AA0B9C01F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1143000"/>
            <a:ext cx="7467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handleMessageFromClientUI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(mess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(IO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UI.display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Could not send message.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Terminating clien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B70-F00C-4CF1-95B8-85B58FC8AF8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handleMessageFromServer(Object msg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UI.display(msg.toString()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0DC-29FE-459F-A74E-6ECD84BEAAA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12 Risks when reusing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quality reusable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developers of the reusable technolo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good software engineering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willing to provide active sup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not maint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obscure fe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-use technology that others are also re-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82C-5D49-420C-889C-84E0B8825B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s when developing reusable 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he development of the reusable technology, just as if it was a product for a 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not invented here syndrom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nfidence in the reusable technology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it is of high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ing to the needs of its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05E-5506-4360-8EF9-A79002F30A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 when developing reusable technology –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usable technology must be as useful and as high quality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endency of various groups to change technology in different 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t to be general enough, test it and review it in advanc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1CB-8F3C-4248-8851-72CBCD0B96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s when adopting a client-serv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is a big problem with no perfect solutions: consider the use of encryption, firewall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for adaptive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software is forward and backward compatible with other versions of client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20E-7D15-4EAC-A8F1-5700E03FE1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3 Frameworks: Reusable Sub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usable software that implements a generic solution to a generalized proble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ovides common facilities applicable to different application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do different, but related, things tend to have quite similar desig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1B1-1D95-4981-B85D-0E0AAEFD77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s to promote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is intrinsically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 or methods are used by the framework, but are missing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functi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nce is made for developer to provide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us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the framework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together the services are called the Application Program Interface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FD6-C77B-4CC7-8DB7-7C3EA75FA3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-oriented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object oriented paradigm, a framework is composed of a library of class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I is defined by the set of all public methods of these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 classes will normally be 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1E7-1108-4A72-A449-00561D71B6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payroll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frequent 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university 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e-commerce web si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controlling microwave ov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AC3-B370-4C70-BF6E-1E6C0A7F15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provides general application facilities that a large number of applications can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framework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ore ‘complete’ but still needs some slots to be filled to adapt it to specific application nee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3HorVerFrame" descr=""/>
          <p:cNvPicPr/>
          <p:nvPr/>
        </p:nvPicPr>
        <p:blipFill>
          <a:blip r:embed="rId1"/>
          <a:srcRect l="0" t="0" r="-1819" b="0"/>
          <a:stretch/>
        </p:blipFill>
        <p:spPr>
          <a:xfrm>
            <a:off x="1828800" y="3048120"/>
            <a:ext cx="5029200" cy="311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D17-CC52-45ED-A887-423C8097FC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2-09-24T15:29:51Z</dcterms:modified>
  <cp:revision>70</cp:revision>
  <dc:subject/>
  <dc:title>SEG 2100 Software Design II</dc:title>
</cp:coreProperties>
</file>