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8.png" ContentType="image/png"/>
  <Override PartName="/ppt/media/image6.pct" ContentType="image/x-pict"/>
  <Override PartName="/ppt/media/image7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9CF-B12B-429C-A89C-17552D7C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ED2-C70C-4B31-8015-BC461E67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D6D-16B4-4856-9192-31E1E354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157-06AE-4E8B-BA05-A9F4AD01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AD7-0F3F-4F7C-B767-C9C25B0E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329-D769-4B63-AA15-C8E557D6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927-DA9E-49B6-B4FD-B080D6F5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6D8-1371-4661-90A5-B5F2718C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663-6CE1-4C7E-8A2A-1DEC77F0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B48-DB1B-4911-BF61-58533C1E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196-6F7B-471C-9AB3-4FFFD934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B2D-BE81-4B61-AACD-26002F37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34DB-E50F-4ACB-B9BF-931BBF36E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9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rchitecting and Designing Softwar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op-down and bottom-up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-down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design the very high level structure of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gradually work down to detailed decisions about low-level constr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 arrive at detailed decisions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at of particular data item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dividual algorithms that will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C49-BFDE-44AD-9E25-B0A7D3DEE5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op-down and bottom-up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-up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decisions about reusable low-level ut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decide how these will be put together to create high-level constr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x of top-down and bottom-up approaches are normally us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-down design is almost always needed to give the system a good struc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-up design is normally useful so that reusable components can be cr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63B-E256-44ED-854D-26B2DF5F98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aspects of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vision into subsystems and compon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se will be conn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y will inter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interfa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rious features of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of computational mechanis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of communications protoc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DF1-A0F2-44C3-B914-6180905D46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2 Principles Leading to Good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good desig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rofit by reducing cost and increasing reve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that we actually conform with the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qualitie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566-81BA-4435-A7F8-8F34D5439B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1: Divide and conqu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ing to deal with something big all at once is normally much harder than dealing with a series of smaller th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 people can work on each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vidual software engineer can special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ndividual component is smaller, and therefore easier to underst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can be replaced or changed without having to replace or extensively change other p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377-30AD-48E3-B13C-31FA4EBEED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of dividing a softwar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tributed system is divided up into clients and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is divided up into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ystem can be divided up into one or more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ckage is divided up into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 is divided up into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441-0730-44DA-80B5-0203DCB220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2: Increase cohesion where pos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ystem or module has high cohesion if it keeps together things that are related to each other, and keeps out other th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kes the system as a whole easier to understand and 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f cohe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, Layer, Communicational, Sequential, Procedural, Temporal, Ut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3BD-DA5E-41F4-A365-FE913BEF2E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al cohe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chieved when all the code that computes a particular result is kept together - and everything else is kept o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when a module only perform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utation, and returns a result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having side-effe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to th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er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re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er to re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s that update a database, create a new file or interact with the 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not functionally cohe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F6A-AC48-433E-9C90-69C7957BD5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yer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facilities for providing or accessing a set of related services are kept together, and everything else is kept 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yers should form a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layers can access services of lower lay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ayers do not access higher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t of procedures through which a layer provides its services is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gramming interface (A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replace a layer without having any impact on the other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just replicate the AP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8C4-8A16-4D05-BF7A-8BE6767280F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the use of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261040" y="1992240"/>
            <a:ext cx="1224720" cy="416160"/>
            <a:chOff x="5261040" y="1992240"/>
            <a:chExt cx="1224720" cy="416160"/>
          </a:xfrm>
        </p:grpSpPr>
        <p:sp>
          <p:nvSpPr>
            <p:cNvPr id="81" name=""/>
            <p:cNvSpPr/>
            <p:nvPr/>
          </p:nvSpPr>
          <p:spPr>
            <a:xfrm>
              <a:off x="5261040" y="2000160"/>
              <a:ext cx="1109520" cy="408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06120" y="1992240"/>
              <a:ext cx="1079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Screen displa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86840" y="2171880"/>
              <a:ext cx="58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facilit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521320" y="2678040"/>
            <a:ext cx="1130040" cy="416160"/>
            <a:chOff x="5521320" y="2678040"/>
            <a:chExt cx="1130040" cy="416160"/>
          </a:xfrm>
        </p:grpSpPr>
        <p:sp>
          <p:nvSpPr>
            <p:cNvPr id="85" name=""/>
            <p:cNvSpPr/>
            <p:nvPr/>
          </p:nvSpPr>
          <p:spPr>
            <a:xfrm>
              <a:off x="5521320" y="2685960"/>
              <a:ext cx="1077840" cy="408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81520" y="2678040"/>
              <a:ext cx="96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User accou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44800" y="2857680"/>
              <a:ext cx="96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848200" y="3348000"/>
            <a:ext cx="1013040" cy="432000"/>
            <a:chOff x="5848200" y="3348000"/>
            <a:chExt cx="1013040" cy="432000"/>
          </a:xfrm>
        </p:grpSpPr>
        <p:sp>
          <p:nvSpPr>
            <p:cNvPr id="89" name=""/>
            <p:cNvSpPr/>
            <p:nvPr/>
          </p:nvSpPr>
          <p:spPr>
            <a:xfrm>
              <a:off x="5848200" y="3371760"/>
              <a:ext cx="1013040" cy="408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47720" y="3348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6120" y="3527280"/>
              <a:ext cx="522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851360" y="4041720"/>
            <a:ext cx="1602000" cy="604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5080" y="403380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38920" y="4213080"/>
            <a:ext cx="1472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(handling proce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73920" y="4392720"/>
            <a:ext cx="1070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nd swapping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05200" y="1494000"/>
            <a:ext cx="1633680" cy="245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1880" y="1486080"/>
            <a:ext cx="154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346800" y="3771720"/>
            <a:ext cx="1440" cy="261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281640" y="3101760"/>
            <a:ext cx="1800" cy="245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76840" y="3102120"/>
            <a:ext cx="1800" cy="914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954760" y="2415960"/>
            <a:ext cx="1440" cy="245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5120" y="2416320"/>
            <a:ext cx="1440" cy="1600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791320" y="1730160"/>
            <a:ext cx="1440" cy="245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170320" y="1730520"/>
            <a:ext cx="1800" cy="228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0200" y="2865600"/>
            <a:ext cx="719280" cy="409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58680" y="285768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77240" y="303696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62000" y="3551400"/>
            <a:ext cx="1797120" cy="409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79400" y="354348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22680" y="3722760"/>
            <a:ext cx="33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68520" y="4237200"/>
            <a:ext cx="784440" cy="409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14680" y="422928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12160" y="440856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349800" y="4229280"/>
            <a:ext cx="1207440" cy="417240"/>
            <a:chOff x="3349800" y="4229280"/>
            <a:chExt cx="1207440" cy="417240"/>
          </a:xfrm>
        </p:grpSpPr>
        <p:sp>
          <p:nvSpPr>
            <p:cNvPr id="115" name=""/>
            <p:cNvSpPr/>
            <p:nvPr/>
          </p:nvSpPr>
          <p:spPr>
            <a:xfrm>
              <a:off x="3349800" y="4237200"/>
              <a:ext cx="116028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25280" y="422928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50240" y="440856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V="1">
            <a:off x="3684600" y="3968280"/>
            <a:ext cx="144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900520" y="3968280"/>
            <a:ext cx="144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52640" y="3282480"/>
            <a:ext cx="180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83600" y="4229280"/>
            <a:ext cx="1089360" cy="417240"/>
            <a:chOff x="7383600" y="4229280"/>
            <a:chExt cx="1089360" cy="417240"/>
          </a:xfrm>
        </p:grpSpPr>
        <p:sp>
          <p:nvSpPr>
            <p:cNvPr id="122" name=""/>
            <p:cNvSpPr/>
            <p:nvPr/>
          </p:nvSpPr>
          <p:spPr>
            <a:xfrm>
              <a:off x="7383600" y="4237200"/>
              <a:ext cx="104436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66840" y="4229280"/>
              <a:ext cx="906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Transmit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72520" y="4408560"/>
              <a:ext cx="979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and receiv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415280" y="3543480"/>
            <a:ext cx="1053000" cy="417240"/>
            <a:chOff x="7415280" y="3543480"/>
            <a:chExt cx="1053000" cy="417240"/>
          </a:xfrm>
        </p:grpSpPr>
        <p:sp>
          <p:nvSpPr>
            <p:cNvPr id="126" name=""/>
            <p:cNvSpPr/>
            <p:nvPr/>
          </p:nvSpPr>
          <p:spPr>
            <a:xfrm>
              <a:off x="7415280" y="3551400"/>
              <a:ext cx="98100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71520" y="354348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0560" y="37227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415280" y="2857680"/>
            <a:ext cx="1053000" cy="417240"/>
            <a:chOff x="7415280" y="2857680"/>
            <a:chExt cx="1053000" cy="417240"/>
          </a:xfrm>
        </p:grpSpPr>
        <p:sp>
          <p:nvSpPr>
            <p:cNvPr id="130" name=""/>
            <p:cNvSpPr/>
            <p:nvPr/>
          </p:nvSpPr>
          <p:spPr>
            <a:xfrm>
              <a:off x="7415280" y="2865600"/>
              <a:ext cx="98100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71520" y="285768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06720" y="3036960"/>
              <a:ext cx="87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connec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121520" y="2187720"/>
            <a:ext cx="1608120" cy="417240"/>
            <a:chOff x="7121520" y="2187720"/>
            <a:chExt cx="1608120" cy="417240"/>
          </a:xfrm>
        </p:grpSpPr>
        <p:sp>
          <p:nvSpPr>
            <p:cNvPr id="134" name=""/>
            <p:cNvSpPr/>
            <p:nvPr/>
          </p:nvSpPr>
          <p:spPr>
            <a:xfrm>
              <a:off x="7121520" y="2195640"/>
              <a:ext cx="156852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87360" y="218772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29160" y="2367000"/>
              <a:ext cx="1500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application protocol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7881840" y="3968280"/>
            <a:ext cx="180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897680" y="3282480"/>
            <a:ext cx="180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897680" y="2595240"/>
            <a:ext cx="1800" cy="245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21040" y="4767120"/>
            <a:ext cx="1514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a) Typical layers in a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21400" y="4964040"/>
            <a:ext cx="1495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application progr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48560" y="4767120"/>
            <a:ext cx="152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b) Typical layers in a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4964040"/>
            <a:ext cx="1285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13880" y="4767120"/>
            <a:ext cx="1879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c) Simplified view of layer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50240" y="4964040"/>
            <a:ext cx="197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in a communication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14480" y="4237200"/>
            <a:ext cx="1355760" cy="409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54160" y="4229280"/>
            <a:ext cx="1289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53320" y="440856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63680" y="3968280"/>
            <a:ext cx="180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14480" y="4122720"/>
            <a:ext cx="23004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68520" y="4122720"/>
            <a:ext cx="2286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9800" y="4122720"/>
            <a:ext cx="24588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62000" y="3436920"/>
            <a:ext cx="2286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0200" y="2751120"/>
            <a:ext cx="2304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51360" y="3927600"/>
            <a:ext cx="230400" cy="11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48200" y="3257640"/>
            <a:ext cx="228600" cy="11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21320" y="2571840"/>
            <a:ext cx="228600" cy="11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61040" y="1886040"/>
            <a:ext cx="228600" cy="11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05200" y="1379520"/>
            <a:ext cx="2286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21520" y="2081160"/>
            <a:ext cx="22860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15280" y="2751120"/>
            <a:ext cx="23004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15280" y="3436920"/>
            <a:ext cx="24588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83600" y="4122720"/>
            <a:ext cx="2286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14720" y="4164120"/>
            <a:ext cx="98280" cy="48960"/>
            <a:chOff x="2214720" y="4164120"/>
            <a:chExt cx="98280" cy="48960"/>
          </a:xfrm>
        </p:grpSpPr>
        <p:sp>
          <p:nvSpPr>
            <p:cNvPr id="165" name=""/>
            <p:cNvSpPr/>
            <p:nvPr/>
          </p:nvSpPr>
          <p:spPr>
            <a:xfrm flipV="1">
              <a:off x="2263680" y="41641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2214720" y="41641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852280" y="4164120"/>
            <a:ext cx="97200" cy="48960"/>
            <a:chOff x="2852280" y="4164120"/>
            <a:chExt cx="97200" cy="48960"/>
          </a:xfrm>
        </p:grpSpPr>
        <p:sp>
          <p:nvSpPr>
            <p:cNvPr id="168" name=""/>
            <p:cNvSpPr/>
            <p:nvPr/>
          </p:nvSpPr>
          <p:spPr>
            <a:xfrm flipV="1">
              <a:off x="2900520" y="41641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852280" y="4164120"/>
              <a:ext cx="4788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34920" y="4164120"/>
            <a:ext cx="99000" cy="48960"/>
            <a:chOff x="3634920" y="4164120"/>
            <a:chExt cx="99000" cy="48960"/>
          </a:xfrm>
        </p:grpSpPr>
        <p:sp>
          <p:nvSpPr>
            <p:cNvPr id="171" name=""/>
            <p:cNvSpPr/>
            <p:nvPr/>
          </p:nvSpPr>
          <p:spPr>
            <a:xfrm flipV="1">
              <a:off x="3684600" y="41641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3634920" y="41641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803680" y="3478320"/>
            <a:ext cx="96840" cy="48960"/>
            <a:chOff x="2803680" y="3478320"/>
            <a:chExt cx="96840" cy="48960"/>
          </a:xfrm>
        </p:grpSpPr>
        <p:sp>
          <p:nvSpPr>
            <p:cNvPr id="174" name=""/>
            <p:cNvSpPr/>
            <p:nvPr/>
          </p:nvSpPr>
          <p:spPr>
            <a:xfrm flipV="1">
              <a:off x="2852640" y="3478320"/>
              <a:ext cx="4788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803680" y="34783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741640" y="1926720"/>
            <a:ext cx="98640" cy="49320"/>
            <a:chOff x="5741640" y="1926720"/>
            <a:chExt cx="98640" cy="49320"/>
          </a:xfrm>
        </p:grpSpPr>
        <p:sp>
          <p:nvSpPr>
            <p:cNvPr id="177" name=""/>
            <p:cNvSpPr/>
            <p:nvPr/>
          </p:nvSpPr>
          <p:spPr>
            <a:xfrm flipV="1">
              <a:off x="5791320" y="1926720"/>
              <a:ext cx="4896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5741640" y="1926720"/>
              <a:ext cx="4932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905080" y="2612520"/>
            <a:ext cx="99000" cy="49320"/>
            <a:chOff x="5905080" y="2612520"/>
            <a:chExt cx="99000" cy="49320"/>
          </a:xfrm>
        </p:grpSpPr>
        <p:sp>
          <p:nvSpPr>
            <p:cNvPr id="180" name=""/>
            <p:cNvSpPr/>
            <p:nvPr/>
          </p:nvSpPr>
          <p:spPr>
            <a:xfrm flipV="1">
              <a:off x="5954760" y="2612520"/>
              <a:ext cx="4932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5905080" y="2612520"/>
              <a:ext cx="4932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232680" y="3298320"/>
            <a:ext cx="96840" cy="49320"/>
            <a:chOff x="6232680" y="3298320"/>
            <a:chExt cx="96840" cy="49320"/>
          </a:xfrm>
        </p:grpSpPr>
        <p:sp>
          <p:nvSpPr>
            <p:cNvPr id="183" name=""/>
            <p:cNvSpPr/>
            <p:nvPr/>
          </p:nvSpPr>
          <p:spPr>
            <a:xfrm flipV="1">
              <a:off x="6281640" y="3298320"/>
              <a:ext cx="4788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6232680" y="3298320"/>
              <a:ext cx="4896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297120" y="3968280"/>
            <a:ext cx="99000" cy="47880"/>
            <a:chOff x="6297120" y="3968280"/>
            <a:chExt cx="99000" cy="47880"/>
          </a:xfrm>
        </p:grpSpPr>
        <p:sp>
          <p:nvSpPr>
            <p:cNvPr id="186" name=""/>
            <p:cNvSpPr/>
            <p:nvPr/>
          </p:nvSpPr>
          <p:spPr>
            <a:xfrm flipV="1">
              <a:off x="634680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629712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27160" y="3968280"/>
            <a:ext cx="99000" cy="47880"/>
            <a:chOff x="5627160" y="3968280"/>
            <a:chExt cx="99000" cy="47880"/>
          </a:xfrm>
        </p:grpSpPr>
        <p:sp>
          <p:nvSpPr>
            <p:cNvPr id="189" name=""/>
            <p:cNvSpPr/>
            <p:nvPr/>
          </p:nvSpPr>
          <p:spPr>
            <a:xfrm flipV="1">
              <a:off x="567684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562716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21360" y="3968280"/>
            <a:ext cx="98280" cy="47880"/>
            <a:chOff x="5121360" y="3968280"/>
            <a:chExt cx="98280" cy="47880"/>
          </a:xfrm>
        </p:grpSpPr>
        <p:sp>
          <p:nvSpPr>
            <p:cNvPr id="192" name=""/>
            <p:cNvSpPr/>
            <p:nvPr/>
          </p:nvSpPr>
          <p:spPr>
            <a:xfrm flipV="1">
              <a:off x="517032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5121360" y="3968280"/>
              <a:ext cx="4896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366880" y="3968280"/>
            <a:ext cx="97200" cy="47880"/>
            <a:chOff x="5366880" y="3968280"/>
            <a:chExt cx="97200" cy="47880"/>
          </a:xfrm>
        </p:grpSpPr>
        <p:sp>
          <p:nvSpPr>
            <p:cNvPr id="195" name=""/>
            <p:cNvSpPr/>
            <p:nvPr/>
          </p:nvSpPr>
          <p:spPr>
            <a:xfrm flipV="1">
              <a:off x="5415120" y="3968280"/>
              <a:ext cx="4896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5366880" y="3968280"/>
              <a:ext cx="4788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832880" y="4164120"/>
            <a:ext cx="96840" cy="48960"/>
            <a:chOff x="7832880" y="4164120"/>
            <a:chExt cx="96840" cy="48960"/>
          </a:xfrm>
        </p:grpSpPr>
        <p:sp>
          <p:nvSpPr>
            <p:cNvPr id="198" name=""/>
            <p:cNvSpPr/>
            <p:nvPr/>
          </p:nvSpPr>
          <p:spPr>
            <a:xfrm flipV="1">
              <a:off x="7881840" y="4164120"/>
              <a:ext cx="4788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7832880" y="41641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848720" y="3478320"/>
            <a:ext cx="98280" cy="48960"/>
            <a:chOff x="7848720" y="3478320"/>
            <a:chExt cx="98280" cy="48960"/>
          </a:xfrm>
        </p:grpSpPr>
        <p:sp>
          <p:nvSpPr>
            <p:cNvPr id="201" name=""/>
            <p:cNvSpPr/>
            <p:nvPr/>
          </p:nvSpPr>
          <p:spPr>
            <a:xfrm flipV="1">
              <a:off x="7897680" y="34783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7848720" y="34783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848720" y="2792520"/>
            <a:ext cx="98280" cy="48960"/>
            <a:chOff x="7848720" y="2792520"/>
            <a:chExt cx="98280" cy="48960"/>
          </a:xfrm>
        </p:grpSpPr>
        <p:sp>
          <p:nvSpPr>
            <p:cNvPr id="204" name=""/>
            <p:cNvSpPr/>
            <p:nvPr/>
          </p:nvSpPr>
          <p:spPr>
            <a:xfrm flipV="1">
              <a:off x="7897680" y="27925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7848720" y="27925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7CF-2897-48C6-B4F2-96D2D3953B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1 The Process of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problem-solving process whose objective is to find and describe a w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mplement the system’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respecting the constraints imposed by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functional requiremen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 the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hile adhering to general principle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BD5-FA86-4506-BA18-434CB99CAC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modules that access or manipulate certain data are kept together (e.g. in the same class) - and everything else is kept o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 would have good communicational cohe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ll the system’s facilities for storing and manipulating its data are contained in this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lass does not do anything other than manage its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advantage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you need to make changes to the data, you  find all the code in one p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82A-BFD5-4505-A242-7C860BF4A4D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, in which one procedure provides input to the next, are kept together – and everything else is kept o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 sequential cohesion, only once you have already achieved the preceding types of cohesio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392-CFA5-49AA-8793-6369D3B74CE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ogether several procedures that are used one after ano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if one does not necessarily provide input to the nex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er than sequential cohe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D03-E2F3-4A17-8097-F8B75C63A27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empor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that are performed during the same phase of the execution of the program are kept together, and everything else is kept o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placing together the code used during system start-up or initi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er than procedural cohe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14A-DAAD-46BC-A9C2-9CA6795ABBA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ty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related utilities which cannot be logically placed in other cohesive units are kept toge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tility is a procedure or class that has wide applicability to many different subsystems and is designed to be reus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lang.Ma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B66-ED40-49E1-90A5-F9B98A7136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3: Reduce coupling where pos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pli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ccurs when there ar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dependenci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one module and ano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nterdependencies exist, changes in one place will require changes somewhere 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twork of interdependencies makes it hard to see at a glance how some componen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f coup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, Common, Control, Stamp, Data, Routine Call, Type use, Inclusion/Import, Exter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352680" y="5048280"/>
            <a:ext cx="3200400" cy="11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FD0-0CBD-4F1C-B1D7-8458B797A96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 coupl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one componen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reptitiousl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ifies data that i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nother compon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content coupling you should therefo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apsul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 them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provide get and set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orse form of content coupling occurs when you directly modify an instance variabl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instance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A81-3236-45BE-B1ED-259A6305CD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content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1050840"/>
            <a:ext cx="7086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Point start, e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 getStart() { return start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 getEnd()  { return end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ine basel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slant(int new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theEnd = baseline.getE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End.setLocation(theEnd.getX(),new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04F-D835-4A87-8052-1E1FA11DBD8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ever you use a global vari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components using the global variable become coupled 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eaker form of common coupling is when a variable can be accessed by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ystem’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 Java pack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acceptable for creating global variables that represent system-wide default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ngleton pattern provides encapsulated global access to an ob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49D-EAEF-4FF1-9F31-F351D1271D1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cou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one procedure calls another using a ‘flag’ or ‘command’ that explicitly controls what the second procedure do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change you have to change both the calling and call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polymorphic operations is normally the best way to avoid control coup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ay to reduce the control coupling could be to have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-up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are then mapped to a method that should be called when that command is issu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044-CCF3-4322-8217-686E802A6B8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as a series of deci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signer is faced with a series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issu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sub-problems of the overall design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ssue normally has several alternative solu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er make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ci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solve each iss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cess involves choosing the best option from among the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FB2-DA43-494D-B943-BC5845825D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control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1676520"/>
            <a:ext cx="586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routineX(String comm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command.equals("drawCircle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Circ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Rectang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0EA-075C-453F-AE00-76EFF7D037F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mp coupl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ever one of your application classes is declared as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method argu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one class now uses the other, changing the system becomes ha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ing one class requires reusing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 to reduce stamp coupl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n interface as the argumen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simple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C92-9269-4CB1-A4BD-940C1333D3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stamp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1371600"/>
            <a:ext cx="7620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Ema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ndEmail(Employee e, String 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3870360"/>
            <a:ext cx="7467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Ema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ndEmail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name, String email, String tex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84960" y="3429000"/>
            <a:ext cx="450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imple data types to avoid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3B7-C398-463E-96BC-268AACEEA31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stamp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523880"/>
            <a:ext cx="7238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interface Address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abstract String getNam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abstract String getEmai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Employee implements Addressee {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Ema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ndEmail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ressee e, String 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2000" y="1143000"/>
            <a:ext cx="38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n interface to avoid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7CF-0FB1-4BFB-9693-EF4EA0C9F17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ta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ever the types of method arguments are either primitive or else simple library 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re arguments a method has, the higher the coup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thods that use the method must pass all the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reduce coupling by not giving methods unnecessary 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trade-off between data coupling and stamp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one often decreases the oth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627-5B89-42EB-A6FA-757B0A8EBE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utine call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one routine (or method in an object oriented system) calls ano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outines are coupled because they depend on each oth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e call coupling is always present in any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repetitively use a sequence of two or more methods to compute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you can reduce routine call coupling by writing a single routine that encapsulates the seque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1E9-B2E6-4220-A290-01CF8ED296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ype use coupling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 a module uses a data type defined in another modul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occurs any time a class declares an instance variable or a local variable as having another class for its typ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sequence of type use coupling is that if the type definition changes, then the users of the type may have to 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declare the type of a variable to be the most general possible class or interface that contains the required 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ACB-EAFA-4528-AB48-81E4352947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clusion or import cou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one component imports a pack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in 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hen one component includes ano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in C++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luding or importing component is now exposed to everything in the included or imported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included/imported component changes something or add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y raises a conflict with something in the includer, forcing the includer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tem in an impor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might ha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ame name as something you have already 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DF4-38B4-4BB1-84F2-FA63E40A9E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ternal cou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module has a dependency on such things as the operating system, shared libraries or the hardw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best to reduce the number of places in the code where such dependencies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çade design pattern can reduce external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FAD-0C0C-4222-817B-045AFD5E696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4: Keep the level of abstraction as high as pos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your designs allow you to hide or defer consideration of details, thus reducing complex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abstraction is said to provid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hi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ions allow you to understand the essence of a subsystem without having to know unnecessary det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92D-AAE7-4CEA-9B29-196A59443D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each design decision, the software engineer us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as created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chnology avail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design principles and ‘best practices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s worked well in the p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AF7-00F2-42EC-8315-FD150A9301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ion an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ata abstractions that contain procedural abstra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ion is increased by defining all variables as priv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ewer public methods in a class, the better the abstr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classes and interfaces increase the level of abstr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 and associations are also data abstr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are procedural abstra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abstractions are achieved by giving methods fewer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B2A-5623-4907-89C6-ECCB3A6602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5: Increase reusability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ous aspects of your system so that they can be used again in other contex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e your design as much as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the preceding three design princi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your system to contain hoo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y your design as much as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FFF-B49C-4D5B-891F-70F665A9C0F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6: Reuse existing designs and code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with reuse is complementary to design for reusa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ly reusing designs or code allows you to take advantage of the investment you or others have made in reusable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not be seen as a form of re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DFF-4B23-446F-8CC7-16BA30D6AF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7: Design for flexi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ly anticipate changes that a design may have to undergo in the future, and prepare for th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 and increase cohe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bstr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hard-code any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options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restrict the options of people who have to modify the system l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eusable code and make code reus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D62-5FF6-47A4-B815-CA1254B969D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8: Anticipate obsolesc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for changes in the technology or environment so the software will continue to run or can be easily chang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using early releases of techn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using software libraries that are specific to particular environ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using undocumented features or little-used features of software libra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using software or special hardware from companies that are less likely to provide long-term sup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tandard languages and technologies that are supported by multiple vend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1B6-8B36-451F-9E17-15D7C5FAAF1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9: Design for Port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he software run on as many platforms as poss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the use of facilities that are specific to one particular enviro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 library only available in Microsoft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18F-34C6-4B80-A007-2CD1C58CECE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10: Design for Test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steps to make testing easi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a program to automatically test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ed more in 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all the functionality of the code can by driven by an external program, bypassing a graphical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Java, you can create a main() method in each class in order to exercise the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D52-DE20-4CFD-917C-99961E488A8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11: Design defens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trust how others will try to use a component you are desig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 all cases where other code might attempt to use your component inappropr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that all of the inputs to your component are valid: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ortunately, over-zealous defensive design can result in unnecessar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etitive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B95-5630-43C6-8815-89DEE75CCB6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by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chnique that allows you to design defensively in an efficient and systematic w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method has an explici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its ca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ract has a set of assertions that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lled method requires to be true when it starts execu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lled method agrees to ensure are true when it finishes exec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ria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lled method agrees will not change as it exec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662-44D5-417B-92AE-D068ED05F8B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3 Techniques for making good design deci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priorities and objectives to decide among alterna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: List and describe the alternatives for the design dec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2: List the advantages and disadvantages of each alternative with respect to your objectives and prior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3: Determine whether any of the alternatives prevents you from meeting one or more of the objec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4: Choose the alternative that helps you to best meet your objec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5: Adjust priorities for subsequent decision mak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99A-B368-4013-8B05-111D80C00EC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ace of possible designs that could be achieved by choosing different sets of alternatives is often called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sp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3079800"/>
            <a:ext cx="6705720" cy="24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A29-70C7-40F3-9628-BBDBA2F656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prioritie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e a system has the following objectives, starting with top prior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cryption must not be breakable within 100 hours of computing time on a 400Mhz Intel processor, using known cryptanalysi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o specific obj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 efficienc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ust respond to the user within one second when running on a 400MHz Intel proces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bandwidth efficienc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ust not require transmission of more than 8KB of data per trans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efficienc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ust not consume over 20MB of 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bility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able to run on Windows 98, NT 4 and ME as well as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EF5-30F4-4E98-B4F5-7174832B31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evaluation of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066680" y="1752480"/>
          <a:ext cx="8686800" cy="250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8686800" cy="25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3552840" y="456876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’ means that the objective is not m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994-5367-43D2-8D6F-5DCC171765D0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cost-benefit analysis to choose among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imat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dd 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cost of doing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rk, including ongoing mainten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costs of an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technolog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costs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-users and product support personn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exper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imat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dd 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software engineering time sa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benefits measured in terms of either increased sales or else financial benefit to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6E5-77F5-438B-B7A4-6D1444E9D71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4 Softwar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architectur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rocess of designing the global organization of a software system, includ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ing software into sub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ing how these will inte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ing their inte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itecture is the core of the design, so all software engineers need to understan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itecture will often constrain the overall efficiency, reusability and maintainability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2E7-EDB5-4781-9974-8E47A419007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you need to develop an architectural model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able everyone to better understand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llow people to work on individual pieces of the system in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epare for extension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acilitate reuse and reus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4C8-82D8-4AB3-B4C8-B4485DC2E4B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s of a good architectural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’s architecture will often be expressed in terms of several differen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gical breakdown into sub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faces among the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ynamics of the interaction among components at run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that will be shared among the sub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nents that will exist at run time, and the machines or devices on which they will be loc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AD9-EDB6-4EE7-A49A-8AD34E8E706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stabl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sure the maintainability and reliability of a system, an architectural model must be designed to b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l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stable means that the new features can be easily added with only small changes to the archite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084-182F-43CA-8E24-B71EBA09373C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n architectural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by sketching an outline of the architec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the principal requirements and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main components that will be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among the various architectur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ed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ges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ave several different teams independently develop a first draft of the architecture and merge together the best ide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7D8E-EEBD-493C-BB4A-B8E2D39C586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n architectur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ine th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main ways in which the components will interact and the interfaces betwee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how each piece of data and functionality will be distributed among the various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if you can re-use an existing framework, if you can build a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each use case and adjust the architecture to make it realiz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ure the archite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ED7-629C-44B3-BC37-266A6A55A83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an architecture using U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UML diagrams can be useful to describe aspects of the architectur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UML diagrams are particularly suitable for architecture modell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ystem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ment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03C-370F-4013-9F65-D631DFD20AB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piece of software or hardware that has a clear rol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can be isolated, allowing you to replace it with a different component that has equivalent function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omponents are designed to be reus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ely, others perform special-purpose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343-F56F-477F-A6E3-225DE4F9E6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7619760" cy="207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F13-4C55-4543-A8F6-3FCD74990A1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ystem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59080" y="1646280"/>
            <a:ext cx="7041960" cy="418788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59080" y="1257480"/>
            <a:ext cx="1358640" cy="38556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52760" y="1838160"/>
            <a:ext cx="350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questToRegister(aStudent) :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52760" y="2065320"/>
            <a:ext cx="200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ropCourse(aStu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54560" y="2290680"/>
            <a:ext cx="213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getSchedule( ) : It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54720" y="1634760"/>
            <a:ext cx="1440" cy="421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2743200"/>
            <a:ext cx="4006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376360" y="1434960"/>
            <a:ext cx="1800" cy="9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647800" y="1434960"/>
            <a:ext cx="1800" cy="9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376360" y="1430280"/>
            <a:ext cx="271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511360" y="1339560"/>
            <a:ext cx="1800" cy="9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262240" y="3672000"/>
            <a:ext cx="703080" cy="588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52720" y="3162240"/>
            <a:ext cx="1676520" cy="816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57080" y="33321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gister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66360" y="355932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 cou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50960" y="3817800"/>
            <a:ext cx="476280" cy="758880"/>
            <a:chOff x="1650960" y="3817800"/>
            <a:chExt cx="476280" cy="758880"/>
          </a:xfrm>
        </p:grpSpPr>
        <p:sp>
          <p:nvSpPr>
            <p:cNvPr id="311" name=""/>
            <p:cNvSpPr/>
            <p:nvPr/>
          </p:nvSpPr>
          <p:spPr>
            <a:xfrm>
              <a:off x="1752480" y="3817800"/>
              <a:ext cx="29556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0080" y="4056120"/>
              <a:ext cx="1800" cy="38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00080" y="4441680"/>
              <a:ext cx="227160" cy="135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650960" y="4441680"/>
              <a:ext cx="249120" cy="135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650960" y="4192560"/>
              <a:ext cx="24912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00080" y="4192560"/>
              <a:ext cx="22716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726560" y="462276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tud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76240" y="4849920"/>
            <a:ext cx="47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6480" y="4995720"/>
            <a:ext cx="1674720" cy="7923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7840" y="514368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isp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06680" y="53704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76480" y="4091040"/>
            <a:ext cx="1674720" cy="7920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64280" y="42386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ro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90120" y="446400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 cou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62240" y="4282920"/>
            <a:ext cx="815760" cy="905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62240" y="4260960"/>
            <a:ext cx="725400" cy="9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64120" y="2052720"/>
            <a:ext cx="1925640" cy="657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3160" y="2200320"/>
            <a:ext cx="143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urse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32160" y="38307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35680" y="3807000"/>
            <a:ext cx="1800" cy="407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32160" y="29257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122880" y="3162240"/>
            <a:ext cx="1449360" cy="657360"/>
            <a:chOff x="6122880" y="3162240"/>
            <a:chExt cx="1449360" cy="657360"/>
          </a:xfrm>
        </p:grpSpPr>
        <p:sp>
          <p:nvSpPr>
            <p:cNvPr id="344" name=""/>
            <p:cNvSpPr/>
            <p:nvPr/>
          </p:nvSpPr>
          <p:spPr>
            <a:xfrm>
              <a:off x="6122880" y="3162240"/>
              <a:ext cx="1449360" cy="657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12960" y="3309840"/>
              <a:ext cx="118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</a:rPr>
                <a:t>Regist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145200" y="4248000"/>
            <a:ext cx="1405080" cy="657360"/>
            <a:chOff x="6145200" y="4248000"/>
            <a:chExt cx="1405080" cy="657360"/>
          </a:xfrm>
        </p:grpSpPr>
        <p:sp>
          <p:nvSpPr>
            <p:cNvPr id="347" name=""/>
            <p:cNvSpPr/>
            <p:nvPr/>
          </p:nvSpPr>
          <p:spPr>
            <a:xfrm>
              <a:off x="6145200" y="4248000"/>
              <a:ext cx="1405080" cy="657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69920" y="437364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835680" y="2720880"/>
            <a:ext cx="1800" cy="408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16440" y="2517840"/>
            <a:ext cx="2217600" cy="1765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5250960" y="2019240"/>
            <a:ext cx="701640" cy="317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3825360" y="2222280"/>
            <a:ext cx="212724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11600" y="2087640"/>
            <a:ext cx="181080" cy="249120"/>
          </a:xfrm>
          <a:custGeom>
            <a:avLst/>
            <a:gdLst/>
            <a:ahLst/>
            <a:rect l="l" t="t" r="r" b="b"/>
            <a:pathLst>
              <a:path w="114" h="157">
                <a:moveTo>
                  <a:pt x="0" y="85"/>
                </a:moveTo>
                <a:lnTo>
                  <a:pt x="114" y="0"/>
                </a:lnTo>
                <a:lnTo>
                  <a:pt x="114" y="157"/>
                </a:lnTo>
                <a:lnTo>
                  <a:pt x="0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11600" y="2087640"/>
            <a:ext cx="181080" cy="249120"/>
          </a:xfrm>
          <a:custGeom>
            <a:avLst/>
            <a:gdLst/>
            <a:ahLst/>
            <a:rect l="l" t="t" r="r" b="b"/>
            <a:pathLst>
              <a:path w="114" h="157">
                <a:moveTo>
                  <a:pt x="0" y="85"/>
                </a:moveTo>
                <a:lnTo>
                  <a:pt x="114" y="0"/>
                </a:lnTo>
                <a:lnTo>
                  <a:pt x="114" y="157"/>
                </a:lnTo>
                <a:lnTo>
                  <a:pt x="0" y="85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80000" y="3546360"/>
            <a:ext cx="9072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80000" y="3546360"/>
            <a:ext cx="9072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53200" y="3546360"/>
            <a:ext cx="903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26040" y="3321000"/>
            <a:ext cx="92160" cy="40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00680" y="3094200"/>
            <a:ext cx="90360" cy="40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73520" y="2868480"/>
            <a:ext cx="921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48160" y="2822400"/>
            <a:ext cx="90360" cy="2048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21000" y="2800440"/>
            <a:ext cx="90720" cy="9036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17960" y="2529000"/>
            <a:ext cx="903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05360" y="3773520"/>
            <a:ext cx="92160" cy="40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0200" y="4000680"/>
            <a:ext cx="90720" cy="40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25720" y="2427120"/>
            <a:ext cx="203400" cy="225720"/>
          </a:xfrm>
          <a:custGeom>
            <a:avLst/>
            <a:gdLst/>
            <a:ahLst/>
            <a:rect l="l" t="t" r="r" b="b"/>
            <a:pathLst>
              <a:path w="128" h="142">
                <a:moveTo>
                  <a:pt x="0" y="0"/>
                </a:moveTo>
                <a:lnTo>
                  <a:pt x="128" y="28"/>
                </a:lnTo>
                <a:lnTo>
                  <a:pt x="28" y="14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5720" y="2427120"/>
            <a:ext cx="203400" cy="225720"/>
          </a:xfrm>
          <a:custGeom>
            <a:avLst/>
            <a:gdLst/>
            <a:ahLst/>
            <a:rect l="l" t="t" r="r" b="b"/>
            <a:pathLst>
              <a:path w="128" h="142">
                <a:moveTo>
                  <a:pt x="0" y="0"/>
                </a:moveTo>
                <a:lnTo>
                  <a:pt x="128" y="28"/>
                </a:lnTo>
                <a:lnTo>
                  <a:pt x="28" y="14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05240" y="1974960"/>
            <a:ext cx="204840" cy="203040"/>
          </a:xfrm>
          <a:custGeom>
            <a:avLst/>
            <a:gdLst/>
            <a:ahLst/>
            <a:rect l="l" t="t" r="r" b="b"/>
            <a:pathLst>
              <a:path w="129" h="128">
                <a:moveTo>
                  <a:pt x="0" y="0"/>
                </a:moveTo>
                <a:lnTo>
                  <a:pt x="129" y="0"/>
                </a:lnTo>
                <a:lnTo>
                  <a:pt x="43" y="1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05240" y="1974960"/>
            <a:ext cx="204840" cy="203040"/>
          </a:xfrm>
          <a:custGeom>
            <a:avLst/>
            <a:gdLst/>
            <a:ahLst/>
            <a:rect l="l" t="t" r="r" b="b"/>
            <a:pathLst>
              <a:path w="129" h="128">
                <a:moveTo>
                  <a:pt x="0" y="0"/>
                </a:moveTo>
                <a:lnTo>
                  <a:pt x="129" y="0"/>
                </a:lnTo>
                <a:lnTo>
                  <a:pt x="43" y="1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83400" y="2120760"/>
            <a:ext cx="6804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56240" y="2120760"/>
            <a:ext cx="6840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0880" y="2166840"/>
            <a:ext cx="903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26040" y="2143080"/>
            <a:ext cx="92160" cy="40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00680" y="2166840"/>
            <a:ext cx="903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73520" y="2166840"/>
            <a:ext cx="921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48160" y="2166840"/>
            <a:ext cx="903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21000" y="2166840"/>
            <a:ext cx="9072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94200" y="2166840"/>
            <a:ext cx="92160" cy="1810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59880" y="1703520"/>
            <a:ext cx="202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Realiza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98920" y="2811600"/>
            <a:ext cx="22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pecifica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1BF-D939-446D-96D9-5A92C30E3891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04480" y="3081240"/>
            <a:ext cx="84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17680" y="2695680"/>
            <a:ext cx="2203560" cy="1212840"/>
          </a:xfrm>
          <a:prstGeom prst="rect">
            <a:avLst/>
          </a:prstGeom>
          <a:noFill/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3411360"/>
            <a:ext cx="403200" cy="220680"/>
          </a:xfrm>
          <a:custGeom>
            <a:avLst/>
            <a:gdLst/>
            <a:ahLst/>
            <a:rect l="l" t="t" r="r" b="b"/>
            <a:pathLst>
              <a:path w="254" h="139">
                <a:moveTo>
                  <a:pt x="0" y="0"/>
                </a:moveTo>
                <a:lnTo>
                  <a:pt x="254" y="0"/>
                </a:lnTo>
                <a:lnTo>
                  <a:pt x="254" y="139"/>
                </a:lnTo>
                <a:lnTo>
                  <a:pt x="0" y="13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60640" y="3429000"/>
            <a:ext cx="368280" cy="185760"/>
          </a:xfrm>
          <a:prstGeom prst="rect">
            <a:avLst/>
          </a:prstGeom>
          <a:solidFill>
            <a:srgbClr val="ffffff"/>
          </a:solidFill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38560" y="308124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96240" y="2695680"/>
            <a:ext cx="2093760" cy="1212840"/>
          </a:xfrm>
          <a:prstGeom prst="rect">
            <a:avLst/>
          </a:prstGeom>
          <a:noFill/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51480" y="2787480"/>
            <a:ext cx="3003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2935440"/>
            <a:ext cx="403200" cy="218880"/>
          </a:xfrm>
          <a:custGeom>
            <a:avLst/>
            <a:gdLst/>
            <a:ahLst/>
            <a:rect l="l" t="t" r="r" b="b"/>
            <a:pathLst>
              <a:path w="254" h="138">
                <a:moveTo>
                  <a:pt x="0" y="0"/>
                </a:moveTo>
                <a:lnTo>
                  <a:pt x="254" y="0"/>
                </a:lnTo>
                <a:lnTo>
                  <a:pt x="254" y="138"/>
                </a:lnTo>
                <a:lnTo>
                  <a:pt x="0" y="13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0640" y="2952720"/>
            <a:ext cx="368280" cy="184320"/>
          </a:xfrm>
          <a:prstGeom prst="rect">
            <a:avLst/>
          </a:prstGeom>
          <a:solidFill>
            <a:srgbClr val="ffffff"/>
          </a:solidFill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21560" y="3411360"/>
            <a:ext cx="403200" cy="220680"/>
          </a:xfrm>
          <a:custGeom>
            <a:avLst/>
            <a:gdLst/>
            <a:ahLst/>
            <a:rect l="l" t="t" r="r" b="b"/>
            <a:pathLst>
              <a:path w="254" h="139">
                <a:moveTo>
                  <a:pt x="0" y="0"/>
                </a:moveTo>
                <a:lnTo>
                  <a:pt x="254" y="0"/>
                </a:lnTo>
                <a:lnTo>
                  <a:pt x="254" y="139"/>
                </a:lnTo>
                <a:lnTo>
                  <a:pt x="0" y="13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38840" y="3429000"/>
            <a:ext cx="368280" cy="185760"/>
          </a:xfrm>
          <a:prstGeom prst="rect">
            <a:avLst/>
          </a:prstGeom>
          <a:solidFill>
            <a:srgbClr val="ffffff"/>
          </a:solidFill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21560" y="2935440"/>
            <a:ext cx="403200" cy="218880"/>
          </a:xfrm>
          <a:custGeom>
            <a:avLst/>
            <a:gdLst/>
            <a:ahLst/>
            <a:rect l="l" t="t" r="r" b="b"/>
            <a:pathLst>
              <a:path w="254" h="138">
                <a:moveTo>
                  <a:pt x="0" y="0"/>
                </a:moveTo>
                <a:lnTo>
                  <a:pt x="254" y="0"/>
                </a:lnTo>
                <a:lnTo>
                  <a:pt x="254" y="138"/>
                </a:lnTo>
                <a:lnTo>
                  <a:pt x="0" y="13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38840" y="2952720"/>
            <a:ext cx="368280" cy="184320"/>
          </a:xfrm>
          <a:prstGeom prst="rect">
            <a:avLst/>
          </a:prstGeom>
          <a:solidFill>
            <a:srgbClr val="ffffff"/>
          </a:solidFill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539040" y="2825640"/>
            <a:ext cx="878760" cy="8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4" y="14502"/>
                </a:moveTo>
                <a:arcTo wR="10800" hR="10800" stAng="9597110" swAng="2405781"/>
                <a:lnTo>
                  <a:pt x="10800" y="10800"/>
                </a:lnTo>
                <a:close/>
              </a:path>
              <a:path fill="none" w="21600" h="21600">
                <a:moveTo>
                  <a:pt x="654" y="14502"/>
                </a:moveTo>
                <a:arcTo wR="10800" hR="10800" stAng="9597110" swAng="240578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45000" y="3265560"/>
            <a:ext cx="293040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CDB-9852-495F-8036-58B542981D4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oyment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816600" y="3180960"/>
            <a:ext cx="56052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305240" y="3180960"/>
            <a:ext cx="56052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377120" y="3181320"/>
            <a:ext cx="83016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65760" y="3181320"/>
            <a:ext cx="83016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804080" y="3181320"/>
            <a:ext cx="40320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315040" y="3181320"/>
            <a:ext cx="38088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816240" y="3379680"/>
            <a:ext cx="987480" cy="180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304880" y="3379680"/>
            <a:ext cx="1009800" cy="180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816240" y="4324320"/>
            <a:ext cx="98748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4304880" y="4324320"/>
            <a:ext cx="100980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804080" y="3180960"/>
            <a:ext cx="40320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315040" y="3180960"/>
            <a:ext cx="38088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07280" y="3181320"/>
            <a:ext cx="1800" cy="8571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95920" y="3181320"/>
            <a:ext cx="1440" cy="8571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7804080" y="4038480"/>
            <a:ext cx="403200" cy="2858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5315040" y="4038480"/>
            <a:ext cx="380880" cy="2858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804080" y="3379680"/>
            <a:ext cx="180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315040" y="3379680"/>
            <a:ext cx="144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816600" y="3379680"/>
            <a:ext cx="180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305240" y="3379680"/>
            <a:ext cx="180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86600" y="3400560"/>
            <a:ext cx="425520" cy="133200"/>
          </a:xfrm>
          <a:custGeom>
            <a:avLst/>
            <a:gdLst/>
            <a:ahLst/>
            <a:rect l="l" t="t" r="r" b="b"/>
            <a:pathLst>
              <a:path w="268" h="84">
                <a:moveTo>
                  <a:pt x="0" y="84"/>
                </a:moveTo>
                <a:lnTo>
                  <a:pt x="268" y="84"/>
                </a:lnTo>
                <a:lnTo>
                  <a:pt x="268" y="0"/>
                </a:lnTo>
                <a:lnTo>
                  <a:pt x="0" y="0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86600" y="3400560"/>
            <a:ext cx="42552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97560" y="3400560"/>
            <a:ext cx="403200" cy="133200"/>
          </a:xfrm>
          <a:custGeom>
            <a:avLst/>
            <a:gdLst/>
            <a:ahLst/>
            <a:rect l="l" t="t" r="r" b="b"/>
            <a:pathLst>
              <a:path w="254" h="84">
                <a:moveTo>
                  <a:pt x="0" y="84"/>
                </a:moveTo>
                <a:lnTo>
                  <a:pt x="254" y="84"/>
                </a:lnTo>
                <a:lnTo>
                  <a:pt x="254" y="0"/>
                </a:lnTo>
                <a:lnTo>
                  <a:pt x="0" y="0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97560" y="3400560"/>
            <a:ext cx="40320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38960" y="3797280"/>
            <a:ext cx="127764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74360" y="337824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chine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73480" y="351000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85720" y="337824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chine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166760" y="3180960"/>
            <a:ext cx="56052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727280" y="3181320"/>
            <a:ext cx="83016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152800" y="3181320"/>
            <a:ext cx="40464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166400" y="3379680"/>
            <a:ext cx="986040" cy="180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166400" y="4324320"/>
            <a:ext cx="98604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52800" y="3180960"/>
            <a:ext cx="40464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57440" y="3181320"/>
            <a:ext cx="1440" cy="8571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152800" y="4038480"/>
            <a:ext cx="404640" cy="2858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152800" y="3379680"/>
            <a:ext cx="144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166760" y="3379680"/>
            <a:ext cx="180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34960" y="3400560"/>
            <a:ext cx="427320" cy="133200"/>
          </a:xfrm>
          <a:custGeom>
            <a:avLst/>
            <a:gdLst/>
            <a:ahLst/>
            <a:rect l="l" t="t" r="r" b="b"/>
            <a:pathLst>
              <a:path w="269" h="84">
                <a:moveTo>
                  <a:pt x="0" y="84"/>
                </a:moveTo>
                <a:lnTo>
                  <a:pt x="269" y="84"/>
                </a:lnTo>
                <a:lnTo>
                  <a:pt x="269" y="0"/>
                </a:lnTo>
                <a:lnTo>
                  <a:pt x="0" y="0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34960" y="3400560"/>
            <a:ext cx="42732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55400" y="340056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86280" y="362124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55840" y="3797280"/>
            <a:ext cx="192708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73160" y="329076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03680" y="3510000"/>
            <a:ext cx="136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33560" y="36640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29080" y="3676680"/>
            <a:ext cx="830160" cy="26352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51320" y="3708360"/>
            <a:ext cx="155520" cy="66600"/>
          </a:xfrm>
          <a:custGeom>
            <a:avLst/>
            <a:gdLst/>
            <a:ahLst/>
            <a:rect l="l" t="t" r="r" b="b"/>
            <a:pathLst>
              <a:path w="98" h="42">
                <a:moveTo>
                  <a:pt x="0" y="0"/>
                </a:moveTo>
                <a:lnTo>
                  <a:pt x="98" y="0"/>
                </a:lnTo>
                <a:lnTo>
                  <a:pt x="98" y="42"/>
                </a:lnTo>
                <a:lnTo>
                  <a:pt x="0" y="4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62480" y="3719520"/>
            <a:ext cx="133200" cy="442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51320" y="3840120"/>
            <a:ext cx="155520" cy="66600"/>
          </a:xfrm>
          <a:custGeom>
            <a:avLst/>
            <a:gdLst/>
            <a:ahLst/>
            <a:rect l="l" t="t" r="r" b="b"/>
            <a:pathLst>
              <a:path w="98" h="42">
                <a:moveTo>
                  <a:pt x="0" y="0"/>
                </a:moveTo>
                <a:lnTo>
                  <a:pt x="98" y="0"/>
                </a:lnTo>
                <a:lnTo>
                  <a:pt x="98" y="42"/>
                </a:lnTo>
                <a:lnTo>
                  <a:pt x="0" y="4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62480" y="3851280"/>
            <a:ext cx="133200" cy="442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3560" y="3994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29080" y="4005360"/>
            <a:ext cx="830160" cy="26352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51320" y="4038480"/>
            <a:ext cx="179280" cy="66960"/>
          </a:xfrm>
          <a:custGeom>
            <a:avLst/>
            <a:gdLst/>
            <a:ahLst/>
            <a:rect l="l" t="t" r="r" b="b"/>
            <a:pathLst>
              <a:path w="113" h="42">
                <a:moveTo>
                  <a:pt x="0" y="0"/>
                </a:moveTo>
                <a:lnTo>
                  <a:pt x="113" y="0"/>
                </a:lnTo>
                <a:lnTo>
                  <a:pt x="113" y="42"/>
                </a:lnTo>
                <a:lnTo>
                  <a:pt x="0" y="4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62480" y="4049640"/>
            <a:ext cx="156960" cy="446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51320" y="4170240"/>
            <a:ext cx="179280" cy="66960"/>
          </a:xfrm>
          <a:custGeom>
            <a:avLst/>
            <a:gdLst/>
            <a:ahLst/>
            <a:rect l="l" t="t" r="r" b="b"/>
            <a:pathLst>
              <a:path w="113" h="42">
                <a:moveTo>
                  <a:pt x="0" y="0"/>
                </a:moveTo>
                <a:lnTo>
                  <a:pt x="113" y="0"/>
                </a:lnTo>
                <a:lnTo>
                  <a:pt x="113" y="42"/>
                </a:lnTo>
                <a:lnTo>
                  <a:pt x="0" y="4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62480" y="4181400"/>
            <a:ext cx="156960" cy="446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151400" y="375300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erv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40440" y="3741840"/>
            <a:ext cx="830520" cy="28548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61240" y="3797280"/>
            <a:ext cx="156960" cy="65160"/>
          </a:xfrm>
          <a:custGeom>
            <a:avLst/>
            <a:gdLst/>
            <a:ahLst/>
            <a:rect l="l" t="t" r="r" b="b"/>
            <a:pathLst>
              <a:path w="99" h="41">
                <a:moveTo>
                  <a:pt x="0" y="0"/>
                </a:moveTo>
                <a:lnTo>
                  <a:pt x="99" y="0"/>
                </a:lnTo>
                <a:lnTo>
                  <a:pt x="99" y="41"/>
                </a:lnTo>
                <a:lnTo>
                  <a:pt x="0" y="4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72400" y="3808440"/>
            <a:ext cx="135000" cy="428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61240" y="3929040"/>
            <a:ext cx="156960" cy="65160"/>
          </a:xfrm>
          <a:custGeom>
            <a:avLst/>
            <a:gdLst/>
            <a:ahLst/>
            <a:rect l="l" t="t" r="r" b="b"/>
            <a:pathLst>
              <a:path w="99" h="41">
                <a:moveTo>
                  <a:pt x="0" y="0"/>
                </a:moveTo>
                <a:lnTo>
                  <a:pt x="99" y="0"/>
                </a:lnTo>
                <a:lnTo>
                  <a:pt x="99" y="41"/>
                </a:lnTo>
                <a:lnTo>
                  <a:pt x="0" y="4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72400" y="3940200"/>
            <a:ext cx="135000" cy="428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FEC-F061-4053-9005-1D419EE7292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5 Architectural Patte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tion of patterns can be applied to software architectur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called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chitectural patter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al sty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llows you to design flexible systems using compon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nents are as independent of each other as possib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54E-5CC8-41A5-9A61-65E145B3CE1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ulti-Layer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layered system, each layer communicates only with the layer immediately below i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layer has a well-defined interface used by the layer immediately abo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gher layer sees the lower layer as a set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lex system can be built by superposing layers at increasing levels of abstr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mportant to have a separate layer for the 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s immediately below the UI layer provide the application functions determined by the use-c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 layers provide general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network communication, database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B26-EB4A-4E30-BF8F-F3C4A5D00C5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multi-lay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5270400" y="2311560"/>
            <a:ext cx="1137240" cy="422280"/>
            <a:chOff x="5270400" y="2311560"/>
            <a:chExt cx="1137240" cy="422280"/>
          </a:xfrm>
        </p:grpSpPr>
        <p:sp>
          <p:nvSpPr>
            <p:cNvPr id="467" name=""/>
            <p:cNvSpPr/>
            <p:nvPr/>
          </p:nvSpPr>
          <p:spPr>
            <a:xfrm>
              <a:off x="5270400" y="2317680"/>
              <a:ext cx="1127160" cy="416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82280" y="2311560"/>
              <a:ext cx="1125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Screen display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80480" y="2494080"/>
              <a:ext cx="58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facilit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535720" y="3006720"/>
            <a:ext cx="1093680" cy="422280"/>
            <a:chOff x="5535720" y="3006720"/>
            <a:chExt cx="1093680" cy="422280"/>
          </a:xfrm>
        </p:grpSpPr>
        <p:sp>
          <p:nvSpPr>
            <p:cNvPr id="471" name=""/>
            <p:cNvSpPr/>
            <p:nvPr/>
          </p:nvSpPr>
          <p:spPr>
            <a:xfrm>
              <a:off x="5535720" y="3014640"/>
              <a:ext cx="109368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79640" y="3006720"/>
              <a:ext cx="1015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User accoun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80000" y="3189240"/>
              <a:ext cx="96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867280" y="3686040"/>
            <a:ext cx="1027080" cy="438120"/>
            <a:chOff x="5867280" y="3686040"/>
            <a:chExt cx="1027080" cy="438120"/>
          </a:xfrm>
        </p:grpSpPr>
        <p:sp>
          <p:nvSpPr>
            <p:cNvPr id="475" name=""/>
            <p:cNvSpPr/>
            <p:nvPr/>
          </p:nvSpPr>
          <p:spPr>
            <a:xfrm>
              <a:off x="5867280" y="3710160"/>
              <a:ext cx="1027080" cy="41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24520" y="368604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Fil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25240" y="3868560"/>
              <a:ext cx="522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856040" y="4389480"/>
            <a:ext cx="1623960" cy="61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933080" y="4381560"/>
            <a:ext cx="52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36680" y="4564080"/>
            <a:ext cx="151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(handling process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35240" y="4746600"/>
            <a:ext cx="1070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nd swapping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08440" y="1805040"/>
            <a:ext cx="1656000" cy="249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786920" y="1797120"/>
            <a:ext cx="154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57080" y="4183200"/>
            <a:ext cx="39888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5" y="652"/>
                </a:moveTo>
                <a:arcTo wR="10800" hR="10800" stAng="-6600533" swAng="2397952"/>
                <a:lnTo>
                  <a:pt x="10800" y="10800"/>
                </a:lnTo>
                <a:close/>
              </a:path>
              <a:path fill="none" w="21600" h="21600">
                <a:moveTo>
                  <a:pt x="7105" y="652"/>
                </a:moveTo>
                <a:arcTo wR="10800" hR="10800" stAng="-6600533" swAng="239795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356520" y="4116240"/>
            <a:ext cx="1440" cy="82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1920" y="3486240"/>
            <a:ext cx="39600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8" y="661"/>
                </a:moveTo>
                <a:arcTo wR="10800" hR="10800" stAng="-6609385" swAng="2415636"/>
                <a:lnTo>
                  <a:pt x="10800" y="10800"/>
                </a:lnTo>
                <a:close/>
              </a:path>
              <a:path fill="none" w="21600" h="21600">
                <a:moveTo>
                  <a:pt x="7078" y="661"/>
                </a:moveTo>
                <a:arcTo wR="10800" hR="10800" stAng="-6609385" swAng="24156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289560" y="3436560"/>
            <a:ext cx="180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78840" y="4165560"/>
            <a:ext cx="39636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8" y="658"/>
                </a:moveTo>
                <a:arcTo wR="10800" hR="10800" stAng="-6606095" swAng="2412189"/>
                <a:lnTo>
                  <a:pt x="10800" y="10800"/>
                </a:lnTo>
                <a:close/>
              </a:path>
              <a:path fill="none" w="21600" h="21600">
                <a:moveTo>
                  <a:pt x="7088" y="658"/>
                </a:moveTo>
                <a:arcTo wR="10800" hR="10800" stAng="-6606095" swAng="24121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76840" y="3436920"/>
            <a:ext cx="1800" cy="746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59280" y="2800440"/>
            <a:ext cx="39708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7" y="655"/>
                </a:moveTo>
                <a:arcTo wR="10800" hR="10800" stAng="-6602968" swAng="2409063"/>
                <a:lnTo>
                  <a:pt x="10800" y="10800"/>
                </a:lnTo>
                <a:close/>
              </a:path>
              <a:path fill="none" w="21600" h="21600">
                <a:moveTo>
                  <a:pt x="7097" y="655"/>
                </a:moveTo>
                <a:arcTo wR="10800" hR="10800" stAng="-6602968" swAng="240906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958000" y="274140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13520" y="4165560"/>
            <a:ext cx="39636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8" y="658"/>
                </a:moveTo>
                <a:arcTo wR="10800" hR="10800" stAng="-6606095" swAng="2412189"/>
                <a:lnTo>
                  <a:pt x="10800" y="10800"/>
                </a:lnTo>
                <a:close/>
              </a:path>
              <a:path fill="none" w="21600" h="21600">
                <a:moveTo>
                  <a:pt x="7088" y="658"/>
                </a:moveTo>
                <a:arcTo wR="10800" hR="10800" stAng="-6606095" swAng="24121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1880" y="2741760"/>
            <a:ext cx="1440" cy="144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94040" y="2095560"/>
            <a:ext cx="39744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8" y="658"/>
                </a:moveTo>
                <a:arcTo wR="10800" hR="10800" stAng="-6606095" swAng="2412189"/>
                <a:lnTo>
                  <a:pt x="10800" y="10800"/>
                </a:lnTo>
                <a:close/>
              </a:path>
              <a:path fill="none" w="21600" h="21600">
                <a:moveTo>
                  <a:pt x="7088" y="658"/>
                </a:moveTo>
                <a:arcTo wR="10800" hR="10800" stAng="-6606095" swAng="24121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792760" y="2045880"/>
            <a:ext cx="1440" cy="65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64760" y="4165560"/>
            <a:ext cx="3985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1" y="653"/>
                </a:moveTo>
                <a:arcTo wR="10800" hR="10800" stAng="-6601673" swAng="2400228"/>
                <a:lnTo>
                  <a:pt x="10800" y="10800"/>
                </a:lnTo>
                <a:close/>
              </a:path>
              <a:path fill="none" w="21600" h="21600">
                <a:moveTo>
                  <a:pt x="7101" y="653"/>
                </a:moveTo>
                <a:arcTo wR="10800" hR="10800" stAng="-6601673" swAng="240022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5164200" y="2046240"/>
            <a:ext cx="1440" cy="2136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73200" y="3195720"/>
            <a:ext cx="728640" cy="415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97680" y="31892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98400" y="337176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25640" y="3892680"/>
            <a:ext cx="1822320" cy="414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00120" y="38847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99040" y="4067280"/>
            <a:ext cx="33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40080" y="4587840"/>
            <a:ext cx="795240" cy="414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67080" y="457992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Databas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66000" y="476244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333600" y="4579920"/>
            <a:ext cx="1176120" cy="422280"/>
            <a:chOff x="3333600" y="4579920"/>
            <a:chExt cx="1176120" cy="422280"/>
          </a:xfrm>
        </p:grpSpPr>
        <p:sp>
          <p:nvSpPr>
            <p:cNvPr id="508" name=""/>
            <p:cNvSpPr/>
            <p:nvPr/>
          </p:nvSpPr>
          <p:spPr>
            <a:xfrm>
              <a:off x="3333600" y="4587840"/>
              <a:ext cx="117612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60240" y="457992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Network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61680" y="476244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3458520" y="4363920"/>
            <a:ext cx="39852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2" y="657"/>
                </a:moveTo>
                <a:arcTo wR="10800" hR="10800" stAng="-6604952" swAng="2406780"/>
                <a:lnTo>
                  <a:pt x="10800" y="10800"/>
                </a:lnTo>
                <a:close/>
              </a:path>
              <a:path fill="none" w="21600" h="21600">
                <a:moveTo>
                  <a:pt x="7092" y="657"/>
                </a:moveTo>
                <a:arcTo wR="10800" hR="10800" stAng="-6604952" swAng="240678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656160" y="431460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664360" y="4363920"/>
            <a:ext cx="39600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8" y="661"/>
                </a:moveTo>
                <a:arcTo wR="10800" hR="10800" stAng="-6609385" swAng="2415636"/>
                <a:lnTo>
                  <a:pt x="10800" y="10800"/>
                </a:lnTo>
                <a:close/>
              </a:path>
              <a:path fill="none" w="21600" h="21600">
                <a:moveTo>
                  <a:pt x="7078" y="661"/>
                </a:moveTo>
                <a:arcTo wR="10800" hR="10800" stAng="-6609385" swAng="24156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862360" y="431460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13240" y="3668760"/>
            <a:ext cx="39924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1" y="653"/>
                </a:moveTo>
                <a:arcTo wR="10800" hR="10800" stAng="-6601673" swAng="2400228"/>
                <a:lnTo>
                  <a:pt x="10800" y="10800"/>
                </a:lnTo>
                <a:close/>
              </a:path>
              <a:path fill="none" w="21600" h="21600">
                <a:moveTo>
                  <a:pt x="7101" y="653"/>
                </a:moveTo>
                <a:arcTo wR="10800" hR="10800" stAng="-6601673" swAng="240022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813040" y="361908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423200" y="4579920"/>
            <a:ext cx="1060560" cy="422280"/>
            <a:chOff x="7423200" y="4579920"/>
            <a:chExt cx="1060560" cy="422280"/>
          </a:xfrm>
        </p:grpSpPr>
        <p:sp>
          <p:nvSpPr>
            <p:cNvPr id="518" name=""/>
            <p:cNvSpPr/>
            <p:nvPr/>
          </p:nvSpPr>
          <p:spPr>
            <a:xfrm>
              <a:off x="7423200" y="4587840"/>
              <a:ext cx="106056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51280" y="4579920"/>
              <a:ext cx="951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Transmitting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51280" y="4762440"/>
              <a:ext cx="979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and receiv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7456320" y="3884760"/>
            <a:ext cx="993600" cy="422280"/>
            <a:chOff x="7456320" y="3884760"/>
            <a:chExt cx="993600" cy="422280"/>
          </a:xfrm>
        </p:grpSpPr>
        <p:sp>
          <p:nvSpPr>
            <p:cNvPr id="522" name=""/>
            <p:cNvSpPr/>
            <p:nvPr/>
          </p:nvSpPr>
          <p:spPr>
            <a:xfrm>
              <a:off x="7456320" y="3892680"/>
              <a:ext cx="99360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83320" y="388476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82600" y="40672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7456320" y="3189240"/>
            <a:ext cx="993600" cy="422280"/>
            <a:chOff x="7456320" y="3189240"/>
            <a:chExt cx="993600" cy="422280"/>
          </a:xfrm>
        </p:grpSpPr>
        <p:sp>
          <p:nvSpPr>
            <p:cNvPr id="526" name=""/>
            <p:cNvSpPr/>
            <p:nvPr/>
          </p:nvSpPr>
          <p:spPr>
            <a:xfrm>
              <a:off x="7456320" y="3195720"/>
              <a:ext cx="993600" cy="415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3320" y="318924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83680" y="3371760"/>
              <a:ext cx="87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connec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7157880" y="2509920"/>
            <a:ext cx="1590480" cy="422280"/>
            <a:chOff x="7157880" y="2509920"/>
            <a:chExt cx="1590480" cy="422280"/>
          </a:xfrm>
        </p:grpSpPr>
        <p:sp>
          <p:nvSpPr>
            <p:cNvPr id="530" name=""/>
            <p:cNvSpPr/>
            <p:nvPr/>
          </p:nvSpPr>
          <p:spPr>
            <a:xfrm>
              <a:off x="7157880" y="2517840"/>
              <a:ext cx="159048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84880" y="250992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87040" y="2692440"/>
              <a:ext cx="1500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application protocol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7731000" y="4363920"/>
            <a:ext cx="39744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2" y="657"/>
                </a:moveTo>
                <a:arcTo wR="10800" hR="10800" stAng="-6604952" swAng="2406780"/>
                <a:lnTo>
                  <a:pt x="10800" y="10800"/>
                </a:lnTo>
                <a:close/>
              </a:path>
              <a:path fill="none" w="21600" h="21600">
                <a:moveTo>
                  <a:pt x="7092" y="657"/>
                </a:moveTo>
                <a:arcTo wR="10800" hR="10800" stAng="-6604952" swAng="240678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7927920" y="4314600"/>
            <a:ext cx="180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730280" y="3668760"/>
            <a:ext cx="3985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1" y="653"/>
                </a:moveTo>
                <a:arcTo wR="10800" hR="10800" stAng="-6601673" swAng="2400228"/>
                <a:lnTo>
                  <a:pt x="10800" y="10800"/>
                </a:lnTo>
                <a:close/>
              </a:path>
              <a:path fill="none" w="21600" h="21600">
                <a:moveTo>
                  <a:pt x="7101" y="653"/>
                </a:moveTo>
                <a:arcTo wR="10800" hR="10800" stAng="-6601673" swAng="240022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927920" y="3619080"/>
            <a:ext cx="180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30280" y="2982960"/>
            <a:ext cx="3985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1" y="653"/>
                </a:moveTo>
                <a:arcTo wR="10800" hR="10800" stAng="-6601673" swAng="2400228"/>
                <a:lnTo>
                  <a:pt x="10800" y="10800"/>
                </a:lnTo>
                <a:close/>
              </a:path>
              <a:path fill="none" w="21600" h="21600">
                <a:moveTo>
                  <a:pt x="7101" y="653"/>
                </a:moveTo>
                <a:arcTo wR="10800" hR="10800" stAng="-6601673" swAng="240022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927920" y="2923920"/>
            <a:ext cx="1800" cy="65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22200" y="5292720"/>
            <a:ext cx="164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) Typical layers in a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22200" y="5475240"/>
            <a:ext cx="1445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 progr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19400" y="5292720"/>
            <a:ext cx="164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b) Typical layers in a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8320" y="5475240"/>
            <a:ext cx="1253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38360" y="5292720"/>
            <a:ext cx="198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) Simplified view of layer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039440" y="5475240"/>
            <a:ext cx="198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in a communication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65160" y="4587840"/>
            <a:ext cx="1376280" cy="414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94320" y="4579920"/>
            <a:ext cx="133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Operating syste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91440" y="476244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02320" y="4363920"/>
            <a:ext cx="39600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8" y="661"/>
                </a:moveTo>
                <a:arcTo wR="10800" hR="10800" stAng="-6609385" swAng="2415636"/>
                <a:lnTo>
                  <a:pt x="10800" y="10800"/>
                </a:lnTo>
                <a:close/>
              </a:path>
              <a:path fill="none" w="21600" h="21600">
                <a:moveTo>
                  <a:pt x="7078" y="661"/>
                </a:moveTo>
                <a:arcTo wR="10800" hR="10800" stAng="-6609385" swAng="24156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200320" y="431460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65160" y="4471920"/>
            <a:ext cx="2332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40080" y="4471920"/>
            <a:ext cx="2318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33600" y="4471920"/>
            <a:ext cx="2494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925640" y="3776760"/>
            <a:ext cx="2332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73200" y="3079800"/>
            <a:ext cx="231840" cy="11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856040" y="4273560"/>
            <a:ext cx="2336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867280" y="3594240"/>
            <a:ext cx="2318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535720" y="2898720"/>
            <a:ext cx="2318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70400" y="2201760"/>
            <a:ext cx="233640" cy="117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08440" y="1689120"/>
            <a:ext cx="2318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57880" y="2401920"/>
            <a:ext cx="2494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456320" y="3079800"/>
            <a:ext cx="249480" cy="11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472520" y="3776760"/>
            <a:ext cx="2332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23200" y="4471920"/>
            <a:ext cx="24912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30B-310F-4B28-A52A-55DABAED3697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-lay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layers can be independently de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ell-designed layers have layer cohe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ell-designed lower layers do not know about the higher layers and the only connection between layers is through the A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bstr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do not need to know the details of how the lower layers are implemen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lower layers can often be designed gener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9CA-B070-4721-A67B-6A7DCE1CFDC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-lay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often reuse layers built by others that provide the services you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Increase flexibility: you can add new facilities built on lower-level services, or replace higher-level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ipate obsolesce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y isolating components in separate layers, the system becomes more resistant to obsolesc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por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l the dependent facilities can be isolated in one of the lower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tes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ayers can be tested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APIs of layers are natural places to build in rigorous assertion-chec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23D-D124-4241-B152-9E1D0F2DF3F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lient-Server and other distributed architectural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t least one component that has the rol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aiting for and then handling conn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t least one component that has the rol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itiating connections in order to obtain some ser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rther extension is the Peer-to-Peer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composed of various software components that are distributed over several h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865-5DA8-46DB-9E0A-75BD4208E5E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that is defined at the programming languag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methods, classes and packages are modules in 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E16-72D7-4A78-8048-F6A77AABD6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of a distribut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34080" y="32655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97200" y="3274920"/>
            <a:ext cx="844560" cy="27468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17640" y="3309840"/>
            <a:ext cx="18288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28800" y="3321000"/>
            <a:ext cx="16056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17640" y="3446640"/>
            <a:ext cx="182880" cy="69840"/>
          </a:xfrm>
          <a:custGeom>
            <a:avLst/>
            <a:gdLst/>
            <a:ahLst/>
            <a:rect l="l" t="t" r="r" b="b"/>
            <a:pathLst>
              <a:path w="115" h="44">
                <a:moveTo>
                  <a:pt x="0" y="0"/>
                </a:moveTo>
                <a:lnTo>
                  <a:pt x="115" y="0"/>
                </a:lnTo>
                <a:lnTo>
                  <a:pt x="115" y="44"/>
                </a:lnTo>
                <a:lnTo>
                  <a:pt x="0" y="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28800" y="3457440"/>
            <a:ext cx="160560" cy="4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418880" y="290052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erv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75520" y="2887560"/>
            <a:ext cx="844560" cy="2970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95960" y="2944800"/>
            <a:ext cx="18288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07120" y="2955960"/>
            <a:ext cx="16056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95960" y="3083040"/>
            <a:ext cx="182880" cy="6804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107120" y="3094200"/>
            <a:ext cx="160560" cy="4572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45240" y="21240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08360" y="2135160"/>
            <a:ext cx="844560" cy="27468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29160" y="2170080"/>
            <a:ext cx="18252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639960" y="2181240"/>
            <a:ext cx="16056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629160" y="2306520"/>
            <a:ext cx="18252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39960" y="2317680"/>
            <a:ext cx="16056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29600" y="440532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92720" y="4416480"/>
            <a:ext cx="844560" cy="27468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13160" y="4451400"/>
            <a:ext cx="182520" cy="6804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24320" y="4462560"/>
            <a:ext cx="16020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313160" y="4587840"/>
            <a:ext cx="18252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24320" y="4599000"/>
            <a:ext cx="16020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55920" y="2443320"/>
            <a:ext cx="523800" cy="7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36920" y="2443320"/>
            <a:ext cx="341280" cy="196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446640" y="3560760"/>
            <a:ext cx="1002960" cy="820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64080" y="2284560"/>
            <a:ext cx="2690640" cy="591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021280" y="3195720"/>
            <a:ext cx="2233440" cy="118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96760" y="360684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84600" y="3835440"/>
            <a:ext cx="164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up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33000" y="392580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400480" y="4154400"/>
            <a:ext cx="186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21800" y="255744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16480" y="2786040"/>
            <a:ext cx="186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18720" y="285444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13400" y="3083040"/>
            <a:ext cx="186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612760" y="203364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700600" y="2262240"/>
            <a:ext cx="164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up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3F2-FBBF-4E10-9E17-7771AD136DD2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ributed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viding the system into client and server processes is a strong way to divide the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an be separately develo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server can provide a cohesive service to cli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re is usually only one communication channel exchanging simple mess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bstrac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parate distributed components are often good abstr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often possible to find suitable frameworks on which to build good distribut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client-server systems are often very application speci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A72-2605-4692-93D3-19E67B5439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ributed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stributed systems can often be easily reconfigured by adding extra servers or cli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por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write clients for new platforms without having to port the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tes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test clients and servers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put rigorous checks in the message handling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ECE-342F-471F-9BDB-9451EEA6F07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roker architectural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arently distribute aspects of the software system to different 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ject can call methods of another object without knowing that this object is remotely  loc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is a well-known open standard that allows you to build this kind of archit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2F6-0540-4AA8-ACA6-B37FB6486EB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Brok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1371600" y="2805120"/>
            <a:ext cx="7391520" cy="7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C24-220E-4D9F-853E-6E26FF1A7F32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ok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remote objects can be independently desig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a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often possible to design the remote objects so that other systems can use them t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may be able to reuse remote objects that others have cre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brokers can be updated as required, or the proxy can communicate with a different remote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porta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write clients for new platforms while still accessing brokers and remote objects on other plat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provide careful assertion checking in the remot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CCB-0B9D-4B38-AA0E-B9ED6C0B48F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ransaction-Processing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cess reads a series of inputs one by on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nput describe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 command that typically some change to the data stored by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atch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onent that decides what to do with each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ispatches a procedure call or message to one of a series of component that wi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trans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6E9-314F-4688-A351-C21240E3C48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transaction-process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603080" y="3102120"/>
            <a:ext cx="106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02720" y="332280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60520" y="3003480"/>
            <a:ext cx="1324080" cy="7272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95280" y="343368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06440" y="344484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646160" y="3079800"/>
            <a:ext cx="106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645800" y="330048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81640" y="3003480"/>
            <a:ext cx="1257120" cy="7272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60200" y="3059280"/>
            <a:ext cx="109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95280" y="314640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306440" y="315756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16400" y="343368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27560" y="344484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16400" y="314640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27560" y="315756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06960" y="3080520"/>
            <a:ext cx="529560" cy="5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" y="14494"/>
                </a:moveTo>
                <a:arcTo wR="10800" hR="10800" stAng="9600062" swAng="2399875"/>
                <a:lnTo>
                  <a:pt x="10800" y="10800"/>
                </a:lnTo>
                <a:close/>
              </a:path>
              <a:path fill="none" w="21600" h="21600">
                <a:moveTo>
                  <a:pt x="651" y="14494"/>
                </a:moveTo>
                <a:arcTo wR="10800" hR="10800" stAng="9600062" swAng="239987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2795760" y="3344760"/>
            <a:ext cx="14335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62840" y="2562120"/>
            <a:ext cx="1895400" cy="7272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96160" y="299232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07320" y="300348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96160" y="2705040"/>
            <a:ext cx="243000" cy="133560"/>
          </a:xfrm>
          <a:custGeom>
            <a:avLst/>
            <a:gdLst/>
            <a:ahLst/>
            <a:rect l="l" t="t" r="r" b="b"/>
            <a:pathLst>
              <a:path w="153" h="84">
                <a:moveTo>
                  <a:pt x="0" y="0"/>
                </a:moveTo>
                <a:lnTo>
                  <a:pt x="153" y="0"/>
                </a:lnTo>
                <a:lnTo>
                  <a:pt x="153" y="84"/>
                </a:lnTo>
                <a:lnTo>
                  <a:pt x="0" y="8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07320" y="2716200"/>
            <a:ext cx="220680" cy="1112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764400" y="2641320"/>
            <a:ext cx="529560" cy="52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86" y="17571"/>
                </a:moveTo>
                <a:arcTo wR="10800" hR="10800" stAng="8470638" swAng="2366836"/>
                <a:lnTo>
                  <a:pt x="10800" y="10800"/>
                </a:lnTo>
                <a:close/>
              </a:path>
              <a:path fill="none" w="21600" h="21600">
                <a:moveTo>
                  <a:pt x="2386" y="17571"/>
                </a:moveTo>
                <a:arcTo wR="10800" hR="10800" stAng="8470638" swAng="23668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5749920" y="2970360"/>
            <a:ext cx="1036800" cy="37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93600" y="2573280"/>
            <a:ext cx="100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r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92160" y="2793960"/>
            <a:ext cx="108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92880" y="301464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062840" y="3444840"/>
            <a:ext cx="1895400" cy="7272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96160" y="387504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907320" y="388620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96160" y="358776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907320" y="359892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93600" y="3456000"/>
            <a:ext cx="100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r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90000" y="3676680"/>
            <a:ext cx="162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ght cance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92880" y="389556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764400" y="3566160"/>
            <a:ext cx="529560" cy="52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" y="11450"/>
                </a:moveTo>
                <a:arcTo wR="10800" hR="10800" stAng="10592887" swAng="2363235"/>
                <a:lnTo>
                  <a:pt x="10800" y="10800"/>
                </a:lnTo>
                <a:close/>
              </a:path>
              <a:path fill="none" w="21600" h="21600">
                <a:moveTo>
                  <a:pt x="20" y="11450"/>
                </a:moveTo>
                <a:arcTo wR="10800" hR="10800" stAng="10592887" swAng="236323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49920" y="3456000"/>
            <a:ext cx="1036800" cy="28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778520" y="43830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78520" y="451476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772040" y="464652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107-E76C-42B4-BDD9-7AD0297D6E4F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action-processing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transaction handlers are suitable system divisions that you can give to separate software engine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ransaction handlers are naturally cohesive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parating the dispatcher from the handlers tends to reduce coup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readily add new transaction handl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add assertion checking in each transaction handler and/or in the dispat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B64-AD16-4E6B-8E04-0E9577D461E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pe-and-Filter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ream of data, in a relatively simple format, is passed through a series of proce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f which transforms it in some 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s constantly fed into the pip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es work concurr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itecture is very flex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most all the components could be remo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 could be repla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omponents could be insert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components could be reorder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D78-B5FD-41BC-8E93-2324A53A1C9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gical entity, having a set of definable responsibilities or objectives, and consisting of hardware, software or both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can have a specification which is then implemented by a collection of compon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continues to exist, even if its components are changed or repla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al of requirements analysis is to determine the responsibilities of a sys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yst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that is part of a larger system, and which has a definite inter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283-650D-439E-8E0F-A4EE73FB9D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pipe-and-filt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02840" y="1562040"/>
            <a:ext cx="106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ncoders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252080" y="1770120"/>
            <a:ext cx="105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icroph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38400" y="197964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09920" y="378468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ncoder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22160" y="3994200"/>
            <a:ext cx="6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mb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23880" y="4203720"/>
            <a:ext cx="45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756880" y="2778120"/>
            <a:ext cx="55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671560" y="2986200"/>
            <a:ext cx="45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544360" y="2682720"/>
            <a:ext cx="71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qualiz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36440" y="2892600"/>
            <a:ext cx="71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47520" y="3100320"/>
            <a:ext cx="49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969000" y="2682720"/>
            <a:ext cx="63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976200" y="2892600"/>
            <a:ext cx="83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on-vo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96280" y="3100320"/>
            <a:ext cx="99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frequenc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779520" y="2892600"/>
            <a:ext cx="83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241840" y="2892600"/>
            <a:ext cx="6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282520" y="42228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559200" y="4222800"/>
            <a:ext cx="104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comp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18000" y="4013280"/>
            <a:ext cx="63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nco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91360" y="4222800"/>
            <a:ext cx="68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42040" y="443088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26120" y="1523880"/>
            <a:ext cx="109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icroph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11720" y="173196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09200" y="1941480"/>
            <a:ext cx="52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325320" y="2151000"/>
            <a:ext cx="5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64040" y="4051440"/>
            <a:ext cx="56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ist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07160" y="4259160"/>
            <a:ext cx="100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577160" y="2778120"/>
            <a:ext cx="55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94000" y="298620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436760" y="3870360"/>
            <a:ext cx="296640" cy="201600"/>
            <a:chOff x="1436760" y="3870360"/>
            <a:chExt cx="296640" cy="201600"/>
          </a:xfrm>
        </p:grpSpPr>
        <p:sp>
          <p:nvSpPr>
            <p:cNvPr id="698" name=""/>
            <p:cNvSpPr/>
            <p:nvPr/>
          </p:nvSpPr>
          <p:spPr>
            <a:xfrm>
              <a:off x="1465200" y="3917880"/>
              <a:ext cx="266760" cy="152640"/>
            </a:xfrm>
            <a:custGeom>
              <a:avLst/>
              <a:gdLst/>
              <a:ahLst/>
              <a:rect l="l" t="t" r="r" b="b"/>
              <a:pathLst>
                <a:path w="168" h="96">
                  <a:moveTo>
                    <a:pt x="0" y="0"/>
                  </a:moveTo>
                  <a:lnTo>
                    <a:pt x="12" y="12"/>
                  </a:lnTo>
                  <a:lnTo>
                    <a:pt x="24" y="36"/>
                  </a:lnTo>
                  <a:lnTo>
                    <a:pt x="48" y="48"/>
                  </a:lnTo>
                  <a:lnTo>
                    <a:pt x="72" y="60"/>
                  </a:lnTo>
                  <a:lnTo>
                    <a:pt x="96" y="72"/>
                  </a:lnTo>
                  <a:lnTo>
                    <a:pt x="120" y="84"/>
                  </a:lnTo>
                  <a:lnTo>
                    <a:pt x="144" y="96"/>
                  </a:lnTo>
                  <a:lnTo>
                    <a:pt x="156" y="96"/>
                  </a:lnTo>
                  <a:lnTo>
                    <a:pt x="168" y="96"/>
                  </a:lnTo>
                  <a:lnTo>
                    <a:pt x="168" y="84"/>
                  </a:lnTo>
                  <a:lnTo>
                    <a:pt x="156" y="72"/>
                  </a:lnTo>
                  <a:lnTo>
                    <a:pt x="132" y="60"/>
                  </a:lnTo>
                  <a:lnTo>
                    <a:pt x="108" y="48"/>
                  </a:lnTo>
                  <a:lnTo>
                    <a:pt x="96" y="24"/>
                  </a:lnTo>
                  <a:lnTo>
                    <a:pt x="72" y="12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5200" y="39178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84280" y="393696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03360" y="397512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41520" y="39942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79680" y="401328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17840" y="4032360"/>
              <a:ext cx="37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55640" y="40514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693800" y="40705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12880" y="40705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1731960" y="40510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1712520" y="40320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1674720" y="401292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1636560" y="39938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1617840" y="395604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1579680" y="39366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 flipV="1">
              <a:off x="1541520" y="391752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1503360" y="39178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483920" y="391788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1464840" y="391788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36760" y="3870360"/>
              <a:ext cx="133200" cy="152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488120" y="3860640"/>
            <a:ext cx="264600" cy="428760"/>
            <a:chOff x="4488120" y="3860640"/>
            <a:chExt cx="264600" cy="428760"/>
          </a:xfrm>
        </p:grpSpPr>
        <p:grpSp>
          <p:nvGrpSpPr>
            <p:cNvPr id="720" name=""/>
            <p:cNvGrpSpPr/>
            <p:nvPr/>
          </p:nvGrpSpPr>
          <p:grpSpPr>
            <a:xfrm>
              <a:off x="4488120" y="3860640"/>
              <a:ext cx="264600" cy="265320"/>
              <a:chOff x="4488120" y="3860640"/>
              <a:chExt cx="264600" cy="265320"/>
            </a:xfrm>
          </p:grpSpPr>
          <p:sp>
            <p:nvSpPr>
              <p:cNvPr id="721" name=""/>
              <p:cNvSpPr/>
              <p:nvPr/>
            </p:nvSpPr>
            <p:spPr>
              <a:xfrm>
                <a:off x="4488120" y="3860640"/>
                <a:ext cx="264600" cy="26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19" y="2314"/>
                    </a:moveTo>
                    <a:arcTo wR="10800" hR="10800" stAng="-7692891" swAng="94190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19" y="2314"/>
                    </a:moveTo>
                    <a:arcTo wR="10800" hR="10800" stAng="-7692891" swAng="9419072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498560" y="3870360"/>
                <a:ext cx="244440" cy="24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17" y="2316"/>
                    </a:moveTo>
                    <a:arcTo wR="10800" hR="10800" stAng="-7693660" swAng="9419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17" y="2316"/>
                    </a:moveTo>
                    <a:arcTo wR="10800" hR="10800" stAng="-7693660" swAng="9419172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3" name=""/>
              <p:cNvGrpSpPr/>
              <p:nvPr/>
            </p:nvGrpSpPr>
            <p:grpSpPr>
              <a:xfrm>
                <a:off x="4546080" y="3898800"/>
                <a:ext cx="168480" cy="209520"/>
                <a:chOff x="4546080" y="3898800"/>
                <a:chExt cx="168480" cy="20952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4546080" y="3898800"/>
                  <a:ext cx="168480" cy="209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67" y="2277"/>
                      </a:moveTo>
                      <a:arcTo wR="10800" hR="10800" stAng="-7673503" swAng="93928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67" y="2277"/>
                      </a:moveTo>
                      <a:arcTo wR="10800" hR="10800" stAng="-7673503" swAng="9392864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555080" y="3908520"/>
                  <a:ext cx="14976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69" y="2354"/>
                      </a:moveTo>
                      <a:arcTo wR="10800" hR="10800" stAng="-7713006" swAng="93983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69" y="2354"/>
                      </a:moveTo>
                      <a:arcTo wR="10800" hR="10800" stAng="-7713006" swAng="939838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584960" y="3956040"/>
                  <a:ext cx="92880" cy="9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67" y="2356"/>
                      </a:moveTo>
                      <a:arcTo wR="10800" hR="10800" stAng="-7713987" swAng="94177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67" y="2356"/>
                      </a:moveTo>
                      <a:arcTo wR="10800" hR="10800" stAng="-7713987" swAng="9417716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593240" y="3965400"/>
                  <a:ext cx="73800" cy="7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50" y="2370"/>
                      </a:moveTo>
                      <a:arcTo wR="10800" hR="10800" stAng="-7721106" swAng="94187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50" y="2370"/>
                      </a:moveTo>
                      <a:arcTo wR="10800" hR="10800" stAng="-7721106" swAng="941873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"/>
            <p:cNvGrpSpPr/>
            <p:nvPr/>
          </p:nvGrpSpPr>
          <p:grpSpPr>
            <a:xfrm>
              <a:off x="4516560" y="4003560"/>
              <a:ext cx="95040" cy="285840"/>
              <a:chOff x="4516560" y="4003560"/>
              <a:chExt cx="95040" cy="285840"/>
            </a:xfrm>
          </p:grpSpPr>
          <p:sp>
            <p:nvSpPr>
              <p:cNvPr id="729" name=""/>
              <p:cNvSpPr/>
              <p:nvPr/>
            </p:nvSpPr>
            <p:spPr>
              <a:xfrm>
                <a:off x="4516560" y="4003560"/>
                <a:ext cx="95040" cy="28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516560" y="4041720"/>
                <a:ext cx="95040" cy="11448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14480"/>
                  <a:gd name="textAreaBottom" fmla="*/ 100800 h 114480"/>
                </a:gdLst>
                <a:ahLst/>
                <a:rect l="textAreaLeft" t="textAreaTop" r="textAreaRight" b="textAreaBottom"/>
                <a:pathLst>
                  <a:path w="21600" h="26002">
                    <a:moveTo>
                      <a:pt x="10800" y="0"/>
                    </a:moveTo>
                    <a:arcTo wR="10800" hR="10800" stAng="16200000" swAng="-5400000"/>
                    <a:lnTo>
                      <a:pt x="0" y="15202"/>
                    </a:lnTo>
                    <a:arcTo wR="10800" hR="10800" stAng="10800000" swAng="-5400000"/>
                    <a:lnTo>
                      <a:pt x="10800" y="2600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516560" y="4213080"/>
                <a:ext cx="37800" cy="38160"/>
              </a:xfrm>
              <a:custGeom>
                <a:avLst/>
                <a:gdLst>
                  <a:gd name="textAreaLeft" fmla="*/ 5400 w 37800"/>
                  <a:gd name="textAreaRight" fmla="*/ 32400 w 37800"/>
                  <a:gd name="textAreaTop" fmla="*/ 5400 h 38160"/>
                  <a:gd name="textAreaBottom" fmla="*/ 32760 h 38160"/>
                </a:gdLst>
                <a:ahLst/>
                <a:rect l="textAreaLeft" t="textAreaTop" r="textAreaRight" b="textAreaBottom"/>
                <a:pathLst>
                  <a:path w="21600" h="21804">
                    <a:moveTo>
                      <a:pt x="10800" y="0"/>
                    </a:moveTo>
                    <a:arcTo wR="10800" hR="10800" stAng="16200000" swAng="-5400000"/>
                    <a:lnTo>
                      <a:pt x="0" y="11004"/>
                    </a:lnTo>
                    <a:arcTo wR="10800" hR="10800" stAng="10800000" swAng="-5400000"/>
                    <a:lnTo>
                      <a:pt x="10800" y="2180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573440" y="4213080"/>
                <a:ext cx="381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3" name=""/>
          <p:cNvSpPr/>
          <p:nvPr/>
        </p:nvSpPr>
        <p:spPr>
          <a:xfrm>
            <a:off x="1360440" y="2787480"/>
            <a:ext cx="703440" cy="49392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558880" y="2787480"/>
            <a:ext cx="703440" cy="47484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755880" y="2692440"/>
            <a:ext cx="1082880" cy="68400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2692440"/>
            <a:ext cx="853920" cy="68400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19640" y="4022640"/>
            <a:ext cx="777960" cy="68436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14560" y="1571760"/>
            <a:ext cx="1139760" cy="68400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311560" y="3795840"/>
            <a:ext cx="1120680" cy="68256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824200" y="1647720"/>
            <a:ext cx="295200" cy="201600"/>
            <a:chOff x="2824200" y="1647720"/>
            <a:chExt cx="295200" cy="201600"/>
          </a:xfrm>
        </p:grpSpPr>
        <p:sp>
          <p:nvSpPr>
            <p:cNvPr id="741" name=""/>
            <p:cNvSpPr/>
            <p:nvPr/>
          </p:nvSpPr>
          <p:spPr>
            <a:xfrm>
              <a:off x="2852640" y="1695600"/>
              <a:ext cx="266760" cy="152280"/>
            </a:xfrm>
            <a:custGeom>
              <a:avLst/>
              <a:gdLst/>
              <a:ahLst/>
              <a:rect l="l" t="t" r="r" b="b"/>
              <a:pathLst>
                <a:path w="168" h="96">
                  <a:moveTo>
                    <a:pt x="0" y="0"/>
                  </a:moveTo>
                  <a:lnTo>
                    <a:pt x="0" y="12"/>
                  </a:lnTo>
                  <a:lnTo>
                    <a:pt x="12" y="24"/>
                  </a:lnTo>
                  <a:lnTo>
                    <a:pt x="36" y="36"/>
                  </a:lnTo>
                  <a:lnTo>
                    <a:pt x="60" y="48"/>
                  </a:lnTo>
                  <a:lnTo>
                    <a:pt x="84" y="72"/>
                  </a:lnTo>
                  <a:lnTo>
                    <a:pt x="96" y="84"/>
                  </a:lnTo>
                  <a:lnTo>
                    <a:pt x="120" y="96"/>
                  </a:lnTo>
                  <a:lnTo>
                    <a:pt x="144" y="96"/>
                  </a:lnTo>
                  <a:lnTo>
                    <a:pt x="156" y="96"/>
                  </a:lnTo>
                  <a:lnTo>
                    <a:pt x="168" y="96"/>
                  </a:lnTo>
                  <a:lnTo>
                    <a:pt x="156" y="84"/>
                  </a:lnTo>
                  <a:lnTo>
                    <a:pt x="144" y="60"/>
                  </a:lnTo>
                  <a:lnTo>
                    <a:pt x="120" y="48"/>
                  </a:lnTo>
                  <a:lnTo>
                    <a:pt x="96" y="36"/>
                  </a:lnTo>
                  <a:lnTo>
                    <a:pt x="72" y="24"/>
                  </a:lnTo>
                  <a:lnTo>
                    <a:pt x="48" y="12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52640" y="1695600"/>
              <a:ext cx="1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52640" y="1714680"/>
              <a:ext cx="1908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1720" y="17334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909880" y="175248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48040" y="177156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986200" y="1809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05280" y="1828800"/>
              <a:ext cx="37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43080" y="184788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081240" y="18478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100320" y="18478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 flipV="1">
              <a:off x="3099960" y="18284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3080880" y="17906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 flipV="1">
              <a:off x="3043080" y="17712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3004920" y="1752120"/>
              <a:ext cx="37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 flipV="1">
              <a:off x="2967120" y="17330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2928960" y="1714680"/>
              <a:ext cx="3816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>
              <a:off x="2890800" y="16952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871360" y="16956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2852280" y="16956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24200" y="1647720"/>
              <a:ext cx="133200" cy="1526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2862360" y="1951200"/>
            <a:ext cx="295200" cy="201600"/>
            <a:chOff x="2862360" y="1951200"/>
            <a:chExt cx="295200" cy="201600"/>
          </a:xfrm>
        </p:grpSpPr>
        <p:sp>
          <p:nvSpPr>
            <p:cNvPr id="763" name=""/>
            <p:cNvSpPr/>
            <p:nvPr/>
          </p:nvSpPr>
          <p:spPr>
            <a:xfrm>
              <a:off x="2890800" y="1998720"/>
              <a:ext cx="266760" cy="152280"/>
            </a:xfrm>
            <a:custGeom>
              <a:avLst/>
              <a:gdLst/>
              <a:ahLst/>
              <a:rect l="l" t="t" r="r" b="b"/>
              <a:pathLst>
                <a:path w="168" h="96">
                  <a:moveTo>
                    <a:pt x="0" y="0"/>
                  </a:moveTo>
                  <a:lnTo>
                    <a:pt x="0" y="12"/>
                  </a:lnTo>
                  <a:lnTo>
                    <a:pt x="12" y="24"/>
                  </a:lnTo>
                  <a:lnTo>
                    <a:pt x="36" y="36"/>
                  </a:lnTo>
                  <a:lnTo>
                    <a:pt x="60" y="48"/>
                  </a:lnTo>
                  <a:lnTo>
                    <a:pt x="84" y="72"/>
                  </a:lnTo>
                  <a:lnTo>
                    <a:pt x="96" y="84"/>
                  </a:lnTo>
                  <a:lnTo>
                    <a:pt x="120" y="96"/>
                  </a:lnTo>
                  <a:lnTo>
                    <a:pt x="144" y="96"/>
                  </a:lnTo>
                  <a:lnTo>
                    <a:pt x="156" y="96"/>
                  </a:lnTo>
                  <a:lnTo>
                    <a:pt x="168" y="96"/>
                  </a:lnTo>
                  <a:lnTo>
                    <a:pt x="156" y="84"/>
                  </a:lnTo>
                  <a:lnTo>
                    <a:pt x="144" y="60"/>
                  </a:lnTo>
                  <a:lnTo>
                    <a:pt x="120" y="48"/>
                  </a:lnTo>
                  <a:lnTo>
                    <a:pt x="96" y="36"/>
                  </a:lnTo>
                  <a:lnTo>
                    <a:pt x="72" y="24"/>
                  </a:lnTo>
                  <a:lnTo>
                    <a:pt x="48" y="12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90800" y="1998720"/>
              <a:ext cx="1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90800" y="20178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09880" y="203688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948040" y="205596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86200" y="2075040"/>
              <a:ext cx="3816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24360" y="211284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43080" y="213192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81240" y="215100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19400" y="21510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38480" y="21510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3138120" y="21315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3119040" y="209376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flipV="1">
              <a:off x="3081240" y="2075040"/>
              <a:ext cx="3816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3043080" y="20556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3004920" y="2036520"/>
              <a:ext cx="37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967120" y="20174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2928960" y="199836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909520" y="1998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890440" y="1998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62360" y="1951200"/>
              <a:ext cx="13320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2035080" y="1657080"/>
            <a:ext cx="456840" cy="45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36" y="7071"/>
                </a:moveTo>
                <a:arcTo wR="10800" hR="10800" stAng="-1211776" swAng="2418087"/>
                <a:lnTo>
                  <a:pt x="10800" y="10800"/>
                </a:lnTo>
                <a:close/>
              </a:path>
              <a:path fill="none" w="21600" h="21600">
                <a:moveTo>
                  <a:pt x="20936" y="7071"/>
                </a:moveTo>
                <a:arcTo wR="10800" hR="10800" stAng="-1211776" swAng="2418087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2473200" y="1884240"/>
            <a:ext cx="379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073240" y="3880440"/>
            <a:ext cx="456840" cy="4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7" y="14509"/>
                </a:moveTo>
                <a:arcTo wR="10800" hR="10800" stAng="9594818" swAng="2410364"/>
                <a:lnTo>
                  <a:pt x="10800" y="10800"/>
                </a:lnTo>
                <a:close/>
              </a:path>
              <a:path fill="none" w="21600" h="21600">
                <a:moveTo>
                  <a:pt x="657" y="14509"/>
                </a:moveTo>
                <a:arcTo wR="10800" hR="10800" stAng="9594818" swAng="2410364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08280" y="4108320"/>
            <a:ext cx="284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20920" y="2799360"/>
            <a:ext cx="456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6" y="14506"/>
                </a:moveTo>
                <a:arcTo wR="10800" hR="10800" stAng="9595813" swAng="2408373"/>
                <a:lnTo>
                  <a:pt x="10800" y="10800"/>
                </a:lnTo>
                <a:close/>
              </a:path>
              <a:path fill="none" w="21600" h="21600">
                <a:moveTo>
                  <a:pt x="656" y="14506"/>
                </a:moveTo>
                <a:arcTo wR="10800" hR="10800" stAng="9595813" swAng="240837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54160" y="3025800"/>
            <a:ext cx="2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517920" y="2799000"/>
            <a:ext cx="456840" cy="455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61" y="14521"/>
                </a:moveTo>
                <a:arcTo wR="10800" hR="10800" stAng="9590956" swAng="2418089"/>
                <a:lnTo>
                  <a:pt x="10800" y="10800"/>
                </a:lnTo>
                <a:close/>
              </a:path>
              <a:path fill="none" w="21600" h="21600">
                <a:moveTo>
                  <a:pt x="661" y="14521"/>
                </a:moveTo>
                <a:arcTo wR="10800" hR="10800" stAng="9590956" swAng="24180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252960" y="3025800"/>
            <a:ext cx="284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95800" y="2799360"/>
            <a:ext cx="456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6" y="14506"/>
                </a:moveTo>
                <a:arcTo wR="10800" hR="10800" stAng="9595813" swAng="2408373"/>
                <a:lnTo>
                  <a:pt x="10800" y="10800"/>
                </a:lnTo>
                <a:close/>
              </a:path>
              <a:path fill="none" w="21600" h="21600">
                <a:moveTo>
                  <a:pt x="656" y="14506"/>
                </a:moveTo>
                <a:arcTo wR="10800" hR="10800" stAng="9595813" swAng="240837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29040" y="3025800"/>
            <a:ext cx="2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464160" y="2799360"/>
            <a:ext cx="456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6" y="14506"/>
                </a:moveTo>
                <a:arcTo wR="10800" hR="10800" stAng="9595813" swAng="2408373"/>
                <a:lnTo>
                  <a:pt x="10800" y="10800"/>
                </a:lnTo>
                <a:close/>
              </a:path>
              <a:path fill="none" w="21600" h="21600">
                <a:moveTo>
                  <a:pt x="656" y="14506"/>
                </a:moveTo>
                <a:arcTo wR="10800" hR="10800" stAng="9595813" swAng="240837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197760" y="3025800"/>
            <a:ext cx="285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681960" y="2806560"/>
            <a:ext cx="950760" cy="47484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908840" y="2799360"/>
            <a:ext cx="456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6" y="14506"/>
                </a:moveTo>
                <a:arcTo wR="10800" hR="10800" stAng="9595813" swAng="2408373"/>
                <a:lnTo>
                  <a:pt x="10800" y="10800"/>
                </a:lnTo>
                <a:close/>
              </a:path>
              <a:path fill="none" w="21600" h="21600">
                <a:moveTo>
                  <a:pt x="656" y="14506"/>
                </a:moveTo>
                <a:arcTo wR="10800" hR="10800" stAng="9595813" swAng="240837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642080" y="3025800"/>
            <a:ext cx="2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145360" y="2806560"/>
            <a:ext cx="817560" cy="47484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145360" y="4137120"/>
            <a:ext cx="817560" cy="49356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394400" y="4128840"/>
            <a:ext cx="456840" cy="45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39" y="7079"/>
                </a:moveTo>
                <a:arcTo wR="10800" hR="10800" stAng="-1209044" swAng="2418089"/>
                <a:lnTo>
                  <a:pt x="10800" y="10800"/>
                </a:lnTo>
                <a:close/>
              </a:path>
              <a:path fill="none" w="21600" h="21600">
                <a:moveTo>
                  <a:pt x="20939" y="7079"/>
                </a:moveTo>
                <a:arcTo wR="10800" hR="10800" stAng="-1209044" swAng="24180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832520" y="4356000"/>
            <a:ext cx="284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92960" y="4137120"/>
            <a:ext cx="1158840" cy="49356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761080" y="4128120"/>
            <a:ext cx="456840" cy="4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3" y="7091"/>
                </a:moveTo>
                <a:arcTo wR="10800" hR="10800" stAng="-1205182" swAng="2410364"/>
                <a:lnTo>
                  <a:pt x="10800" y="10800"/>
                </a:lnTo>
                <a:close/>
              </a:path>
              <a:path fill="none" w="21600" h="21600">
                <a:moveTo>
                  <a:pt x="20943" y="7091"/>
                </a:moveTo>
                <a:arcTo wR="10800" hR="10800" stAng="-1205182" swAng="2410364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6197400" y="4356000"/>
            <a:ext cx="285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4489560" y="4317840"/>
            <a:ext cx="264600" cy="427320"/>
            <a:chOff x="4489560" y="4317840"/>
            <a:chExt cx="264600" cy="427320"/>
          </a:xfrm>
        </p:grpSpPr>
        <p:grpSp>
          <p:nvGrpSpPr>
            <p:cNvPr id="807" name=""/>
            <p:cNvGrpSpPr/>
            <p:nvPr/>
          </p:nvGrpSpPr>
          <p:grpSpPr>
            <a:xfrm>
              <a:off x="4489560" y="4317840"/>
              <a:ext cx="264600" cy="264960"/>
              <a:chOff x="4489560" y="4317840"/>
              <a:chExt cx="264600" cy="264960"/>
            </a:xfrm>
          </p:grpSpPr>
          <p:sp>
            <p:nvSpPr>
              <p:cNvPr id="808" name=""/>
              <p:cNvSpPr/>
              <p:nvPr/>
            </p:nvSpPr>
            <p:spPr>
              <a:xfrm>
                <a:off x="4489560" y="4317840"/>
                <a:ext cx="264600" cy="26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44" y="2295"/>
                    </a:moveTo>
                    <a:arcTo wR="10800" hR="10800" stAng="-7682921" swAng="94152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44" y="2295"/>
                    </a:moveTo>
                    <a:arcTo wR="10800" hR="10800" stAng="-7682921" swAng="9415243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498200" y="4327560"/>
                <a:ext cx="244800" cy="24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44" y="2295"/>
                    </a:moveTo>
                    <a:arcTo wR="10800" hR="10800" stAng="-7682921" swAng="94152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44" y="2295"/>
                    </a:moveTo>
                    <a:arcTo wR="10800" hR="10800" stAng="-7682921" swAng="941524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"/>
              <p:cNvGrpSpPr/>
              <p:nvPr/>
            </p:nvGrpSpPr>
            <p:grpSpPr>
              <a:xfrm>
                <a:off x="4545720" y="4356000"/>
                <a:ext cx="168840" cy="207360"/>
                <a:chOff x="4545720" y="4356000"/>
                <a:chExt cx="168840" cy="20736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4545720" y="4356000"/>
                  <a:ext cx="1688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8" y="2253"/>
                      </a:moveTo>
                      <a:arcTo wR="10800" hR="10800" stAng="-7660843" swAng="93886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8" y="2253"/>
                      </a:moveTo>
                      <a:arcTo wR="10800" hR="10800" stAng="-7660843" swAng="9388673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556160" y="4365720"/>
                  <a:ext cx="150480" cy="18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04" y="2326"/>
                      </a:moveTo>
                      <a:arcTo wR="10800" hR="10800" stAng="-7698998" swAng="939383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04" y="2326"/>
                      </a:moveTo>
                      <a:arcTo wR="10800" hR="10800" stAng="-7698998" swAng="9393833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584600" y="4413240"/>
                  <a:ext cx="93240" cy="93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36" y="2301"/>
                      </a:moveTo>
                      <a:arcTo wR="10800" hR="10800" stAng="-7685878" swAng="94113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36" y="2301"/>
                      </a:moveTo>
                      <a:arcTo wR="10800" hR="10800" stAng="-7685878" swAng="9411336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594320" y="4422600"/>
                  <a:ext cx="7416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36" y="2301"/>
                      </a:moveTo>
                      <a:arcTo wR="10800" hR="10800" stAng="-7685878" swAng="94113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36" y="2301"/>
                      </a:moveTo>
                      <a:arcTo wR="10800" hR="10800" stAng="-7685878" swAng="941133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5" name=""/>
            <p:cNvGrpSpPr/>
            <p:nvPr/>
          </p:nvGrpSpPr>
          <p:grpSpPr>
            <a:xfrm>
              <a:off x="4516560" y="4459320"/>
              <a:ext cx="95040" cy="285840"/>
              <a:chOff x="4516560" y="4459320"/>
              <a:chExt cx="95040" cy="285840"/>
            </a:xfrm>
          </p:grpSpPr>
          <p:sp>
            <p:nvSpPr>
              <p:cNvPr id="816" name=""/>
              <p:cNvSpPr/>
              <p:nvPr/>
            </p:nvSpPr>
            <p:spPr>
              <a:xfrm>
                <a:off x="4516560" y="4459320"/>
                <a:ext cx="95040" cy="28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516560" y="4497480"/>
                <a:ext cx="95040" cy="11412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14120"/>
                  <a:gd name="textAreaBottom" fmla="*/ 100440 h 114120"/>
                </a:gdLst>
                <a:ahLst/>
                <a:rect l="textAreaLeft" t="textAreaTop" r="textAreaRight" b="textAreaBottom"/>
                <a:pathLst>
                  <a:path w="21600" h="25920">
                    <a:moveTo>
                      <a:pt x="10800" y="0"/>
                    </a:moveTo>
                    <a:arcTo wR="10800" hR="10800" stAng="16200000" swAng="-5400000"/>
                    <a:lnTo>
                      <a:pt x="0" y="15120"/>
                    </a:lnTo>
                    <a:arcTo wR="10800" hR="10800" stAng="10800000" swAng="-5400000"/>
                    <a:lnTo>
                      <a:pt x="10800" y="2592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516560" y="4668840"/>
                <a:ext cx="37800" cy="38160"/>
              </a:xfrm>
              <a:custGeom>
                <a:avLst/>
                <a:gdLst>
                  <a:gd name="textAreaLeft" fmla="*/ 5400 w 37800"/>
                  <a:gd name="textAreaRight" fmla="*/ 32400 w 37800"/>
                  <a:gd name="textAreaTop" fmla="*/ 5400 h 38160"/>
                  <a:gd name="textAreaBottom" fmla="*/ 32760 h 38160"/>
                </a:gdLst>
                <a:ahLst/>
                <a:rect l="textAreaLeft" t="textAreaTop" r="textAreaRight" b="textAreaBottom"/>
                <a:pathLst>
                  <a:path w="21600" h="21804">
                    <a:moveTo>
                      <a:pt x="10800" y="0"/>
                    </a:moveTo>
                    <a:arcTo wR="10800" hR="10800" stAng="16200000" swAng="-5400000"/>
                    <a:lnTo>
                      <a:pt x="0" y="11004"/>
                    </a:lnTo>
                    <a:arcTo wR="10800" hR="10800" stAng="10800000" swAng="-5400000"/>
                    <a:lnTo>
                      <a:pt x="10800" y="2180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573440" y="4668840"/>
                <a:ext cx="381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0" name=""/>
          <p:cNvSpPr/>
          <p:nvPr/>
        </p:nvSpPr>
        <p:spPr>
          <a:xfrm>
            <a:off x="4468680" y="4128120"/>
            <a:ext cx="456840" cy="4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3" y="7091"/>
                </a:moveTo>
                <a:arcTo wR="10800" hR="10800" stAng="-1205182" swAng="2410364"/>
                <a:lnTo>
                  <a:pt x="10800" y="10800"/>
                </a:lnTo>
                <a:close/>
              </a:path>
              <a:path fill="none" w="21600" h="21600">
                <a:moveTo>
                  <a:pt x="20943" y="7091"/>
                </a:moveTo>
                <a:arcTo wR="10800" hR="10800" stAng="-1205182" swAng="2410364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4905360" y="4356000"/>
            <a:ext cx="285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555040" y="3841920"/>
            <a:ext cx="571320" cy="57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4" y="663"/>
                </a:moveTo>
                <a:arcTo wR="10800" hR="10800" stAng="-6610999" swAng="2416538"/>
                <a:lnTo>
                  <a:pt x="10800" y="10800"/>
                </a:lnTo>
                <a:close/>
              </a:path>
              <a:path fill="none" w="21600" h="21600">
                <a:moveTo>
                  <a:pt x="7074" y="663"/>
                </a:moveTo>
                <a:arcTo wR="10800" hR="10800" stAng="-6610999" swAng="241653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8839080" y="3290400"/>
            <a:ext cx="1800" cy="56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24680" y="3519360"/>
            <a:ext cx="180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TCP/IP Transmis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446840" y="2530440"/>
            <a:ext cx="457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1" y="657"/>
                </a:moveTo>
                <a:arcTo wR="10800" hR="10800" stAng="-6605182" swAng="2410364"/>
                <a:lnTo>
                  <a:pt x="10800" y="10800"/>
                </a:lnTo>
                <a:close/>
              </a:path>
              <a:path fill="none" w="21600" h="21600">
                <a:moveTo>
                  <a:pt x="7091" y="657"/>
                </a:moveTo>
                <a:arcTo wR="10800" hR="10800" stAng="-6605182" swAng="2410364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74720" y="2265480"/>
            <a:ext cx="1800" cy="28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26920" y="304488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1" y="20946"/>
                </a:moveTo>
                <a:arcTo wR="10800" hR="10800" stAng="4197543" swAng="2410363"/>
                <a:lnTo>
                  <a:pt x="10800" y="10800"/>
                </a:lnTo>
                <a:close/>
              </a:path>
              <a:path fill="none" w="21600" h="21600">
                <a:moveTo>
                  <a:pt x="14501" y="20946"/>
                </a:moveTo>
                <a:arcTo wR="10800" hR="10800" stAng="4197543" swAng="241036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852640" y="3481200"/>
            <a:ext cx="180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019160" y="1969920"/>
            <a:ext cx="15228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19160" y="1704960"/>
            <a:ext cx="15228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66840" y="3111480"/>
            <a:ext cx="13176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66840" y="2844720"/>
            <a:ext cx="13176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444760" y="3111480"/>
            <a:ext cx="15228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444760" y="2844720"/>
            <a:ext cx="15228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660840" y="3111480"/>
            <a:ext cx="15228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660840" y="2844720"/>
            <a:ext cx="15228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57800" y="3111480"/>
            <a:ext cx="13176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57800" y="2844720"/>
            <a:ext cx="13176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216160" y="4213080"/>
            <a:ext cx="13320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216160" y="3946680"/>
            <a:ext cx="133200" cy="11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105520" y="4441680"/>
            <a:ext cx="15228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175280"/>
            <a:ext cx="152280" cy="11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07080" y="3111480"/>
            <a:ext cx="13176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607080" y="2844720"/>
            <a:ext cx="13176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031240" y="3111480"/>
            <a:ext cx="13320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031240" y="2844720"/>
            <a:ext cx="13320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031240" y="4441680"/>
            <a:ext cx="15228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031240" y="4175280"/>
            <a:ext cx="152280" cy="11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397560" y="4441680"/>
            <a:ext cx="13356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397560" y="4175280"/>
            <a:ext cx="133560" cy="11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7F1-2564-44B7-80A5-CF35BE62A526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pe-and-filt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separate processes can be independently de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rocesses have functional cohe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rocesses have only one input and one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bstr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ipeline components are often good abstractions, hiding their internal det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rocesses can often be used in many different contex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often possible to find reusable components to insert into a pip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4C7-C0C4-4FE9-809C-74CAA98937C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pe-and-filt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re are several ways in which the system is flex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tes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normally easy to test the individual proc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rigorously check the inputs of each component, or else you can use design by con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712-3DBB-4411-93DE-DB58190A65A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del-View-Controller (MVC)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rchitectural pattern used to help separate the user interface layer from other parts of the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the underlying classes whose instances are to be viewed and manipul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objects used to render the appearance of the data from the model in the user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the objects that control and handle the user’s interaction with the view and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servable design pattern is normally used to separate the model from th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6DA-6DA7-4D52-A029-2B5338B3781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the MVC architecture for the 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619760" cy="326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09FE-4BC3-4A6F-9D28-61B80A2037EF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VC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three components can be somewhat independently desig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components have stronger layer cohesion than if the view and controller were together in a single UI lay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communication channels between the three components are mini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view and controller normally make extensive use of reusable components for various kinds of UI contro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usually quite easy to change the UI by changing the view, the controller, or bo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testa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test the application separately from the 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F9D-31CE-4015-BA6B-1B9DC8A248D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6 Writing a Good Design Docu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ocuments as an aid to making better desig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force you to be explicit and consider the important issues before starting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low a group of people to review the design and therefore to improv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ocuments as a means of communic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ose who will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ose who will need, in the future,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ose who need to create systems or subsystems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 system being desig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1ED-C76E-4B50-9E56-7CB46655F84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design docu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35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urp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ystem or part of the system this design document describ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reference to the requirements that are being implemented by this design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ability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General priorit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priorities used to guide the design proces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Outline of the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 high-level description of the design that allows the reader to quickly get a general feeling for it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Major design issu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important issues that had to be resol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the possible alternatives that were considered, the final decision and the rationale for the deci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Other details of the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ny other details the reader may want to know that have not yet been mention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1BF-FE32-40D0-897F-11F09619A20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riting th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documenting information that would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ly obvi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 skilled programmer or design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writing details in a design document that would be better placed 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writing details that can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ed automatical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code, such as the list of public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F3B-3818-4753-952F-70A379D1E08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7 Design of a Feature of the SimpleCha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143000" y="1295280"/>
            <a:ext cx="77724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15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describes important aspects of the implementation of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un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whoi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whoblocksm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s of the SimpleChat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General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 in this document are made based on the following prior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st important first): Maintainability, Usability, Portability,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Outline of th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ing information will be maintained in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To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s. The various commands will update and query the data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Val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Val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C97-89BA-4825-85C9-7D6B5140AFC4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L diagram of system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65160" y="2201760"/>
            <a:ext cx="8153280" cy="252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6C7-6552-4F82-AC23-5C5FC8367F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43000" y="1066680"/>
            <a:ext cx="769608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15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Major design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1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re should we store information regarding the establishment of block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ore the information in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To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associated with the client requesting the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ore the information in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To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associated with the client that is being blo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oint 2.2 of the specification requires that we be able to block a client even if that client is not logged on. This means that we must choose option 1.1 since no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To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exist for clients that are logged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2CB-E764-4076-96AF-3448B73F97D9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66680" y="1447920"/>
            <a:ext cx="784872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152280" anchor="t">
            <a:spAutoFit/>
          </a:bodyPr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Details of the desig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s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 new commands will be accepted by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U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assed unchanged to the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s from the server will be displayed on the UI. There will be no need for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understand that the responses are replies to the comm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90A-0CA0-4D82-9621-7489A7AABCF7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143000" y="685800"/>
            <a:ext cx="746748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s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interpret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s by adding a record of the block in the data associated with the originating cl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will modify the data in response to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un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will be stored by call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Value("blockedUsers", a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ing the names of the blocked us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U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also have to have an implementation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un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will have to save the blocked users as elements of a new instance variable declared thus: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 blockedUser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B0D-D0BB-4ED3-9F68-6DF6DA05EE90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295280" y="1355760"/>
            <a:ext cx="762012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lementations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whoi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U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straightforwardly process the contents of the ve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whoblocksm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new method will be created in the server class that will be called by both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UI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ill take a single argument (the name of the initiating client, or else 'SERVER'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ill check all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lockedUse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ctors of the connected clients and also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lockedUse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tance variable for matching cli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278-1A38-4095-AA94-C6E4699073F1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143000" y="1447920"/>
            <a:ext cx="6934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orwar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ms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s will be modified as needed to reflect the specif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f these will each examine the relevant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lockedUse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ctors and take appropriate 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C5D-34C9-410F-AE02-16063784DCB0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8 Difficulties and Risks in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modelling, design is a skill that requires considerable experie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software engineers should not attempt the design of large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iring software architects should actively study designs of oth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designs can lead to expensive mainten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you follow the principles discussed in this chap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A3A-41C0-4A7D-BD30-F317D7975924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ies and Risks in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requires constant effort to ensure a software system’s design remains good throughout its lif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 original design as flexible as possible so as to anticipate changes and exten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design documentation is usable and at the correct level of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change is carefully man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645-FABF-4950-86C5-F2F087F57807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1-11-27T17:04:37Z</dcterms:modified>
  <cp:revision>136</cp:revision>
  <dc:subject/>
  <dc:title>SEG 2100 Software Design II</dc:title>
</cp:coreProperties>
</file>