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DF1-47C3-4ED7-8E83-4AEC610F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C8A-B843-4833-880B-DFA1E7C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466-F059-4B95-9398-0EDA0DFE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667-C784-47B7-877E-05F2AC26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3CE-06A1-47CF-A11D-E7EBCF9C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BB7-FD61-46CA-B7A1-F5A1857C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AC7-4475-4ADA-A633-7512EAD3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094-83F3-4A2D-847E-E182C759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280-0610-4B38-AF86-D66B588A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27E-2BC0-484D-B013-02257E28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1C0-0F05-4932-84DF-377B0265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57B-23B3-489B-AB85-E7D768A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5CD0-F991-405D-9F9E-066221E4F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8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elling Interactions and Behavi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object’s life ends, this is shown with an X at the end of the lif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an example with object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84872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FC8-EE53-4CA9-A1B5-D86BD85FE6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82000" y="2722680"/>
            <a:ext cx="155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: addTo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54280" y="3200400"/>
            <a:ext cx="2282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59080" y="2722680"/>
            <a:ext cx="119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: &lt;&lt;create&gt;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8035920" y="2884320"/>
            <a:ext cx="1031760" cy="630360"/>
            <a:chOff x="8035920" y="2884320"/>
            <a:chExt cx="1031760" cy="630360"/>
          </a:xfrm>
        </p:grpSpPr>
        <p:sp>
          <p:nvSpPr>
            <p:cNvPr id="298" name=""/>
            <p:cNvSpPr/>
            <p:nvPr/>
          </p:nvSpPr>
          <p:spPr>
            <a:xfrm>
              <a:off x="8205120" y="302724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:Stud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35920" y="2884320"/>
              <a:ext cx="1031760" cy="63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968720" y="2884320"/>
            <a:ext cx="1195200" cy="630360"/>
            <a:chOff x="4968720" y="2884320"/>
            <a:chExt cx="1195200" cy="630360"/>
          </a:xfrm>
        </p:grpSpPr>
        <p:sp>
          <p:nvSpPr>
            <p:cNvPr id="301" name=""/>
            <p:cNvSpPr/>
            <p:nvPr/>
          </p:nvSpPr>
          <p:spPr>
            <a:xfrm>
              <a:off x="5132160" y="3003480"/>
              <a:ext cx="82548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99680" y="3005280"/>
              <a:ext cx="107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:Regist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68720" y="2884320"/>
              <a:ext cx="1195200" cy="63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990720" y="2906640"/>
            <a:ext cx="1673280" cy="630360"/>
            <a:chOff x="990720" y="2906640"/>
            <a:chExt cx="1673280" cy="630360"/>
          </a:xfrm>
        </p:grpSpPr>
        <p:sp>
          <p:nvSpPr>
            <p:cNvPr id="305" name=""/>
            <p:cNvSpPr/>
            <p:nvPr/>
          </p:nvSpPr>
          <p:spPr>
            <a:xfrm>
              <a:off x="1175040" y="3003480"/>
              <a:ext cx="130500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52000" y="3005280"/>
              <a:ext cx="13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:CourseSe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90720" y="2906640"/>
              <a:ext cx="1673280" cy="63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6154200" y="3200400"/>
            <a:ext cx="1870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544560" y="3048120"/>
            <a:ext cx="392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871800" y="2982960"/>
            <a:ext cx="85680" cy="152280"/>
            <a:chOff x="3871800" y="2982960"/>
            <a:chExt cx="85680" cy="152280"/>
          </a:xfrm>
        </p:grpSpPr>
        <p:sp>
          <p:nvSpPr>
            <p:cNvPr id="311" name=""/>
            <p:cNvSpPr/>
            <p:nvPr/>
          </p:nvSpPr>
          <p:spPr>
            <a:xfrm>
              <a:off x="3871800" y="2982960"/>
              <a:ext cx="85680" cy="65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871800" y="3048120"/>
              <a:ext cx="85680" cy="8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 flipH="1">
            <a:off x="7002000" y="3048120"/>
            <a:ext cx="390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327800" y="2982960"/>
            <a:ext cx="87120" cy="152280"/>
            <a:chOff x="7327800" y="2982960"/>
            <a:chExt cx="87120" cy="152280"/>
          </a:xfrm>
        </p:grpSpPr>
        <p:sp>
          <p:nvSpPr>
            <p:cNvPr id="315" name=""/>
            <p:cNvSpPr/>
            <p:nvPr/>
          </p:nvSpPr>
          <p:spPr>
            <a:xfrm>
              <a:off x="7327800" y="2982960"/>
              <a:ext cx="87120" cy="65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327800" y="3048120"/>
              <a:ext cx="87120" cy="8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22600" y="3330720"/>
            <a:ext cx="392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522240" y="3243240"/>
            <a:ext cx="66600" cy="152280"/>
            <a:chOff x="3522240" y="3243240"/>
            <a:chExt cx="66600" cy="152280"/>
          </a:xfrm>
        </p:grpSpPr>
        <p:sp>
          <p:nvSpPr>
            <p:cNvPr id="319" name=""/>
            <p:cNvSpPr/>
            <p:nvPr/>
          </p:nvSpPr>
          <p:spPr>
            <a:xfrm flipH="1">
              <a:off x="3522240" y="3243240"/>
              <a:ext cx="66600" cy="87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3522240" y="3330720"/>
              <a:ext cx="66600" cy="64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757600" y="3375000"/>
            <a:ext cx="207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: addToRegistration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D6F-CC0F-4976-8FCD-A6AD2C70405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 emphasise how the objects collaborate in order to realize an intera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laboration diagram is a graph with the objects as the vert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links are added betwee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 are attached to these lin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as arrows labelled with the message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rdering is indicated by prefixing the message with some numbering sch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547-96E5-4891-86F7-4D7FFD6553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same example, 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760040" y="3027240"/>
            <a:ext cx="3092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59640" y="2440080"/>
            <a:ext cx="230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: requestToRegister(aStude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57840" y="262404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local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62680" y="424332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: addTo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6440" y="442764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parameter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25560" y="398628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aStudent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45080" y="417024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Stud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9520" y="3865680"/>
            <a:ext cx="1047600" cy="625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046920" y="3809880"/>
            <a:ext cx="1032480" cy="533520"/>
            <a:chOff x="6046920" y="3809880"/>
            <a:chExt cx="1032480" cy="533520"/>
          </a:xfrm>
        </p:grpSpPr>
        <p:sp>
          <p:nvSpPr>
            <p:cNvPr id="334" name=""/>
            <p:cNvSpPr/>
            <p:nvPr/>
          </p:nvSpPr>
          <p:spPr>
            <a:xfrm>
              <a:off x="6155280" y="3911760"/>
              <a:ext cx="924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:Regist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46920" y="3809880"/>
              <a:ext cx="101268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869000" y="2706840"/>
            <a:ext cx="1417680" cy="533160"/>
            <a:chOff x="4869000" y="2706840"/>
            <a:chExt cx="1417680" cy="533160"/>
          </a:xfrm>
        </p:grpSpPr>
        <p:sp>
          <p:nvSpPr>
            <p:cNvPr id="337" name=""/>
            <p:cNvSpPr/>
            <p:nvPr/>
          </p:nvSpPr>
          <p:spPr>
            <a:xfrm>
              <a:off x="5006880" y="2789280"/>
              <a:ext cx="110484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90320" y="278928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:CourseS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69000" y="2706840"/>
              <a:ext cx="141768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076400" y="2743200"/>
            <a:ext cx="681120" cy="533520"/>
            <a:chOff x="1076400" y="2743200"/>
            <a:chExt cx="681120" cy="533520"/>
          </a:xfrm>
        </p:grpSpPr>
        <p:sp>
          <p:nvSpPr>
            <p:cNvPr id="341" name=""/>
            <p:cNvSpPr/>
            <p:nvPr/>
          </p:nvSpPr>
          <p:spPr>
            <a:xfrm>
              <a:off x="1261080" y="282564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76400" y="2743200"/>
              <a:ext cx="68112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237520" y="2706840"/>
            <a:ext cx="754200" cy="533160"/>
            <a:chOff x="8237520" y="2706840"/>
            <a:chExt cx="754200" cy="533160"/>
          </a:xfrm>
        </p:grpSpPr>
        <p:sp>
          <p:nvSpPr>
            <p:cNvPr id="344" name=""/>
            <p:cNvSpPr/>
            <p:nvPr/>
          </p:nvSpPr>
          <p:spPr>
            <a:xfrm>
              <a:off x="8237520" y="2706840"/>
              <a:ext cx="75420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72080" y="2808360"/>
              <a:ext cx="57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:Cour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826880" y="3414600"/>
            <a:ext cx="150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: [hasPrerequisite]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49520" y="359892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6720" y="2384280"/>
            <a:ext cx="199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: prereq := getPrerequi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75840" y="3193920"/>
            <a:ext cx="151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: hasPrerequisite 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56960" y="3378240"/>
            <a:ext cx="192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sPassedCourse(prereq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51960" y="356220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parameter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619080" y="3162240"/>
            <a:ext cx="123372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06840" y="4076640"/>
            <a:ext cx="2430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57880" y="3230640"/>
            <a:ext cx="38736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073320" y="2843280"/>
            <a:ext cx="331920" cy="147240"/>
            <a:chOff x="3073320" y="2843280"/>
            <a:chExt cx="331920" cy="147240"/>
          </a:xfrm>
        </p:grpSpPr>
        <p:sp>
          <p:nvSpPr>
            <p:cNvPr id="356" name=""/>
            <p:cNvSpPr/>
            <p:nvPr/>
          </p:nvSpPr>
          <p:spPr>
            <a:xfrm flipH="1">
              <a:off x="3073320" y="2917800"/>
              <a:ext cx="331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349800" y="2843280"/>
              <a:ext cx="55440" cy="147240"/>
              <a:chOff x="3349800" y="2843280"/>
              <a:chExt cx="55440" cy="147240"/>
            </a:xfrm>
          </p:grpSpPr>
          <p:sp>
            <p:nvSpPr>
              <p:cNvPr id="358" name=""/>
              <p:cNvSpPr/>
              <p:nvPr/>
            </p:nvSpPr>
            <p:spPr>
              <a:xfrm>
                <a:off x="3349800" y="2843280"/>
                <a:ext cx="554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3349800" y="2917440"/>
                <a:ext cx="55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4711320" y="4114800"/>
            <a:ext cx="351360" cy="145800"/>
            <a:chOff x="4711320" y="4114800"/>
            <a:chExt cx="351360" cy="145800"/>
          </a:xfrm>
        </p:grpSpPr>
        <p:sp>
          <p:nvSpPr>
            <p:cNvPr id="361" name=""/>
            <p:cNvSpPr/>
            <p:nvPr/>
          </p:nvSpPr>
          <p:spPr>
            <a:xfrm>
              <a:off x="4730760" y="4187880"/>
              <a:ext cx="331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711320" y="4114800"/>
              <a:ext cx="74520" cy="145800"/>
              <a:chOff x="4711320" y="4114800"/>
              <a:chExt cx="74520" cy="145800"/>
            </a:xfrm>
          </p:grpSpPr>
          <p:sp>
            <p:nvSpPr>
              <p:cNvPr id="363" name=""/>
              <p:cNvSpPr/>
              <p:nvPr/>
            </p:nvSpPr>
            <p:spPr>
              <a:xfrm flipH="1">
                <a:off x="4711320" y="4114800"/>
                <a:ext cx="74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4711320" y="4187520"/>
                <a:ext cx="74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" name=""/>
          <p:cNvGrpSpPr/>
          <p:nvPr/>
        </p:nvGrpSpPr>
        <p:grpSpPr>
          <a:xfrm>
            <a:off x="3662280" y="3543480"/>
            <a:ext cx="312840" cy="183600"/>
            <a:chOff x="3662280" y="3543480"/>
            <a:chExt cx="312840" cy="183600"/>
          </a:xfrm>
        </p:grpSpPr>
        <p:sp>
          <p:nvSpPr>
            <p:cNvPr id="366" name=""/>
            <p:cNvSpPr/>
            <p:nvPr/>
          </p:nvSpPr>
          <p:spPr>
            <a:xfrm flipV="1">
              <a:off x="3681360" y="3543480"/>
              <a:ext cx="29376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662280" y="3616200"/>
              <a:ext cx="92160" cy="110880"/>
              <a:chOff x="3662280" y="3616200"/>
              <a:chExt cx="92160" cy="11088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3662280" y="3616200"/>
                <a:ext cx="36720" cy="7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662280" y="3690720"/>
                <a:ext cx="9216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6221160" y="3377880"/>
            <a:ext cx="220680" cy="294120"/>
            <a:chOff x="6221160" y="3377880"/>
            <a:chExt cx="220680" cy="294120"/>
          </a:xfrm>
        </p:grpSpPr>
        <p:sp>
          <p:nvSpPr>
            <p:cNvPr id="371" name=""/>
            <p:cNvSpPr/>
            <p:nvPr/>
          </p:nvSpPr>
          <p:spPr>
            <a:xfrm flipH="1" flipV="1">
              <a:off x="6221160" y="3377880"/>
              <a:ext cx="18396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13320" y="3579840"/>
              <a:ext cx="128520" cy="92160"/>
              <a:chOff x="6313320" y="3579840"/>
              <a:chExt cx="128520" cy="9216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6424200" y="3579840"/>
                <a:ext cx="17640" cy="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13320" y="3654360"/>
                <a:ext cx="111240" cy="1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6405480" y="3285720"/>
            <a:ext cx="220680" cy="294120"/>
            <a:chOff x="6405480" y="3285720"/>
            <a:chExt cx="220680" cy="294120"/>
          </a:xfrm>
        </p:grpSpPr>
        <p:sp>
          <p:nvSpPr>
            <p:cNvPr id="376" name=""/>
            <p:cNvSpPr/>
            <p:nvPr/>
          </p:nvSpPr>
          <p:spPr>
            <a:xfrm>
              <a:off x="6442200" y="3303720"/>
              <a:ext cx="18396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6405480" y="3285720"/>
              <a:ext cx="128160" cy="92520"/>
              <a:chOff x="6405480" y="3285720"/>
              <a:chExt cx="128160" cy="92520"/>
            </a:xfrm>
          </p:grpSpPr>
          <p:sp>
            <p:nvSpPr>
              <p:cNvPr id="378" name=""/>
              <p:cNvSpPr/>
              <p:nvPr/>
            </p:nvSpPr>
            <p:spPr>
              <a:xfrm flipV="1">
                <a:off x="6405480" y="3286080"/>
                <a:ext cx="36720" cy="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6441840" y="3285720"/>
                <a:ext cx="91800" cy="1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6577200" y="3268800"/>
            <a:ext cx="178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: addToRegistrationLi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98400" y="345132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parameter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940440" y="2622600"/>
            <a:ext cx="330480" cy="128160"/>
            <a:chOff x="6940440" y="2622600"/>
            <a:chExt cx="330480" cy="128160"/>
          </a:xfrm>
        </p:grpSpPr>
        <p:sp>
          <p:nvSpPr>
            <p:cNvPr id="383" name=""/>
            <p:cNvSpPr/>
            <p:nvPr/>
          </p:nvSpPr>
          <p:spPr>
            <a:xfrm flipH="1">
              <a:off x="6940440" y="2678040"/>
              <a:ext cx="330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7216920" y="2622600"/>
              <a:ext cx="54000" cy="128160"/>
              <a:chOff x="7216920" y="2622600"/>
              <a:chExt cx="54000" cy="128160"/>
            </a:xfrm>
          </p:grpSpPr>
          <p:sp>
            <p:nvSpPr>
              <p:cNvPr id="385" name=""/>
              <p:cNvSpPr/>
              <p:nvPr/>
            </p:nvSpPr>
            <p:spPr>
              <a:xfrm>
                <a:off x="7216920" y="2622600"/>
                <a:ext cx="54000" cy="5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216920" y="2677680"/>
                <a:ext cx="54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6289560" y="2770200"/>
            <a:ext cx="1933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763-BCBF-468C-805A-F20C9941BB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munication link can exist between two objects whenever it is possible for one object to send a message to the other o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situations can make this message exchange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 classes of the two objects have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h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most common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messages are sent in the same direction, then probably the association can be made unidirec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F41-82E3-4151-B309-B75D074848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mmunication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receiving object is stored in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 of the sending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ften happens when the object is created in the sending method or when some computation returns an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to be used is «local» or [L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 reference to the receiving object has been received a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ending meth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is «parameter» or [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0C4-9EA9-499A-985D-65FA191918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mmunication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receiving object is glob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case when a reference to an object can be obtained using a static meth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«global», or a [G] symbol is used in this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he objects communicate over a net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o write «network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2A4-0636-420E-97C8-DCC564DF34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hoose between using a sequence or collaboration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diagr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explicit the time ordering of the inte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s make time ordering explicit to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equence diagrams are a natural choice when you build an interaction model from a use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it easy to add details to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 have less space for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60B-C279-4433-A70B-9187DE81B2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hoose between using a sequence or collaboratio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seen as a projection of the class 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be preferred when you a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teraction diagram from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so useful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692-8F8B-4381-9009-52E9EDBB4C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 diagrams and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laboration diagram can be used to represent aspects of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933960" cy="36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61D-7494-408A-95B5-816B62E440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1 Interaction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 are used to model the dynamic aspects of a software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you to visualize how the system ru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action diagram is often built from a use case and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is to show how a set of objects accomplish the required interactions with an 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D79-EC5D-4FBC-BD31-38FD047C49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2 Stat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diagram describes the behaviour of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m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ystem, or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obje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ny given point in time, the system or object is in a certain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in a state means that it is will behave in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wa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sponse to any events that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vents will cause the system to chang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new state, the system will behave in a different way to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diagram is a directed graph where the nodes are states and the arcs are transi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C1A-C4E4-42BF-93F6-3C7FFE9CDF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-tac-toe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1240" y="4799160"/>
            <a:ext cx="1406520" cy="763560"/>
          </a:xfrm>
          <a:prstGeom prst="roundRect">
            <a:avLst>
              <a:gd name="adj" fmla="val 30042"/>
            </a:avLst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4320" y="4965840"/>
            <a:ext cx="900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Tur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58520" y="2552760"/>
            <a:ext cx="86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Tur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81240" y="2384280"/>
            <a:ext cx="1406520" cy="763560"/>
          </a:xfrm>
          <a:prstGeom prst="roundRect">
            <a:avLst>
              <a:gd name="adj" fmla="val 30042"/>
            </a:avLst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81400" y="3143160"/>
            <a:ext cx="1800" cy="1650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8320" y="3143160"/>
            <a:ext cx="1440" cy="1650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86960" y="33465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32520" y="4921200"/>
            <a:ext cx="7635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25400" y="4629240"/>
            <a:ext cx="698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94440" y="2124000"/>
            <a:ext cx="668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W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5160" y="2109960"/>
            <a:ext cx="6012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468680" y="4022280"/>
            <a:ext cx="2598840" cy="9162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68680" y="2978280"/>
            <a:ext cx="2598840" cy="9158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481640" y="5165640"/>
            <a:ext cx="25984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481640" y="2690640"/>
            <a:ext cx="256680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5760" y="2751120"/>
            <a:ext cx="7952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054920" y="4921200"/>
            <a:ext cx="426960" cy="459000"/>
            <a:chOff x="7054920" y="4921200"/>
            <a:chExt cx="426960" cy="459000"/>
          </a:xfrm>
        </p:grpSpPr>
        <p:sp>
          <p:nvSpPr>
            <p:cNvPr id="422" name=""/>
            <p:cNvSpPr/>
            <p:nvPr/>
          </p:nvSpPr>
          <p:spPr>
            <a:xfrm>
              <a:off x="7054920" y="4921200"/>
              <a:ext cx="426960" cy="45900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45280" y="5013360"/>
              <a:ext cx="24444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981080" y="2536920"/>
            <a:ext cx="397080" cy="398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983280" y="5043600"/>
            <a:ext cx="90720" cy="214200"/>
            <a:chOff x="6983280" y="5043600"/>
            <a:chExt cx="90720" cy="214200"/>
          </a:xfrm>
        </p:grpSpPr>
        <p:sp>
          <p:nvSpPr>
            <p:cNvPr id="426" name=""/>
            <p:cNvSpPr/>
            <p:nvPr/>
          </p:nvSpPr>
          <p:spPr>
            <a:xfrm>
              <a:off x="6983280" y="5043600"/>
              <a:ext cx="90720" cy="122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983280" y="5165640"/>
              <a:ext cx="90720" cy="9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958080" y="2598840"/>
            <a:ext cx="90360" cy="214200"/>
            <a:chOff x="6958080" y="2598840"/>
            <a:chExt cx="90360" cy="214200"/>
          </a:xfrm>
        </p:grpSpPr>
        <p:sp>
          <p:nvSpPr>
            <p:cNvPr id="429" name=""/>
            <p:cNvSpPr/>
            <p:nvPr/>
          </p:nvSpPr>
          <p:spPr>
            <a:xfrm>
              <a:off x="6958080" y="2598840"/>
              <a:ext cx="90360" cy="9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958080" y="2690640"/>
              <a:ext cx="90360" cy="122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355920" y="4702320"/>
            <a:ext cx="244080" cy="91800"/>
            <a:chOff x="3355920" y="4702320"/>
            <a:chExt cx="244080" cy="91800"/>
          </a:xfrm>
        </p:grpSpPr>
        <p:sp>
          <p:nvSpPr>
            <p:cNvPr id="432" name=""/>
            <p:cNvSpPr/>
            <p:nvPr/>
          </p:nvSpPr>
          <p:spPr>
            <a:xfrm flipH="1">
              <a:off x="3477960" y="4702320"/>
              <a:ext cx="122040" cy="9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55920" y="4702320"/>
              <a:ext cx="122400" cy="9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59360" y="3142800"/>
            <a:ext cx="244440" cy="122040"/>
            <a:chOff x="4059360" y="3142800"/>
            <a:chExt cx="244440" cy="122040"/>
          </a:xfrm>
        </p:grpSpPr>
        <p:sp>
          <p:nvSpPr>
            <p:cNvPr id="435" name=""/>
            <p:cNvSpPr/>
            <p:nvPr/>
          </p:nvSpPr>
          <p:spPr>
            <a:xfrm flipH="1" flipV="1">
              <a:off x="4181400" y="3142800"/>
              <a:ext cx="122400" cy="122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059360" y="3142800"/>
              <a:ext cx="122040" cy="122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975360" y="3767040"/>
            <a:ext cx="60480" cy="1224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926400" y="3870360"/>
            <a:ext cx="122040" cy="92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913440" y="3960720"/>
            <a:ext cx="154080" cy="213840"/>
            <a:chOff x="6913440" y="3960720"/>
            <a:chExt cx="154080" cy="213840"/>
          </a:xfrm>
        </p:grpSpPr>
        <p:sp>
          <p:nvSpPr>
            <p:cNvPr id="440" name=""/>
            <p:cNvSpPr/>
            <p:nvPr/>
          </p:nvSpPr>
          <p:spPr>
            <a:xfrm>
              <a:off x="6913440" y="3960720"/>
              <a:ext cx="154080" cy="61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035840" y="4022280"/>
              <a:ext cx="31680" cy="152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054920" y="3699000"/>
            <a:ext cx="426960" cy="458640"/>
            <a:chOff x="7054920" y="3699000"/>
            <a:chExt cx="426960" cy="458640"/>
          </a:xfrm>
        </p:grpSpPr>
        <p:sp>
          <p:nvSpPr>
            <p:cNvPr id="443" name=""/>
            <p:cNvSpPr/>
            <p:nvPr/>
          </p:nvSpPr>
          <p:spPr>
            <a:xfrm>
              <a:off x="7054920" y="3699000"/>
              <a:ext cx="426960" cy="45864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45280" y="3790800"/>
              <a:ext cx="24444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054920" y="2476440"/>
            <a:ext cx="426960" cy="459000"/>
            <a:chOff x="7054920" y="2476440"/>
            <a:chExt cx="426960" cy="459000"/>
          </a:xfrm>
        </p:grpSpPr>
        <p:sp>
          <p:nvSpPr>
            <p:cNvPr id="446" name=""/>
            <p:cNvSpPr/>
            <p:nvPr/>
          </p:nvSpPr>
          <p:spPr>
            <a:xfrm>
              <a:off x="7054920" y="2476440"/>
              <a:ext cx="426960" cy="45900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5280" y="2568600"/>
              <a:ext cx="24444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975040" y="2664000"/>
            <a:ext cx="90360" cy="214200"/>
            <a:chOff x="2975040" y="2664000"/>
            <a:chExt cx="90360" cy="214200"/>
          </a:xfrm>
        </p:grpSpPr>
        <p:sp>
          <p:nvSpPr>
            <p:cNvPr id="449" name=""/>
            <p:cNvSpPr/>
            <p:nvPr/>
          </p:nvSpPr>
          <p:spPr>
            <a:xfrm>
              <a:off x="2975040" y="2664000"/>
              <a:ext cx="90360" cy="9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975040" y="2755800"/>
              <a:ext cx="90360" cy="122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857-5478-4415-B60B-0183E7730A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ny given point in time, the system is in on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remain in this state until an event occurs that causes it to change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is represented by a rounded rectangle containing the name of th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lack circle represents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ircle with a ring around it represents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C16-0E21-47D9-BEAB-1D2E437C7EB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ansition represents a change of state in response to an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idered to occur instantane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bel on each transition is the event that causes the change of st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E71-A3EC-4C5D-B845-11602BCA99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flipH="1">
            <a:off x="2850840" y="2997360"/>
            <a:ext cx="114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851200" y="2997000"/>
            <a:ext cx="1440" cy="114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62320" y="3432240"/>
            <a:ext cx="1440" cy="1193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2851200" y="2997360"/>
            <a:ext cx="412560" cy="412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32520" y="389088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30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55880" y="451008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5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86040" y="3065400"/>
            <a:ext cx="1440" cy="71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55880" y="327168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25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8920" y="5003640"/>
            <a:ext cx="1355400" cy="48276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02800" y="508320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06600" y="2571840"/>
            <a:ext cx="137772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88320" y="265104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06600" y="3787920"/>
            <a:ext cx="140004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89040" y="384480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85680" y="3697200"/>
            <a:ext cx="903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93880" y="3697200"/>
            <a:ext cx="921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86040" y="4281480"/>
            <a:ext cx="1440" cy="68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885680" y="4915080"/>
            <a:ext cx="903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93880" y="4915080"/>
            <a:ext cx="921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849400" y="4635000"/>
            <a:ext cx="412920" cy="41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77320" y="1596960"/>
            <a:ext cx="1440" cy="364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18000" y="3065400"/>
            <a:ext cx="1800" cy="71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90360" y="3133800"/>
            <a:ext cx="222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25s since exit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88200" y="3363840"/>
            <a:ext cx="137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 RedL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64240" y="5003640"/>
            <a:ext cx="1353960" cy="48276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38120" y="508320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41920" y="2571840"/>
            <a:ext cx="314316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48480" y="2651040"/>
            <a:ext cx="290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LightChangeTrigg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41920" y="3787920"/>
            <a:ext cx="140004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24360" y="384480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418000" y="3697200"/>
            <a:ext cx="921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27640" y="3697200"/>
            <a:ext cx="903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18000" y="4281480"/>
            <a:ext cx="1800" cy="68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418000" y="4927680"/>
            <a:ext cx="921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7640" y="4927680"/>
            <a:ext cx="903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07040" y="5245200"/>
            <a:ext cx="1970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0720" y="5106960"/>
            <a:ext cx="298440" cy="298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0000" y="5244840"/>
            <a:ext cx="68040" cy="9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0000" y="5176800"/>
            <a:ext cx="6804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97000" y="5245200"/>
            <a:ext cx="298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26040" y="5106960"/>
            <a:ext cx="298440" cy="298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686480" y="5244840"/>
            <a:ext cx="69840" cy="9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86480" y="5176800"/>
            <a:ext cx="6984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432320" y="5245200"/>
            <a:ext cx="298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35720" y="451008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5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55080" y="389088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30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8000" y="1849320"/>
            <a:ext cx="1800" cy="71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5680" y="2055960"/>
            <a:ext cx="19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ehicleWaitingTo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41920" y="1355760"/>
            <a:ext cx="238608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47040" y="1434960"/>
            <a:ext cx="214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LightNo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418000" y="2481120"/>
            <a:ext cx="92160" cy="6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27640" y="2481120"/>
            <a:ext cx="90360" cy="6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7129440" y="1574640"/>
            <a:ext cx="68400" cy="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7129440" y="1504800"/>
            <a:ext cx="68400" cy="6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139160" y="1574640"/>
            <a:ext cx="9381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 example of transi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time-outs an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819-A7E5-400F-8E15-5CF003099C0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 example with conditional transi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680000" y="2082960"/>
            <a:ext cx="79200" cy="159840"/>
            <a:chOff x="4680000" y="2082960"/>
            <a:chExt cx="79200" cy="159840"/>
          </a:xfrm>
        </p:grpSpPr>
        <p:sp>
          <p:nvSpPr>
            <p:cNvPr id="513" name=""/>
            <p:cNvSpPr/>
            <p:nvPr/>
          </p:nvSpPr>
          <p:spPr>
            <a:xfrm>
              <a:off x="4680000" y="2082960"/>
              <a:ext cx="7920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680000" y="2161800"/>
              <a:ext cx="792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7197120" y="2990880"/>
            <a:ext cx="1468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96040" y="3444840"/>
            <a:ext cx="150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creat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65800" y="3543480"/>
            <a:ext cx="1440" cy="876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2062080"/>
            <a:ext cx="263520" cy="262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274640" y="2162160"/>
            <a:ext cx="484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94120" y="450540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55960" y="4565520"/>
            <a:ext cx="2219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51800" y="4788000"/>
            <a:ext cx="183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assSize &gt;= max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641680" y="3171960"/>
            <a:ext cx="15127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79960" y="337500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65800" y="2476440"/>
            <a:ext cx="1440" cy="520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21240" y="2506680"/>
            <a:ext cx="134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n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68920" y="1990800"/>
            <a:ext cx="1192320" cy="4856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33160" y="208296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76880" y="4524480"/>
            <a:ext cx="199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35400" y="3132000"/>
            <a:ext cx="231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Not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63800" y="4413240"/>
            <a:ext cx="990360" cy="4856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284800" y="2930400"/>
            <a:ext cx="161640" cy="79560"/>
            <a:chOff x="5284800" y="2930400"/>
            <a:chExt cx="161640" cy="79560"/>
          </a:xfrm>
        </p:grpSpPr>
        <p:sp>
          <p:nvSpPr>
            <p:cNvPr id="533" name=""/>
            <p:cNvSpPr/>
            <p:nvPr/>
          </p:nvSpPr>
          <p:spPr>
            <a:xfrm flipH="1">
              <a:off x="5365440" y="2930400"/>
              <a:ext cx="81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84800" y="2930400"/>
              <a:ext cx="81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620440" y="3090960"/>
            <a:ext cx="81000" cy="161640"/>
            <a:chOff x="2620440" y="3090960"/>
            <a:chExt cx="81000" cy="161640"/>
          </a:xfrm>
        </p:grpSpPr>
        <p:sp>
          <p:nvSpPr>
            <p:cNvPr id="536" name=""/>
            <p:cNvSpPr/>
            <p:nvPr/>
          </p:nvSpPr>
          <p:spPr>
            <a:xfrm flipH="1" flipV="1">
              <a:off x="2620440" y="317160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620440" y="309096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441760" y="3798720"/>
            <a:ext cx="178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assSize &gt;= min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30080" y="4424400"/>
            <a:ext cx="1488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34040" y="4800600"/>
            <a:ext cx="150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creat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076480" y="4484520"/>
            <a:ext cx="79200" cy="141480"/>
            <a:chOff x="2076480" y="4484520"/>
            <a:chExt cx="79200" cy="141480"/>
          </a:xfrm>
        </p:grpSpPr>
        <p:sp>
          <p:nvSpPr>
            <p:cNvPr id="542" name=""/>
            <p:cNvSpPr/>
            <p:nvPr/>
          </p:nvSpPr>
          <p:spPr>
            <a:xfrm flipH="1" flipV="1">
              <a:off x="2076480" y="4565520"/>
              <a:ext cx="792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076480" y="4484520"/>
              <a:ext cx="792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284800" y="4313160"/>
            <a:ext cx="161640" cy="81000"/>
            <a:chOff x="5284800" y="4313160"/>
            <a:chExt cx="161640" cy="81000"/>
          </a:xfrm>
        </p:grpSpPr>
        <p:sp>
          <p:nvSpPr>
            <p:cNvPr id="545" name=""/>
            <p:cNvSpPr/>
            <p:nvPr/>
          </p:nvSpPr>
          <p:spPr>
            <a:xfrm flipH="1">
              <a:off x="5365440" y="431316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84800" y="431316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454800" y="2909880"/>
            <a:ext cx="72684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3" y="3722"/>
                </a:moveTo>
                <a:arcTo wR="10800" hR="10800" stAng="-8342941" swAng="16639720"/>
                <a:lnTo>
                  <a:pt x="10800" y="10800"/>
                </a:lnTo>
                <a:close/>
              </a:path>
              <a:path fill="none" w="21600" h="21600">
                <a:moveTo>
                  <a:pt x="2643" y="3722"/>
                </a:moveTo>
                <a:arcTo wR="10800" hR="10800" stAng="-8342941" swAng="1663972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65240" y="2919240"/>
            <a:ext cx="706680" cy="70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3" y="3722"/>
                </a:moveTo>
                <a:arcTo wR="10800" hR="10800" stAng="-8342941" swAng="16639720"/>
                <a:lnTo>
                  <a:pt x="10800" y="10800"/>
                </a:lnTo>
                <a:close/>
              </a:path>
              <a:path fill="none" w="21600" h="21600">
                <a:moveTo>
                  <a:pt x="2643" y="3722"/>
                </a:moveTo>
                <a:arcTo wR="10800" hR="10800" stAng="-8342941" swAng="16639720"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294600" y="4282920"/>
            <a:ext cx="725040" cy="7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39" y="3726"/>
                </a:moveTo>
                <a:arcTo wR="10800" hR="10800" stAng="-8344725" swAng="16641504"/>
                <a:lnTo>
                  <a:pt x="10800" y="10800"/>
                </a:lnTo>
                <a:close/>
              </a:path>
              <a:path fill="none" w="21600" h="21600">
                <a:moveTo>
                  <a:pt x="2639" y="3726"/>
                </a:moveTo>
                <a:arcTo wR="10800" hR="10800" stAng="-8344725" swAng="16641504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05400" y="4292640"/>
            <a:ext cx="706320" cy="7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39" y="3726"/>
                </a:moveTo>
                <a:arcTo wR="10800" hR="10800" stAng="-8344725" swAng="16641504"/>
                <a:lnTo>
                  <a:pt x="10800" y="10800"/>
                </a:lnTo>
                <a:close/>
              </a:path>
              <a:path fill="none" w="21600" h="21600">
                <a:moveTo>
                  <a:pt x="2639" y="3726"/>
                </a:moveTo>
                <a:arcTo wR="10800" hR="10800" stAng="-8344725" swAng="16641504"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05240" y="4413240"/>
            <a:ext cx="2160720" cy="4856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64120" y="3040200"/>
            <a:ext cx="2463840" cy="506160"/>
          </a:xfrm>
          <a:prstGeom prst="roundRect">
            <a:avLst>
              <a:gd name="adj" fmla="val 28847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375240" y="4867200"/>
            <a:ext cx="120600" cy="122400"/>
            <a:chOff x="6375240" y="4867200"/>
            <a:chExt cx="120600" cy="122400"/>
          </a:xfrm>
        </p:grpSpPr>
        <p:sp>
          <p:nvSpPr>
            <p:cNvPr id="554" name=""/>
            <p:cNvSpPr/>
            <p:nvPr/>
          </p:nvSpPr>
          <p:spPr>
            <a:xfrm flipV="1">
              <a:off x="6375240" y="4888080"/>
              <a:ext cx="19080" cy="101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393960" y="4867200"/>
              <a:ext cx="101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556320" y="3495600"/>
            <a:ext cx="100080" cy="100080"/>
            <a:chOff x="6556320" y="3495600"/>
            <a:chExt cx="100080" cy="100080"/>
          </a:xfrm>
        </p:grpSpPr>
        <p:sp>
          <p:nvSpPr>
            <p:cNvPr id="557" name=""/>
            <p:cNvSpPr/>
            <p:nvPr/>
          </p:nvSpPr>
          <p:spPr>
            <a:xfrm flipV="1">
              <a:off x="6556320" y="3495600"/>
              <a:ext cx="180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56320" y="3495600"/>
              <a:ext cx="100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2620800" y="3394080"/>
            <a:ext cx="1533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36720" y="290988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620440" y="3313080"/>
            <a:ext cx="81000" cy="141480"/>
            <a:chOff x="2620440" y="3313080"/>
            <a:chExt cx="81000" cy="141480"/>
          </a:xfrm>
        </p:grpSpPr>
        <p:sp>
          <p:nvSpPr>
            <p:cNvPr id="562" name=""/>
            <p:cNvSpPr/>
            <p:nvPr/>
          </p:nvSpPr>
          <p:spPr>
            <a:xfrm flipH="1" flipV="1">
              <a:off x="2620440" y="3394080"/>
              <a:ext cx="810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620440" y="331308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 flipH="1">
            <a:off x="2063880" y="4767120"/>
            <a:ext cx="2219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33520" y="428292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063880" y="4686480"/>
            <a:ext cx="79200" cy="141120"/>
            <a:chOff x="2063880" y="4686480"/>
            <a:chExt cx="79200" cy="141120"/>
          </a:xfrm>
        </p:grpSpPr>
        <p:sp>
          <p:nvSpPr>
            <p:cNvPr id="567" name=""/>
            <p:cNvSpPr/>
            <p:nvPr/>
          </p:nvSpPr>
          <p:spPr>
            <a:xfrm flipH="1" flipV="1">
              <a:off x="2063880" y="4767120"/>
              <a:ext cx="792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063880" y="4686480"/>
              <a:ext cx="79200" cy="80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3664080" y="383868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560320" y="3555720"/>
            <a:ext cx="1800360" cy="873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560320" y="3514680"/>
            <a:ext cx="81000" cy="122040"/>
            <a:chOff x="2560320" y="3514680"/>
            <a:chExt cx="81000" cy="122040"/>
          </a:xfrm>
        </p:grpSpPr>
        <p:sp>
          <p:nvSpPr>
            <p:cNvPr id="572" name=""/>
            <p:cNvSpPr/>
            <p:nvPr/>
          </p:nvSpPr>
          <p:spPr>
            <a:xfrm flipH="1">
              <a:off x="2560320" y="3514680"/>
              <a:ext cx="81000" cy="41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2560320" y="3555720"/>
              <a:ext cx="1908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602720" y="317196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40000" y="3081240"/>
            <a:ext cx="1191960" cy="48600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E3A-989E-4B91-93C7-EB8FD4EB7C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ies in stat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omething that takes place while the system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a period of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may take a transition out of the state in response to completion of the activi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outgoing transition may resul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ruption of the activity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arly exit from the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045-0BF9-43FA-9CB9-5A912FE9BA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 – an example with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602400" y="2417760"/>
            <a:ext cx="90360" cy="240840"/>
            <a:chOff x="6602400" y="2417760"/>
            <a:chExt cx="90360" cy="240840"/>
          </a:xfrm>
        </p:grpSpPr>
        <p:sp>
          <p:nvSpPr>
            <p:cNvPr id="580" name=""/>
            <p:cNvSpPr/>
            <p:nvPr/>
          </p:nvSpPr>
          <p:spPr>
            <a:xfrm>
              <a:off x="6602400" y="2417760"/>
              <a:ext cx="90360" cy="120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602400" y="2538000"/>
              <a:ext cx="90360" cy="120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046400" y="2538360"/>
            <a:ext cx="26751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87840" y="2057400"/>
            <a:ext cx="15937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94760" y="2147760"/>
            <a:ext cx="1468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100" spc="-1" strike="noStrike">
                <a:solidFill>
                  <a:srgbClr val="000000"/>
                </a:solidFill>
                <a:latin typeface="Arial"/>
              </a:rPr>
              <a:t>press butt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32520" y="2959200"/>
            <a:ext cx="177336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16680" y="2943360"/>
            <a:ext cx="1774800" cy="102384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137360" y="29606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82360" y="3260880"/>
            <a:ext cx="1424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play cho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51680" y="3562200"/>
            <a:ext cx="105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8435880" y="2928960"/>
            <a:ext cx="239760" cy="2412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 flipH="1">
            <a:off x="4046040" y="2959200"/>
            <a:ext cx="26751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5600" y="2341440"/>
            <a:ext cx="2046600" cy="1776600"/>
          </a:xfrm>
          <a:prstGeom prst="roundRect">
            <a:avLst>
              <a:gd name="adj" fmla="val 12500"/>
            </a:avLst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14800" y="2449440"/>
            <a:ext cx="179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sic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86000" y="2462040"/>
            <a:ext cx="2706480" cy="633600"/>
          </a:xfrm>
          <a:prstGeom prst="roundRect">
            <a:avLst>
              <a:gd name="adj" fmla="val 34093"/>
            </a:avLst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35320" y="2538360"/>
            <a:ext cx="238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pose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076640" y="2838600"/>
            <a:ext cx="90720" cy="240840"/>
            <a:chOff x="4076640" y="2838600"/>
            <a:chExt cx="90720" cy="240840"/>
          </a:xfrm>
        </p:grpSpPr>
        <p:sp>
          <p:nvSpPr>
            <p:cNvPr id="597" name=""/>
            <p:cNvSpPr/>
            <p:nvPr/>
          </p:nvSpPr>
          <p:spPr>
            <a:xfrm flipH="1">
              <a:off x="4076640" y="2838600"/>
              <a:ext cx="90720" cy="120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4076640" y="2958840"/>
              <a:ext cx="90720" cy="120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859-B98D-4A6F-8110-987A33854D0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in stat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omething that takes place effectivel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aneous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particular transition is take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entry into a particular state,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exit from a particular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ion should consume no noticeable amoun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FB3-3CE6-460E-985C-B32A25DA96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 – an example wi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039000" y="2147760"/>
            <a:ext cx="71280" cy="190440"/>
            <a:chOff x="6039000" y="2147760"/>
            <a:chExt cx="71280" cy="190440"/>
          </a:xfrm>
        </p:grpSpPr>
        <p:sp>
          <p:nvSpPr>
            <p:cNvPr id="603" name=""/>
            <p:cNvSpPr/>
            <p:nvPr/>
          </p:nvSpPr>
          <p:spPr>
            <a:xfrm>
              <a:off x="6039000" y="2147760"/>
              <a:ext cx="7128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39000" y="2242800"/>
              <a:ext cx="7128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240600" y="1933560"/>
            <a:ext cx="2144520" cy="608040"/>
            <a:chOff x="6240600" y="1933560"/>
            <a:chExt cx="2144520" cy="608040"/>
          </a:xfrm>
        </p:grpSpPr>
        <p:sp>
          <p:nvSpPr>
            <p:cNvPr id="606" name=""/>
            <p:cNvSpPr/>
            <p:nvPr/>
          </p:nvSpPr>
          <p:spPr>
            <a:xfrm>
              <a:off x="6240600" y="1944720"/>
              <a:ext cx="2144520" cy="59688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23120" y="1957320"/>
              <a:ext cx="63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Enter /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70920" y="2195640"/>
              <a:ext cx="1931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run motor forward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9" name="" descr=""/>
            <p:cNvPicPr/>
            <p:nvPr/>
          </p:nvPicPr>
          <p:blipFill>
            <a:blip r:embed="rId1"/>
            <a:stretch/>
          </p:blipFill>
          <p:spPr>
            <a:xfrm>
              <a:off x="8182080" y="19335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0" name=""/>
          <p:cNvSpPr/>
          <p:nvPr/>
        </p:nvSpPr>
        <p:spPr>
          <a:xfrm>
            <a:off x="1477800" y="4707000"/>
            <a:ext cx="2264040" cy="5968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36920" y="4719600"/>
            <a:ext cx="63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Enter 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95880" y="4957920"/>
            <a:ext cx="205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run motor in rever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3538440" y="4695840"/>
            <a:ext cx="190440" cy="190440"/>
          </a:xfrm>
          <a:prstGeom prst="rect">
            <a:avLst/>
          </a:prstGeom>
          <a:ln w="0">
            <a:noFill/>
          </a:ln>
        </p:spPr>
      </p:pic>
      <p:grpSp>
        <p:nvGrpSpPr>
          <p:cNvPr id="614" name=""/>
          <p:cNvGrpSpPr/>
          <p:nvPr/>
        </p:nvGrpSpPr>
        <p:grpSpPr>
          <a:xfrm>
            <a:off x="6264360" y="4719600"/>
            <a:ext cx="1334880" cy="608040"/>
            <a:chOff x="6264360" y="4719600"/>
            <a:chExt cx="1334880" cy="608040"/>
          </a:xfrm>
        </p:grpSpPr>
        <p:sp>
          <p:nvSpPr>
            <p:cNvPr id="615" name=""/>
            <p:cNvSpPr/>
            <p:nvPr/>
          </p:nvSpPr>
          <p:spPr>
            <a:xfrm>
              <a:off x="6264360" y="4730760"/>
              <a:ext cx="1334880" cy="59688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46880" y="4743360"/>
              <a:ext cx="63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Enter /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86040" y="4981680"/>
              <a:ext cx="1139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stop mo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3"/>
            <a:stretch/>
          </p:blipFill>
          <p:spPr>
            <a:xfrm>
              <a:off x="7396200" y="471960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"/>
          <p:cNvGrpSpPr/>
          <p:nvPr/>
        </p:nvGrpSpPr>
        <p:grpSpPr>
          <a:xfrm>
            <a:off x="2311560" y="1909800"/>
            <a:ext cx="1406520" cy="608040"/>
            <a:chOff x="2311560" y="1909800"/>
            <a:chExt cx="1406520" cy="608040"/>
          </a:xfrm>
        </p:grpSpPr>
        <p:sp>
          <p:nvSpPr>
            <p:cNvPr id="620" name=""/>
            <p:cNvSpPr/>
            <p:nvPr/>
          </p:nvSpPr>
          <p:spPr>
            <a:xfrm>
              <a:off x="2311560" y="1920960"/>
              <a:ext cx="1406520" cy="59688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94080" y="1933560"/>
              <a:ext cx="63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Enter /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33240" y="2171880"/>
              <a:ext cx="1139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stop mo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4"/>
            <a:stretch/>
          </p:blipFill>
          <p:spPr>
            <a:xfrm>
              <a:off x="3514680" y="190980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6848640" y="2624040"/>
            <a:ext cx="1440" cy="1762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943320" y="3219480"/>
            <a:ext cx="181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openingComple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110040" y="2599920"/>
            <a:ext cx="1440" cy="1762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79520" y="2838600"/>
            <a:ext cx="1722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closingComple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753000" y="3433680"/>
            <a:ext cx="1380960" cy="976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133960" y="2599920"/>
            <a:ext cx="1047600" cy="8334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43880" y="3552840"/>
            <a:ext cx="115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pressButt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824280" y="4719600"/>
            <a:ext cx="23335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15480" y="4410000"/>
            <a:ext cx="115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pressButt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24280" y="2243160"/>
            <a:ext cx="23097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48080" y="1862280"/>
            <a:ext cx="126216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96320" y="1933560"/>
            <a:ext cx="115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pressButt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82760" y="4373640"/>
            <a:ext cx="2430360" cy="1025280"/>
          </a:xfrm>
          <a:prstGeom prst="roundRect">
            <a:avLst>
              <a:gd name="adj" fmla="val 17046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91040" y="4362480"/>
            <a:ext cx="803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4397400"/>
            <a:ext cx="1525680" cy="1001520"/>
          </a:xfrm>
          <a:prstGeom prst="roundRect">
            <a:avLst>
              <a:gd name="adj" fmla="val 17440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43880" y="43862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45200" y="1587600"/>
            <a:ext cx="2335320" cy="1025280"/>
          </a:xfrm>
          <a:prstGeom prst="roundRect">
            <a:avLst>
              <a:gd name="adj" fmla="val 17046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04080" y="1600200"/>
            <a:ext cx="91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16160" y="1635120"/>
            <a:ext cx="1596960" cy="954000"/>
          </a:xfrm>
          <a:prstGeom prst="roundRect">
            <a:avLst>
              <a:gd name="adj" fmla="val 18292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58320" y="1600200"/>
            <a:ext cx="75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777000" y="4267080"/>
            <a:ext cx="166680" cy="95400"/>
            <a:chOff x="6777000" y="4267080"/>
            <a:chExt cx="166680" cy="95400"/>
          </a:xfrm>
        </p:grpSpPr>
        <p:sp>
          <p:nvSpPr>
            <p:cNvPr id="645" name=""/>
            <p:cNvSpPr/>
            <p:nvPr/>
          </p:nvSpPr>
          <p:spPr>
            <a:xfrm flipH="1">
              <a:off x="6848640" y="4267080"/>
              <a:ext cx="9504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77000" y="4267080"/>
              <a:ext cx="7164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823920" y="4624560"/>
            <a:ext cx="95400" cy="190080"/>
            <a:chOff x="3823920" y="4624560"/>
            <a:chExt cx="95400" cy="190080"/>
          </a:xfrm>
        </p:grpSpPr>
        <p:sp>
          <p:nvSpPr>
            <p:cNvPr id="648" name=""/>
            <p:cNvSpPr/>
            <p:nvPr/>
          </p:nvSpPr>
          <p:spPr>
            <a:xfrm flipH="1">
              <a:off x="3823920" y="4624560"/>
              <a:ext cx="95400" cy="95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3823920" y="4719240"/>
              <a:ext cx="9540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038400" y="2599920"/>
            <a:ext cx="166680" cy="71640"/>
            <a:chOff x="3038400" y="2599920"/>
            <a:chExt cx="166680" cy="71640"/>
          </a:xfrm>
        </p:grpSpPr>
        <p:sp>
          <p:nvSpPr>
            <p:cNvPr id="651" name=""/>
            <p:cNvSpPr/>
            <p:nvPr/>
          </p:nvSpPr>
          <p:spPr>
            <a:xfrm flipV="1">
              <a:off x="3038400" y="2599920"/>
              <a:ext cx="7164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3110040" y="2599920"/>
              <a:ext cx="9504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6062760" y="2576160"/>
            <a:ext cx="120600" cy="119160"/>
            <a:chOff x="6062760" y="2576160"/>
            <a:chExt cx="120600" cy="119160"/>
          </a:xfrm>
        </p:grpSpPr>
        <p:sp>
          <p:nvSpPr>
            <p:cNvPr id="654" name=""/>
            <p:cNvSpPr/>
            <p:nvPr/>
          </p:nvSpPr>
          <p:spPr>
            <a:xfrm>
              <a:off x="6062760" y="2576520"/>
              <a:ext cx="11880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181560" y="2576160"/>
              <a:ext cx="1800" cy="119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600-0F05-4B36-9685-44A36763967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s an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 show how a set of actors and objects communicate with each other to per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ps of a use cas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ps of some other piece of function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of steps, taken together, is called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 can show several different types of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method calls, messages send over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all referred to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563-6F1F-4C5C-909F-8F09C8155D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7543800" cy="26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F7B-E607-40E0-AE12-5EE268FE849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sted substates and guar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diagram can be nested inside a stat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of the inner diagram are call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15960" y="3909960"/>
            <a:ext cx="7237440" cy="1193760"/>
          </a:xfrm>
          <a:prstGeom prst="roundRect">
            <a:avLst>
              <a:gd name="adj" fmla="val 22032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049480" y="4259160"/>
            <a:ext cx="722160" cy="433440"/>
            <a:chOff x="2049480" y="4259160"/>
            <a:chExt cx="722160" cy="433440"/>
          </a:xfrm>
        </p:grpSpPr>
        <p:sp>
          <p:nvSpPr>
            <p:cNvPr id="662" name=""/>
            <p:cNvSpPr/>
            <p:nvPr/>
          </p:nvSpPr>
          <p:spPr>
            <a:xfrm>
              <a:off x="2049480" y="4259160"/>
              <a:ext cx="722160" cy="433440"/>
            </a:xfrm>
            <a:prstGeom prst="roundRect">
              <a:avLst>
                <a:gd name="adj" fmla="val 34093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54320" y="43545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906800" y="4259160"/>
            <a:ext cx="865440" cy="433440"/>
            <a:chOff x="4906800" y="4259160"/>
            <a:chExt cx="865440" cy="433440"/>
          </a:xfrm>
        </p:grpSpPr>
        <p:sp>
          <p:nvSpPr>
            <p:cNvPr id="665" name=""/>
            <p:cNvSpPr/>
            <p:nvPr/>
          </p:nvSpPr>
          <p:spPr>
            <a:xfrm>
              <a:off x="4906800" y="4259160"/>
              <a:ext cx="865440" cy="433440"/>
            </a:xfrm>
            <a:prstGeom prst="roundRect">
              <a:avLst>
                <a:gd name="adj" fmla="val 34093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67000" y="435456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867800" y="4259160"/>
            <a:ext cx="699840" cy="433440"/>
            <a:chOff x="7867800" y="4259160"/>
            <a:chExt cx="699840" cy="433440"/>
          </a:xfrm>
        </p:grpSpPr>
        <p:sp>
          <p:nvSpPr>
            <p:cNvPr id="668" name=""/>
            <p:cNvSpPr/>
            <p:nvPr/>
          </p:nvSpPr>
          <p:spPr>
            <a:xfrm>
              <a:off x="7867800" y="4259160"/>
              <a:ext cx="699840" cy="433440"/>
            </a:xfrm>
            <a:prstGeom prst="roundRect">
              <a:avLst>
                <a:gd name="adj" fmla="val 34093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48880" y="43545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7704000" y="2882880"/>
            <a:ext cx="966960" cy="433440"/>
          </a:xfrm>
          <a:prstGeom prst="roundRect">
            <a:avLst>
              <a:gd name="adj" fmla="val 34093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11360" y="29559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959120" y="3119400"/>
            <a:ext cx="225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43520" y="2995560"/>
            <a:ext cx="18097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60840" y="4394160"/>
            <a:ext cx="2117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2760480" y="4599000"/>
            <a:ext cx="2136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99440" y="295596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14720" y="2882880"/>
            <a:ext cx="3639960" cy="433440"/>
          </a:xfrm>
          <a:prstGeom prst="roundRect">
            <a:avLst>
              <a:gd name="adj" fmla="val 34093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864040" y="3119400"/>
            <a:ext cx="61560" cy="165240"/>
            <a:chOff x="5864040" y="3119400"/>
            <a:chExt cx="61560" cy="165240"/>
          </a:xfrm>
        </p:grpSpPr>
        <p:sp>
          <p:nvSpPr>
            <p:cNvPr id="679" name=""/>
            <p:cNvSpPr/>
            <p:nvPr/>
          </p:nvSpPr>
          <p:spPr>
            <a:xfrm flipH="1" flipV="1">
              <a:off x="5864040" y="3201840"/>
              <a:ext cx="6156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5864040" y="3119400"/>
              <a:ext cx="6156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690560" y="2995560"/>
            <a:ext cx="268560" cy="268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89040" y="4332240"/>
            <a:ext cx="266760" cy="266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43520" y="3201840"/>
            <a:ext cx="18511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700600" y="3325680"/>
            <a:ext cx="1800" cy="574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81600" y="4394160"/>
            <a:ext cx="20764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61080" y="4578480"/>
            <a:ext cx="20970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31960" y="4456080"/>
            <a:ext cx="289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5781600" y="4518000"/>
            <a:ext cx="61920" cy="142560"/>
            <a:chOff x="5781600" y="4518000"/>
            <a:chExt cx="61920" cy="142560"/>
          </a:xfrm>
        </p:grpSpPr>
        <p:sp>
          <p:nvSpPr>
            <p:cNvPr id="689" name=""/>
            <p:cNvSpPr/>
            <p:nvPr/>
          </p:nvSpPr>
          <p:spPr>
            <a:xfrm flipH="1" flipV="1">
              <a:off x="5781600" y="457812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781600" y="4518000"/>
              <a:ext cx="6192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2781360" y="4518000"/>
            <a:ext cx="61920" cy="142560"/>
            <a:chOff x="2781360" y="4518000"/>
            <a:chExt cx="61920" cy="142560"/>
          </a:xfrm>
        </p:grpSpPr>
        <p:sp>
          <p:nvSpPr>
            <p:cNvPr id="692" name=""/>
            <p:cNvSpPr/>
            <p:nvPr/>
          </p:nvSpPr>
          <p:spPr>
            <a:xfrm flipH="1" flipV="1">
              <a:off x="2781360" y="457812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2781360" y="4518000"/>
              <a:ext cx="6192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795920" y="4311720"/>
            <a:ext cx="82440" cy="144000"/>
            <a:chOff x="4795920" y="4311720"/>
            <a:chExt cx="82440" cy="144000"/>
          </a:xfrm>
        </p:grpSpPr>
        <p:sp>
          <p:nvSpPr>
            <p:cNvPr id="695" name=""/>
            <p:cNvSpPr/>
            <p:nvPr/>
          </p:nvSpPr>
          <p:spPr>
            <a:xfrm flipV="1">
              <a:off x="4795920" y="437328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95920" y="431172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7775640" y="4311720"/>
            <a:ext cx="82440" cy="144000"/>
            <a:chOff x="7775640" y="4311720"/>
            <a:chExt cx="82440" cy="144000"/>
          </a:xfrm>
        </p:grpSpPr>
        <p:sp>
          <p:nvSpPr>
            <p:cNvPr id="698" name=""/>
            <p:cNvSpPr/>
            <p:nvPr/>
          </p:nvSpPr>
          <p:spPr>
            <a:xfrm flipV="1">
              <a:off x="7775640" y="437328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75640" y="431172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7612200" y="2914560"/>
            <a:ext cx="61920" cy="163080"/>
            <a:chOff x="7612200" y="2914560"/>
            <a:chExt cx="61920" cy="163080"/>
          </a:xfrm>
        </p:grpSpPr>
        <p:sp>
          <p:nvSpPr>
            <p:cNvPr id="701" name=""/>
            <p:cNvSpPr/>
            <p:nvPr/>
          </p:nvSpPr>
          <p:spPr>
            <a:xfrm flipV="1">
              <a:off x="7612200" y="299520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12200" y="2914560"/>
              <a:ext cx="6192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5618160" y="3325680"/>
            <a:ext cx="163080" cy="60480"/>
            <a:chOff x="5618160" y="3325680"/>
            <a:chExt cx="163080" cy="60480"/>
          </a:xfrm>
        </p:grpSpPr>
        <p:sp>
          <p:nvSpPr>
            <p:cNvPr id="704" name=""/>
            <p:cNvSpPr/>
            <p:nvPr/>
          </p:nvSpPr>
          <p:spPr>
            <a:xfrm flipV="1">
              <a:off x="5618160" y="3325680"/>
              <a:ext cx="82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5700240" y="3325680"/>
              <a:ext cx="810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17640" y="3510000"/>
            <a:ext cx="9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Dr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41360" y="3962520"/>
            <a:ext cx="146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reachThir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40280" y="416736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[driveSelect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83480" y="4578480"/>
            <a:ext cx="1893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dropBelowThir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40760" y="3962520"/>
            <a:ext cx="168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reachSecon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40040" y="416736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[driveSelect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41840" y="4578480"/>
            <a:ext cx="210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dropBelowSecon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40040" y="478296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[driveSelect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49360" y="3325680"/>
            <a:ext cx="1800" cy="90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2266920" y="4168800"/>
            <a:ext cx="165240" cy="60480"/>
            <a:chOff x="2266920" y="4168800"/>
            <a:chExt cx="165240" cy="60480"/>
          </a:xfrm>
        </p:grpSpPr>
        <p:sp>
          <p:nvSpPr>
            <p:cNvPr id="716" name=""/>
            <p:cNvSpPr/>
            <p:nvPr/>
          </p:nvSpPr>
          <p:spPr>
            <a:xfrm>
              <a:off x="2266920" y="4168800"/>
              <a:ext cx="82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349360" y="4168800"/>
              <a:ext cx="82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441800" y="3510000"/>
            <a:ext cx="87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093200" y="3510000"/>
            <a:ext cx="115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Sec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58920" y="3510000"/>
            <a:ext cx="111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Neutr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268960" y="3304800"/>
            <a:ext cx="1440" cy="9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186520" y="4148280"/>
            <a:ext cx="142560" cy="81000"/>
            <a:chOff x="5186520" y="4148280"/>
            <a:chExt cx="142560" cy="81000"/>
          </a:xfrm>
        </p:grpSpPr>
        <p:sp>
          <p:nvSpPr>
            <p:cNvPr id="723" name=""/>
            <p:cNvSpPr/>
            <p:nvPr/>
          </p:nvSpPr>
          <p:spPr>
            <a:xfrm>
              <a:off x="5186520" y="4148280"/>
              <a:ext cx="6192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248440" y="4148280"/>
              <a:ext cx="8064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705120" y="3325680"/>
            <a:ext cx="1800" cy="554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624120" y="3817800"/>
            <a:ext cx="163800" cy="61920"/>
            <a:chOff x="3624120" y="3817800"/>
            <a:chExt cx="163800" cy="61920"/>
          </a:xfrm>
        </p:grpSpPr>
        <p:sp>
          <p:nvSpPr>
            <p:cNvPr id="727" name=""/>
            <p:cNvSpPr/>
            <p:nvPr/>
          </p:nvSpPr>
          <p:spPr>
            <a:xfrm>
              <a:off x="3624120" y="3817800"/>
              <a:ext cx="810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3705120" y="381780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252480" y="3181320"/>
            <a:ext cx="111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Neutr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231240" y="2770200"/>
            <a:ext cx="121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Reve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2184480" y="4681440"/>
            <a:ext cx="164520" cy="82800"/>
            <a:chOff x="2184480" y="4681440"/>
            <a:chExt cx="164520" cy="82800"/>
          </a:xfrm>
        </p:grpSpPr>
        <p:sp>
          <p:nvSpPr>
            <p:cNvPr id="732" name=""/>
            <p:cNvSpPr/>
            <p:nvPr/>
          </p:nvSpPr>
          <p:spPr>
            <a:xfrm flipV="1">
              <a:off x="2184480" y="46814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2266560" y="46814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2266920" y="4702320"/>
            <a:ext cx="1440" cy="576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92280" y="5092560"/>
            <a:ext cx="1800" cy="185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66920" y="5278320"/>
            <a:ext cx="225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268960" y="4681440"/>
            <a:ext cx="163080" cy="82800"/>
            <a:chOff x="5268960" y="4681440"/>
            <a:chExt cx="163080" cy="82800"/>
          </a:xfrm>
        </p:grpSpPr>
        <p:sp>
          <p:nvSpPr>
            <p:cNvPr id="738" name=""/>
            <p:cNvSpPr/>
            <p:nvPr/>
          </p:nvSpPr>
          <p:spPr>
            <a:xfrm flipV="1">
              <a:off x="5268960" y="4681440"/>
              <a:ext cx="8100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5349600" y="46814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349960" y="4702320"/>
            <a:ext cx="1440" cy="576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76760" y="5092560"/>
            <a:ext cx="1800" cy="185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49960" y="5278320"/>
            <a:ext cx="226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57760" y="5297400"/>
            <a:ext cx="87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15440" y="5297400"/>
            <a:ext cx="115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Sec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2122560" y="3036960"/>
            <a:ext cx="82440" cy="164520"/>
            <a:chOff x="2122560" y="3036960"/>
            <a:chExt cx="82440" cy="164520"/>
          </a:xfrm>
        </p:grpSpPr>
        <p:sp>
          <p:nvSpPr>
            <p:cNvPr id="746" name=""/>
            <p:cNvSpPr/>
            <p:nvPr/>
          </p:nvSpPr>
          <p:spPr>
            <a:xfrm flipV="1">
              <a:off x="2122560" y="311904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22560" y="303696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1938240" y="4394160"/>
            <a:ext cx="82800" cy="144360"/>
            <a:chOff x="1938240" y="4394160"/>
            <a:chExt cx="82800" cy="144360"/>
          </a:xfrm>
        </p:grpSpPr>
        <p:sp>
          <p:nvSpPr>
            <p:cNvPr id="749" name=""/>
            <p:cNvSpPr/>
            <p:nvPr/>
          </p:nvSpPr>
          <p:spPr>
            <a:xfrm flipV="1">
              <a:off x="1938240" y="447660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38240" y="4394160"/>
              <a:ext cx="8280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72A-F9D7-4ED6-A115-032D989E1B0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 – an example with sub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79760" y="2716200"/>
            <a:ext cx="2821320" cy="2344680"/>
          </a:xfrm>
          <a:prstGeom prst="roundRect">
            <a:avLst>
              <a:gd name="adj" fmla="val 6579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722840" y="1855800"/>
            <a:ext cx="82440" cy="166320"/>
            <a:chOff x="4722840" y="1855800"/>
            <a:chExt cx="82440" cy="166320"/>
          </a:xfrm>
        </p:grpSpPr>
        <p:sp>
          <p:nvSpPr>
            <p:cNvPr id="754" name=""/>
            <p:cNvSpPr/>
            <p:nvPr/>
          </p:nvSpPr>
          <p:spPr>
            <a:xfrm>
              <a:off x="4722840" y="1855800"/>
              <a:ext cx="824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722840" y="193968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7306200" y="2666880"/>
            <a:ext cx="1641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11240" y="3124080"/>
            <a:ext cx="160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/create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62320" y="1835280"/>
            <a:ext cx="270000" cy="26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308480" y="1940040"/>
            <a:ext cx="496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27720" y="2271600"/>
            <a:ext cx="1440" cy="746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7120" y="2290680"/>
            <a:ext cx="145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pen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15000" y="1762200"/>
            <a:ext cx="1225440" cy="5000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096520" y="185580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680720" y="4572000"/>
            <a:ext cx="150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81080" y="3141720"/>
            <a:ext cx="181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345280" y="2935440"/>
            <a:ext cx="164520" cy="61920"/>
            <a:chOff x="5345280" y="2935440"/>
            <a:chExt cx="164520" cy="61920"/>
          </a:xfrm>
        </p:grpSpPr>
        <p:sp>
          <p:nvSpPr>
            <p:cNvPr id="767" name=""/>
            <p:cNvSpPr/>
            <p:nvPr/>
          </p:nvSpPr>
          <p:spPr>
            <a:xfrm flipH="1">
              <a:off x="5427360" y="293544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45280" y="293544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5093280" y="3825720"/>
            <a:ext cx="191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assSize &gt;= min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4930920" y="4344840"/>
            <a:ext cx="164520" cy="82800"/>
            <a:chOff x="4930920" y="4344840"/>
            <a:chExt cx="164520" cy="82800"/>
          </a:xfrm>
        </p:grpSpPr>
        <p:sp>
          <p:nvSpPr>
            <p:cNvPr id="771" name=""/>
            <p:cNvSpPr/>
            <p:nvPr/>
          </p:nvSpPr>
          <p:spPr>
            <a:xfrm flipH="1">
              <a:off x="5013000" y="43448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30920" y="43448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9440" y="3349800"/>
            <a:ext cx="747360" cy="74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67" y="5"/>
                </a:moveTo>
                <a:arcTo wR="10800" hR="10800" stAng="-5506090" swAng="11115426"/>
                <a:lnTo>
                  <a:pt x="10800" y="10800"/>
                </a:lnTo>
                <a:close/>
              </a:path>
              <a:path fill="none" w="21600" h="21600">
                <a:moveTo>
                  <a:pt x="10467" y="5"/>
                </a:moveTo>
                <a:arcTo wR="10800" hR="10800" stAng="-5506090" swAng="11115426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68800" y="3359160"/>
            <a:ext cx="72720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67" y="5"/>
                </a:moveTo>
                <a:arcTo wR="10800" hR="10800" stAng="-5506084" swAng="11115407"/>
                <a:lnTo>
                  <a:pt x="10800" y="10800"/>
                </a:lnTo>
                <a:close/>
              </a:path>
              <a:path fill="none" w="21600" h="21600">
                <a:moveTo>
                  <a:pt x="10467" y="5"/>
                </a:moveTo>
                <a:arcTo wR="10800" hR="10800" stAng="-5506084" swAng="11115407"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08360" y="4457880"/>
            <a:ext cx="1784520" cy="5000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08360" y="3048120"/>
            <a:ext cx="2095560" cy="4982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36880" y="27068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210440" y="3992400"/>
            <a:ext cx="63360" cy="144720"/>
            <a:chOff x="7210440" y="3992400"/>
            <a:chExt cx="63360" cy="144720"/>
          </a:xfrm>
        </p:grpSpPr>
        <p:sp>
          <p:nvSpPr>
            <p:cNvPr id="779" name=""/>
            <p:cNvSpPr/>
            <p:nvPr/>
          </p:nvSpPr>
          <p:spPr>
            <a:xfrm flipH="1" flipV="1">
              <a:off x="7210440" y="4075200"/>
              <a:ext cx="6336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210440" y="3992400"/>
              <a:ext cx="6336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212120" y="453060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27160" y="4594320"/>
            <a:ext cx="25718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11840" y="4281480"/>
            <a:ext cx="19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assSize &gt;= max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629080" y="3162240"/>
            <a:ext cx="1720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53320" y="291312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00080" y="4437000"/>
            <a:ext cx="1038240" cy="5000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608200" y="3079800"/>
            <a:ext cx="61920" cy="166680"/>
            <a:chOff x="2608200" y="3079800"/>
            <a:chExt cx="61920" cy="166680"/>
          </a:xfrm>
        </p:grpSpPr>
        <p:sp>
          <p:nvSpPr>
            <p:cNvPr id="788" name=""/>
            <p:cNvSpPr/>
            <p:nvPr/>
          </p:nvSpPr>
          <p:spPr>
            <a:xfrm flipH="1" flipV="1">
              <a:off x="2608200" y="3162240"/>
              <a:ext cx="6192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2608200" y="307980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027160" y="4510080"/>
            <a:ext cx="82800" cy="146160"/>
            <a:chOff x="2027160" y="4510080"/>
            <a:chExt cx="82800" cy="146160"/>
          </a:xfrm>
        </p:grpSpPr>
        <p:sp>
          <p:nvSpPr>
            <p:cNvPr id="791" name=""/>
            <p:cNvSpPr/>
            <p:nvPr/>
          </p:nvSpPr>
          <p:spPr>
            <a:xfrm flipH="1" flipV="1">
              <a:off x="2027160" y="459432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027160" y="4510080"/>
              <a:ext cx="8280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587680" y="3390840"/>
            <a:ext cx="2011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29160" y="3411360"/>
            <a:ext cx="14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608200" y="3308400"/>
            <a:ext cx="61920" cy="144360"/>
            <a:chOff x="2608200" y="3308400"/>
            <a:chExt cx="61920" cy="144360"/>
          </a:xfrm>
        </p:grpSpPr>
        <p:sp>
          <p:nvSpPr>
            <p:cNvPr id="796" name=""/>
            <p:cNvSpPr/>
            <p:nvPr/>
          </p:nvSpPr>
          <p:spPr>
            <a:xfrm flipH="1" flipV="1">
              <a:off x="2608200" y="3390840"/>
              <a:ext cx="6192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608200" y="330840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2027160" y="4800600"/>
            <a:ext cx="25718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8640" y="4800600"/>
            <a:ext cx="14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027160" y="4718160"/>
            <a:ext cx="82800" cy="144360"/>
            <a:chOff x="2027160" y="4718160"/>
            <a:chExt cx="82800" cy="144360"/>
          </a:xfrm>
        </p:grpSpPr>
        <p:sp>
          <p:nvSpPr>
            <p:cNvPr id="801" name=""/>
            <p:cNvSpPr/>
            <p:nvPr/>
          </p:nvSpPr>
          <p:spPr>
            <a:xfrm flipH="1" flipV="1">
              <a:off x="2027160" y="480060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027160" y="4718160"/>
              <a:ext cx="8280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013360" y="3556080"/>
            <a:ext cx="1440" cy="871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50440" y="264312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187280" y="2549520"/>
            <a:ext cx="1411560" cy="1413000"/>
          </a:xfrm>
          <a:custGeom>
            <a:avLst/>
            <a:gdLst>
              <a:gd name="textAreaLeft" fmla="*/ 44640 w 1411560"/>
              <a:gd name="textAreaRight" fmla="*/ 1366920 w 1411560"/>
              <a:gd name="textAreaTop" fmla="*/ 44640 h 1413000"/>
              <a:gd name="textAreaBottom" fmla="*/ 1368360 h 1413000"/>
            </a:gdLst>
            <a:ahLst/>
            <a:rect l="textAreaLeft" t="textAreaTop" r="textAreaRight" b="textAreaBottom"/>
            <a:pathLst>
              <a:path w="21600" h="21622">
                <a:moveTo>
                  <a:pt x="2348" y="0"/>
                </a:moveTo>
                <a:arcTo wR="2348" hR="2348" stAng="16200000" swAng="-5400000"/>
                <a:lnTo>
                  <a:pt x="0" y="19274"/>
                </a:lnTo>
                <a:arcTo wR="2348" hR="2348" stAng="10800000" swAng="-5400000"/>
                <a:lnTo>
                  <a:pt x="19252" y="21622"/>
                </a:lnTo>
                <a:arcTo wR="2348" hR="2348" stAng="5400000" swAng="-5400000"/>
                <a:lnTo>
                  <a:pt x="21600" y="2348"/>
                </a:lnTo>
                <a:arcTo wR="2348" hR="2348" stAng="0" swAng="-5400000"/>
                <a:close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81240" y="3017880"/>
            <a:ext cx="122220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70080" y="3006720"/>
            <a:ext cx="1224000" cy="7063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16240" y="30160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99240" y="32241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regi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52880" y="343224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2317680" y="2997360"/>
            <a:ext cx="165240" cy="16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4DF-725A-4515-BB04-A006E49B117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3 Activity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agr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ike a stat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 most transitions are caused by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ts, such as the completion of a compu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ivity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used to understand the flow of work that an object or component perfor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lso be used to visualize the interrelation and interaction between different use cas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most often associated with several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trengths of activity diagrams is the representat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v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C97-8CAB-43E7-A7D4-53C7C00CF8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87960" y="2590920"/>
            <a:ext cx="1119240" cy="830160"/>
          </a:xfrm>
          <a:prstGeom prst="roundRect">
            <a:avLst>
              <a:gd name="adj" fmla="val 2840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77200" y="261792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Verif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91800" y="2830680"/>
            <a:ext cx="89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ourse no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02040" y="3043080"/>
            <a:ext cx="24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797280" y="1219320"/>
            <a:ext cx="2259000" cy="598320"/>
          </a:xfrm>
          <a:prstGeom prst="roundRect">
            <a:avLst>
              <a:gd name="adj" fmla="val 3906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49240" y="12477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ceive cou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31080" y="1460520"/>
            <a:ext cx="164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25800" y="2590920"/>
            <a:ext cx="1544760" cy="579240"/>
          </a:xfrm>
          <a:prstGeom prst="roundRect">
            <a:avLst>
              <a:gd name="adj" fmla="val 4032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61200" y="261792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35400" y="2830680"/>
            <a:ext cx="109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43040" y="3535200"/>
            <a:ext cx="1351080" cy="889200"/>
          </a:xfrm>
          <a:prstGeom prst="roundRect">
            <a:avLst>
              <a:gd name="adj" fmla="val 2659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81960" y="36036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73320" y="3814920"/>
            <a:ext cx="597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32840" y="4027320"/>
            <a:ext cx="927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ermis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64120" y="5195880"/>
            <a:ext cx="1506600" cy="598320"/>
          </a:xfrm>
          <a:prstGeom prst="roundRect">
            <a:avLst>
              <a:gd name="adj" fmla="val 3906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63080" y="522432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38880" y="5437080"/>
            <a:ext cx="95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75280" y="2193840"/>
            <a:ext cx="1504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90840" y="2212920"/>
            <a:ext cx="180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86400" y="2212920"/>
            <a:ext cx="144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6240" y="4800600"/>
            <a:ext cx="160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08600" y="1808280"/>
            <a:ext cx="1440" cy="36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08600" y="4800600"/>
            <a:ext cx="144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67320" y="3430440"/>
            <a:ext cx="1440" cy="137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348080" y="3159000"/>
            <a:ext cx="1800" cy="16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02000" y="3159000"/>
            <a:ext cx="144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4760" y="3873600"/>
            <a:ext cx="444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4414680"/>
            <a:ext cx="144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51360" y="385596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87960" y="341136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067280" y="316080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56600" y="3160800"/>
            <a:ext cx="58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37520" y="4395960"/>
            <a:ext cx="58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51080" y="1460520"/>
            <a:ext cx="61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344760" y="4684680"/>
            <a:ext cx="135000" cy="77760"/>
            <a:chOff x="3344760" y="4684680"/>
            <a:chExt cx="135000" cy="77760"/>
          </a:xfrm>
        </p:grpSpPr>
        <p:sp>
          <p:nvSpPr>
            <p:cNvPr id="850" name=""/>
            <p:cNvSpPr/>
            <p:nvPr/>
          </p:nvSpPr>
          <p:spPr>
            <a:xfrm>
              <a:off x="3344760" y="4684680"/>
              <a:ext cx="572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402000" y="4684680"/>
              <a:ext cx="7776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00520" y="1344600"/>
            <a:ext cx="250560" cy="250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4849920" y="2077920"/>
            <a:ext cx="135000" cy="77760"/>
            <a:chOff x="4849920" y="2077920"/>
            <a:chExt cx="135000" cy="77760"/>
          </a:xfrm>
        </p:grpSpPr>
        <p:sp>
          <p:nvSpPr>
            <p:cNvPr id="854" name=""/>
            <p:cNvSpPr/>
            <p:nvPr/>
          </p:nvSpPr>
          <p:spPr>
            <a:xfrm>
              <a:off x="4849920" y="2077920"/>
              <a:ext cx="586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908600" y="2077920"/>
              <a:ext cx="7632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32160" y="2484360"/>
            <a:ext cx="135000" cy="57240"/>
            <a:chOff x="4232160" y="2484360"/>
            <a:chExt cx="135000" cy="57240"/>
          </a:xfrm>
        </p:grpSpPr>
        <p:sp>
          <p:nvSpPr>
            <p:cNvPr id="857" name=""/>
            <p:cNvSpPr/>
            <p:nvPr/>
          </p:nvSpPr>
          <p:spPr>
            <a:xfrm>
              <a:off x="4232160" y="2484360"/>
              <a:ext cx="586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290840" y="2484360"/>
              <a:ext cx="763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429160" y="2484360"/>
            <a:ext cx="135000" cy="57240"/>
            <a:chOff x="5429160" y="2484360"/>
            <a:chExt cx="135000" cy="57240"/>
          </a:xfrm>
        </p:grpSpPr>
        <p:sp>
          <p:nvSpPr>
            <p:cNvPr id="860" name=""/>
            <p:cNvSpPr/>
            <p:nvPr/>
          </p:nvSpPr>
          <p:spPr>
            <a:xfrm>
              <a:off x="5429160" y="248436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486400" y="2484360"/>
              <a:ext cx="777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692520" y="1384200"/>
            <a:ext cx="76320" cy="134640"/>
            <a:chOff x="3692520" y="1384200"/>
            <a:chExt cx="76320" cy="134640"/>
          </a:xfrm>
        </p:grpSpPr>
        <p:sp>
          <p:nvSpPr>
            <p:cNvPr id="863" name=""/>
            <p:cNvSpPr/>
            <p:nvPr/>
          </p:nvSpPr>
          <p:spPr>
            <a:xfrm flipV="1">
              <a:off x="3692520" y="1460160"/>
              <a:ext cx="763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92520" y="13842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270320" y="4703760"/>
            <a:ext cx="136440" cy="58680"/>
            <a:chOff x="4270320" y="4703760"/>
            <a:chExt cx="136440" cy="58680"/>
          </a:xfrm>
        </p:grpSpPr>
        <p:sp>
          <p:nvSpPr>
            <p:cNvPr id="866" name=""/>
            <p:cNvSpPr/>
            <p:nvPr/>
          </p:nvSpPr>
          <p:spPr>
            <a:xfrm>
              <a:off x="4270320" y="4703760"/>
              <a:ext cx="5868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329000" y="4703760"/>
              <a:ext cx="7776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391000" y="4703760"/>
            <a:ext cx="135000" cy="58680"/>
            <a:chOff x="5391000" y="4703760"/>
            <a:chExt cx="135000" cy="58680"/>
          </a:xfrm>
        </p:grpSpPr>
        <p:sp>
          <p:nvSpPr>
            <p:cNvPr id="869" name=""/>
            <p:cNvSpPr/>
            <p:nvPr/>
          </p:nvSpPr>
          <p:spPr>
            <a:xfrm>
              <a:off x="5391000" y="4703760"/>
              <a:ext cx="5724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448240" y="4703760"/>
              <a:ext cx="7776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4849920" y="5089680"/>
            <a:ext cx="135000" cy="58680"/>
            <a:chOff x="4849920" y="5089680"/>
            <a:chExt cx="135000" cy="58680"/>
          </a:xfrm>
        </p:grpSpPr>
        <p:sp>
          <p:nvSpPr>
            <p:cNvPr id="872" name=""/>
            <p:cNvSpPr/>
            <p:nvPr/>
          </p:nvSpPr>
          <p:spPr>
            <a:xfrm>
              <a:off x="4849920" y="5089680"/>
              <a:ext cx="5868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908600" y="5089680"/>
              <a:ext cx="763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344760" y="3449520"/>
            <a:ext cx="135000" cy="57240"/>
            <a:chOff x="3344760" y="3449520"/>
            <a:chExt cx="135000" cy="57240"/>
          </a:xfrm>
        </p:grpSpPr>
        <p:sp>
          <p:nvSpPr>
            <p:cNvPr id="875" name=""/>
            <p:cNvSpPr/>
            <p:nvPr/>
          </p:nvSpPr>
          <p:spPr>
            <a:xfrm>
              <a:off x="3344760" y="34495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402000" y="3449520"/>
              <a:ext cx="777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276720" y="4791240"/>
            <a:ext cx="250560" cy="250560"/>
            <a:chOff x="3276720" y="4791240"/>
            <a:chExt cx="250560" cy="250560"/>
          </a:xfrm>
        </p:grpSpPr>
        <p:sp>
          <p:nvSpPr>
            <p:cNvPr id="878" name=""/>
            <p:cNvSpPr/>
            <p:nvPr/>
          </p:nvSpPr>
          <p:spPr>
            <a:xfrm>
              <a:off x="3276720" y="4791240"/>
              <a:ext cx="250560" cy="250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25680" y="4819680"/>
              <a:ext cx="173160" cy="174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802040" y="5969160"/>
            <a:ext cx="250920" cy="269640"/>
            <a:chOff x="4802040" y="5969160"/>
            <a:chExt cx="250920" cy="269640"/>
          </a:xfrm>
        </p:grpSpPr>
        <p:sp>
          <p:nvSpPr>
            <p:cNvPr id="881" name=""/>
            <p:cNvSpPr/>
            <p:nvPr/>
          </p:nvSpPr>
          <p:spPr>
            <a:xfrm>
              <a:off x="4802040" y="5969160"/>
              <a:ext cx="250920" cy="269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830840" y="6016680"/>
              <a:ext cx="172800" cy="174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4849920" y="5881680"/>
            <a:ext cx="135000" cy="57240"/>
            <a:chOff x="4849920" y="5881680"/>
            <a:chExt cx="135000" cy="57240"/>
          </a:xfrm>
        </p:grpSpPr>
        <p:sp>
          <p:nvSpPr>
            <p:cNvPr id="884" name=""/>
            <p:cNvSpPr/>
            <p:nvPr/>
          </p:nvSpPr>
          <p:spPr>
            <a:xfrm>
              <a:off x="4849920" y="5881680"/>
              <a:ext cx="586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908600" y="5881680"/>
              <a:ext cx="763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 flipV="1">
            <a:off x="4908600" y="5784840"/>
            <a:ext cx="144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92840" y="3430440"/>
            <a:ext cx="144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83920" y="3411360"/>
            <a:ext cx="58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5834160" y="3719520"/>
            <a:ext cx="135000" cy="57240"/>
            <a:chOff x="5834160" y="3719520"/>
            <a:chExt cx="135000" cy="57240"/>
          </a:xfrm>
        </p:grpSpPr>
        <p:sp>
          <p:nvSpPr>
            <p:cNvPr id="890" name=""/>
            <p:cNvSpPr/>
            <p:nvPr/>
          </p:nvSpPr>
          <p:spPr>
            <a:xfrm>
              <a:off x="5834160" y="3719520"/>
              <a:ext cx="586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892840" y="3719520"/>
              <a:ext cx="763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5767560" y="3807000"/>
            <a:ext cx="250560" cy="250560"/>
            <a:chOff x="5767560" y="3807000"/>
            <a:chExt cx="250560" cy="250560"/>
          </a:xfrm>
        </p:grpSpPr>
        <p:sp>
          <p:nvSpPr>
            <p:cNvPr id="893" name=""/>
            <p:cNvSpPr/>
            <p:nvPr/>
          </p:nvSpPr>
          <p:spPr>
            <a:xfrm>
              <a:off x="5767560" y="3807000"/>
              <a:ext cx="250560" cy="250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15080" y="3854520"/>
              <a:ext cx="174600" cy="174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F14-8784-4754-9809-D55C43A2330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cy is shown using forks, joins and rendezvo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one incoming transition and multiple outgoing trans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ecution splits into two concurrent threa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zv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multiple incoming and multiple outgoing tran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ll the incoming transitions occur  all the outgoing transitions may occu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40D-D743-423B-8514-8EA2D621252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oming transitions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going transi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utgoing transition will be taken when all incoming transitions have occurr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oming transitions must be triggered in separate thre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incoming transition occurs, a wait condition occurs at the join until the other transitions occ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FBA-5E44-40FB-84B9-A4942EDF56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agrams are most often associated with several class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ition of activities among the existing classes can be explicitly shown usin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mla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17A-B3D1-479C-8A37-52D6E55B6F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– an example with swim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262480" y="2938320"/>
            <a:ext cx="973080" cy="722520"/>
          </a:xfrm>
          <a:prstGeom prst="roundRect">
            <a:avLst>
              <a:gd name="adj" fmla="val 28407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88720" y="296388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Ver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32120" y="314784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urse n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09600" y="333360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29280" y="1744560"/>
            <a:ext cx="1708200" cy="522360"/>
          </a:xfrm>
          <a:prstGeom prst="roundRect">
            <a:avLst>
              <a:gd name="adj" fmla="val 39065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567400" y="177012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ceive cou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78760" y="1955880"/>
            <a:ext cx="1409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87600" y="2938320"/>
            <a:ext cx="1339920" cy="505080"/>
          </a:xfrm>
          <a:prstGeom prst="roundRect">
            <a:avLst>
              <a:gd name="adj" fmla="val 40324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41640" y="29638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61920" y="314784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968560" y="3760920"/>
            <a:ext cx="1173240" cy="774720"/>
          </a:xfrm>
          <a:prstGeom prst="roundRect">
            <a:avLst>
              <a:gd name="adj" fmla="val 26597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439800" y="3819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432960" y="40053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23800" y="418932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permis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13520" y="5205240"/>
            <a:ext cx="1306440" cy="522360"/>
          </a:xfrm>
          <a:prstGeom prst="roundRect">
            <a:avLst>
              <a:gd name="adj" fmla="val 39065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647320" y="523080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542560" y="541656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84800" y="2593800"/>
            <a:ext cx="13046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484520" y="2611440"/>
            <a:ext cx="180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22760" y="2611440"/>
            <a:ext cx="180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34040" y="4862520"/>
            <a:ext cx="139032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522760" y="2259000"/>
            <a:ext cx="180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505480" y="4862520"/>
            <a:ext cx="144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05480" y="3668760"/>
            <a:ext cx="1440" cy="1193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535640" y="3433680"/>
            <a:ext cx="1440" cy="1393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714840" y="3433680"/>
            <a:ext cx="1440" cy="319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32440" y="4056120"/>
            <a:ext cx="385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714840" y="4525920"/>
            <a:ext cx="144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3280" y="403848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65000" y="365292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293360" y="343368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245400" y="3433680"/>
            <a:ext cx="50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27760" y="4510080"/>
            <a:ext cx="50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664080" y="4761000"/>
            <a:ext cx="117000" cy="66600"/>
            <a:chOff x="3664080" y="4761000"/>
            <a:chExt cx="117000" cy="66600"/>
          </a:xfrm>
        </p:grpSpPr>
        <p:sp>
          <p:nvSpPr>
            <p:cNvPr id="936" name=""/>
            <p:cNvSpPr/>
            <p:nvPr/>
          </p:nvSpPr>
          <p:spPr>
            <a:xfrm>
              <a:off x="3664080" y="4761000"/>
              <a:ext cx="507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14480" y="4761000"/>
              <a:ext cx="6660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5423040" y="1284120"/>
            <a:ext cx="217440" cy="21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5472000" y="2494080"/>
            <a:ext cx="117720" cy="66600"/>
            <a:chOff x="5472000" y="2494080"/>
            <a:chExt cx="117720" cy="66600"/>
          </a:xfrm>
        </p:grpSpPr>
        <p:sp>
          <p:nvSpPr>
            <p:cNvPr id="940" name=""/>
            <p:cNvSpPr/>
            <p:nvPr/>
          </p:nvSpPr>
          <p:spPr>
            <a:xfrm>
              <a:off x="5472000" y="2494080"/>
              <a:ext cx="507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5522760" y="2494080"/>
              <a:ext cx="669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433760" y="2846520"/>
            <a:ext cx="117720" cy="50760"/>
            <a:chOff x="4433760" y="2846520"/>
            <a:chExt cx="117720" cy="50760"/>
          </a:xfrm>
        </p:grpSpPr>
        <p:sp>
          <p:nvSpPr>
            <p:cNvPr id="943" name=""/>
            <p:cNvSpPr/>
            <p:nvPr/>
          </p:nvSpPr>
          <p:spPr>
            <a:xfrm>
              <a:off x="4433760" y="2846520"/>
              <a:ext cx="507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4484520" y="2846520"/>
              <a:ext cx="66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5472000" y="2846520"/>
            <a:ext cx="117720" cy="50760"/>
            <a:chOff x="5472000" y="2846520"/>
            <a:chExt cx="117720" cy="50760"/>
          </a:xfrm>
        </p:grpSpPr>
        <p:sp>
          <p:nvSpPr>
            <p:cNvPr id="946" name=""/>
            <p:cNvSpPr/>
            <p:nvPr/>
          </p:nvSpPr>
          <p:spPr>
            <a:xfrm>
              <a:off x="5472000" y="2846520"/>
              <a:ext cx="507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5522760" y="2846520"/>
              <a:ext cx="66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467240" y="4778280"/>
            <a:ext cx="117000" cy="49320"/>
            <a:chOff x="4467240" y="4778280"/>
            <a:chExt cx="117000" cy="49320"/>
          </a:xfrm>
        </p:grpSpPr>
        <p:sp>
          <p:nvSpPr>
            <p:cNvPr id="949" name=""/>
            <p:cNvSpPr/>
            <p:nvPr/>
          </p:nvSpPr>
          <p:spPr>
            <a:xfrm>
              <a:off x="4467240" y="4778280"/>
              <a:ext cx="50760" cy="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4517640" y="4778280"/>
              <a:ext cx="66600" cy="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438880" y="4778280"/>
            <a:ext cx="117000" cy="49320"/>
            <a:chOff x="5438880" y="4778280"/>
            <a:chExt cx="117000" cy="49320"/>
          </a:xfrm>
        </p:grpSpPr>
        <p:sp>
          <p:nvSpPr>
            <p:cNvPr id="952" name=""/>
            <p:cNvSpPr/>
            <p:nvPr/>
          </p:nvSpPr>
          <p:spPr>
            <a:xfrm>
              <a:off x="5438880" y="4778280"/>
              <a:ext cx="50760" cy="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5489280" y="4778280"/>
              <a:ext cx="66600" cy="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438880" y="5113440"/>
            <a:ext cx="135000" cy="50760"/>
            <a:chOff x="5438880" y="5113440"/>
            <a:chExt cx="135000" cy="50760"/>
          </a:xfrm>
        </p:grpSpPr>
        <p:sp>
          <p:nvSpPr>
            <p:cNvPr id="955" name=""/>
            <p:cNvSpPr/>
            <p:nvPr/>
          </p:nvSpPr>
          <p:spPr>
            <a:xfrm>
              <a:off x="5438880" y="5113440"/>
              <a:ext cx="6660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505480" y="5113440"/>
              <a:ext cx="6840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664080" y="3686040"/>
            <a:ext cx="117000" cy="50760"/>
            <a:chOff x="3664080" y="3686040"/>
            <a:chExt cx="117000" cy="50760"/>
          </a:xfrm>
        </p:grpSpPr>
        <p:sp>
          <p:nvSpPr>
            <p:cNvPr id="958" name=""/>
            <p:cNvSpPr/>
            <p:nvPr/>
          </p:nvSpPr>
          <p:spPr>
            <a:xfrm>
              <a:off x="3664080" y="3686040"/>
              <a:ext cx="507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3714480" y="3686040"/>
              <a:ext cx="6660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605040" y="4853160"/>
            <a:ext cx="219240" cy="218880"/>
            <a:chOff x="3605040" y="4853160"/>
            <a:chExt cx="219240" cy="218880"/>
          </a:xfrm>
        </p:grpSpPr>
        <p:sp>
          <p:nvSpPr>
            <p:cNvPr id="961" name=""/>
            <p:cNvSpPr/>
            <p:nvPr/>
          </p:nvSpPr>
          <p:spPr>
            <a:xfrm>
              <a:off x="3605040" y="4853160"/>
              <a:ext cx="219240" cy="2188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48240" y="4878360"/>
              <a:ext cx="15048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5430960" y="5878440"/>
            <a:ext cx="217440" cy="235080"/>
            <a:chOff x="5430960" y="5878440"/>
            <a:chExt cx="217440" cy="235080"/>
          </a:xfrm>
        </p:grpSpPr>
        <p:sp>
          <p:nvSpPr>
            <p:cNvPr id="964" name=""/>
            <p:cNvSpPr/>
            <p:nvPr/>
          </p:nvSpPr>
          <p:spPr>
            <a:xfrm>
              <a:off x="5430960" y="5878440"/>
              <a:ext cx="217440" cy="2350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56160" y="5919840"/>
              <a:ext cx="1508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472000" y="5802480"/>
            <a:ext cx="117720" cy="50760"/>
            <a:chOff x="5472000" y="5802480"/>
            <a:chExt cx="117720" cy="50760"/>
          </a:xfrm>
        </p:grpSpPr>
        <p:sp>
          <p:nvSpPr>
            <p:cNvPr id="967" name=""/>
            <p:cNvSpPr/>
            <p:nvPr/>
          </p:nvSpPr>
          <p:spPr>
            <a:xfrm>
              <a:off x="5472000" y="5802480"/>
              <a:ext cx="507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5522760" y="5802480"/>
              <a:ext cx="66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 flipV="1">
            <a:off x="5522760" y="5717880"/>
            <a:ext cx="1800" cy="135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873760" y="3668760"/>
            <a:ext cx="144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58360" y="3652920"/>
            <a:ext cx="50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824440" y="3921120"/>
            <a:ext cx="117720" cy="50760"/>
            <a:chOff x="5824440" y="3921120"/>
            <a:chExt cx="117720" cy="50760"/>
          </a:xfrm>
        </p:grpSpPr>
        <p:sp>
          <p:nvSpPr>
            <p:cNvPr id="973" name=""/>
            <p:cNvSpPr/>
            <p:nvPr/>
          </p:nvSpPr>
          <p:spPr>
            <a:xfrm>
              <a:off x="5824440" y="3921120"/>
              <a:ext cx="4932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873760" y="3921120"/>
              <a:ext cx="6840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5765760" y="3995640"/>
            <a:ext cx="217440" cy="220680"/>
            <a:chOff x="5765760" y="3995640"/>
            <a:chExt cx="217440" cy="220680"/>
          </a:xfrm>
        </p:grpSpPr>
        <p:sp>
          <p:nvSpPr>
            <p:cNvPr id="976" name=""/>
            <p:cNvSpPr/>
            <p:nvPr/>
          </p:nvSpPr>
          <p:spPr>
            <a:xfrm>
              <a:off x="5765760" y="3995640"/>
              <a:ext cx="217440" cy="2206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07160" y="4038480"/>
              <a:ext cx="15084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5522760" y="1417680"/>
            <a:ext cx="180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472000" y="1654200"/>
            <a:ext cx="117720" cy="66600"/>
            <a:chOff x="5472000" y="1654200"/>
            <a:chExt cx="117720" cy="66600"/>
          </a:xfrm>
        </p:grpSpPr>
        <p:sp>
          <p:nvSpPr>
            <p:cNvPr id="980" name=""/>
            <p:cNvSpPr/>
            <p:nvPr/>
          </p:nvSpPr>
          <p:spPr>
            <a:xfrm>
              <a:off x="5472000" y="1654200"/>
              <a:ext cx="507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22760" y="1654200"/>
              <a:ext cx="669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 flipV="1">
            <a:off x="4919760" y="931680"/>
            <a:ext cx="1440" cy="520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2760840" y="931680"/>
            <a:ext cx="1440" cy="520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7095960" y="931680"/>
            <a:ext cx="1800" cy="520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760840" y="932040"/>
            <a:ext cx="4335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664800" y="94788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58320" y="947880"/>
            <a:ext cx="107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760840" y="6138720"/>
            <a:ext cx="4335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5CD-C480-4B1B-89EB-99140808B3D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4 Implementing Classes Based on Interaction and Stat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these diagrams for the parts of your system that you find most co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not for every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, activity and state diagrams help you create a correct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particularly true when behaviour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ross several u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state diagram is useful when different conditions cause instances to respond differently to the same ev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621-AF14-4385-9517-3AF28808A7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found in interactio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s of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as boxes with the class and object identifier underl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tick-person symbol as in use case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as arrows from actor to object, or from object to 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CDD-F75B-4F9E-94CA-FDFBD13A23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= false &amp;&amp; open =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led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= true &amp;&amp; registrationList.size() =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’ (course section is too full, or being taugh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= true &amp;&amp; registrationList.size(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2AD-2A27-4576-86C5-EE6EE1F0F9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’  (accepting registr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noughStudents’ (substate of ‘Open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= true &amp;&amp; registrationList.size() &lt; course.getMinimu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ughStudents’  (substate of ‘Open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= true &amp;&amp; registrationList.size() &gt;= course.getMinimu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2ED-60D1-43A4-A890-B7B63737B0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870280" y="2946240"/>
            <a:ext cx="374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5118120" y="2890800"/>
            <a:ext cx="411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46760" y="2908440"/>
            <a:ext cx="430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82480" y="2665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54400" y="2600280"/>
            <a:ext cx="185400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263760" y="2984400"/>
            <a:ext cx="183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412440" y="268452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417120" y="3040200"/>
            <a:ext cx="135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538960" y="2619360"/>
            <a:ext cx="1198440" cy="5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645520" y="2703600"/>
            <a:ext cx="111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57280" y="2600280"/>
            <a:ext cx="1403280" cy="69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67000" y="2984400"/>
            <a:ext cx="138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87120" y="268452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18920" y="3040200"/>
            <a:ext cx="110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getPrerequi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186680" y="2655720"/>
            <a:ext cx="160956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96040" y="3040200"/>
            <a:ext cx="159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664400" y="2739960"/>
            <a:ext cx="70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348320" y="3097080"/>
            <a:ext cx="11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348320" y="3321000"/>
            <a:ext cx="1344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hasPassedCou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17480" y="3265560"/>
            <a:ext cx="160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DC5-620E-406B-9509-69B671320A3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371600" y="1295280"/>
            <a:ext cx="777240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Course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many-1 abstraction-occurence 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ourse cour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1-many association to class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ist registation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following are present only to deter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initial state is ‘Plann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oolean open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oolean closedOrCancelled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18E-2DDF-4A75-8986-1383C2C0B97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00200" y="1432080"/>
            <a:ext cx="716292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ourseSection(Course cour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course = cour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List = new Linked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cance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‘Cancelled’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registerStudent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AFA-F760-459F-AFAA-E785C5B7112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295280" y="1371600"/>
            <a:ext cx="7239240" cy="30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openRegistra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!closedOrCancel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ust be in ‘Planned’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'OpenNotEnoughStudents'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AD0-ED72-4F7D-974A-084C90E0320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closeRegistratio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'Cancelled' or 'Closed' st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false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 true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registrationList.size() &lt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rse.getMinimum(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registerStudents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‘Cancelled’ st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593-8806-4DFE-9CAE-341E572166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062000"/>
            <a:ext cx="815328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requestToRegister(Student stu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open)  // must be in one of the two 'Open'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interaction specified in the sequence dia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rse prereq = course.getPrerequisi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student.hasPassedCourse(prereq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Indirectly calls addToRegistration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Registration(this, stud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heck for automatic transition to 'Closed'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registrationList.size() &gt;= course.getMaximum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‘Closed’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EF0-6B10-4C44-9A79-9FD4CFD5FC1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219320" y="1143000"/>
            <a:ext cx="739116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ctivity associated with ‘Cancelled’ st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void unregisterStudent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 it = registrationList.itera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(it.hasNex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 r = (Registration)it.nex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.unregisterStud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.remov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alled within this package only,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onstructor of 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addToRegistrationList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 newRegist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List.add(newRegistra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4E5-548A-45AF-8F5D-A915F19A34EF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5 Difficulties and Risks in Modelling Interactions and Behavi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modelling is a difficult skil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large system there are a very large number of possible paths a system can 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to choose the classes to which to allocate each behaviou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skilled developers lead the process, and ensure that all aspects of your models are properly review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iterativel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initial class diagrams, use cases, responsibilities, interaction diagrams and state diagra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go back and verify that all of these are consistent, modifying them as necessa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 different diagrams that capture related, but distinct, information will often highlight probl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ED8-084D-48F4-A274-E94C0ED778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interactio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develop a class diagram and a use case model before starting to create an interaction diagra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kinds of interaction diagr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224-F9CB-412B-80B4-1CE0241CBD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60600" y="2570040"/>
            <a:ext cx="1440" cy="1630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81960" y="2570040"/>
            <a:ext cx="1800" cy="16066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80280" y="3184560"/>
            <a:ext cx="1440" cy="992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46680" y="2570040"/>
            <a:ext cx="1440" cy="1630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1720" y="2971800"/>
            <a:ext cx="21272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3640" y="2712960"/>
            <a:ext cx="11811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68040" y="2712960"/>
            <a:ext cx="178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68920" y="3303720"/>
            <a:ext cx="118116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16440" y="3184560"/>
            <a:ext cx="151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1720" y="3184560"/>
            <a:ext cx="16527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09760" y="2924280"/>
            <a:ext cx="110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67960" y="2027160"/>
            <a:ext cx="80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:Stud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85000" y="1873080"/>
            <a:ext cx="1347840" cy="685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07240" y="2641680"/>
            <a:ext cx="8982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31280" y="2641680"/>
            <a:ext cx="121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: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05640" y="2511360"/>
            <a:ext cx="1301760" cy="685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91040" y="2003400"/>
            <a:ext cx="14173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6560" y="2003400"/>
            <a:ext cx="148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:Course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9440" y="1873080"/>
            <a:ext cx="1820520" cy="685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96040" y="3195720"/>
            <a:ext cx="190440" cy="73332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97640" y="3444840"/>
            <a:ext cx="184320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00120" y="2841480"/>
            <a:ext cx="190440" cy="125424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71240" y="1849320"/>
            <a:ext cx="354240" cy="720720"/>
            <a:chOff x="1371240" y="1849320"/>
            <a:chExt cx="354240" cy="720720"/>
          </a:xfrm>
        </p:grpSpPr>
        <p:sp>
          <p:nvSpPr>
            <p:cNvPr id="76" name=""/>
            <p:cNvSpPr/>
            <p:nvPr/>
          </p:nvSpPr>
          <p:spPr>
            <a:xfrm>
              <a:off x="1454040" y="1849320"/>
              <a:ext cx="212760" cy="238320"/>
            </a:xfrm>
            <a:prstGeom prst="ellipse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60600" y="2075040"/>
              <a:ext cx="1440" cy="377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60600" y="2452680"/>
              <a:ext cx="164880" cy="11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371240" y="2452680"/>
              <a:ext cx="189000" cy="11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371600" y="2216160"/>
              <a:ext cx="189000" cy="475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60600" y="2216160"/>
              <a:ext cx="164880" cy="475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909960" y="2629080"/>
            <a:ext cx="7308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09960" y="2865600"/>
            <a:ext cx="7308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09960" y="4046400"/>
            <a:ext cx="7308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63880" y="2913120"/>
            <a:ext cx="189000" cy="113508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43560" y="4046400"/>
            <a:ext cx="9684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47040" y="4046400"/>
            <a:ext cx="7164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47040" y="3809880"/>
            <a:ext cx="71640" cy="968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7040" y="333864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7040" y="286560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7040" y="310212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7040" y="262908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75760" y="3384720"/>
            <a:ext cx="190440" cy="47448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82480" y="3514680"/>
            <a:ext cx="210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68360" y="3798720"/>
            <a:ext cx="22179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038120" y="3727440"/>
            <a:ext cx="141480" cy="142560"/>
            <a:chOff x="4038120" y="3727440"/>
            <a:chExt cx="141480" cy="142560"/>
          </a:xfrm>
        </p:grpSpPr>
        <p:sp>
          <p:nvSpPr>
            <p:cNvPr id="97" name=""/>
            <p:cNvSpPr/>
            <p:nvPr/>
          </p:nvSpPr>
          <p:spPr>
            <a:xfrm flipH="1" flipV="1">
              <a:off x="4038120" y="3798360"/>
              <a:ext cx="14148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038120" y="3727440"/>
              <a:ext cx="14148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53000" y="3114720"/>
            <a:ext cx="141480" cy="164880"/>
            <a:chOff x="5553000" y="3114720"/>
            <a:chExt cx="141480" cy="164880"/>
          </a:xfrm>
        </p:grpSpPr>
        <p:sp>
          <p:nvSpPr>
            <p:cNvPr id="100" name=""/>
            <p:cNvSpPr/>
            <p:nvPr/>
          </p:nvSpPr>
          <p:spPr>
            <a:xfrm flipV="1">
              <a:off x="5553000" y="3208320"/>
              <a:ext cx="14148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3000" y="3114720"/>
              <a:ext cx="141480" cy="69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86040" y="2901960"/>
            <a:ext cx="142920" cy="141120"/>
            <a:chOff x="3686040" y="2901960"/>
            <a:chExt cx="142920" cy="141120"/>
          </a:xfrm>
        </p:grpSpPr>
        <p:sp>
          <p:nvSpPr>
            <p:cNvPr id="103" name=""/>
            <p:cNvSpPr/>
            <p:nvPr/>
          </p:nvSpPr>
          <p:spPr>
            <a:xfrm flipV="1">
              <a:off x="3686040" y="2971800"/>
              <a:ext cx="14292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86040" y="2901960"/>
              <a:ext cx="142920" cy="69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199360" y="3373560"/>
            <a:ext cx="141480" cy="142560"/>
            <a:chOff x="8199360" y="3373560"/>
            <a:chExt cx="141480" cy="142560"/>
          </a:xfrm>
        </p:grpSpPr>
        <p:sp>
          <p:nvSpPr>
            <p:cNvPr id="106" name=""/>
            <p:cNvSpPr/>
            <p:nvPr/>
          </p:nvSpPr>
          <p:spPr>
            <a:xfrm flipV="1">
              <a:off x="8199360" y="3444480"/>
              <a:ext cx="14148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99360" y="3373560"/>
              <a:ext cx="14148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946240" y="5184720"/>
            <a:ext cx="37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194440" y="5129280"/>
            <a:ext cx="411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23080" y="5146560"/>
            <a:ext cx="430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58800" y="49039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30720" y="4838760"/>
            <a:ext cx="185400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0080" y="5222880"/>
            <a:ext cx="1835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88760" y="492300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93440" y="5278320"/>
            <a:ext cx="135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14920" y="4857840"/>
            <a:ext cx="1198800" cy="5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1840" y="4941720"/>
            <a:ext cx="111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600" y="4838760"/>
            <a:ext cx="1403280" cy="69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2960" y="5222880"/>
            <a:ext cx="138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63440" y="492300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5240" y="5278320"/>
            <a:ext cx="110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getPrerequi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62640" y="4894200"/>
            <a:ext cx="160992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72360" y="5278320"/>
            <a:ext cx="159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4978440"/>
            <a:ext cx="70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24640" y="5335560"/>
            <a:ext cx="11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24280" y="5559480"/>
            <a:ext cx="1344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hasPassedCou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3800" y="5504040"/>
            <a:ext cx="160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B0F-2040-4F12-95DF-E0C2FD6111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quence diagram shows the sequence of messages exchanged by the set of objects performing a certain tas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are arranged horizontally across th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or that initiates the interaction is often shown on the lef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vertical dimension represents ti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rtical line, called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l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ttached to each object or a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feline becomes a broad box, called 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box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ve activ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s represented as an arrow between activation boxes of the sender and receiv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s labelled and can have an argument list and a return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091-8A80-44DC-AF67-D46C8E4997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same example, 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04920" y="2592360"/>
            <a:ext cx="1440" cy="2090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260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93000" y="4354560"/>
            <a:ext cx="1440" cy="311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6572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25200" y="2973240"/>
            <a:ext cx="1467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0200" y="2973240"/>
            <a:ext cx="87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67120" y="2782800"/>
            <a:ext cx="863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59480" y="2782800"/>
            <a:ext cx="125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60920" y="295596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92000" y="4043520"/>
            <a:ext cx="107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2178000"/>
            <a:ext cx="11048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05600" y="2195640"/>
            <a:ext cx="65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tud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4360" y="236844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u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0" y="2082960"/>
            <a:ext cx="98604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54720" y="2178000"/>
            <a:ext cx="6555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877000" y="3551400"/>
            <a:ext cx="950760" cy="501480"/>
            <a:chOff x="5877000" y="3551400"/>
            <a:chExt cx="950760" cy="501480"/>
          </a:xfrm>
        </p:grpSpPr>
        <p:sp>
          <p:nvSpPr>
            <p:cNvPr id="158" name=""/>
            <p:cNvSpPr/>
            <p:nvPr/>
          </p:nvSpPr>
          <p:spPr>
            <a:xfrm>
              <a:off x="5916600" y="3629160"/>
              <a:ext cx="85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:Reg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7000" y="3551400"/>
              <a:ext cx="950760" cy="50148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986280" y="2178000"/>
            <a:ext cx="10364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1880" y="217800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Course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83160" y="2082960"/>
            <a:ext cx="133164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92640" y="4268880"/>
            <a:ext cx="1174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2065320"/>
            <a:ext cx="258840" cy="527040"/>
            <a:chOff x="1066680" y="2065320"/>
            <a:chExt cx="258840" cy="527040"/>
          </a:xfrm>
        </p:grpSpPr>
        <p:sp>
          <p:nvSpPr>
            <p:cNvPr id="165" name=""/>
            <p:cNvSpPr/>
            <p:nvPr/>
          </p:nvSpPr>
          <p:spPr>
            <a:xfrm>
              <a:off x="1127160" y="2065320"/>
              <a:ext cx="155520" cy="1746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04920" y="2230560"/>
              <a:ext cx="1440" cy="27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4920" y="2506680"/>
              <a:ext cx="120600" cy="8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066680" y="2506680"/>
              <a:ext cx="138240" cy="8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066680" y="2333160"/>
              <a:ext cx="138240" cy="34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04920" y="2333520"/>
              <a:ext cx="120600" cy="34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482560" y="21780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0240" y="2082960"/>
            <a:ext cx="62388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53160" y="2697120"/>
            <a:ext cx="125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04920" y="2886120"/>
            <a:ext cx="14158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828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74160" y="2082960"/>
            <a:ext cx="81756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02320" y="2195640"/>
            <a:ext cx="53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435200" y="3664080"/>
            <a:ext cx="14158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9640" y="3473280"/>
            <a:ext cx="114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sPrerequisit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2880" y="364644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6296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6680" y="4389480"/>
            <a:ext cx="15033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3056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0372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7508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4824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2104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9420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6736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872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22200" y="4562640"/>
            <a:ext cx="1416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81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353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6216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90800" y="4535640"/>
            <a:ext cx="522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17640" y="4535640"/>
            <a:ext cx="5256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4448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7168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85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204920" y="4562640"/>
            <a:ext cx="85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1280" y="2635200"/>
            <a:ext cx="5256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1280" y="2808360"/>
            <a:ext cx="5256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38720" y="28083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38720" y="263520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66000" y="4362480"/>
            <a:ext cx="53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66000" y="4535640"/>
            <a:ext cx="53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32520" y="4051440"/>
            <a:ext cx="139680" cy="3124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22880" y="453564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7960" y="2981160"/>
            <a:ext cx="139680" cy="14353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5600" y="263520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75600" y="28083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75600" y="29811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75600" y="31543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75600" y="332568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75600" y="36720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75600" y="41911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75600" y="38448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75600" y="40179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75600" y="436248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7560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40680" y="4241880"/>
            <a:ext cx="139680" cy="12204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77920" y="263520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7920" y="28083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77920" y="29811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77920" y="31543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7920" y="332568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77920" y="34988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77920" y="36720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7920" y="38448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77920" y="40179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77920" y="41911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7920" y="436248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779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35960" y="2635200"/>
            <a:ext cx="7164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35960" y="280836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35960" y="298116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35960" y="3325680"/>
            <a:ext cx="7164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35960" y="367200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35960" y="401796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35960" y="419112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35960" y="4362480"/>
            <a:ext cx="71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360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535960" y="384480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35960" y="3498840"/>
            <a:ext cx="71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35720" y="286848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req :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33200" y="3041640"/>
            <a:ext cx="10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Prerequi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02480" y="3049560"/>
            <a:ext cx="140040" cy="1746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435200" y="3076560"/>
            <a:ext cx="40417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75600" y="34988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9880" y="3111480"/>
            <a:ext cx="123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Prerequisite :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67000" y="328464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PassedCourse(pre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35200" y="3301920"/>
            <a:ext cx="27795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40680" y="3292560"/>
            <a:ext cx="139680" cy="1728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435560" y="4268880"/>
            <a:ext cx="102960" cy="120600"/>
            <a:chOff x="4435560" y="4268880"/>
            <a:chExt cx="102960" cy="120600"/>
          </a:xfrm>
        </p:grpSpPr>
        <p:sp>
          <p:nvSpPr>
            <p:cNvPr id="255" name=""/>
            <p:cNvSpPr/>
            <p:nvPr/>
          </p:nvSpPr>
          <p:spPr>
            <a:xfrm flipH="1" flipV="1">
              <a:off x="4435560" y="433692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435560" y="426888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112160" y="4199040"/>
            <a:ext cx="102960" cy="121680"/>
            <a:chOff x="7112160" y="4199040"/>
            <a:chExt cx="102960" cy="121680"/>
          </a:xfrm>
        </p:grpSpPr>
        <p:sp>
          <p:nvSpPr>
            <p:cNvPr id="258" name=""/>
            <p:cNvSpPr/>
            <p:nvPr/>
          </p:nvSpPr>
          <p:spPr>
            <a:xfrm flipV="1">
              <a:off x="7112160" y="42685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12160" y="419904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112160" y="3249720"/>
            <a:ext cx="102960" cy="102600"/>
            <a:chOff x="7112160" y="3249720"/>
            <a:chExt cx="102960" cy="102600"/>
          </a:xfrm>
        </p:grpSpPr>
        <p:sp>
          <p:nvSpPr>
            <p:cNvPr id="261" name=""/>
            <p:cNvSpPr/>
            <p:nvPr/>
          </p:nvSpPr>
          <p:spPr>
            <a:xfrm flipV="1">
              <a:off x="7112160" y="3301560"/>
              <a:ext cx="102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12160" y="32497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356680" y="3008160"/>
            <a:ext cx="102960" cy="120960"/>
            <a:chOff x="8356680" y="3008160"/>
            <a:chExt cx="102960" cy="120960"/>
          </a:xfrm>
        </p:grpSpPr>
        <p:sp>
          <p:nvSpPr>
            <p:cNvPr id="264" name=""/>
            <p:cNvSpPr/>
            <p:nvPr/>
          </p:nvSpPr>
          <p:spPr>
            <a:xfrm flipV="1">
              <a:off x="8356680" y="307656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56680" y="3008160"/>
              <a:ext cx="102960" cy="51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462920" y="4113360"/>
            <a:ext cx="148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65760" y="3611520"/>
            <a:ext cx="102960" cy="104400"/>
            <a:chOff x="5765760" y="3611520"/>
            <a:chExt cx="102960" cy="104400"/>
          </a:xfrm>
        </p:grpSpPr>
        <p:sp>
          <p:nvSpPr>
            <p:cNvPr id="268" name=""/>
            <p:cNvSpPr/>
            <p:nvPr/>
          </p:nvSpPr>
          <p:spPr>
            <a:xfrm flipV="1">
              <a:off x="5765760" y="36637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5760" y="361152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176720" y="2921040"/>
            <a:ext cx="102960" cy="103320"/>
            <a:chOff x="4176720" y="2921040"/>
            <a:chExt cx="102960" cy="103320"/>
          </a:xfrm>
        </p:grpSpPr>
        <p:sp>
          <p:nvSpPr>
            <p:cNvPr id="271" name=""/>
            <p:cNvSpPr/>
            <p:nvPr/>
          </p:nvSpPr>
          <p:spPr>
            <a:xfrm flipV="1">
              <a:off x="4176720" y="2973240"/>
              <a:ext cx="102960" cy="51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6720" y="292104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H="1">
            <a:off x="4452840" y="4336920"/>
            <a:ext cx="1571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740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8460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46360" y="2911320"/>
            <a:ext cx="139680" cy="16783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76680" y="4321080"/>
            <a:ext cx="102960" cy="120240"/>
            <a:chOff x="2776680" y="4321080"/>
            <a:chExt cx="102960" cy="120240"/>
          </a:xfrm>
        </p:grpSpPr>
        <p:sp>
          <p:nvSpPr>
            <p:cNvPr id="278" name=""/>
            <p:cNvSpPr/>
            <p:nvPr/>
          </p:nvSpPr>
          <p:spPr>
            <a:xfrm flipH="1" flipV="1">
              <a:off x="2776680" y="43891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776680" y="4321080"/>
              <a:ext cx="102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204920" y="4510080"/>
            <a:ext cx="102960" cy="104400"/>
            <a:chOff x="1204920" y="4510080"/>
            <a:chExt cx="102960" cy="104400"/>
          </a:xfrm>
        </p:grpSpPr>
        <p:sp>
          <p:nvSpPr>
            <p:cNvPr id="281" name=""/>
            <p:cNvSpPr/>
            <p:nvPr/>
          </p:nvSpPr>
          <p:spPr>
            <a:xfrm flipH="1" flipV="1">
              <a:off x="1204920" y="456228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04920" y="451008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517840" y="2835360"/>
            <a:ext cx="102960" cy="102600"/>
            <a:chOff x="2517840" y="2835360"/>
            <a:chExt cx="102960" cy="102600"/>
          </a:xfrm>
        </p:grpSpPr>
        <p:sp>
          <p:nvSpPr>
            <p:cNvPr id="284" name=""/>
            <p:cNvSpPr/>
            <p:nvPr/>
          </p:nvSpPr>
          <p:spPr>
            <a:xfrm flipV="1">
              <a:off x="2517840" y="288576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7840" y="2835360"/>
              <a:ext cx="102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778-A8FE-4707-AE8F-23E19464CB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objects is indicated by an asterisk preceding the message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819520" y="5133960"/>
            <a:ext cx="3728880" cy="809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857920" cy="2668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an example with replicate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146-3599-4C68-B45D-756F497280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11-15T19:54:55Z</dcterms:modified>
  <cp:revision>112</cp:revision>
  <dc:subject/>
  <dc:title>SEG 2100 Software Design II</dc:title>
</cp:coreProperties>
</file>