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1.png" ContentType="image/png"/>
  <Override PartName="/ppt/media/image8.pct" ContentType="image/x-pict"/>
  <Override PartName="/ppt/media/image10.png" ContentType="image/png"/>
  <Override PartName="/ppt/media/image7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ct" ContentType="image/x-pict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5E3-EAA1-431F-91E2-E1800D1C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89E-64A9-4322-8F68-E5CB7F0E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CA1-8044-45B9-96F9-09709498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494-8003-4A05-A18E-4618229D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A34-AF49-4158-AF5C-CE7923B8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6B4-D04E-47F6-A099-046B0A87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EC7-611E-43C3-B059-EB59CD4A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BAB-D9A4-4835-ADD3-58674060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D8A-B4FC-4A5D-B6CF-1AE46540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BD8-BF29-48E4-BD79-AFD7739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917-28C8-47A4-871E-05EACC71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6BA-D00E-451D-851B-CB7FBFE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BC1E-0D04-4AAC-A8DF-DB81BA9A0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7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cusing on Users and Their Ta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mak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actions explicit or to handl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reating separate use case extensions, the description of the basic use case remains sim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 case extension must list all the steps from the beginning of the use case to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the handling of the unusual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A7B-19EE-4D10-8FC7-2BA0098FB5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like superclasses in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eneralized use case represent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simil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specializations provides details of the similar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971-D893-4427-AFC2-38FD086A8D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one to expres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several different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included in other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very different use cases can share sequence of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 you to avoid repeating details in multiple u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he performing of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-level tas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a lower-level goal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E81-7D8E-43CC-AE0F-AC764B062B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generalization, extension and i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46748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34E-22C6-4A82-89B7-2D84637661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75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description of a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12840" y="1442880"/>
          <a:ext cx="739764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442880"/>
                    <a:ext cx="73976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FA6-B5DE-4DE5-8BA2-D9155AFDF5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54080" y="1442880"/>
          <a:ext cx="809640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442880"/>
                    <a:ext cx="80964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968-9910-47A5-9485-2C9128A7AD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658880" y="1760400"/>
          <a:ext cx="7491600" cy="44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760400"/>
                    <a:ext cx="749160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259-5875-4950-AEB9-14C9714B31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703520" y="1717560"/>
          <a:ext cx="7605720" cy="50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3520" y="1717560"/>
                    <a:ext cx="760572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71B-F1C4-4504-B033-288092FDAE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290600" y="1447920"/>
          <a:ext cx="757080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1447920"/>
                    <a:ext cx="75708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64C-525E-4479-B3BD-66F1837505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deling processes: Choosing use cases on which to fo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one use case (or a very small number) can be identified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system can be built around this particular us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other reasons for focusing on particular use cas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use cases will represent a hi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for some reason their implementation is problem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use cases will have high political or commercial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967-F572-4BA1-A8E5-F521AB8551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1 User Centred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development should focus on the needs of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your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software based on an understanding of the users’ ta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users are involved in decision making pro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user interface following guidelines for good 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users work with and give their feedback about prototypes, on-line help and draft user manu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797-8325-405A-9220-68F116171A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enefits of basing software development on use c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help to defin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often use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evelopment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used to both develop and validate th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form the basis for the definition of test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used to structure user manu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E64-A417-467A-AFDB-7B7AABA5D3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 cases must not be seen as a panac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use cases themselves must be vali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requirements validation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are some aspects of software that are not covered by use case analys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utions may not be 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1C9-2CB5-4B29-903C-625BDE5D99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4 Basics of User Interface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design should be done in conjunction with other software engineering activ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use case analysis to help define the tasks that the UI must help the user perfo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I prototyping to address the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prototyping will enable you to finalize the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AA6-7F75-4EE9-890E-303476994F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vs. Ut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system provide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w capabiliti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llow the user to achieve their goal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system allow the user to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and to 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aw capabilitie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utility and usability are essenti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ust be measured in the context of particular types of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CED-4B59-4774-A95A-986376242A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s of us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 can be divided into separate aspect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with which a new user can become proficient with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fast an expert user can do thei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t to which it prevents the user from making errors, detects errors, and helps to correct err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ilit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t to which user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EC9-1255-4C3C-9845-BCF97269F2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earning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206360"/>
          <a:ext cx="8839080" cy="465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06360"/>
                    <a:ext cx="8839080" cy="46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BAE-4C80-452D-A2E4-24AAF2A763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basic terminology of user interface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lo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pecific window with which a user can interact, but which is not the main UI wind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dget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 components of a user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ord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t of operations that the user can do at any given point in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t any stage in the dialog, the system is displaying certain information in certain widgets, and has a certain afford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ituation in which the UI restricts what the user can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 dialo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dialog in which the system is in a very restrictiv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 from the syst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ever the user does something, is called feedba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techniqu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ays of encoding information so as to communicate it to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605-585C-4957-847F-497F26778A2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5 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Do not rely only on usability guidelines –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test with user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 guidelines have exceptions; you can only be confident that a UI is good if you test it successfully with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Base UI designs on users’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use case analysis to structure the 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 Ensure that the sequences of actions to achieve a task are a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possib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amount of reading and manipulation the user has to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e user does not have to navigate anywhere to do subsequent steps of a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B3D-0D6B-4314-B080-247DA74709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 Ensure that the user always knows what he or she can and should do nex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user can s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mmands are avail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re no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important commands stand o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: Provide good feedback including effective error messa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 users of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operations and of thei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y navig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omething goes wrong explain the situation in adequate detail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 user to resolve the 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ED0-96A6-437A-A638-0E909A3D17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: Ensure that the user can always get out, go back or undo an a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all operations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it is easy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e b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where the user came f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 Ensure that response time is adequ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are very sensitive to slow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ompare your system t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response time less than a second for most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n users of longer delays and inform them of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059-002C-4536-83A7-C04107EAEB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focusing on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training and suppor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time to learn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efficiency of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sts by only developing features that are nee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sts associated with changing the system l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prioritizing of work for iterative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attractiveness of the system, so users will be more willing to buy and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C42-E6B4-4E27-B94E-2715E73319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 Us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able encoding techniqu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encoding techniques with c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abels to ensure all encoding techniques are fully understood by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 Ensure that the UI’s appearance i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luttere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displaying too much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the information eff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FE0-FC32-4EB7-9674-84856A4DA2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 Consider the needs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group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s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e people from differ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ople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bilit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system is usable by bo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n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 Provide all necessary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help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help with the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help is acc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86B-BDEE-4B02-AD38-F8F932E86D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imilar layouts and graphic designs throughout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look-and-feel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mimicking othe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DD7-59CC-4D07-B6D5-E8A48F6CE6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48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cod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and fo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nd abstract graph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and bord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ken wo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ou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s and vide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11E-572F-4012-9604-F45FAF2725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(bad 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58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85300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E33-DFD7-48A2-A9B2-09C71D67A36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better 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7212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72120" y="3535200"/>
            <a:ext cx="2911680" cy="3322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819520" y="76320"/>
            <a:ext cx="293832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819520" y="3522600"/>
            <a:ext cx="2917800" cy="33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E00-A80F-4EAD-ACB9-DAC623497B1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6 Evaluating User Interf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uristic eval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ome use cases to evalu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or each window, page or dialog that appears during the execution of the 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it in detail to look for possible usability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en you discover a usability defect write down the following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hort description of the def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ideas for how the defect might be fix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B2E-13ED-4775-A9D7-BA3C0FEA36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ing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by observation of us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users corresponding to each of the most important a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most important use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sufficient instructions about each of the scen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evaluation sessions with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purpose of the eval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ably videotape each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 with the users as they are performing the ta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users finish all the tasks, de-brief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note of any difficulties experienced by the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te recommended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157-6C53-4C75-9BA1-65BCE161BC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ing a Simple GUI in 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tract Window Toolkit (AW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basic building blocks of any graphical inte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tt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Fiel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b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rollB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ain the components constituting the G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alo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Manag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fine the way components are laid out in a contain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idLayo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der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626-F03E-4499-BE53-C99BDDF6DF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1219320"/>
            <a:ext cx="6095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ClientGU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 Frame implements Ch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closeB = new Button("Clos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openB = new Button("Ope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sendB = new Button("Send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quitB = new Button("Qu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portTxF = new TextField("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hostTxF = new TextField("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message = new TextFiel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portLB =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Label("Port: ", Label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hostLB =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Label("Host: ", Label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messageLB =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Label("Message: ", Label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ist messageList =  new 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9113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E28-3C5A-4250-B8C9-594E073B1A5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2 Characteristics of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s must develop an understanding of the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using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patterns of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of the domain and of compu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logical traits and emotional feel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83D-193C-4694-BDC0-A56E249B74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914400"/>
            <a:ext cx="6705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ientGUI(String host, int p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"Simple Cha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300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Visible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BorderLayout(5,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 bottom = new Pane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"Center", messageLi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"South", bottom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setLayout(new GridLayout(5,2,5,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hostL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hostTx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portL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portTx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messageL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mess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open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send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close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quit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11E-E3C8-4D7C-A93D-319019B3FEA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1066680"/>
            <a:ext cx="74674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B.addActionListener(new ActionListene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.sendToServer(message.getTex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 (Exception 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List.add(ex.toString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List.makeVisible(messageList.getItemCount()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List.setBackground(Color.yell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1D2-2E09-4B52-8E58-04FF03E233B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8 Difficulties and Risks in Use Cas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ling and UI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differ wid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for differences among users when you design the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t for international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perform usability studies, try the system with many different types of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implementation technology changes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ck to simpler UI frameworks widely used by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fancy and unusual UI designs involving specialized controls that will be hard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C7B-F91C-4583-926E-CC8293116B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Use Case Modelling and UI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design and implementation can often take the majority of work in an appli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UI design an integral part of the software engineer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cate time for many iterations of prototyping and evalu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often underestimate the weaknesses of a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all software engineers have training in UI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test with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he UIs of other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E00-DE74-402D-A7BA-85978B2CB56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3 Developing Use-Case Models of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ypical sequence of actions that a user performs in order to complete a given tas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 analys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o model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point of view of how users interact with thi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rying to achieve their objec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s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ptional description or diagram indicating how they are re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E04-35E3-4201-81F6-2F70FD0DE1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a use case should cover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equence of ste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beginning of a task until the en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 case should describ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’s inte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syste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omputations the system perfo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 case should be written so as to be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possible from any particular user interface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 case should only include actions in which the actor interacts with the 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D4F-10CF-46AB-8DA4-D097488FEC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enar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use ca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presse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ccurr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use c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fic acto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 specific ti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pecific dat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1EE-5036-4F2B-A102-5B029D7861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scribe a single use 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N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ive a short, descriptive name to the use ca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Acto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st the actors who can perform this use cas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oa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plain what the actor or actors are trying to achie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re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ate of the system before the use ca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Descrip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ive a short informal descrip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Related use c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Ste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scribe each step using a 2-column forma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Post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ate of the system in following comple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917-9464-450F-9CEE-AEC522B436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 cas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209600"/>
            <a:ext cx="63248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37A-F6A9-4C9E-9480-797B4F5F4F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11-07T04:42:43Z</dcterms:modified>
  <cp:revision>88</cp:revision>
  <dc:subject/>
  <dc:title>SEG 2100 Software Design II</dc:title>
</cp:coreProperties>
</file>