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DC1-BD5C-42CF-A4E1-D809404D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81C-45E1-494C-97B1-3DF5E741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F45-285E-4EDA-AF78-A150FFB9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FF4-B104-42AF-9772-109115B8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4D0-1A55-478F-BBED-A4940336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6BD-2E02-4328-8E55-D721CE1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3AD-A680-4499-B46C-9AFBFCAE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50B-78CE-4C5F-A195-D28DF35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9B3-EEDE-4E78-84CB-BFFE123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778-F5FD-4A4E-A8C5-2F0FEA7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43D-57F3-43F8-BDAC-562DFBE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49D-4452-497E-9710-2918CA8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EE32-1614-47C3-90D9-92809C59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6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ing Design Pattern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45320" y="4697280"/>
            <a:ext cx="1476360" cy="536760"/>
            <a:chOff x="7645320" y="4697280"/>
            <a:chExt cx="1476360" cy="536760"/>
          </a:xfrm>
        </p:grpSpPr>
        <p:sp>
          <p:nvSpPr>
            <p:cNvPr id="215" name=""/>
            <p:cNvSpPr/>
            <p:nvPr/>
          </p:nvSpPr>
          <p:spPr>
            <a:xfrm>
              <a:off x="7645320" y="4697280"/>
              <a:ext cx="14763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0120" y="4780080"/>
              <a:ext cx="140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ock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02280" y="4697280"/>
            <a:ext cx="1532160" cy="536760"/>
            <a:chOff x="6002280" y="4697280"/>
            <a:chExt cx="1532160" cy="536760"/>
          </a:xfrm>
        </p:grpSpPr>
        <p:sp>
          <p:nvSpPr>
            <p:cNvPr id="218" name=""/>
            <p:cNvSpPr/>
            <p:nvPr/>
          </p:nvSpPr>
          <p:spPr>
            <a:xfrm>
              <a:off x="6002280" y="4697280"/>
              <a:ext cx="153216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66720" y="4780080"/>
              <a:ext cx="146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Blues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027320" y="4697280"/>
            <a:ext cx="1863720" cy="536760"/>
            <a:chOff x="4027320" y="4697280"/>
            <a:chExt cx="1863720" cy="536760"/>
          </a:xfrm>
        </p:grpSpPr>
        <p:sp>
          <p:nvSpPr>
            <p:cNvPr id="221" name=""/>
            <p:cNvSpPr/>
            <p:nvPr/>
          </p:nvSpPr>
          <p:spPr>
            <a:xfrm>
              <a:off x="4027320" y="4697280"/>
              <a:ext cx="18637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0320" y="4780080"/>
              <a:ext cx="177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Classical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514600" y="4697280"/>
            <a:ext cx="1419120" cy="536760"/>
            <a:chOff x="2514600" y="4697280"/>
            <a:chExt cx="1419120" cy="536760"/>
          </a:xfrm>
        </p:grpSpPr>
        <p:sp>
          <p:nvSpPr>
            <p:cNvPr id="224" name=""/>
            <p:cNvSpPr/>
            <p:nvPr/>
          </p:nvSpPr>
          <p:spPr>
            <a:xfrm>
              <a:off x="2514600" y="4697280"/>
              <a:ext cx="141912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6520" y="4780080"/>
              <a:ext cx="134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Jazz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000080" y="4716360"/>
            <a:ext cx="1144800" cy="536760"/>
            <a:chOff x="1000080" y="4716360"/>
            <a:chExt cx="1144800" cy="536760"/>
          </a:xfrm>
        </p:grpSpPr>
        <p:sp>
          <p:nvSpPr>
            <p:cNvPr id="227" name=""/>
            <p:cNvSpPr/>
            <p:nvPr/>
          </p:nvSpPr>
          <p:spPr>
            <a:xfrm>
              <a:off x="1000080" y="4716360"/>
              <a:ext cx="1144800" cy="536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4160" y="4799160"/>
              <a:ext cx="105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MusicVide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757520" y="3532320"/>
            <a:ext cx="1457280" cy="534960"/>
            <a:chOff x="1757520" y="3532320"/>
            <a:chExt cx="1457280" cy="534960"/>
          </a:xfrm>
        </p:grpSpPr>
        <p:sp>
          <p:nvSpPr>
            <p:cNvPr id="230" name=""/>
            <p:cNvSpPr/>
            <p:nvPr/>
          </p:nvSpPr>
          <p:spPr>
            <a:xfrm>
              <a:off x="1757520" y="3532320"/>
              <a:ext cx="145728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0160" y="361476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VideoReco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264280" y="3532320"/>
            <a:ext cx="1545120" cy="534960"/>
            <a:chOff x="5264280" y="3532320"/>
            <a:chExt cx="1545120" cy="534960"/>
          </a:xfrm>
        </p:grpSpPr>
        <p:sp>
          <p:nvSpPr>
            <p:cNvPr id="233" name=""/>
            <p:cNvSpPr/>
            <p:nvPr/>
          </p:nvSpPr>
          <p:spPr>
            <a:xfrm>
              <a:off x="5264280" y="3532320"/>
              <a:ext cx="153180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28720" y="3614760"/>
              <a:ext cx="148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Audio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25560" y="3244680"/>
            <a:ext cx="288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25560" y="32446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787920" y="2346480"/>
            <a:ext cx="1089000" cy="536400"/>
            <a:chOff x="3787920" y="2346480"/>
            <a:chExt cx="1089000" cy="536400"/>
          </a:xfrm>
        </p:grpSpPr>
        <p:sp>
          <p:nvSpPr>
            <p:cNvPr id="238" name=""/>
            <p:cNvSpPr/>
            <p:nvPr/>
          </p:nvSpPr>
          <p:spPr>
            <a:xfrm>
              <a:off x="3787920" y="2346480"/>
              <a:ext cx="10890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26160" y="2428920"/>
              <a:ext cx="9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500" spc="-1" strike="noStrike">
                  <a:solidFill>
                    <a:srgbClr val="000000"/>
                  </a:solidFill>
                  <a:latin typeface="Arial"/>
                </a:rPr>
                <a:t>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313160" y="2984400"/>
            <a:ext cx="1800" cy="2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5560" y="287352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5560" y="287352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9120" y="4429080"/>
            <a:ext cx="3987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75280" y="417024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7680" y="405936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7680" y="4059360"/>
            <a:ext cx="276120" cy="22212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93" y="0"/>
                </a:moveTo>
                <a:lnTo>
                  <a:pt x="174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3040" y="4170240"/>
            <a:ext cx="1440" cy="53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65440" y="4076640"/>
            <a:ext cx="277560" cy="22248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65440" y="4076640"/>
            <a:ext cx="277560" cy="222480"/>
          </a:xfrm>
          <a:custGeom>
            <a:avLst/>
            <a:gdLst/>
            <a:ahLst/>
            <a:rect l="l" t="t" r="r" b="b"/>
            <a:pathLst>
              <a:path w="175" h="140">
                <a:moveTo>
                  <a:pt x="93" y="0"/>
                </a:moveTo>
                <a:lnTo>
                  <a:pt x="175" y="140"/>
                </a:lnTo>
                <a:lnTo>
                  <a:pt x="0" y="140"/>
                </a:lnTo>
                <a:lnTo>
                  <a:pt x="93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05560" y="32446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46840" y="44290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3080" y="44290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78440" y="4429080"/>
            <a:ext cx="144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4429080"/>
            <a:ext cx="1800" cy="25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087-BAEB-4272-AEA1-4C7C8C7A9D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4 The Player-R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articular set of properties associated with an object in a particular contex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ma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ferent roles in different contex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best model players and roles so that a player can change roles or possess multiple ro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7C3-67E1-404D-96EE-8B03A77DBD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sirable to improve encapsulation by capturing the information associated with each separate role in a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nt to avoid multiple inheri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allow an instance to change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27480" y="3962520"/>
            <a:ext cx="146664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7000" y="4073400"/>
            <a:ext cx="1047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Player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07080" y="4322880"/>
            <a:ext cx="671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99360" y="4695840"/>
            <a:ext cx="1440" cy="49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00640" y="4695840"/>
            <a:ext cx="373320" cy="298440"/>
          </a:xfrm>
          <a:custGeom>
            <a:avLst/>
            <a:gdLst/>
            <a:ahLst/>
            <a:rect l="l" t="t" r="r" b="b"/>
            <a:pathLst>
              <a:path w="235" h="188">
                <a:moveTo>
                  <a:pt x="125" y="0"/>
                </a:moveTo>
                <a:lnTo>
                  <a:pt x="235" y="188"/>
                </a:lnTo>
                <a:lnTo>
                  <a:pt x="0" y="188"/>
                </a:lnTo>
                <a:lnTo>
                  <a:pt x="125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079600" y="5194440"/>
            <a:ext cx="1319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996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70360" y="5413320"/>
            <a:ext cx="146700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54184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Role1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99360" y="5194440"/>
            <a:ext cx="1466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66000" y="5194440"/>
            <a:ext cx="1800" cy="223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35880" y="5430960"/>
            <a:ext cx="146664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94720" y="5541840"/>
            <a:ext cx="9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Role2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91080" y="3962520"/>
            <a:ext cx="1989360" cy="72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75320" y="4073400"/>
            <a:ext cx="187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«AbstractRole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9DB-3824-4468-8C3A-0C1491ABED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2486160"/>
            <a:ext cx="716256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A9C-5221-4E65-9367-7E69BEDEA1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066680" y="2665440"/>
            <a:ext cx="800100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777-5E30-478F-A2AD-7411990D23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r-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all the properties and behaviours into a single «Player» class and not have «Role» classe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roles as subclasses of the «Player»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57C-3959-4BA7-B13D-4CAFDA61DC8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5 The Sing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common to find classes for which only one instance should ex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t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ensure that it is never possible to create more than one instance of a singleton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public constructor cannot guarantee that no more than one instance will be creat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gleton instance must also be accessible to all classes that requir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EDC-46B1-4B03-850C-BB863D66E8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65320" y="3487680"/>
            <a:ext cx="1573200" cy="1146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75040" y="380520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75040" y="4111560"/>
            <a:ext cx="1554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89040" y="3564000"/>
            <a:ext cx="81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7880" y="3889440"/>
            <a:ext cx="86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6080" y="41972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pany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7880" y="440208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41800" y="3701880"/>
            <a:ext cx="271620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32440" y="3692520"/>
            <a:ext cx="27176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5520" y="3735360"/>
            <a:ext cx="162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if (theCompany==nul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5880" y="3941640"/>
            <a:ext cx="23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theCompany= new Compan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8320" y="4146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03280" y="4351320"/>
            <a:ext cx="145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eneva"/>
              </a:rPr>
              <a:t>return theCompan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703920" y="368460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84480" y="2103480"/>
            <a:ext cx="1077840" cy="941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3840" y="2421000"/>
            <a:ext cx="1059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93840" y="2727360"/>
            <a:ext cx="1059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720" y="2179800"/>
            <a:ext cx="100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6680" y="250524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26680" y="2813040"/>
            <a:ext cx="79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get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601-5313-46A8-A0A2-EDBE1DF9C0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6 The Ob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association is created between two classes, the code for the classes becomes insepar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you want to reuse one class, then you also have to reuse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reduce the interconnection between classes, especially between classes that belong to different modules or sub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aximize the flexibility of the system to the greatest extent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3CB-36CA-413B-8E2A-17972DBE67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6172200" cy="49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425-0B52-466D-91D8-D818EB451E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ntroduction to Patte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urring aspects of design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outline of a reusable solution to a general problem encountered in a particular 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m have been systematically documented for all software developers to 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pattern sh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s genera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a solution that has been proven to effectively solve the problem in the indicated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ing patterns is an effective way to learn from the experience of other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429-158C-42C5-8B59-B8EF777CD2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an observer directly to an observable so that they both have references to each 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observer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bserv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024-1A76-41D8-AD8D-C288F21EF5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7 The Del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designing a method in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realize that another class has a method which provides the required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because the isa rule does not app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you most effectively make use of a method that already exists in the other cla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minimize development cost by reusing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835-E34E-4162-A2E2-4E5CE26744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20960" y="378936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7640" y="3789360"/>
            <a:ext cx="13287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00440" y="37051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00440" y="3705120"/>
            <a:ext cx="166680" cy="1666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0" y="53"/>
                </a:moveTo>
                <a:lnTo>
                  <a:pt x="52" y="0"/>
                </a:ln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10120" y="3726000"/>
            <a:ext cx="20628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109760" y="37893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13080" y="3519360"/>
            <a:ext cx="208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10120" y="3726000"/>
            <a:ext cx="206280" cy="633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09760" y="3789360"/>
            <a:ext cx="206280" cy="619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25760" y="3465360"/>
            <a:ext cx="1229040" cy="2267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6920" y="3892680"/>
            <a:ext cx="1206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22600" y="356076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01800" y="395460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01800" y="420372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01800" y="445284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Af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01440" y="470232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Fir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01440" y="495144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moveLa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43560" y="520056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02520" y="545148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4360" y="3506760"/>
            <a:ext cx="1227240" cy="1270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95520" y="3933720"/>
            <a:ext cx="1204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99080" y="360216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2880" y="399564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99280" y="42451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61120" y="4494240"/>
            <a:ext cx="68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25760" y="2031840"/>
            <a:ext cx="124956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01000" y="2127240"/>
            <a:ext cx="107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e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84360" y="2031840"/>
            <a:ext cx="178920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65880" y="2127240"/>
            <a:ext cx="116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Delegator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360240" y="2313000"/>
            <a:ext cx="955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4920" y="199080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79720" y="1960560"/>
            <a:ext cx="2172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ingMethod(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73840" y="216864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65720" y="2376360"/>
            <a:ext cx="274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delegate.method(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94720" y="26049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118360" y="19810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595520" y="2479680"/>
            <a:ext cx="174456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6920" y="2479680"/>
            <a:ext cx="12272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59680" y="2541600"/>
            <a:ext cx="152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legating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47520" y="2541600"/>
            <a:ext cx="63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84920" y="3444840"/>
            <a:ext cx="2411280" cy="9572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4920" y="34146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push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73840" y="362268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8040" y="3830760"/>
            <a:ext cx="182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list.addFirst(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4720" y="405936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118360" y="3435480"/>
            <a:ext cx="166680" cy="1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82A-193B-42A0-8DC7-AFC0FD8A16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137160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88840" y="2451240"/>
            <a:ext cx="82296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AE5-3287-4814-8A7C-FB3F933EFB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patter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use generalization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ethod that is to be re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creating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«Delegator» that does nothing other than call a method in the «Del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aving many different methods in the «Delegator» call the delegate’s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non-neighboring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pecificFlight.regularFlight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getRegularFlight().flightNumbe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BF8-5734-4015-BB76-3D1248881A6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8 The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building an inheritance hierarchy and want to incorporate it into an existing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ed class is also often already part of its own inheritance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tain the power of polymorphism when reusing a class whos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sam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other methods in the hierarc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do not have access to multiple inheritance or you do not want to us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1E3-8788-4C11-9D6B-00C29B1525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447920" y="2035080"/>
            <a:ext cx="7471800" cy="3070080"/>
            <a:chOff x="1447920" y="2035080"/>
            <a:chExt cx="7471800" cy="3070080"/>
          </a:xfrm>
        </p:grpSpPr>
        <p:sp>
          <p:nvSpPr>
            <p:cNvPr id="375" name=""/>
            <p:cNvSpPr/>
            <p:nvPr/>
          </p:nvSpPr>
          <p:spPr>
            <a:xfrm>
              <a:off x="6059520" y="4078080"/>
              <a:ext cx="2109240" cy="1027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72120" y="4646520"/>
              <a:ext cx="208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06560" y="4201920"/>
              <a:ext cx="1413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Adaptee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91000" y="4728960"/>
              <a:ext cx="177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apted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4849560" y="4479840"/>
              <a:ext cx="119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05440" y="4119480"/>
              <a:ext cx="28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200" y="4397400"/>
              <a:ext cx="277560" cy="8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766840" y="4479840"/>
              <a:ext cx="27756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2493720"/>
              <a:ext cx="2554200" cy="1027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60520" y="3063600"/>
              <a:ext cx="2528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4240" y="2619360"/>
              <a:ext cx="1802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Superclass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78680" y="3146400"/>
              <a:ext cx="222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lymorphic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00360" y="3535200"/>
              <a:ext cx="108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78240" y="3535200"/>
              <a:ext cx="415440" cy="33336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8240" y="3535200"/>
              <a:ext cx="415440" cy="33336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97160" y="4078080"/>
              <a:ext cx="1638000" cy="8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50160" y="4201920"/>
              <a:ext cx="136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«Adapter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82880" y="370188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82880" y="37861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2880" y="3813120"/>
              <a:ext cx="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38970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82880" y="392400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82880" y="400824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82880" y="4035240"/>
              <a:ext cx="1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5160" y="2049480"/>
              <a:ext cx="4444560" cy="163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88840" y="2062080"/>
              <a:ext cx="2896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polymorphicMethod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22200" y="261756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22200" y="2923920"/>
              <a:ext cx="396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adaptedMethod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8683560" y="2035080"/>
              <a:ext cx="221760" cy="2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349160" y="23130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9160" y="314640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C86-2764-42CC-BD6E-C87CEF297E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752480" y="2057400"/>
            <a:ext cx="7011000" cy="3325320"/>
            <a:chOff x="1752480" y="2057400"/>
            <a:chExt cx="7011000" cy="3325320"/>
          </a:xfrm>
        </p:grpSpPr>
        <p:sp>
          <p:nvSpPr>
            <p:cNvPr id="409" name=""/>
            <p:cNvSpPr/>
            <p:nvPr/>
          </p:nvSpPr>
          <p:spPr>
            <a:xfrm>
              <a:off x="6356160" y="4280040"/>
              <a:ext cx="1587240" cy="1102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9480" y="4890240"/>
              <a:ext cx="1560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76040" y="4412880"/>
              <a:ext cx="142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ims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80440" y="4978800"/>
              <a:ext cx="131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c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41720" y="3787560"/>
              <a:ext cx="687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29680" y="3787560"/>
              <a:ext cx="108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1720" y="3369600"/>
              <a:ext cx="1080" cy="4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30040" y="3369600"/>
              <a:ext cx="396000" cy="357840"/>
            </a:xfrm>
            <a:custGeom>
              <a:avLst/>
              <a:gdLst/>
              <a:ahLst/>
              <a:rect l="l" t="t" r="r" b="b"/>
              <a:pathLst>
                <a:path w="262" h="210">
                  <a:moveTo>
                    <a:pt x="140" y="0"/>
                  </a:moveTo>
                  <a:lnTo>
                    <a:pt x="262" y="210"/>
                  </a:lnTo>
                  <a:lnTo>
                    <a:pt x="0" y="21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1320" y="2251440"/>
              <a:ext cx="1877760" cy="11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95000" y="2861640"/>
              <a:ext cx="1851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22360" y="2413080"/>
              <a:ext cx="1800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hreeDSha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05600" y="2950200"/>
              <a:ext cx="82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531880" y="3787560"/>
              <a:ext cx="609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32240" y="3787560"/>
              <a:ext cx="1440" cy="44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5248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83680" y="4384080"/>
              <a:ext cx="947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phe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04320" y="4249440"/>
              <a:ext cx="156024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42080" y="4384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or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78240" y="4682520"/>
              <a:ext cx="1164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77880" y="4591800"/>
              <a:ext cx="26460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077520" y="4682520"/>
              <a:ext cx="26460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46840" y="38469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46840" y="393552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46840" y="396648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46840" y="405504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6840" y="4085640"/>
              <a:ext cx="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46840" y="41745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46840" y="4205160"/>
              <a:ext cx="1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26960" y="2072160"/>
              <a:ext cx="3835800" cy="1758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39560" y="208620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volume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57440" y="26827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tur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7440" y="3009960"/>
              <a:ext cx="350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adaptee.calcVolume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8539200" y="2057400"/>
              <a:ext cx="2116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807800" y="2353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{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07800" y="324864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628-3566-40AF-87EF-C69391EDC8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9 The Faç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an application contains several complex packa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mer working with such packages has to manipulate many different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simplify the view that programmers have of a complex packag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for a programmer to understand and use an entire sub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everal different application classes call methods of the complex package, then any modifications made to the package will necessitate a complete review of all these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583-BDE8-489E-A8BC-B3C6DF449B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870-C95D-4A70-BC0E-47322B61AD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situation in which the pattern app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hort sentence or two raising the main difficu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sues or concerns to consider when solving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ommended way to solve the problem in the given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50560" indent="-2145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alance the forces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 that are inferior or do not work in this contex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patter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Optiona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that are similar to this patte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563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developed or inspired the patter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D10-AF83-4B33-A16A-3E98C11CB6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0 The Imm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mutable object is an object that has a state that never changes after cre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class whose instances are immutabl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ust be no loopholes that would allow ‘illegal’ modification of an immutable 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constructor of the immutable class is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ce where the values of instance variables are set or modifi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methods which access properties must not have side effec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method that would otherwise modify an instance variable is required, then it has to return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tance of the cla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CEE-5BCB-4C68-8953-65A335B313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1 The Read-only Inte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ometimes want certain privileged classes to be able to modify attributes of objects that are otherwise immu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u create a situation where some classes see a class as read-only whereas others are able to make modif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ng access by using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s is not adequately sel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cces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kes it public for both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61D-BBA6-45BD-B936-71306D7E38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13320" y="2394000"/>
            <a:ext cx="2359080" cy="642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91440" y="2492280"/>
            <a:ext cx="224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UnprivilegedClas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4160" y="4622760"/>
            <a:ext cx="12337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3960" y="4334040"/>
            <a:ext cx="219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59160" y="43340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69040" y="4300560"/>
            <a:ext cx="1301760" cy="6429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13400" y="440064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tor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73320" y="3924360"/>
            <a:ext cx="1940040" cy="1485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84480" y="433404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84480" y="4734000"/>
            <a:ext cx="19177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03520" y="402264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Mutabl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1240" y="4444920"/>
            <a:ext cx="162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«privat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1240" y="48434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0880" y="511020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96920" y="2193840"/>
            <a:ext cx="2379960" cy="1042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08080" y="2870280"/>
            <a:ext cx="23590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04600" y="227160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75760" y="2514600"/>
            <a:ext cx="22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ReadOnlyInterfac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840" y="293688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87680" y="2714760"/>
            <a:ext cx="1014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98920" y="2427120"/>
            <a:ext cx="223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4387320" y="2714400"/>
            <a:ext cx="22068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387680" y="2647800"/>
            <a:ext cx="220680" cy="66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03800" y="24256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65400" y="3247920"/>
            <a:ext cx="1800" cy="287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5400" y="32479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65400" y="32702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65400" y="33354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65400" y="335772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9360" y="3247920"/>
            <a:ext cx="331560" cy="265320"/>
          </a:xfrm>
          <a:custGeom>
            <a:avLst/>
            <a:gdLst/>
            <a:ahLst/>
            <a:rect l="l" t="t" r="r" b="b"/>
            <a:pathLst>
              <a:path w="209" h="167">
                <a:moveTo>
                  <a:pt x="111" y="0"/>
                </a:moveTo>
                <a:lnTo>
                  <a:pt x="209" y="167"/>
                </a:lnTo>
                <a:lnTo>
                  <a:pt x="0" y="167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67200" y="3505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67200" y="3657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6720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8A5-453A-4589-9D1E-E8D20839EE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733920" y="2097000"/>
            <a:ext cx="1850760" cy="3770280"/>
            <a:chOff x="3733920" y="2097000"/>
            <a:chExt cx="1850760" cy="3770280"/>
          </a:xfrm>
        </p:grpSpPr>
        <p:sp>
          <p:nvSpPr>
            <p:cNvPr id="502" name=""/>
            <p:cNvSpPr/>
            <p:nvPr/>
          </p:nvSpPr>
          <p:spPr>
            <a:xfrm>
              <a:off x="3733920" y="3849840"/>
              <a:ext cx="1850760" cy="2017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4720" y="425916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44720" y="4924440"/>
              <a:ext cx="1828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53440" y="394812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table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20760" y="4370400"/>
              <a:ext cx="86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20040" y="463572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20760" y="5035680"/>
              <a:ext cx="120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Fir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20760" y="530064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Las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20760" y="55674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27280" y="315108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27280" y="31734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27280" y="32385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7280" y="32608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27280" y="33274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27280" y="33498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27280" y="341640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27280" y="34387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27280" y="350532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27280" y="35276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27280" y="359424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7280" y="361620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27280" y="368316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27280" y="370512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27280" y="3772080"/>
              <a:ext cx="108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27280" y="3794040"/>
              <a:ext cx="1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50880" y="3151080"/>
              <a:ext cx="331560" cy="265320"/>
            </a:xfrm>
            <a:custGeom>
              <a:avLst/>
              <a:gdLst/>
              <a:ahLst/>
              <a:rect l="l" t="t" r="r" b="b"/>
              <a:pathLst>
                <a:path w="209" h="167">
                  <a:moveTo>
                    <a:pt x="111" y="0"/>
                  </a:moveTo>
                  <a:lnTo>
                    <a:pt x="209" y="167"/>
                  </a:lnTo>
                  <a:lnTo>
                    <a:pt x="0" y="1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22480" y="2097000"/>
              <a:ext cx="1321920" cy="10432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33640" y="2773440"/>
              <a:ext cx="129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99520" y="2174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18760" y="241776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009680" y="284004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4419720" y="34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19720" y="35910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3743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684-37D9-4F87-9C61-3CAF86194B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-on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ipattern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 read-only class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«Mutable»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 all methods that modif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that they throw an exce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A0C-B065-4FA6-971D-BF743BC5EC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2 The Pro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it is time-consuming and complicated to create instances of a class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s a time delay and a complex mechanism involved in creating the object in mem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duce the need to create instances of a heavyweight clas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nt all the objects in a domain model to be available for programs to use when they execute a system’s various responsibilit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important for many objects to persist from run to run of the same 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F81-ED44-40CC-8516-445200979F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76840" y="2452680"/>
            <a:ext cx="1336680" cy="873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55680" y="2530440"/>
            <a:ext cx="107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21560" y="277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assIF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7960" y="4300560"/>
            <a:ext cx="623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00600" y="400860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8972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58936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00600" y="4008600"/>
            <a:ext cx="2232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8972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58936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81360" y="4300560"/>
            <a:ext cx="1069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224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2916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2880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1120" y="4008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29160" y="42339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628800" y="4300560"/>
            <a:ext cx="222120" cy="66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55840" y="3997440"/>
            <a:ext cx="1314360" cy="650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89120" y="409896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lien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23000" y="3975120"/>
            <a:ext cx="1873080" cy="64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02920" y="4076640"/>
            <a:ext cx="168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HeavyWeight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62440" y="3975120"/>
            <a:ext cx="1314360" cy="649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74120" y="407664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Prox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991120" y="3336840"/>
            <a:ext cx="1800" cy="62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91120" y="3336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91120" y="335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91120" y="3427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91120" y="3449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91120" y="3516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91120" y="3538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91120" y="3606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91120" y="362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91120" y="3695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91120" y="3718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991120" y="3784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91120" y="38070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91120" y="3875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8973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3336840"/>
            <a:ext cx="334800" cy="27000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11840" y="3336840"/>
            <a:ext cx="334800" cy="270000"/>
          </a:xfrm>
          <a:custGeom>
            <a:avLst/>
            <a:gdLst/>
            <a:ahLst/>
            <a:rect l="l" t="t" r="r" b="b"/>
            <a:pathLst>
              <a:path w="211" h="170">
                <a:moveTo>
                  <a:pt x="113" y="0"/>
                </a:moveTo>
                <a:lnTo>
                  <a:pt x="211" y="170"/>
                </a:lnTo>
                <a:lnTo>
                  <a:pt x="0" y="170"/>
                </a:lnTo>
                <a:lnTo>
                  <a:pt x="113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987800" y="3336840"/>
            <a:ext cx="1800" cy="62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987800" y="33368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87800" y="335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87800" y="34275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87800" y="344952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987800" y="35164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87800" y="35384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87800" y="360684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36291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87800" y="36957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87800" y="37180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987800" y="378468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87800" y="380700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87800" y="3875040"/>
            <a:ext cx="1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87800" y="3897360"/>
            <a:ext cx="1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9960" y="3336840"/>
            <a:ext cx="333720" cy="27000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9960" y="3336840"/>
            <a:ext cx="333720" cy="270000"/>
          </a:xfrm>
          <a:custGeom>
            <a:avLst/>
            <a:gdLst/>
            <a:ahLst/>
            <a:rect l="l" t="t" r="r" b="b"/>
            <a:pathLst>
              <a:path w="210" h="170">
                <a:moveTo>
                  <a:pt x="112" y="0"/>
                </a:moveTo>
                <a:lnTo>
                  <a:pt x="210" y="170"/>
                </a:lnTo>
                <a:lnTo>
                  <a:pt x="0" y="170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BD4-9EF7-4353-A8A6-57EF18EE83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432160" y="1143000"/>
            <a:ext cx="4959360" cy="2171520"/>
            <a:chOff x="2432160" y="1143000"/>
            <a:chExt cx="4959360" cy="2171520"/>
          </a:xfrm>
        </p:grpSpPr>
        <p:sp>
          <p:nvSpPr>
            <p:cNvPr id="608" name=""/>
            <p:cNvSpPr/>
            <p:nvPr/>
          </p:nvSpPr>
          <p:spPr>
            <a:xfrm>
              <a:off x="3278160" y="1143000"/>
              <a:ext cx="13384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58800" y="122076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7680" y="146700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6520" y="1287360"/>
              <a:ext cx="2475000" cy="12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05360" y="1276200"/>
              <a:ext cx="2475000" cy="120996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7600" y="1332000"/>
              <a:ext cx="203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The list elements wil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07800" y="1601640"/>
              <a:ext cx="191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be loaded into loc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11040" y="1870200"/>
              <a:ext cx="188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memory only wh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65760" y="2138400"/>
              <a:ext cx="77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need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7189920" y="1265400"/>
              <a:ext cx="1792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432160" y="2665440"/>
              <a:ext cx="131436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6520" y="2765520"/>
              <a:ext cx="104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s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81480" y="2665440"/>
              <a:ext cx="162720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59240" y="2765520"/>
              <a:ext cx="151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57680" y="2989080"/>
              <a:ext cx="5126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59440" y="2698920"/>
              <a:ext cx="2196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48200" y="2922480"/>
              <a:ext cx="22212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4047840" y="2989080"/>
              <a:ext cx="22212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44996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4996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4996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4996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4996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4996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4996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996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4996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4996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4996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4996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4996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4996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4996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70320" y="202716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513240" y="202716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13240" y="2027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13240" y="2049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13240" y="21160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13240" y="213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13240" y="2206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13240" y="2228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13240" y="22953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13240" y="23176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13240" y="2386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13240" y="24084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13240" y="2475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3240" y="2496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513240" y="256392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13240" y="258588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335400" y="202716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057400" y="3772080"/>
            <a:ext cx="4233960" cy="2171520"/>
            <a:chOff x="2057400" y="3772080"/>
            <a:chExt cx="4233960" cy="2171520"/>
          </a:xfrm>
        </p:grpSpPr>
        <p:sp>
          <p:nvSpPr>
            <p:cNvPr id="664" name=""/>
            <p:cNvSpPr/>
            <p:nvPr/>
          </p:nvSpPr>
          <p:spPr>
            <a:xfrm flipV="1">
              <a:off x="4430880" y="4656240"/>
              <a:ext cx="144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30880" y="46562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30880" y="46785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30880" y="47451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30880" y="476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30880" y="483552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30880" y="48578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30880" y="49244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0880" y="49467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30880" y="501516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30880" y="50374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430880" y="510408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30880" y="512604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0880" y="5193000"/>
              <a:ext cx="14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0880" y="5214960"/>
              <a:ext cx="14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1240" y="4656240"/>
              <a:ext cx="33516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13" y="0"/>
                  </a:moveTo>
                  <a:lnTo>
                    <a:pt x="211" y="169"/>
                  </a:lnTo>
                  <a:lnTo>
                    <a:pt x="0" y="16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82840" y="3772080"/>
              <a:ext cx="1336680" cy="873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61680" y="3849840"/>
              <a:ext cx="1070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60040" y="4096080"/>
              <a:ext cx="85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49680" y="5618160"/>
              <a:ext cx="5796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18040" y="5328000"/>
              <a:ext cx="22320" cy="29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06800" y="5551560"/>
              <a:ext cx="222480" cy="66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006800" y="5618160"/>
              <a:ext cx="222480" cy="68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49520" y="4656240"/>
              <a:ext cx="1800" cy="627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49520" y="46562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49520" y="46785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49520" y="47451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49520" y="476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49520" y="483552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49520" y="48578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49520" y="49244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449520" y="49467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49520" y="501516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49520" y="50374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49520" y="510408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49520" y="512604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49520" y="5193000"/>
              <a:ext cx="18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9520" y="5214960"/>
              <a:ext cx="1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040" y="4656240"/>
              <a:ext cx="333360" cy="268200"/>
            </a:xfrm>
            <a:custGeom>
              <a:avLst/>
              <a:gdLst/>
              <a:ahLst/>
              <a:rect l="l" t="t" r="r" b="b"/>
              <a:pathLst>
                <a:path w="210" h="169">
                  <a:moveTo>
                    <a:pt x="112" y="0"/>
                  </a:moveTo>
                  <a:lnTo>
                    <a:pt x="210" y="169"/>
                  </a:lnTo>
                  <a:lnTo>
                    <a:pt x="0" y="169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40080" y="5294520"/>
              <a:ext cx="205128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9640" y="5394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sistentStud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57400" y="5294520"/>
              <a:ext cx="1581120" cy="6490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34800" y="5394600"/>
              <a:ext cx="148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udentProx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3BD-F636-4F15-BA1F-61F41D34DB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xample:  The Observable layer of OCS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913360" y="4465800"/>
            <a:ext cx="1800" cy="39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68600" y="4037040"/>
            <a:ext cx="1440" cy="824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392640" y="4619520"/>
            <a:ext cx="15951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7800" y="4619520"/>
            <a:ext cx="180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49800" y="4379760"/>
            <a:ext cx="1440" cy="239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13360" y="437976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92640" y="4619520"/>
            <a:ext cx="1440" cy="241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343400" y="4869000"/>
            <a:ext cx="20588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05840" y="4946760"/>
            <a:ext cx="152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3080" y="4869000"/>
            <a:ext cx="2129040" cy="3952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21200" y="4946760"/>
            <a:ext cx="146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21160" y="1917720"/>
            <a:ext cx="135576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45280" y="2013120"/>
            <a:ext cx="1279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</a:rPr>
              <a:t>Abstract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22320" y="1917720"/>
            <a:ext cx="127008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44640" y="201312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75240" y="3873600"/>
            <a:ext cx="1063440" cy="4982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90080" y="39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81760" y="2424240"/>
            <a:ext cx="1440" cy="566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45320" y="2424240"/>
            <a:ext cx="25704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36880" y="2424240"/>
            <a:ext cx="1440" cy="549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00080" y="2424240"/>
            <a:ext cx="257400" cy="20628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6" y="0"/>
                </a:moveTo>
                <a:lnTo>
                  <a:pt x="162" y="130"/>
                </a:lnTo>
                <a:lnTo>
                  <a:pt x="0" y="130"/>
                </a:lnTo>
                <a:lnTo>
                  <a:pt x="86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91360" y="1917720"/>
            <a:ext cx="1716120" cy="498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47880" y="1995480"/>
            <a:ext cx="168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nnectionTo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86240" y="2998800"/>
            <a:ext cx="2060640" cy="145908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95960" y="3351240"/>
            <a:ext cx="2041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18160" y="307656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daptable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28800" y="340200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ent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28800" y="3608280"/>
            <a:ext cx="128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ientDisconn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31320" y="3814920"/>
            <a:ext cx="9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rver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29880" y="401940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rverSto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27000" y="4226040"/>
            <a:ext cx="182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ndleMessageFrom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98640" y="2981160"/>
            <a:ext cx="212868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08000" y="3333600"/>
            <a:ext cx="21099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15520" y="3059280"/>
            <a:ext cx="135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daptable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37240" y="338616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38680" y="35910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8320" y="379728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684840" y="2166840"/>
            <a:ext cx="498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66080" y="19447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04E-FAC8-4D98-8911-1DD5B5B48FC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servable layer of OCSF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1981080" y="1379520"/>
            <a:ext cx="541044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1D0-E34A-44D5-A88C-5822E42A66B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2 The Abstraction-Occur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in a domain model you find a set of related objec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s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mbers of such a set shar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also differ from each other in important w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represent such sets of occurrences in a class dia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to represent the members of each set of occurrences without duplicating the commo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4CF-3C30-4698-9AED-AF3AF345F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407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observabl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11430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reate a class that implement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gister it as an observer of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serv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MessageHandler(Observable 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.addObserver(thi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fine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n the new class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update(Observable obs, Object mess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message instanceOf Some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rocess th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0D2-C9E0-4132-A7CF-CAFBC0A2F4D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ies and Risks When Creating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s are not a panace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you see an indication that a pattern should be applied, you might be tempted to blindly apply the pattern. However this can lead to unwise design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understand in depth the forces that need to be balanced, and when other patterns better balance the fo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e you justify each design decision carefu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FF2-5064-4FDB-B996-F5E0886F6E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When Creating Cla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patterns is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 good pattern takes considerabl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or pattern can be hard to apply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write patterns for others to use until you have considerable experience both in software design and in the use of patter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an in-depth course on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ly refine your patterns, and have them peer reviewed at each ite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BA8-0F10-49D0-ADEF-A7F5A3715F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8680" y="2684520"/>
            <a:ext cx="1284480" cy="9889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8400" y="3057480"/>
            <a:ext cx="1224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49160" y="2774880"/>
            <a:ext cx="86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V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65720" y="3159000"/>
            <a:ext cx="95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ries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840" y="340056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4680" y="2684520"/>
            <a:ext cx="1444680" cy="1230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94400" y="3057480"/>
            <a:ext cx="1423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71320" y="2774880"/>
            <a:ext cx="78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03200" y="31590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05360" y="3400560"/>
            <a:ext cx="27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9560" y="364320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ory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3178080"/>
            <a:ext cx="1003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38880" y="2917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4680" y="1838160"/>
            <a:ext cx="1505160" cy="586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29760" y="1928880"/>
            <a:ext cx="13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«Occurrence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17960" y="1838160"/>
            <a:ext cx="1465200" cy="5860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3960" y="192888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«Abstraction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92520" y="2130480"/>
            <a:ext cx="982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8880" y="18702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7480" y="4094280"/>
            <a:ext cx="1525680" cy="17143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68640" y="4468680"/>
            <a:ext cx="14828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71120" y="418608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568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360" y="481176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4680" y="4094280"/>
            <a:ext cx="1605240" cy="7477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4400" y="4468680"/>
            <a:ext cx="15634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77280" y="4186080"/>
            <a:ext cx="11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ibrary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51720" y="4568760"/>
            <a:ext cx="131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arCode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71640" y="4589640"/>
            <a:ext cx="1003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8880" y="4327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7400" y="50529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s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4880" y="529416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ublication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25240" y="553716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bOfCon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040-0D3B-4753-AB60-B5A879AB40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tter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2073240"/>
            <a:ext cx="7619760" cy="30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6EE-0FEC-40AE-A477-499C9F5FA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ion-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uare vari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1830240"/>
            <a:ext cx="187812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30600" y="2225520"/>
            <a:ext cx="1855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78200" y="1927080"/>
            <a:ext cx="162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3120" y="2332080"/>
            <a:ext cx="6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9800" y="1830240"/>
            <a:ext cx="1536840" cy="8128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0960" y="2225520"/>
            <a:ext cx="1514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6640" y="1927080"/>
            <a:ext cx="135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Tra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1880" y="23320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86040" y="2354400"/>
            <a:ext cx="554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95360" y="20764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95360" y="20764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25920" y="2652840"/>
            <a:ext cx="214200" cy="31896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25920" y="2652840"/>
            <a:ext cx="214200" cy="318960"/>
          </a:xfrm>
          <a:custGeom>
            <a:avLst/>
            <a:gdLst/>
            <a:ahLst/>
            <a:rect l="l" t="t" r="r" b="b"/>
            <a:pathLst>
              <a:path w="135" h="201">
                <a:moveTo>
                  <a:pt x="135" y="107"/>
                </a:moveTo>
                <a:lnTo>
                  <a:pt x="68" y="201"/>
                </a:lnTo>
                <a:lnTo>
                  <a:pt x="0" y="107"/>
                </a:lnTo>
                <a:lnTo>
                  <a:pt x="68" y="0"/>
                </a:lnTo>
                <a:lnTo>
                  <a:pt x="135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2949480"/>
            <a:ext cx="14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2200" y="30780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45080" y="265284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5080" y="2652840"/>
            <a:ext cx="212760" cy="339480"/>
          </a:xfrm>
          <a:custGeom>
            <a:avLst/>
            <a:gdLst/>
            <a:ahLst/>
            <a:rect l="l" t="t" r="r" b="b"/>
            <a:pathLst>
              <a:path w="134" h="214">
                <a:moveTo>
                  <a:pt x="134" y="107"/>
                </a:moveTo>
                <a:lnTo>
                  <a:pt x="67" y="214"/>
                </a:lnTo>
                <a:lnTo>
                  <a:pt x="0" y="107"/>
                </a:lnTo>
                <a:lnTo>
                  <a:pt x="67" y="0"/>
                </a:lnTo>
                <a:lnTo>
                  <a:pt x="134" y="107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949480"/>
            <a:ext cx="1440" cy="341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71720" y="30560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19440" y="3281400"/>
            <a:ext cx="2027160" cy="10890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0600" y="3676680"/>
            <a:ext cx="1982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7840" y="3379680"/>
            <a:ext cx="1482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cheduled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9800" y="3281400"/>
            <a:ext cx="1536840" cy="10684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60960" y="3676680"/>
            <a:ext cx="15145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46280" y="3379680"/>
            <a:ext cx="121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pecificLe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1240" y="378288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35080" y="3805200"/>
            <a:ext cx="4050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90680" y="352728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0880" y="4038480"/>
            <a:ext cx="119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ctual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0520" y="378288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Dep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9800" y="4038480"/>
            <a:ext cx="1553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cheduledArr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4960" y="4778280"/>
            <a:ext cx="1068120" cy="449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5880" y="48751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52880" y="435924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84640" y="4359240"/>
            <a:ext cx="1440" cy="425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7040" y="452916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9240" y="452916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69960" y="437976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03480" y="437976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5E4-BF51-4D37-A4A2-0DDE35C99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3 The General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jects in a hierarchy can have one or more objects above them (superior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or more objects below them (subordinate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bjects cannot have any subord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y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epres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ierarchy of objects, in which some objects cannot have subordinate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ant a flexible way of representing the hierarc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prevents certain objects from having sub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objects have many common properties and oper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D35-6304-4A82-BC6B-DC85582EEE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1436760"/>
            <a:ext cx="1440" cy="9032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9040" y="1436760"/>
            <a:ext cx="13273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5920" y="143676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«subordinat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6880" y="118584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7240" y="2214720"/>
            <a:ext cx="138888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26120" y="221472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14800" y="1152360"/>
            <a:ext cx="124488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07840" y="1249200"/>
            <a:ext cx="78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9320" y="2371680"/>
            <a:ext cx="17715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2467080"/>
            <a:ext cx="1674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Superior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76520" y="2371680"/>
            <a:ext cx="217188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7800" y="2467080"/>
            <a:ext cx="20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«NonSuperiorNode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78120" y="4041720"/>
            <a:ext cx="14115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896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62360" y="3747960"/>
            <a:ext cx="1047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74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21280" y="3600360"/>
            <a:ext cx="841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1800" y="3622680"/>
            <a:ext cx="7999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8000" y="381168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supervi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072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920" y="5008680"/>
            <a:ext cx="890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151080" y="4735440"/>
            <a:ext cx="223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51080" y="4735440"/>
            <a:ext cx="180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373680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65360" y="38116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290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8160" y="500868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Technici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7640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48120" y="50086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734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8296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73400" y="4735440"/>
            <a:ext cx="11793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45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66600" y="4735440"/>
            <a:ext cx="130644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66960" y="473544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7240" y="2025720"/>
            <a:ext cx="1440" cy="168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68760" y="1773360"/>
            <a:ext cx="316080" cy="252360"/>
          </a:xfrm>
          <a:custGeom>
            <a:avLst/>
            <a:gdLst/>
            <a:ahLst/>
            <a:rect l="l" t="t" r="r" b="b"/>
            <a:pathLst>
              <a:path w="199" h="159">
                <a:moveTo>
                  <a:pt x="106" y="0"/>
                </a:moveTo>
                <a:lnTo>
                  <a:pt x="199" y="159"/>
                </a:lnTo>
                <a:lnTo>
                  <a:pt x="0" y="15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141800" y="2214720"/>
            <a:ext cx="14954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41800" y="2214720"/>
            <a:ext cx="144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87480" y="21304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992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5320" y="4041720"/>
            <a:ext cx="71568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21880" y="4041720"/>
            <a:ext cx="1440" cy="8413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90080" y="3747960"/>
            <a:ext cx="10620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74600" y="37908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11120" y="378936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51880" y="4913280"/>
            <a:ext cx="124452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73640" y="500868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68920" y="4735440"/>
            <a:ext cx="20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61320" y="4735440"/>
            <a:ext cx="1440" cy="1684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83160" y="3736800"/>
            <a:ext cx="179244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2120" y="3811680"/>
            <a:ext cx="158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SystemIte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57840" y="4913280"/>
            <a:ext cx="590760" cy="611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29560" y="5008680"/>
            <a:ext cx="37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89800" y="4336920"/>
            <a:ext cx="1440" cy="398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2168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21680" y="4336920"/>
            <a:ext cx="315720" cy="250920"/>
          </a:xfrm>
          <a:custGeom>
            <a:avLst/>
            <a:gdLst/>
            <a:ahLst/>
            <a:rect l="l" t="t" r="r" b="b"/>
            <a:pathLst>
              <a:path w="199" h="158">
                <a:moveTo>
                  <a:pt x="106" y="0"/>
                </a:moveTo>
                <a:lnTo>
                  <a:pt x="199" y="158"/>
                </a:lnTo>
                <a:lnTo>
                  <a:pt x="0" y="158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64200" y="4735440"/>
            <a:ext cx="11779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45360" y="4735440"/>
            <a:ext cx="1800" cy="1476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87360" y="4651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96240" y="4567320"/>
            <a:ext cx="231840" cy="31572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96240" y="4595760"/>
            <a:ext cx="231840" cy="31608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146" y="106"/>
                </a:moveTo>
                <a:lnTo>
                  <a:pt x="66" y="199"/>
                </a:lnTo>
                <a:lnTo>
                  <a:pt x="0" y="106"/>
                </a:lnTo>
                <a:lnTo>
                  <a:pt x="66" y="0"/>
                </a:lnTo>
                <a:lnTo>
                  <a:pt x="146" y="106"/>
                </a:lnTo>
                <a:close/>
              </a:path>
            </a:pathLst>
          </a:custGeom>
          <a:solidFill>
            <a:srgbClr val="ffffff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: Using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8C7-8BCF-44FD-93C3-DFBB7EF33A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9-14T20:35:52Z</dcterms:modified>
  <cp:revision>99</cp:revision>
  <dc:subject/>
  <dc:title>SEG 2100 Software Design II</dc:title>
</cp:coreProperties>
</file>