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408-3359-4827-83BE-A3C835D9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B3C-2941-4677-AF35-6EB68D25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66C-2B86-41C7-8ACF-1D59885E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FF6-0DBD-455C-9A8C-C9AC7804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6EC-ACAA-401E-9D62-73473D56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8BD-80EA-4886-B74A-CB1B94B2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A97-37B0-4A0F-AFA9-8ACC185B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C1A-E832-4232-80EC-2E072429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0B4-0791-445B-A34D-5764B7C7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8F7-9784-4878-9105-4BD00A0E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F2E-C360-47EE-B91D-04552E4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090-40F0-4B40-969A-B12C2A1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B71B-BD7E-4AA3-BEA5-3C8248F6B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ased-relea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33376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0F6-B6F7-4493-B79A-C8FCED8C7F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ased-relea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troduces the notion of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requirements gathering and planning, the project should be broken into separate subprojects,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hase can be released to customers when rea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of the system will be available earlier than when using a strict waterfall approac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tinues to suggest that all requirements be finalized at the start of develop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96A-A6C2-4626-AEFC-2B9977671D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616040"/>
            <a:ext cx="6400800" cy="37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A68-260F-435E-89F7-3D024D164F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licitly embraces prototyping and an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ach to software developmen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by developing a small prot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ed by a mini-waterfall process, primarily to gather requir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the first prototype is re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bsequent loops, the project team performs further requirements, design, implementation and re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thing to do before embarking on each new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isk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is simply a type of on-going develop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F6E-07EB-4229-B27F-DCA696AA99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volutiona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71520" y="2743200"/>
            <a:ext cx="6272280" cy="13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43F-6333-4532-9486-BB8F67C94F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evolutionar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s software development as a series of hills, each representing a separate loop of the spir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at loops, or releases, tend to overlap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it clear that development work tends to reach a peak, at around the time of the deadline for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that each prototype or release can t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mounts of time to deliv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ing amounts of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22D-DB7A-47DF-A3EF-D66C567B8B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current engineering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1522440"/>
            <a:ext cx="5943600" cy="37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E67-4257-4082-8CAF-7AEBB9401A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current engineer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plicitly accounts for the divide and conquer princip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eam works on its own component, typically following a spiral or evolutionary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has to be some initial planning, and periodic integ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949-C261-4571-9BD0-8D9A382053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a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waterfal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st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hased-release mod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doing some initial high-level analysis, and then dividing the project into rele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spir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prototyping and risk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evolutionary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varying amounts of time and work, with overlapping rele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concurrent engineer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 the notion of breaking the system down into components and developing them in parallel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917-720F-4766-8FFC-2E80F4DE3F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ally project managers should set aside some time to re-engineer part or all of the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nt of this work can vary considerabl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ing up the code to make it more read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ly replacing a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factor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desig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the objective of a re-engineering activity is to increase maintainabilit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263-4CC2-43BC-BE0D-E50A43E031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1 What is Project Managemen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ment encompasses all the activities needed to plan and execute a projec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ing what needs to be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ing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ing there are suitable people to undertake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responsibil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rrangement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283-A500-4D80-8618-F82BD32625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3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imate how much software-engineering time will be required to do some wor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ps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fference in time from the start date to the end date of a task or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abour used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-month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-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8760" indent="-22392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an estimate of development effort to an amount of mon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99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ltiply it by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ed average co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) of employing a software engineer for a month (or a day)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441-995E-492D-AB23-FC4992B126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1: Divide and conqu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better estimate, you should divide the project up into individual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divide each subsystem further into the activities that will be required to develop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, you make a series of detailed estimates for each individual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um the results to arrive at the grand total estimate for the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379-CE72-49BA-900F-1D9943715E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2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all activities when making estimat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ime required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 activities must be taken into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user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D73-A81D-400F-A3CA-75E120B231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3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your estimates on past experience combined with knowledge of the current projec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developing a project that has many similarities with a past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expect it to take a similar amount of wor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your estimates o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judg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your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ic mode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in the software industry as a whole by analyzing a wide range of project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966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ake into account various aspects of a project’s size and complexity, and provide formulas to compute anticipated cos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553-C10E-4784-9B27-BA7651B401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you to systematically estimate development effort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an estimate of some other factor that you can measure, or that is easier to estim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distinc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lasses in the domai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widgets in the prototype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timate of the number of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35B-8DDB-4DCA-96A4-F2672FAF66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lgorithmic model uses a formula like the follow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Po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7432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= a + bN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4191120"/>
            <a:ext cx="6324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W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CE6-7ACD-4B08-8550-6BCD0E6DA5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4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o account for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extrapolating from other project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oftware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velopment processes and maturit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stomers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chedule de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echnical complexity of th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levels of requirement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7C1-743B-4C77-862F-CC47271BB7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5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ipate the worst case and plan for contingenci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 most critical use case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oject runs into difficulty, then the critical features are more likely to have been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 indent="-189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ree estim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tic (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ing a everything going perf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y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ing for typical things going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80480" indent="-2214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sim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214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for everything that could go w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B13-3B30-4D6C-BD03-576A5E0910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6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multiple independent estima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everal different techniques and compare the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are discrepancies, analyze your calculations to discover what factors causing the dif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elphi techn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individuals initially make cost estimates in priv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then share their estimates to discover the discrepanc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peatedly adjusts his or her estimates until a consensus is reached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C45-4D2E-4C7C-916A-EBFB5294F4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les of effective cost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7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and refine estimates as work progre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you add detai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quirement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isk management process uncover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30B-B892-41EE-9F88-EEF5BC68F3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Project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a technical l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ing and approving decisions made by ot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morale and supporting 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and control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rdinating the work with managers of other pro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lly striving to improve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EB7-2CED-4118-8BCB-D0CBFA43B4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4 Building Software Engineering Te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is a human proces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appropriate people for a team, and assigning roles and responsibilities to the team members, is therefore an important project management sk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engineering teams can be organized in many different 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3968640"/>
            <a:ext cx="739116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48C-04C1-4412-8A68-9AE43FF5541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oless tea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uch a team everybody is equal, and the team works together to achieve a common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are made by consens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uited to difficult projects with many technical challeng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99D-9637-4839-9115-68376419FE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manager-subordinate struc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ndividual reports to a manager and is responsible for performing the tasks delegated by tha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large projects with a strict schedule where everybody is well-trained and has a well-defined r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since everybody is only responsible for their own work, problems may go unnotic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D43-D463-4520-B7EB-A8CD9C3987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programmer tea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way between egoless and hierarchi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ief programmer leads and guides the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or she consults with, and relies on, individual specialis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E3E-D88A-4226-ADD2-9B033E45A1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an effective size for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given estimated development effort, in person months, there is an optimal team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ing the size of a team will not halve the development 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s and teams should be sized such that the total amount of required knowledge and exchange of information is reduc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given project or project iteration, the number of people on a team will not be consta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not generally add people if you get behind schedule, in the hope of catching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B3E-A193-4236-813D-59409D0965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kills needed on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management and build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face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and third-party software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ocumentation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926-C3E9-4DFC-A57D-865828C451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5 Project Scheduling and Tr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ci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at sequence a set of activities will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y should start and be comple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termining how well you are sticking to the cost estimate and schedu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ABA-0EC6-41B3-A5C1-57D7237F5D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T chart shows the sequence in which tasks must be complet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ach node of a PERT chart, you typically show the elapsed time and effort estimat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pa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the minimum time in which it is possible to complete the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EE9-0831-4EEA-ABF6-23EF32AA8E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 PER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30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69E-4CCD-4DD8-83D7-0186199514A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antt chart is used to graphically present the start and end dates of each software engineering ta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xis show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axis shows the activities that will be per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ck bars are the top-level tas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hite bars are sub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monds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deadline dates, at which specific events may oc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956-FF55-4394-A3F4-6AA9C03C00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2 Software Process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process models are general approaches for organizing a project into activiti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the project manager and his or her team to de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ork should be d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at sequence to perform the wor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s should be seen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s to think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t rigid prescriptions of the way to do th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ject ends up with its own unique pla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487-E893-4E59-BBA3-011636C2C5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925040" cy="31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87E-B7E1-4B6A-87FF-3E9F71C0D1A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n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ned val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work completed, measured according to the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ort that the work was supposed to cons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ed cost of work perform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ach task is completed, the number of person-months originally planned for that task is added to the earned value of the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BCE-1DDD-45D4-B237-C683CD2454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ned value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arned value chart has three curv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dgeted cost of the work schedu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arned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cost of the work performed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87B-0D88-4D70-86F6-BDF5D27003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of an earned valu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001880"/>
            <a:ext cx="6629400" cy="512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65C-393A-4EFE-941F-AEBF46BF1AE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6 Contents of a Project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s to be u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ystems and planned relea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s and challen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stim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nd milest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C45-9C8C-4007-B4A2-D88411BC21D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1.7 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ly estimating costs is a constant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cost estimation guidelin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very difficult to measure progress and meet dead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your cost estimation skills so as to account for the kinds of problems that may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closer relationship with other members of the te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realistic in initial requirements gathering, and follow an iterative appro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arned value charts to monitor prog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CDA-4E81-4816-BBC9-4EA317C16F3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ifficult to deal with lack of human resources or technology needed to successfully run a 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etermining the requirements and the project plan, take into consideration the resources avail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cannot find skilled people or suitable technology then you must limit the scope of your projec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A83-45D0-4D6D-97CB-3DF92F7796E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 effectively in a large project is h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ourses in communication, both written and o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how to run effective meet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what information everybody should have, and make sure they have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hat project information is readily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‘groupware’ technology to help people exchange the information they need to 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AE0-6ECA-4F07-9BDF-33874A9C3A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and Risks in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ard to obtain agreement and commitment from oth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ourses in negotiating skills and leadersh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everybody underst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ition of everybody el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s and benefits of each altern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ionale behind any compromi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everybody’s proposed responsibility is clearly expres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to everybody’s opinion, but take assertive action, when needed, to ensure progress occu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3E3-6902-4B2C-AF73-69327D523D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portunis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919840" cy="131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744-DB08-4886-A6FF-7311757AFE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portunis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what occurs when an organization does not follow  good engineering practi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acknowledge the importance of working out the requirements and the design before implementing a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of software deteriorates faster if it is not well design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re are no plans, there is nothing to aim towar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explicit recognition of the need for systematic testing and other forms of quality assur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problems make the cost of developing and maintaining software very hig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55F-CD7C-4209-A55A-EBDF31B2AF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551480" cy="467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103-E612-4FCA-B22D-C0ACCA76F6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ic way of looking at S.E. that accounts for the importance of requirements, design and quality assur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suggests that software engineers should work in a series of sta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completing each stage, they should perform quality assurance (verification and validatio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fall model also recognizes, to a limited extent, that you sometimes have to step back to earlier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99B-82EF-402B-8A68-848BAEBDD0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tions of the 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implies that you should attempt to complete a given stage before moving on to the nex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ccount for the fact that requirements constantly chan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so means that customers can not use anything until the entire system is comple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makes no allowances for prototy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mplies that you can get the requirements right by simply writing them down and reviewing th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del implies that once the product is finished, everything else is mainten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: Managing the Software Proc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A2E-D65B-43A8-B5B0-AEA5DB4EBE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4:50:21Z</dcterms:created>
  <dc:creator>Robert Laganiere</dc:creator>
  <dc:description/>
  <dc:language>en-US</dc:language>
  <cp:lastModifiedBy>Timothy C. Lethbridge</cp:lastModifiedBy>
  <cp:lastPrinted>2001-08-30T21:48:01Z</cp:lastPrinted>
  <dcterms:modified xsi:type="dcterms:W3CDTF">2001-09-14T20:37:42Z</dcterms:modified>
  <cp:revision>18</cp:revision>
  <dc:subject/>
  <dc:title>PowerPoint Presentation</dc:title>
</cp:coreProperties>
</file>