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D58-53D9-4DDB-B1C2-E0AD9FA2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1F7-CDE0-451C-B666-0C36F3F4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C13-552B-4E04-91C2-831F6AFE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0AE-2146-4AA2-9A96-3221A60D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B7C-26BF-4D92-B262-A6DD3EB3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783-6F45-410C-AFE5-A43A10AF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523-15DE-4812-93E6-1D62A23B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F97-ED47-41AA-B729-CAE13C6D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D71-1338-4432-AE6F-36A8A31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B98-D59F-4681-891B-3F548A6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FDE-7580-4A1F-873A-2947E3A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321-3B6E-4E76-BD47-B65F0161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06D-41EB-4474-9D8E-74650671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3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ng Software Development 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Technolo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4 The Client-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yste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ystem in which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ations are perform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unning on separate pieces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pe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erform the task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provides a service for other programs that connect to it using a communica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that accesses a server (or several servers) to obtai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accessed by many clients simultaneous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715-79E8-46E3-BD41-CA5938A1E5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f activities in a client-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starts ru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cli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nect.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tart running and perform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perations involve requests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ttempts to connect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accepts the conne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it is will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waits for messa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rrive from connecte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message from a client arrives,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takes some a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sponse, then resumes wai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and servers continue functioning in this manner until they decide to shut down or dis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6E4-5D8D-4098-9EE1-9654FFDB1D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erver program communicating with two client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335240"/>
            <a:ext cx="571500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226-EFAA-4319-9A10-D1C0A5D4BB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o the client serv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gr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one computer that does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omputer performs the work separat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mechanism other than client-server communication for exchang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ne program writes to a database; the other reads from the data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C4D-6F58-4B28-B390-330EE94B9A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s can access the server’s functionality fro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and server can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oth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kept central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el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an be distribu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ong many different geographically-distributed clients or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can be accesse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many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ng clients can be writ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mmunicate with the same server, and vice-ver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C01-A00D-4A5F-9E50-0FF072FDF8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client-serv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Displa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B2C-E214-474C-AD5A-D5A1F51AF1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ts listening for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conne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to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5932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314-B812-453F-A5DE-AF2C66F1CF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6264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a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el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nn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ing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nly termin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539040" y="5135400"/>
            <a:ext cx="1440" cy="330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72280" y="509256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02320" y="530064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9960" y="5321160"/>
            <a:ext cx="144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32116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6320" y="532116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75400" y="530064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245360" y="3146040"/>
            <a:ext cx="1440" cy="35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35720" y="300024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9000" y="33321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772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45360" y="3352680"/>
            <a:ext cx="1440" cy="125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6264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81720" y="33321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0560" y="3125520"/>
            <a:ext cx="1440" cy="33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30920" y="297972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03840" y="32907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22920" y="3311640"/>
            <a:ext cx="144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0560" y="331164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59280" y="331164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6920" y="32907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5960" y="1841400"/>
            <a:ext cx="1440" cy="435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6320" y="1862280"/>
            <a:ext cx="1908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2924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832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5960" y="2130480"/>
            <a:ext cx="1440" cy="12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324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232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5840" y="2297160"/>
            <a:ext cx="188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4680" y="2284560"/>
            <a:ext cx="2178360" cy="6048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1120" y="2357280"/>
            <a:ext cx="18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e a conn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3640" y="25858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02320" y="3519360"/>
            <a:ext cx="255600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91160" y="3506760"/>
            <a:ext cx="2559240" cy="1522440"/>
          </a:xfrm>
          <a:prstGeom prst="roundRect">
            <a:avLst>
              <a:gd name="adj" fmla="val 11366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74840" y="3497400"/>
            <a:ext cx="167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5920" y="3726000"/>
            <a:ext cx="203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ed by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4880" y="4057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4880" y="4057560"/>
            <a:ext cx="183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d to mess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18120" y="42656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6320" y="4471920"/>
            <a:ext cx="1216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ndle serv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0560" y="3463920"/>
            <a:ext cx="1779480" cy="1393920"/>
          </a:xfrm>
          <a:prstGeom prst="roundRect">
            <a:avLst>
              <a:gd name="adj" fmla="val 11028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36440" y="3538440"/>
            <a:ext cx="147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 wit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6080" y="3767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4280" y="3994200"/>
            <a:ext cx="175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 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37520" y="4222800"/>
            <a:ext cx="118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34640" y="444960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3440" y="5529240"/>
            <a:ext cx="1068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21360" y="5514840"/>
            <a:ext cx="1071720" cy="6066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39080" y="55897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239840"/>
            <a:ext cx="10699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0" y="1227240"/>
            <a:ext cx="1073160" cy="60624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5480" y="13017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2560" y="3125880"/>
            <a:ext cx="1722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65960" y="2876400"/>
            <a:ext cx="1440" cy="249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62520" y="5105520"/>
            <a:ext cx="15732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88312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210440" y="5028840"/>
            <a:ext cx="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390-3115-441C-B377-AAB1A99663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ads in a client-server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00240"/>
            <a:ext cx="8076960" cy="48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40F-2A15-44F1-B8D9-4B27D0FA59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n- versus fat-client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made as small a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work is done in the ser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easy to download over the 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-cli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 (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much work as possible is delegated to the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can handle more 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03ThinFatClient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518148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2E8-E788-4B54-8725-EB45866284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 Building on the Experience of Ot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gineers should avoid re-developing software already develop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reu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expert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standard designs and algorith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libraries of classes or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werful commands built into languages and operating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frame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 of complete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C38-0BD6-4BFB-BE5E-C9D3D57E46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s protoc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client sends to the server form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ssages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ds to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so form a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programmed to understand that langu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ient and server are communicating, they are in effect having a conversation using these two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languages and the rules of the conversation, taken together, are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159-9346-44E6-98D9-3D81114B9B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to perform to devel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primary work to be performed by both client and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how the work will be distrib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details of the set of messages that will be s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mechanism for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ing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AD9-C2E5-453B-B9D5-713F6AA1B2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5 Technology Needed to Build Client-Server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tocol (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messages from one computer to an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messages are normally split up into small pie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Control Protocol (TC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w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 can then exchange many IP messages over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mess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satisfactorily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ost has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n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ervers can run on the same ho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er is identified by a port number (0 to 65535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itiate communication with a server, a client must know both the host name and th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755-E5CF-4B04-AEC6-9CAE07C49A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 connection in J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.n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ck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the creation of a TCP/IP connection between tw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 connection can be established, the server must star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one of the por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ocket serverSocket =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ocket(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 clientSocket = serverSocket.accep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lient to connect to a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 clientSocket= new Socket(host, po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7FF-AC7E-466D-A81A-052B9AD428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ing information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gram uses an ins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ceive messages from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nd messages to the oth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found in packag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tput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Socket.getOut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= clientSocket.getInputStream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AD6-88C0-4EA9-8555-55F74A9D3E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and receiving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out any filters (raw byte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g = input.rea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In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Out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Double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input.readDou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us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In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OutputStrea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.writeObject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g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input.readObjec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353-D603-4C16-9AB1-31073BA22A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6 The Object Client-Server Framewor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(OCS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5400" y="1738440"/>
            <a:ext cx="2163600" cy="19033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4760" y="206208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0400" y="183528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2149560"/>
            <a:ext cx="11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9040" y="256716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11200" y="235728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To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7240" y="319572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8680" y="277668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8320" y="340524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4760" y="213192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7960" y="2986200"/>
            <a:ext cx="141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14800" y="1720800"/>
            <a:ext cx="4781160" cy="3159000"/>
            <a:chOff x="4114800" y="1720800"/>
            <a:chExt cx="4781160" cy="3159000"/>
          </a:xfrm>
        </p:grpSpPr>
        <p:sp>
          <p:nvSpPr>
            <p:cNvPr id="166" name=""/>
            <p:cNvSpPr/>
            <p:nvPr/>
          </p:nvSpPr>
          <p:spPr>
            <a:xfrm>
              <a:off x="6216480" y="2376360"/>
              <a:ext cx="9241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48520" y="1738440"/>
              <a:ext cx="1746360" cy="1274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57880" y="206208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06480" y="1817640"/>
              <a:ext cx="168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To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3960" y="2149560"/>
              <a:ext cx="90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6120" y="23572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95760" y="25671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95400" y="27766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1720800"/>
              <a:ext cx="2093760" cy="31590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4160" y="204480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23040" y="18176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stract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2400" y="21319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59520" y="234144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List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2400" y="25495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58800" y="31780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58800" y="338760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Dis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1680" y="380700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a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57360" y="4643280"/>
              <a:ext cx="182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handleMessageFrom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4160" y="211464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57880" y="213192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59880" y="4014720"/>
              <a:ext cx="99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o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59880" y="275904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All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7720" y="2968560"/>
              <a:ext cx="145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ClientConne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0960" y="443376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9880" y="35971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8440" y="42242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ing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CF4-B84F-4063-9D42-8FD7AE7DA9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O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s using OCS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y its three 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subclas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bstract classes in the frame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public metho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 provided by the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ain slot and hook methods (explicitly designed to be overridde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DC8-FF7A-4306-95D4-663ECA8998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7 The Client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single class: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subcl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ubclass must provide an implementation for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appropriate action when a message is received from 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th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n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loop that executes for the lifetime of the th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4DE-E000-4D1C-B521-A040848F20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Conn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H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et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F24-C77C-4DAD-90FA-42F4EDBD50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2 Reusability and Reus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esign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i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part of the culture of software development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problems to overcom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ake the extra time needed to develop something that will benefi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cts/customer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may only reward the efforts of people who create the visible ‘final products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software is often created in a hurry and without enough attention to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AA3-0A79-45F9-9867-C74B684D4E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Establis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Clo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C43-692C-4A5D-B6C6-AC8C32E313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new 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the server using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Clo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Excep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9BC-218A-437F-BD5D-6725CC7E7E9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variabl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ck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keeps all the information about the connection to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reams, 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OutputStre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runs using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run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variables storing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C62-44AF-483A-8F99-AE48461B5CD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he Server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s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 which listens for new connections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 the threads that handle the connections to clients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18B-4EFF-4827-8090-3B353CB791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List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List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lient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Back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4CF-3A1D-4CC0-A651-BE69BDB8A3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allback methods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arte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n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Dis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ingEx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DA5-C79D-48A9-9888-C678904D65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c interface of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Cli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et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f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3B5-6024-4FA4-81EE-6F9C99D13F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nectionToClie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slot metho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nstance of the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messages to clients,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ClientConnec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ic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one or more of the other callback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FCB-7D8E-47BE-99F6-BCB2ACA5BE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tract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nectionTo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Inf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make use of a Java class calle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ethods in the server side ar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lection of instances of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nnectionToCli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tored using a special class calle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hread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must pause from listening every 500ms to see if the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opListening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has be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, then it resumes listening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457-6622-4AC9-B0A5-157C380172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88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1 An Instant Messaging Application: SimpleC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45320" y="2897280"/>
            <a:ext cx="2363760" cy="141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4680" y="3255840"/>
            <a:ext cx="2345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54440" y="2984400"/>
            <a:ext cx="106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o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3000" y="3351240"/>
            <a:ext cx="21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080" y="3584520"/>
            <a:ext cx="107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080" y="3816360"/>
            <a:ext cx="116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o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7680" y="40482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27360" y="3719520"/>
            <a:ext cx="549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0000" y="1735200"/>
            <a:ext cx="1100160" cy="90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0800" y="228744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3960" y="175248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39160" y="2016000"/>
            <a:ext cx="5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2720" y="238284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17760" y="2897280"/>
            <a:ext cx="236376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27480" y="325584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01120" y="298440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76160" y="335124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6880" y="3584520"/>
            <a:ext cx="23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81560" y="3816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51760" y="1793880"/>
            <a:ext cx="144612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17280" y="1881360"/>
            <a:ext cx="137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3381480"/>
            <a:ext cx="133668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14360" y="3740040"/>
            <a:ext cx="1319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960" y="3468600"/>
            <a:ext cx="128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Cons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67000" y="383544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67720" y="40687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69160" y="430056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0256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954080" y="2653920"/>
            <a:ext cx="180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54080" y="26542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54080" y="2674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54080" y="27320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54080" y="27511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2809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4080" y="28288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54080" y="28875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54080" y="29066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29653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54080" y="2984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54080" y="3041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54080" y="3062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54080" y="3119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54080" y="3138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54080" y="3197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54080" y="32162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54080" y="32749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54080" y="32940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54080" y="3352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904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66960" y="1793880"/>
            <a:ext cx="135576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2120" y="1881360"/>
            <a:ext cx="130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3314880"/>
            <a:ext cx="232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27480" y="331308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14360" y="3797280"/>
            <a:ext cx="1319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50800" y="234468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92000" y="2422080"/>
            <a:ext cx="165240" cy="194040"/>
            <a:chOff x="2592000" y="2422080"/>
            <a:chExt cx="165240" cy="194040"/>
          </a:xfrm>
        </p:grpSpPr>
        <p:sp>
          <p:nvSpPr>
            <p:cNvPr id="291" name=""/>
            <p:cNvSpPr/>
            <p:nvPr/>
          </p:nvSpPr>
          <p:spPr>
            <a:xfrm flipH="1" flipV="1">
              <a:off x="2592000" y="2422080"/>
              <a:ext cx="1652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2360" y="2422440"/>
              <a:ext cx="9144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114720" y="3662280"/>
            <a:ext cx="18252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114360" y="3719520"/>
            <a:ext cx="1825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611440" y="2441520"/>
            <a:ext cx="658800" cy="6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so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eventually be replac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GU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696-0528-47B4-8432-9A5AB10114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viciou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tend not develop high quality reusable components, so there is often little to reus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olve the problem, recognize th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ious cycle costs mon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reusable code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reusable components is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at potential reusers have confidence i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ality of a software product is only as good as its lowest-quality reusable 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usable components can often simplify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DCD-377C-4E26-B737-941820905F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choServ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ubclas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creates a new instance and start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istens for clients and handles connections until the server is stop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 just print out a message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a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Stopp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l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All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3560" indent="-4572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choes any mess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61E-5FA7-403B-A9A9-C99173C6A21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cho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7524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msg, ConnectionToClient 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Message received: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msg + " from " + cli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sendToAllClients(ms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057-8A33-4A4C-A91F-2117831828F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client program starts, it creates instances of two class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class of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ride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lls th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of the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class that implements the interfac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mplement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outputs to the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user input by call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t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u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s all user input to th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calling it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ndleMessageFromClient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, in turn, call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C99-578C-4CEA-A290-CFD5CBF4E7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1143000"/>
            <a:ext cx="7467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UI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(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(IO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UI.display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Could not send message.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Terminating cli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A79-6E8D-487B-9A3D-4927A0C3408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de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hatCl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Server(Object msg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UI.display(msg.toString()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95C-21C1-4471-919A-77B460DFA7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12 Risks when reus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quality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developers of the reusable technolog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good software engineering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illing to provide active sup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not maint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obscure fe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-use technology that others are also re-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3F7-9C07-46DC-998E-F34E6007AB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developing reusable techn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he development of the reusable technology, just as if it was a product for a 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not invented here syndrom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nfidence in the reusable technology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it is of hig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ing to the needs of it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F1D-CA80-4AB7-BA3E-C5C1FD349E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 when developing reusable technology –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usable technology must be as useful and as high quality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ndency of various groups to change technology in different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t to be general enough, test it and review it in advanc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668-E4E6-4CE1-B6BD-5210CD08E1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sks when adopting a client-serv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a big problem with no perfect solutions: consider the use of encryption, firewall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adaptive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all software is forward and backward compatible with other versions of clients and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E8A-7F68-4F05-B09C-9F98AA23C0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3 Frameworks: Reusable Sub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usable software that implements a generic solution to a generalized proble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ovides common facilities applicable to different application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do different, but related, things tend to have quite similar desig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B02-08C7-46CD-8BB8-5F667E523B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s to promote r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is intrinsicall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or methods are used by the framework, but are missing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nce is made for developer to provide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s use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the framework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together the services are called the Application Program Interface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4C6-F1E7-40C6-8770-D6C31B0B0D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-oriented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object oriented paradigm, a framework is composed of a library of class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I is defined by the set of all public methods of thes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classes will normally be 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ADD-004F-44EF-8DB2-993B2D79D6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payroll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frequent bu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university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e-commerce web s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work for controlling microwave ov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B6C-6988-4C08-9271-E48B067ABC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provides general application facilities that a large number of applications can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work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framework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ore ‘complete’ but still needs some slots to be filled to adapt it to specific application nee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3HorVerFrame" descr=""/>
          <p:cNvPicPr/>
          <p:nvPr/>
        </p:nvPicPr>
        <p:blipFill>
          <a:blip r:embed="rId1"/>
          <a:srcRect l="0" t="0" r="-1819" b="0"/>
          <a:stretch/>
        </p:blipFill>
        <p:spPr>
          <a:xfrm>
            <a:off x="1828800" y="3048120"/>
            <a:ext cx="5029200" cy="311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ACF-BAB0-4143-80E8-F15FC0DFCB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2-09-24T15:29:51Z</dcterms:modified>
  <cp:revision>70</cp:revision>
  <dc:subject/>
  <dc:title>SEG 2100 Software Design II</dc:title>
</cp:coreProperties>
</file>