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1.png" ContentType="image/png"/>
  <Override PartName="/ppt/media/image8.pct" ContentType="image/x-pict"/>
  <Override PartName="/ppt/media/image10.png" ContentType="image/png"/>
  <Override PartName="/ppt/media/image7.pct" ContentType="image/x-pict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6.pct" ContentType="image/x-pict"/>
  <Override PartName="/ppt/media/image1.png" ContentType="image/png"/>
  <Override PartName="/ppt/media/image2.pct" ContentType="image/x-pict"/>
  <Override PartName="/ppt/media/image3.pct" ContentType="image/x-pict"/>
  <Override PartName="/ppt/media/image4.pct" ContentType="image/x-pict"/>
  <Override PartName="/ppt/media/image12.png" ContentType="image/png"/>
  <Override PartName="/ppt/media/image5.pct" ContentType="image/x-pict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1A7A-B8AB-4763-86B6-B15DDE54F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6808-EFFB-43CB-BB4F-1F5C637C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F4BE-311D-4BE1-8DFC-38490D538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69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788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69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788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C777-6449-4F3C-B6AD-3AD2708D2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8158-4AE9-4B43-9D7A-12D9B510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D13E-5CC1-45DC-AB83-3BB026AA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B394-11E8-4917-BB82-5E0E6D58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9C09-D849-443B-98DE-A4C55545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D3AC-51D4-4B42-8455-2F5BC60E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328B-CB3B-4182-B37A-0367C5A4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6958-9ABA-4001-97C9-A6FC3E06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AB60-F9A5-4CAF-AD9A-238638C7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losengMaster" descr=""/>
          <p:cNvPicPr/>
          <p:nvPr/>
        </p:nvPicPr>
        <p:blipFill>
          <a:blip r:embed="rId2"/>
          <a:stretch/>
        </p:blipFill>
        <p:spPr>
          <a:xfrm>
            <a:off x="357120" y="1162080"/>
            <a:ext cx="8429760" cy="5619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601"/>
              </a:spcBef>
              <a:buClr>
                <a:srgbClr val="000000"/>
              </a:buClr>
              <a:buFont typeface="Time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67616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E0E6-CFF9-4B65-8E8A-37C085443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Software Engineering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 Software Development using UML and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6002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pter 7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ocusing on Users and Their Task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mak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actions explicit or to handl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ptiona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creating separate use case extensions, the description of the basic use case remains simp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use case extension must list all the steps from the beginning of the use case to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ing the handling of the unusual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E703-7545-4F50-808D-D72F58F11F6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iz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h like superclasses in a class diagra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eneralized use case represent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al simila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se ca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specializations provides details of the similar use ca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A762-9E5A-454D-BC5E-C259F157122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 one to expres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al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tween several different use ca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included in other use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 very different use cases can share sequence of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able you to avoid repeating details in multiple use c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the performing of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-level tas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a lower-level goal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25F0-2D80-4E23-86C7-BBE5C78DA63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generalization, extension and i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7467480" cy="445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9E9C-3F93-4D4C-8E83-093969AC464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75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description of a use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212840" y="1442880"/>
          <a:ext cx="7397640" cy="477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2840" y="1442880"/>
                    <a:ext cx="739764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AA33-8439-4133-A0E0-B6ECFBB60C5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054080" y="1442880"/>
          <a:ext cx="8096400" cy="477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4080" y="1442880"/>
                    <a:ext cx="809640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D111-F4EB-4114-9C3A-C36578D6C4F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1658880" y="1760400"/>
          <a:ext cx="7491600" cy="444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8880" y="1760400"/>
                    <a:ext cx="7491600" cy="444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CE05-7DBF-4892-951A-6CA0641435D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703520" y="1717560"/>
          <a:ext cx="7605720" cy="503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3520" y="1717560"/>
                    <a:ext cx="7605720" cy="50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DBDA-47AB-4F7A-B4CF-B69E2AB732D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290600" y="1447920"/>
          <a:ext cx="7570800" cy="328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0600" y="1447920"/>
                    <a:ext cx="7570800" cy="32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5118-E814-414B-8165-E4951B8B5B4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modeling processes: Choosing use cases on which to foc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one use case (or a very small number) can be identified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the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ntire system can be built around this particular use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other reasons for focusing on particular use cas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use cases will represent a hig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cause for some reason their implementation is problema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use cases will have high political or commercial 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1BE8-A16E-41DD-B1C2-06250DE7AED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7.1 User Centred Desig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development should focus on the needs of us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nd your us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software based on an understanding of the users’ tas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users are involved in decision making proces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the user interface following guidelines for good us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users work with and give their feedback about prototypes, on-line help and draft user manu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4F59-F0D6-4452-9338-787B2248BDF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benefits of basing software development on use ca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can help to define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often used 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development proc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used to both develop and validate the requir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can form the basis for the definition of testca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can be used to structure user manu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37B8-5D1F-44FB-8D6A-65D9B81A804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 cases must not be seen as a panac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use cases themselves must be valid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the requirements validation 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are some aspects of software that are not covered by use case analys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novativ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lutions may not be conside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B075-84D2-4044-8C8D-C7BFE20935A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7.4 Basics of User Interface Desig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interface design should be done in conjunction with other software engineering activit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use case analysis to help define the tasks that the UI must help the user perfor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rativ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I prototyping to address the use ca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 of prototyping will enable you to finalize the requir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345E-5316-47C0-8821-EBA219C334B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sability vs. Ut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the system provide the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w capabilitie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allow the user to achieve their goal?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the system allow the user to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rn and to us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raw capabilities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ily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bil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utility and usability are essenti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must be measured in the context of particular types of us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0A59-215D-4515-9F75-201AD47D9E4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spects of usab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bility can be divided into separate aspects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rn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peed with which a new user can become proficient with the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of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fast an expert user can do their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tent to which it prevents the user from making errors, detects errors, and helps to correct error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ability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tent to which user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1320-0113-4614-82A6-613A4F00657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learning cu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04920" y="1206360"/>
          <a:ext cx="8839080" cy="465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06360"/>
                    <a:ext cx="8839080" cy="465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4DE7-0F83-4811-A983-7333B5FE52C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me basic terminology of user interface desig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lo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 specific window with which a user can interact, but which is not the main UI wind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dget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ecific components of a user interf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fordanc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set of operations that the user can do at any given point in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t any stage in the dialog, the system is displaying certain information in certain widgets, and has a certain afford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 situation in which the UI restricts what the user can 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al dialo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 dialog in which the system is in a very restrictive m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bac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e from the syste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never the user does something, is called feedbac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ding techniqu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Ways of encoding information so as to communicate it to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CA59-63CE-49F4-A17D-2A3DA64A6EA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.5 Usability Princi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Do not rely only on usability guidelines –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ways test with users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bility guidelines have exceptions; you can only be confident that a UI is good if you test it successfully with us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 Base UI designs on users’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ks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 use case analysis to structure the U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: Ensure that the sequences of actions to achieve a task are as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possibl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the amount of reading and manipulation the user has to 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e user does not have to navigate anywhere to do subsequent steps of a ta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2D06-7D82-42E3-9F35-4D07598C724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sability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: Ensure that the user always knows what he or she can and should do nex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the user can se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commands are availab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re not avai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important commands stand ou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: Provide good feedback including effective error messag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 users of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es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operations and of thei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they navig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something goes wrong explain the situation in adequate detail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 the user to resolve the proble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A5F9-C3A7-41DC-8C0E-8E654817163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sability Princi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: Ensure that the user can always get out, go back or undo an ac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all operations can b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on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it is easy 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igate bac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where the user came fr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 Ensure that response time is adequat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s are very sensitive to slow respon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compare your system to ot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response time less than a second for most ope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rn users of longer delays and inform them of prog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2A6B-5D1C-4660-B54D-B7F695E2AF0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ortance of focusing on us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training and support co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time to learn the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er efficiency of 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costs by only developing features that are need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costs associated with changing the system la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prioritizing of work for iterative develop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er attractiveness of the system, so users will be more willing to buy and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453E-CD07-4130-8AB7-2C91A630CDD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sability Princi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: Use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ndable encoding technique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encoding techniques with c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abels to ensure all encoding techniques are fully understood by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: Ensure that the UI’s appearance is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cluttere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displaying too much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e the information effectiv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351A-EA29-4B00-83C2-336C433E8CE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sability Princi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 Consider the needs of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group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user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mmodate people from differen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people wit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biliti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the system is usable by bot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ner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 Provide all necessary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e help w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 help with the appl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the help is accu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27EE-0F35-4AD1-9277-78A40440ACB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sability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Be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n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imilar layouts and graphic designs throughout your appl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 look-and-feel stand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mimicking other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1D4D-1676-470D-8E78-A29CF7E10F6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483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ncoding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76520" y="1371240"/>
            <a:ext cx="5943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and fo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graph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rams and abstract graphic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u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ing and border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ken wor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i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soun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tions and vide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sh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4879-1A11-4C31-988B-66A9EB6A19F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(bad U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895480" y="76320"/>
            <a:ext cx="2938680" cy="3352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895480" y="3505320"/>
            <a:ext cx="2938680" cy="3352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095880" y="76320"/>
            <a:ext cx="2938680" cy="3352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6095880" y="3505320"/>
            <a:ext cx="2853000" cy="335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3D0A-A61D-4D2E-BC8A-A3D9252749B1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(better U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72120" y="76320"/>
            <a:ext cx="2938680" cy="3352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072120" y="3535200"/>
            <a:ext cx="2911680" cy="3322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819520" y="76320"/>
            <a:ext cx="2938320" cy="3352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2819520" y="3522600"/>
            <a:ext cx="2917800" cy="333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8496-187B-4E6C-89F0-0FCD4D57173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7.6 Evaluating User Interfa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uristic evalu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ome use cases to evalu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For each window, page or dialog that appears during the execution of the use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 it in detail to look for possible usability def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When you discover a usability defect write down the following inform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hort description of the defec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r ideas for how the defect might be fixe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DB84-2070-4E76-9719-046D4D31ED5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valuating User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on by observation of use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users corresponding to each of the most important ac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the most important use ca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sufficient instructions about each of the scenari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evaluation sessions with us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ain the purpose of the evalu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ferably videotape each s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e with the users as they are performing the tas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users finish all the tasks, de-brief th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note of any difficulties experienced by the us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ulate recommended chan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A18A-DB89-41BA-AE89-3DA49CF8468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7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mplementing a Simple GUI in Jav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bstract Window Toolkit (AWT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basic building blocks of any graphical interfa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utt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xtFiel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ab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crollBa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ntain the components constituting the GU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ram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alo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youtManag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efine the way components are laid out in a contain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idLayou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rder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9545-630E-4E44-A76A-29D78B1F669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1219320"/>
            <a:ext cx="60958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ClientGU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tends Frame implements Chat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Button closeB = new Button("Clos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Button openB = new Button("Ope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Button sendB = new Button("Send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Button quitB = new Button("Quit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TextField portTxF = new TextField("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TextField hostTxF = new TextField("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TextField message = new TextFiel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Label portLB =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Label("Port: ", Label.RIGH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Label hostLB =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Label("Host: ", Label.RIGH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Label messageLB =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Label("Message: ", Label.RIGH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List messageList =  new Lis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6320" y="1219320"/>
            <a:ext cx="29113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880A-8355-42C9-A5C9-593B02A3FF78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7.2 Characteristics of Us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engineers must develop an understanding of the us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using the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tial patterns of 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graph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 of the domain and of comput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ychological traits and emotional feelin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C4FA-6270-489D-B708-A039BA42C1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914400"/>
            <a:ext cx="67057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ientGUI(String host, int por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per("Simple Chat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Size(300,40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Visible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ayout(new BorderLayout(5,5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nel bottom = new Panel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("Center", messageLi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("South", bottom)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ttom.setLayout(new GridLayout(5,2,5,5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ttom.add(hostL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ttom.add(hostTxF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ttom.add(portL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ttom.add(portTxF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ttom.add(messageL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ttom.add(messag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ttom.add(open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ttom.add(send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ttom.add(close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ttom.add(quit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3B27-B648-4225-B627-9AD7AACD134F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76520" y="1066680"/>
            <a:ext cx="746748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dB.addActionListener(new ActionListene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actionPerformed(ActionEvent 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send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ient.sendToServer(message.getText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tch (Exception e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ssageList.add(ex.toString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ssageList.makeVisible(messageList.getItemCount()-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ssageList.setBackground(Color.yello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9163-4C14-4516-A076-F36030654DBE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7.8 Difficulties and Risks in Use Cas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Modelling and UI Desig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s differ wid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 for differences among users when you design the syst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it for internationaliz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you perform usability studies, try the system with many different types of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interface implementation technology changes rapi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ck to simpler UI frameworks widely used by ot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fancy and unusual UI designs involving specialized controls that will be hard to 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C082-7E1F-494C-8FC6-1F07A3592EF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ifficulties and Risks in Use Case Modelling and UI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interface design and implementation can often take the majority of work in an applica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UI design an integral part of the software engineering pro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cate time for many iterations of prototyping and evaluatio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ers often underestimate the weaknesses of a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all software engineers have training in UI develop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ways test with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 the UIs of other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6E84-E951-421C-9FC3-19AB9C5EC94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7.3 Developing Use-Case Models of Syste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cas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typical sequence of actions that a user performs in order to complete a given tas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3812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bjective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case analys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o model th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e point of view of how users interact with this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rying to achieve their objectiv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3812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case mod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sist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240" indent="-38088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et of use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240" indent="-38088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optional description or diagram indicating how they are rela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B4D8-5F86-4AEC-BEDD-4BB3773C1A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s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general, a use case should cover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sequence of step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the beginning of a task until the en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use case should describe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’s interac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the system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computations the system perfor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use case should be written so as to be a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pend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possible from any particular user interface desig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use case should only include actions in which the actor interacts with the compu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27E5-3D95-4861-9AED-BEBF882A56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n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cenario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n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 use cas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expresses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occurrenc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use c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pecific actor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a specific ti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specific dat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9BAC-1981-48DC-B138-E4EF0928B26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describe a single use c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Nam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ive a short, descriptive name to the use cas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Actor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ist the actors who can perform this use case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Goal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xplain what the actor or actors are trying to achiev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Preconditio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tate of the system before the use cas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 Descrip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ive a short informal descrip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 Related use cas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. Step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escribe each step using a 2-column forma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. Postconditio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tate of the system in following comple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D5D3-41F1-4BB6-8E99-DEA211EA4AB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se case diagra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95280" y="1209600"/>
            <a:ext cx="6324840" cy="42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: Focusing on Users and Their Tas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C265-FD62-40F2-A99F-46974D1BDEB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16:59:35Z</dcterms:created>
  <dc:creator>Timothy C. Lethbridge</dc:creator>
  <dc:description/>
  <dc:language>en-US</dc:language>
  <cp:lastModifiedBy>Timothy C. Lethbridge</cp:lastModifiedBy>
  <dcterms:modified xsi:type="dcterms:W3CDTF">2001-11-07T04:42:43Z</dcterms:modified>
  <cp:revision>88</cp:revision>
  <dc:subject/>
  <dc:title>SEG 2100 Software Design II</dc:title>
</cp:coreProperties>
</file>