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4BF-FB5F-4880-8175-8E59FF24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341-04E2-4A4D-9949-6167DFA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37E-04A7-4B67-97DC-05FCB5EC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80B-B8DC-4282-8DC4-2474AB64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B9-9C87-4145-8C25-74F765D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063-92C0-41FE-AF90-A3C08508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C22-990B-44C5-AA05-9AC110A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A1C-AFA6-43B2-B594-98B24FB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C7C-E5C2-4211-9C3D-B86B134B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7FF-E009-4AB5-9BE9-C4E02FFD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FD1-4E5F-46BD-B720-7BAB3F1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66B-548D-446C-BDD9-8DBFDE3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DC8-748C-416A-889A-327A9DCC1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rchitecting and Designing Softwa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esign the very high level structure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radually work down to detailed decisions about low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arrive at detailed decisions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at of particular data ite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vidual algorithms that will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A7D-2ACC-4F38-B171-CCFD6449FB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p-down and bottom-u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decisions about reusable low-level ut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ecide how these will be put together to create high-level constr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x of top-down and bottom-up approaches are normally us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 design is almost always needed to give the system a good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 design is normally useful so that reusable components can be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C99-C692-462A-81D6-520F9F5D5A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aspect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vision into subsystems and compon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se will be conn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y will inter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interfa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rious features of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putational mechan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communications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FD1-DC52-47A5-BB08-D320911A2B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2 Principles Leading to Goo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good desig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rofit by reducing cost and increasing reve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at we actually conform with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qualitie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56D-D8FF-42BE-8511-AB69A773A9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: Divide and conqu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ing to deal with something big all at once is normally much harder than dealing with a series of smaller thin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eople can work on each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software engineer can special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component is smaller, and therefore easier to underst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can be replaced or changed without having to replace or extensively change other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339-E949-4E3C-933E-7BE7B2330F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dividing a softw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system is divided up into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is divided up into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can be divided up into one or more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ckage is divided up into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divided up into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D2A-44DB-4561-86DE-65B2633F99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2: Increase cohesion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ystem or module has high cohesion if it keeps together things that are related to each other, and keeps out other th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kes the system as a whole easier to understand and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he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, Layer, Communicational, Sequential, Procedural, Temporal, Ut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A2A-ED49-4105-98A3-7866F571DE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cohe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chieved when all the code that computes a particular result is kept together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when a module only perform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utation, and returns a result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side-eff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to the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er to 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that update a database, create a new file or interact with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functionally cohe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6C2-A0C8-4427-893E-4CBD366244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yer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facilities for providing or accessing a set of related services are kept together, and everything else is kept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yers should form a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layers can access services of lower lay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ayers do not access hig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procedures through which a layer provides its service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gramming interface (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replace a layer without having any impact on the other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just replicate the AP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6EC-6520-4A0E-9415-B6E7607BF6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use of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261040" y="1992240"/>
            <a:ext cx="1224720" cy="416160"/>
            <a:chOff x="5261040" y="1992240"/>
            <a:chExt cx="1224720" cy="416160"/>
          </a:xfrm>
        </p:grpSpPr>
        <p:sp>
          <p:nvSpPr>
            <p:cNvPr id="81" name=""/>
            <p:cNvSpPr/>
            <p:nvPr/>
          </p:nvSpPr>
          <p:spPr>
            <a:xfrm>
              <a:off x="5261040" y="2000160"/>
              <a:ext cx="110952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6120" y="199224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6840" y="21718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521320" y="2678040"/>
            <a:ext cx="1130040" cy="416160"/>
            <a:chOff x="5521320" y="2678040"/>
            <a:chExt cx="1130040" cy="416160"/>
          </a:xfrm>
        </p:grpSpPr>
        <p:sp>
          <p:nvSpPr>
            <p:cNvPr id="85" name=""/>
            <p:cNvSpPr/>
            <p:nvPr/>
          </p:nvSpPr>
          <p:spPr>
            <a:xfrm>
              <a:off x="5521320" y="2685960"/>
              <a:ext cx="10778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81520" y="2678040"/>
              <a:ext cx="96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44800" y="285768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848200" y="3348000"/>
            <a:ext cx="1013040" cy="432000"/>
            <a:chOff x="5848200" y="3348000"/>
            <a:chExt cx="1013040" cy="432000"/>
          </a:xfrm>
        </p:grpSpPr>
        <p:sp>
          <p:nvSpPr>
            <p:cNvPr id="89" name=""/>
            <p:cNvSpPr/>
            <p:nvPr/>
          </p:nvSpPr>
          <p:spPr>
            <a:xfrm>
              <a:off x="5848200" y="3371760"/>
              <a:ext cx="1013040" cy="408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47720" y="3348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6120" y="352728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851360" y="4041720"/>
            <a:ext cx="1602000" cy="604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40338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38920" y="4213080"/>
            <a:ext cx="1472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73920" y="439272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5200" y="1494000"/>
            <a:ext cx="1633680" cy="245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1880" y="148608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346800" y="3771720"/>
            <a:ext cx="1440" cy="261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81640" y="310176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76840" y="3102120"/>
            <a:ext cx="1800" cy="9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954760" y="24159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5120" y="2416320"/>
            <a:ext cx="1440" cy="1600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91320" y="1730160"/>
            <a:ext cx="144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70320" y="1730520"/>
            <a:ext cx="180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0200" y="2865600"/>
            <a:ext cx="71928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8680" y="285768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7240" y="30369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62000" y="3551400"/>
            <a:ext cx="179712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9400" y="35434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22680" y="37227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68520" y="4237200"/>
            <a:ext cx="78444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4680" y="4229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1216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49800" y="4229280"/>
            <a:ext cx="1207440" cy="417240"/>
            <a:chOff x="3349800" y="4229280"/>
            <a:chExt cx="1207440" cy="417240"/>
          </a:xfrm>
        </p:grpSpPr>
        <p:sp>
          <p:nvSpPr>
            <p:cNvPr id="115" name=""/>
            <p:cNvSpPr/>
            <p:nvPr/>
          </p:nvSpPr>
          <p:spPr>
            <a:xfrm>
              <a:off x="3349800" y="4237200"/>
              <a:ext cx="116028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25280" y="422928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0240" y="440856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368460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00520" y="3968280"/>
            <a:ext cx="144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5264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83600" y="4229280"/>
            <a:ext cx="1089360" cy="417240"/>
            <a:chOff x="7383600" y="4229280"/>
            <a:chExt cx="1089360" cy="417240"/>
          </a:xfrm>
        </p:grpSpPr>
        <p:sp>
          <p:nvSpPr>
            <p:cNvPr id="122" name=""/>
            <p:cNvSpPr/>
            <p:nvPr/>
          </p:nvSpPr>
          <p:spPr>
            <a:xfrm>
              <a:off x="7383600" y="4237200"/>
              <a:ext cx="104436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6840" y="4229280"/>
              <a:ext cx="90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72520" y="440856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415280" y="3543480"/>
            <a:ext cx="1053000" cy="417240"/>
            <a:chOff x="7415280" y="3543480"/>
            <a:chExt cx="1053000" cy="417240"/>
          </a:xfrm>
        </p:grpSpPr>
        <p:sp>
          <p:nvSpPr>
            <p:cNvPr id="126" name=""/>
            <p:cNvSpPr/>
            <p:nvPr/>
          </p:nvSpPr>
          <p:spPr>
            <a:xfrm>
              <a:off x="7415280" y="35514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71520" y="35434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30560" y="3722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415280" y="2857680"/>
            <a:ext cx="1053000" cy="417240"/>
            <a:chOff x="7415280" y="2857680"/>
            <a:chExt cx="1053000" cy="417240"/>
          </a:xfrm>
        </p:grpSpPr>
        <p:sp>
          <p:nvSpPr>
            <p:cNvPr id="130" name=""/>
            <p:cNvSpPr/>
            <p:nvPr/>
          </p:nvSpPr>
          <p:spPr>
            <a:xfrm>
              <a:off x="7415280" y="2865600"/>
              <a:ext cx="98100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71520" y="285768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6720" y="30369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121520" y="2187720"/>
            <a:ext cx="1608120" cy="417240"/>
            <a:chOff x="7121520" y="2187720"/>
            <a:chExt cx="1608120" cy="417240"/>
          </a:xfrm>
        </p:grpSpPr>
        <p:sp>
          <p:nvSpPr>
            <p:cNvPr id="134" name=""/>
            <p:cNvSpPr/>
            <p:nvPr/>
          </p:nvSpPr>
          <p:spPr>
            <a:xfrm>
              <a:off x="7121520" y="2195640"/>
              <a:ext cx="1568520" cy="40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87360" y="21877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29160" y="236700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788184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897680" y="32824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897680" y="2595240"/>
            <a:ext cx="1800" cy="245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21040" y="4767120"/>
            <a:ext cx="151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21400" y="4964040"/>
            <a:ext cx="1495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48560" y="4767120"/>
            <a:ext cx="152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964040"/>
            <a:ext cx="128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3880" y="4767120"/>
            <a:ext cx="1879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0240" y="4964040"/>
            <a:ext cx="1971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4480" y="4237200"/>
            <a:ext cx="1355760" cy="409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54160" y="4229280"/>
            <a:ext cx="128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53320" y="44085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263680" y="3968280"/>
            <a:ext cx="18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14480" y="41227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852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41227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2000" y="34369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0200" y="2751120"/>
            <a:ext cx="2304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51360" y="3927600"/>
            <a:ext cx="2304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48200" y="32576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21320" y="25718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61040" y="1886040"/>
            <a:ext cx="228600" cy="114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5200" y="13795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21520" y="2081160"/>
            <a:ext cx="22860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5280" y="2751120"/>
            <a:ext cx="23004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15280" y="3436920"/>
            <a:ext cx="24588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83600" y="4122720"/>
            <a:ext cx="228600" cy="114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14720" y="4164120"/>
            <a:ext cx="98280" cy="48960"/>
            <a:chOff x="2214720" y="4164120"/>
            <a:chExt cx="98280" cy="48960"/>
          </a:xfrm>
        </p:grpSpPr>
        <p:sp>
          <p:nvSpPr>
            <p:cNvPr id="165" name=""/>
            <p:cNvSpPr/>
            <p:nvPr/>
          </p:nvSpPr>
          <p:spPr>
            <a:xfrm flipV="1">
              <a:off x="226368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22147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52280" y="4164120"/>
            <a:ext cx="97200" cy="48960"/>
            <a:chOff x="2852280" y="4164120"/>
            <a:chExt cx="97200" cy="48960"/>
          </a:xfrm>
        </p:grpSpPr>
        <p:sp>
          <p:nvSpPr>
            <p:cNvPr id="168" name=""/>
            <p:cNvSpPr/>
            <p:nvPr/>
          </p:nvSpPr>
          <p:spPr>
            <a:xfrm flipV="1">
              <a:off x="290052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5228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34920" y="4164120"/>
            <a:ext cx="99000" cy="48960"/>
            <a:chOff x="3634920" y="4164120"/>
            <a:chExt cx="99000" cy="48960"/>
          </a:xfrm>
        </p:grpSpPr>
        <p:sp>
          <p:nvSpPr>
            <p:cNvPr id="171" name=""/>
            <p:cNvSpPr/>
            <p:nvPr/>
          </p:nvSpPr>
          <p:spPr>
            <a:xfrm flipV="1">
              <a:off x="368460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634920" y="41641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03680" y="3478320"/>
            <a:ext cx="96840" cy="48960"/>
            <a:chOff x="2803680" y="3478320"/>
            <a:chExt cx="96840" cy="48960"/>
          </a:xfrm>
        </p:grpSpPr>
        <p:sp>
          <p:nvSpPr>
            <p:cNvPr id="174" name=""/>
            <p:cNvSpPr/>
            <p:nvPr/>
          </p:nvSpPr>
          <p:spPr>
            <a:xfrm flipV="1">
              <a:off x="2852640" y="34783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80368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741640" y="1926720"/>
            <a:ext cx="98640" cy="49320"/>
            <a:chOff x="5741640" y="1926720"/>
            <a:chExt cx="98640" cy="49320"/>
          </a:xfrm>
        </p:grpSpPr>
        <p:sp>
          <p:nvSpPr>
            <p:cNvPr id="177" name=""/>
            <p:cNvSpPr/>
            <p:nvPr/>
          </p:nvSpPr>
          <p:spPr>
            <a:xfrm flipV="1">
              <a:off x="5791320" y="19267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741640" y="19267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05080" y="2612520"/>
            <a:ext cx="99000" cy="49320"/>
            <a:chOff x="5905080" y="2612520"/>
            <a:chExt cx="99000" cy="49320"/>
          </a:xfrm>
        </p:grpSpPr>
        <p:sp>
          <p:nvSpPr>
            <p:cNvPr id="180" name=""/>
            <p:cNvSpPr/>
            <p:nvPr/>
          </p:nvSpPr>
          <p:spPr>
            <a:xfrm flipV="1">
              <a:off x="595476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5905080" y="2612520"/>
              <a:ext cx="4932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32680" y="3298320"/>
            <a:ext cx="96840" cy="49320"/>
            <a:chOff x="6232680" y="3298320"/>
            <a:chExt cx="96840" cy="49320"/>
          </a:xfrm>
        </p:grpSpPr>
        <p:sp>
          <p:nvSpPr>
            <p:cNvPr id="183" name=""/>
            <p:cNvSpPr/>
            <p:nvPr/>
          </p:nvSpPr>
          <p:spPr>
            <a:xfrm flipV="1">
              <a:off x="6281640" y="3298320"/>
              <a:ext cx="4788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6232680" y="3298320"/>
              <a:ext cx="48960" cy="49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97120" y="3968280"/>
            <a:ext cx="99000" cy="47880"/>
            <a:chOff x="6297120" y="3968280"/>
            <a:chExt cx="99000" cy="47880"/>
          </a:xfrm>
        </p:grpSpPr>
        <p:sp>
          <p:nvSpPr>
            <p:cNvPr id="186" name=""/>
            <p:cNvSpPr/>
            <p:nvPr/>
          </p:nvSpPr>
          <p:spPr>
            <a:xfrm flipV="1">
              <a:off x="634680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2971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27160" y="3968280"/>
            <a:ext cx="99000" cy="47880"/>
            <a:chOff x="5627160" y="3968280"/>
            <a:chExt cx="99000" cy="47880"/>
          </a:xfrm>
        </p:grpSpPr>
        <p:sp>
          <p:nvSpPr>
            <p:cNvPr id="189" name=""/>
            <p:cNvSpPr/>
            <p:nvPr/>
          </p:nvSpPr>
          <p:spPr>
            <a:xfrm flipV="1">
              <a:off x="567684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562716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21360" y="3968280"/>
            <a:ext cx="98280" cy="47880"/>
            <a:chOff x="5121360" y="3968280"/>
            <a:chExt cx="98280" cy="47880"/>
          </a:xfrm>
        </p:grpSpPr>
        <p:sp>
          <p:nvSpPr>
            <p:cNvPr id="192" name=""/>
            <p:cNvSpPr/>
            <p:nvPr/>
          </p:nvSpPr>
          <p:spPr>
            <a:xfrm flipV="1">
              <a:off x="5170320" y="3968280"/>
              <a:ext cx="4932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512136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66880" y="3968280"/>
            <a:ext cx="97200" cy="47880"/>
            <a:chOff x="5366880" y="3968280"/>
            <a:chExt cx="97200" cy="47880"/>
          </a:xfrm>
        </p:grpSpPr>
        <p:sp>
          <p:nvSpPr>
            <p:cNvPr id="195" name=""/>
            <p:cNvSpPr/>
            <p:nvPr/>
          </p:nvSpPr>
          <p:spPr>
            <a:xfrm flipV="1">
              <a:off x="5415120" y="3968280"/>
              <a:ext cx="4896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5366880" y="3968280"/>
              <a:ext cx="47880" cy="4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832880" y="4164120"/>
            <a:ext cx="96840" cy="48960"/>
            <a:chOff x="7832880" y="4164120"/>
            <a:chExt cx="96840" cy="48960"/>
          </a:xfrm>
        </p:grpSpPr>
        <p:sp>
          <p:nvSpPr>
            <p:cNvPr id="198" name=""/>
            <p:cNvSpPr/>
            <p:nvPr/>
          </p:nvSpPr>
          <p:spPr>
            <a:xfrm flipV="1">
              <a:off x="7881840" y="4164120"/>
              <a:ext cx="4788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7832880" y="41641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848720" y="3478320"/>
            <a:ext cx="98280" cy="48960"/>
            <a:chOff x="7848720" y="3478320"/>
            <a:chExt cx="98280" cy="48960"/>
          </a:xfrm>
        </p:grpSpPr>
        <p:sp>
          <p:nvSpPr>
            <p:cNvPr id="201" name=""/>
            <p:cNvSpPr/>
            <p:nvPr/>
          </p:nvSpPr>
          <p:spPr>
            <a:xfrm flipV="1">
              <a:off x="7897680" y="34783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7848720" y="34783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848720" y="2792520"/>
            <a:ext cx="98280" cy="48960"/>
            <a:chOff x="7848720" y="2792520"/>
            <a:chExt cx="98280" cy="48960"/>
          </a:xfrm>
        </p:grpSpPr>
        <p:sp>
          <p:nvSpPr>
            <p:cNvPr id="204" name=""/>
            <p:cNvSpPr/>
            <p:nvPr/>
          </p:nvSpPr>
          <p:spPr>
            <a:xfrm flipV="1">
              <a:off x="7897680" y="2792520"/>
              <a:ext cx="4932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7848720" y="2792520"/>
              <a:ext cx="48960" cy="48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2A4-FAF9-450B-BFC8-990C47A177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1 The Process of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roblem-solving process whose objective is to find and describe a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lement the system’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respecting the constraints imposed by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the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hile adhering to general principle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A18-4B68-4C91-9EA2-F45DCDD7ED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modules that access or manipulate certain data are kept together (e.g. in the same class) - and everything else is kept o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would have good communicational cohe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the system’s facilities for storing and manipulating its data are contain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lass does not do anything other than manage its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advantage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you need to make changes to the data, you  find all the code in one 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9FC-9C87-464B-9E2E-C36A770257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, in which one procedure provides input to the next, are kept together –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sequential cohesion, only once you have already achieved the preceding types of cohes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019-FE53-4719-A7D5-7D5C2AC24B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ogether several procedures that are used one after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one does not necessarily provide input to the n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sequential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3C2-845F-4F99-B884-64CC403823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poral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that are performed during the same phase of the execution of the program are kept together, and everything else is kept 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lacing together the code used during system start-up or init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than procedur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202-B67B-4236-87EA-54298AF14D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ty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related utilities which cannot be logically placed in other cohesive units are kept toge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tility is a procedure or class that has wide applicability to many different subsystems and is designed to b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lang.M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592-5633-4877-B37C-DBA96CB8BE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3: Reduce coupling where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curs when there ar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one module and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nterdependencies exist, changes in one place will require changes somewhere 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f interdependencies makes it hard to see at a glance how some componen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coup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, Common, Control, Stamp, Data, Routine Call, Type use, Inclusion/Import,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352680" y="5048280"/>
            <a:ext cx="320040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EC8-F633-407F-B56B-0CBB93AA91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eptitious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es data that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other compon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content coupling you should therefo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apsul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them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rovide get and set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orse form of content coupling occurs when you directly modify an instance variab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1A3-C5EA-4C57-81F7-992B42AD55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content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050840"/>
            <a:ext cx="7086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Point start, e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Start() { return star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 getEnd()  { return end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ne base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slant(int new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theEnd = baseline.getEnd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End.setLocation(theEnd.getX(),new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F69-416C-45E5-83B4-03D69DE4A3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you use a global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onents using the global variable become coupl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aker form of common coupling is when a variable can be accessed by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’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Java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acceptable for creating global variables that represent system-wide default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pattern provides encapsulated global access to an 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EE5-FFF1-4D23-86FB-935A01B670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procedure calls another using a ‘flag’ or ‘command’ that explicitly controls what the second procedure do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change you have to change both the calling and call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polymorphic operations is normally the best way to avoid control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to reduce the control coupling could be to 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are then mapped to a method that should be called when that command is issu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B3B-1459-47CA-B7A6-F89FF35125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as a series of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signer is faced with a serie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ss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sub-problems of the overall design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ssue normally has several alternative solu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er mak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ci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solve each iss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cess involves choosing the best option from among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607-1DF6-4A5F-808A-9BA427E534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ontro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1676520"/>
            <a:ext cx="586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routineX(String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command.equals("drawCircl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Circ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Rectang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0B2-41F0-4156-98E5-F8FC99F2C5B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mp coupl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one of your application classes is declared as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method argu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one class now uses the other, changing the system becomes h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ing one class requires reusing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reduce stamp coupl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as the argumen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simpl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EC8-1596-439C-9374-147967260C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3716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Employee e, String 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870360"/>
            <a:ext cx="7467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ame, String email, String tex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4960" y="3429000"/>
            <a:ext cx="450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imple data types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A8F-0D09-482B-80AA-3F1C865C9F7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stamp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523880"/>
            <a:ext cx="7238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interface Addres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Nam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abstract String getEmai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ployee implements Addressee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ma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Email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ressee e, String t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2000" y="1143000"/>
            <a:ext cx="38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interface to avoid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FE6-1996-4922-827A-6F11D1FC139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ever the types of method arguments are either primitive or else simple library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arguments a method has, the higher the cou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thods that use the method must pass all the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duce coupling by not giving methods unnecessary 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de-off between data coupling and stamp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one often decreases the oth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0BD-040B-4035-BAE5-47A40C5E60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utine cal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routine (or method in an object oriented system) calls an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utines are coupled because they depend on each oth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e call coupling is always present in any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epetitively use a sequence of two or more methods to compute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you can reduce routine call coupling by writing a single routine that encapsulates the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3A6-5C0C-4036-BC7A-9B47A98B6A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 use coupling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 a module uses a data type defined in another modul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any time a class declares an instance variable or a local variable as having another class for its typ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sequence of type use coupling is that if the type definition changes, then the users of the type may have to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declare the type of a variable to be the most general possible class or interface that contains the required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510-3080-4C9A-A491-B2DA4D6933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 or import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one component imports a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one component includes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in C++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luding or importing component is now exposed to everything in the included or imported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included/imported component changes something or adds some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raises a conflict with something in the includer, forcing the includer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tem in an impo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might ha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name as something you have already 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582-E601-408C-B618-2AA5C42011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 cou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odule has a dependency on such things as the operating system, shared libraries or the hard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best to reduce the number of places in the code where such dependencie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çade design pattern can reduce external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63C-4335-4214-96FC-E4CE3470CD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4: Keep the level of abstraction as high as poss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your designs allow you to hide or defer consideration of details, thus reducing complex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abstraction is said to provi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s allow you to understand the essence of a subsystem without having to know unnecessary 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E84-E1D0-42CF-A7AD-B99E6952F2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each design decision, the software engineer u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as created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sign principles and ‘best practice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s worked well in the p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92A-CD5A-47F4-B51B-4C60A821CA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 an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ata abstractions that contain procedural abst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ion is increased by defining all variables as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wer public methods in a class, the better the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es and interfaces increase the level of abs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and associations are also data abst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re procedural abstr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abstractions are achieved by giving methods fewer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219-F9B0-4833-ADFE-77DCDC1417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5: Increase reusability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ous aspects of your system so that they can be used again in other contex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preceding three design prin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your system to contain h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 your design as much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02E-34EF-4A0B-9D1A-F0DDD48B9B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6: Reuse existing designs and code where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with reuse is complementary to design for reus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reusing designs or code allows you to take advantage of the investment you or others have made in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not be seen as a form of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C31-B83A-4712-BE87-3E1227A8C2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7: Design for flexi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ly anticipate changes that a design may have to undergo in the future, and prepare for th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 and increase cohe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bst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rd-code any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 option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strict the options of people who have to modify the system l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usable code and make code reu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B64-A47F-4DC7-B962-D5993E16124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8: Anticipate obsolesc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for changes in the technology or environment so the software will continue to run or can be easily chang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early releases of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libraries that are specific to particular environ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undocumented features or little-used features of software libr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using software or special hardware from companies that are less likely to provide long-term sup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 languages and technologies that are supported by multiple vend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98A-3EF5-4622-B45A-E590D5B8711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9: Design for Por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oftware run on as many platforms as poss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he use of facilities that are specific to one particular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library only available in Microsoft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177-8B93-4F30-A813-AD5CE37B7D7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0: Design for Tes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steps to make testing easi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 program to automatically test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more in Chapt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the functionality of the code can by driven by an external program, bypassing a graphical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, you can create a main() method in each class in order to exercise the othe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38C-B298-4662-B4E5-ECAC21EE4D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Principle 11: Design defen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trust how others will try to use a component you are desig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 all cases where other code might attempt to use your component inappropr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at all of the inputs to your component are valid: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over-zealous defensive design can result in unnecessar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etitiv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81F-106E-4348-92F6-164F48926F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chnique that allows you to design defensively in an efficient and systematic 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hod has an explic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its ca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ract has a set of assertions that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requires to be true when it starts execu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to ensure are true when it finishes exec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ria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lled method agrees will not change as it exec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756-E741-49DE-AC08-BF0CEA594A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3 Techniques for making good design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riorities and objectives to decide among alterna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 List and describe the alternatives for the design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 List the advantages and disadvantages of each alternative with respect to your objectives and prior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: Determine whether any of the alternatives prevents you from meeting one or more of the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: Choose the alternative that helps you to best meet you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5: Adjust priorities for subsequent decision mak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633-DF70-4F66-895E-FEBF94BC48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ace of possible designs that could be achieved by choosing different sets of alternatives is often called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p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79800"/>
            <a:ext cx="670572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360-804F-4F0C-A0D3-38CECA666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prioritie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e a system has the following objectives, starting with top prior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cryption must not be breakable within 100 hours of computing time on a 400Mhz Intel processor, using known cryptanalysi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 specific o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respond to the user within one second when running on a 400MHz Intel proces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bandwidth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ust not require transmission of more than 8KB of data per trans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efficien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ust not consume over 20MB of 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ility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able to run on Windows 98, NT 4 and ME as well as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F71-07E1-4A2B-B84E-CC1AF7BB62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valuation of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066680" y="1752480"/>
          <a:ext cx="8686800" cy="250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68680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2840" y="45687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’ means that the objective is not 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07B-9110-4FF7-B762-3EA8F77D3143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cost-benefit analysis to choose among 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 of do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, including ongoing mainte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of an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cost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users and product support personn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d 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software engineering time sa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remental benefits measured in terms of either increased sales or else financial benefit to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3A6-AF54-4180-9FB3-EDBF706DED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4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architectu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ocess of designing the global organization of a software system, includ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oftware into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how these will inte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their 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the core of the design, so all software engineers need to understan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will often constrain the overall efficiency, reusability and maintainability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E8A-27E1-43DF-B0E5-076030C2606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you need to develop an architectural mode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everyone to better understand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people to work on individual pieces of the system in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pare for extension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acilitate reuse and 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5D5-B39E-4984-82C9-DEEE00DBDC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ts of a good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’s architecture will often be expressed in terms of several differen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breakdown into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faces among the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ynamics of the interaction among components at run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that will be shared among the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that will exist at run time, and the machines or devices on which they will be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731-56FF-4701-8B2F-592678011B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tabl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sure the maintainability and reliability of a system, an architectural model must be designed to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stable means that the new features can be easily added with only small changes to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EFC-846F-43EB-81C9-B818990A413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sketching an outline of the architec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principal requirements an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main components that will b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among the various architectur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ed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ave several different teams independently develop a first draft of the architecture and merge together the best id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76F-308A-40FE-B467-B10E36BE6A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n architectu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ain ways in which the components will interact and the interfaces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how each piece of data and functionality will be distributed among the various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you can re-use an existing framework, if you can build 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ach use case and adjust the architecture to make it re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ure the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AD1-DAFE-45DC-B2BD-6858C5BB4A7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an architecture using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UML diagrams can be useful to describe aspects of the architectur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UML diagrams are particularly suitable for architecture modell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94E-23AE-41AD-9648-189EE91582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iece of software or hardware that has a clear ro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can be isolated, allowing you to replace it with a different component that has equivalent function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mponents are designed to be reu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others perform special-purpose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15C-0A1C-428B-BD0E-821DFF45B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619760" cy="20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E53-175E-4F06-A066-39CD6169467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ystem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59080" y="1646280"/>
            <a:ext cx="7041960" cy="41878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9080" y="1257480"/>
            <a:ext cx="1358640" cy="38556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52760" y="1838160"/>
            <a:ext cx="350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questToRegister(aStudent) :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52760" y="20653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Course(a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54560" y="2290680"/>
            <a:ext cx="2131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tSchedule( ) : It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54720" y="1634760"/>
            <a:ext cx="1440" cy="4210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2743200"/>
            <a:ext cx="4006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37636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647800" y="1434960"/>
            <a:ext cx="18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376360" y="1430280"/>
            <a:ext cx="27144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511360" y="1339560"/>
            <a:ext cx="18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262240" y="3672000"/>
            <a:ext cx="703080" cy="588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2720" y="3162240"/>
            <a:ext cx="1676520" cy="816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57080" y="33321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iste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66360" y="35593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50960" y="3817800"/>
            <a:ext cx="476280" cy="758880"/>
            <a:chOff x="1650960" y="3817800"/>
            <a:chExt cx="476280" cy="758880"/>
          </a:xfrm>
        </p:grpSpPr>
        <p:sp>
          <p:nvSpPr>
            <p:cNvPr id="311" name=""/>
            <p:cNvSpPr/>
            <p:nvPr/>
          </p:nvSpPr>
          <p:spPr>
            <a:xfrm>
              <a:off x="1752480" y="3817800"/>
              <a:ext cx="2955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0080" y="4056120"/>
              <a:ext cx="1800" cy="385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00080" y="4441680"/>
              <a:ext cx="22716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650960" y="4441680"/>
              <a:ext cx="249120" cy="135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650960" y="4192560"/>
              <a:ext cx="249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00080" y="4192560"/>
              <a:ext cx="22716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726560" y="46227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76240" y="4849920"/>
            <a:ext cx="47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6480" y="4995720"/>
            <a:ext cx="1674720" cy="79236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7840" y="514368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06680" y="53704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6480" y="4091040"/>
            <a:ext cx="1674720" cy="792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64280" y="42386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90120" y="446400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2240" y="4282920"/>
            <a:ext cx="815760" cy="905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62240" y="4260960"/>
            <a:ext cx="725400" cy="90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44600" y="2224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94200" y="2222640"/>
            <a:ext cx="11448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64120" y="2052720"/>
            <a:ext cx="1925640" cy="657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3160" y="220032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32160" y="38307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35680" y="3807000"/>
            <a:ext cx="1800" cy="407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2160" y="292572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22880" y="3162240"/>
            <a:ext cx="1449360" cy="657360"/>
            <a:chOff x="6122880" y="3162240"/>
            <a:chExt cx="1449360" cy="657360"/>
          </a:xfrm>
        </p:grpSpPr>
        <p:sp>
          <p:nvSpPr>
            <p:cNvPr id="344" name=""/>
            <p:cNvSpPr/>
            <p:nvPr/>
          </p:nvSpPr>
          <p:spPr>
            <a:xfrm>
              <a:off x="6122880" y="3162240"/>
              <a:ext cx="144936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2960" y="3309840"/>
              <a:ext cx="118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145200" y="4248000"/>
            <a:ext cx="1405080" cy="657360"/>
            <a:chOff x="6145200" y="4248000"/>
            <a:chExt cx="1405080" cy="657360"/>
          </a:xfrm>
        </p:grpSpPr>
        <p:sp>
          <p:nvSpPr>
            <p:cNvPr id="347" name=""/>
            <p:cNvSpPr/>
            <p:nvPr/>
          </p:nvSpPr>
          <p:spPr>
            <a:xfrm>
              <a:off x="6145200" y="4248000"/>
              <a:ext cx="1405080" cy="657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9920" y="437364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835680" y="2720880"/>
            <a:ext cx="1800" cy="40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16440" y="2517840"/>
            <a:ext cx="2217600" cy="1765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250960" y="2019240"/>
            <a:ext cx="701640" cy="317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825360" y="2222280"/>
            <a:ext cx="2127240" cy="136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11600" y="2087640"/>
            <a:ext cx="181080" cy="249120"/>
          </a:xfrm>
          <a:custGeom>
            <a:avLst/>
            <a:gdLst/>
            <a:ahLst/>
            <a:rect l="l" t="t" r="r" b="b"/>
            <a:pathLst>
              <a:path w="114" h="157">
                <a:moveTo>
                  <a:pt x="0" y="85"/>
                </a:moveTo>
                <a:lnTo>
                  <a:pt x="114" y="0"/>
                </a:lnTo>
                <a:lnTo>
                  <a:pt x="114" y="157"/>
                </a:lnTo>
                <a:lnTo>
                  <a:pt x="0" y="85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80000" y="354636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53200" y="354636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26040" y="332100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00680" y="3094200"/>
            <a:ext cx="903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3520" y="286848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8160" y="2822400"/>
            <a:ext cx="90360" cy="2048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1000" y="2800440"/>
            <a:ext cx="90720" cy="903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17960" y="2529000"/>
            <a:ext cx="90360" cy="15876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05360" y="377352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0200" y="4000680"/>
            <a:ext cx="90720" cy="40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5720" y="2427120"/>
            <a:ext cx="203400" cy="225720"/>
          </a:xfrm>
          <a:custGeom>
            <a:avLst/>
            <a:gdLst/>
            <a:ahLst/>
            <a:rect l="l" t="t" r="r" b="b"/>
            <a:pathLst>
              <a:path w="128" h="142">
                <a:moveTo>
                  <a:pt x="0" y="0"/>
                </a:moveTo>
                <a:lnTo>
                  <a:pt x="128" y="28"/>
                </a:lnTo>
                <a:lnTo>
                  <a:pt x="28" y="14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05240" y="1974960"/>
            <a:ext cx="204840" cy="20304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0" y="0"/>
                </a:moveTo>
                <a:lnTo>
                  <a:pt x="129" y="0"/>
                </a:lnTo>
                <a:lnTo>
                  <a:pt x="43" y="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3400" y="2120760"/>
            <a:ext cx="6804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56240" y="2120760"/>
            <a:ext cx="6840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08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6040" y="2143080"/>
            <a:ext cx="92160" cy="40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0068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73520" y="2166840"/>
            <a:ext cx="921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48160" y="2166840"/>
            <a:ext cx="9036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21000" y="2166840"/>
            <a:ext cx="90720" cy="40824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94200" y="2166840"/>
            <a:ext cx="92160" cy="1810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59880" y="1703520"/>
            <a:ext cx="202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ealiz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8920" y="2811600"/>
            <a:ext cx="22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pecifica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9F5-7927-4938-99B0-88D4644C051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04480" y="3081240"/>
            <a:ext cx="84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17680" y="2695680"/>
            <a:ext cx="22035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41136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60640" y="342900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38560" y="30812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96240" y="2695680"/>
            <a:ext cx="2093760" cy="1212840"/>
          </a:xfrm>
          <a:prstGeom prst="rect">
            <a:avLst/>
          </a:prstGeom>
          <a:noFill/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1480" y="2787480"/>
            <a:ext cx="3003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2935440"/>
            <a:ext cx="403200" cy="21888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0640" y="2952720"/>
            <a:ext cx="368280" cy="18432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21560" y="3411360"/>
            <a:ext cx="403200" cy="220680"/>
          </a:xfrm>
          <a:custGeom>
            <a:avLst/>
            <a:gdLst/>
            <a:ahLst/>
            <a:rect l="l" t="t" r="r" b="b"/>
            <a:pathLst>
              <a:path w="254" h="139">
                <a:moveTo>
                  <a:pt x="0" y="0"/>
                </a:moveTo>
                <a:lnTo>
                  <a:pt x="254" y="0"/>
                </a:lnTo>
                <a:lnTo>
                  <a:pt x="254" y="139"/>
                </a:lnTo>
                <a:lnTo>
                  <a:pt x="0" y="13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8840" y="3429000"/>
            <a:ext cx="368280" cy="18576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21560" y="2935440"/>
            <a:ext cx="403200" cy="218880"/>
          </a:xfrm>
          <a:custGeom>
            <a:avLst/>
            <a:gdLst/>
            <a:ahLst/>
            <a:rect l="l" t="t" r="r" b="b"/>
            <a:pathLst>
              <a:path w="254" h="138">
                <a:moveTo>
                  <a:pt x="0" y="0"/>
                </a:moveTo>
                <a:lnTo>
                  <a:pt x="254" y="0"/>
                </a:lnTo>
                <a:lnTo>
                  <a:pt x="254" y="138"/>
                </a:lnTo>
                <a:lnTo>
                  <a:pt x="0" y="13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8840" y="2952720"/>
            <a:ext cx="368280" cy="184320"/>
          </a:xfrm>
          <a:prstGeom prst="rect">
            <a:avLst/>
          </a:prstGeom>
          <a:solidFill>
            <a:srgbClr val="ffffff"/>
          </a:solidFill>
          <a:ln w="36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39040" y="2825640"/>
            <a:ext cx="878760" cy="8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4" y="14502"/>
                </a:moveTo>
                <a:arcTo wR="10800" hR="10800" stAng="9597110" swAng="2405781"/>
                <a:lnTo>
                  <a:pt x="10800" y="10800"/>
                </a:lnTo>
                <a:close/>
              </a:path>
              <a:path fill="none" w="21600" h="21600">
                <a:moveTo>
                  <a:pt x="654" y="14502"/>
                </a:moveTo>
                <a:arcTo wR="10800" hR="10800" stAng="9597110" swAng="240578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45000" y="3265560"/>
            <a:ext cx="2930400" cy="144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FCD-5B3D-48F9-999D-6D3D347AC1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loyment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81660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30524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7712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6576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804080" y="318132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315040" y="318132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816240" y="3379680"/>
            <a:ext cx="98748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304880" y="3379680"/>
            <a:ext cx="100980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816240" y="4324320"/>
            <a:ext cx="9874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304880" y="4324320"/>
            <a:ext cx="100980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804080" y="3180960"/>
            <a:ext cx="40320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15040" y="3180960"/>
            <a:ext cx="38088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07280" y="3181320"/>
            <a:ext cx="180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95920" y="318132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804080" y="4038480"/>
            <a:ext cx="40320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315040" y="4038480"/>
            <a:ext cx="38088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80408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15040" y="337968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81660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30524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6600" y="3400560"/>
            <a:ext cx="425520" cy="133200"/>
          </a:xfrm>
          <a:custGeom>
            <a:avLst/>
            <a:gdLst/>
            <a:ahLst/>
            <a:rect l="l" t="t" r="r" b="b"/>
            <a:pathLst>
              <a:path w="268" h="84">
                <a:moveTo>
                  <a:pt x="0" y="84"/>
                </a:moveTo>
                <a:lnTo>
                  <a:pt x="268" y="84"/>
                </a:lnTo>
                <a:lnTo>
                  <a:pt x="268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86600" y="3400560"/>
            <a:ext cx="4255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97560" y="3400560"/>
            <a:ext cx="403200" cy="133200"/>
          </a:xfrm>
          <a:custGeom>
            <a:avLst/>
            <a:gdLst/>
            <a:ahLst/>
            <a:rect l="l" t="t" r="r" b="b"/>
            <a:pathLst>
              <a:path w="254" h="84">
                <a:moveTo>
                  <a:pt x="0" y="84"/>
                </a:moveTo>
                <a:lnTo>
                  <a:pt x="254" y="84"/>
                </a:lnTo>
                <a:lnTo>
                  <a:pt x="254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97560" y="3400560"/>
            <a:ext cx="40320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38960" y="3797280"/>
            <a:ext cx="12776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74360" y="337824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73480" y="351000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85720" y="337824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chine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166760" y="3180960"/>
            <a:ext cx="56052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727280" y="3181320"/>
            <a:ext cx="83016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152800" y="318132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66400" y="3379680"/>
            <a:ext cx="986040" cy="180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166400" y="4324320"/>
            <a:ext cx="98604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52800" y="3180960"/>
            <a:ext cx="404640" cy="1983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57440" y="3181320"/>
            <a:ext cx="1440" cy="85716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152800" y="4038480"/>
            <a:ext cx="404640" cy="2858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52800" y="3379680"/>
            <a:ext cx="144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166760" y="3379680"/>
            <a:ext cx="1800" cy="9446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34960" y="3400560"/>
            <a:ext cx="427320" cy="133200"/>
          </a:xfrm>
          <a:custGeom>
            <a:avLst/>
            <a:gdLst/>
            <a:ahLst/>
            <a:rect l="l" t="t" r="r" b="b"/>
            <a:pathLst>
              <a:path w="269" h="84">
                <a:moveTo>
                  <a:pt x="0" y="84"/>
                </a:moveTo>
                <a:lnTo>
                  <a:pt x="269" y="84"/>
                </a:lnTo>
                <a:lnTo>
                  <a:pt x="269" y="0"/>
                </a:lnTo>
                <a:lnTo>
                  <a:pt x="0" y="0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34960" y="3400560"/>
            <a:ext cx="42732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5400" y="340056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86280" y="36212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55840" y="3797280"/>
            <a:ext cx="1927080" cy="1440"/>
          </a:xfrm>
          <a:prstGeom prst="line">
            <a:avLst/>
          </a:prstGeom>
          <a:ln w="2232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73160" y="329076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03680" y="3510000"/>
            <a:ext cx="136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33560" y="36640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9080" y="367668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51320" y="370836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62480" y="3719520"/>
            <a:ext cx="13320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51320" y="3840120"/>
            <a:ext cx="155520" cy="66600"/>
          </a:xfrm>
          <a:custGeom>
            <a:avLst/>
            <a:gdLst/>
            <a:ahLst/>
            <a:rect l="l" t="t" r="r" b="b"/>
            <a:pathLst>
              <a:path w="98" h="42">
                <a:moveTo>
                  <a:pt x="0" y="0"/>
                </a:moveTo>
                <a:lnTo>
                  <a:pt x="98" y="0"/>
                </a:lnTo>
                <a:lnTo>
                  <a:pt x="98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62480" y="3851280"/>
            <a:ext cx="133200" cy="442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3560" y="3994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29080" y="4005360"/>
            <a:ext cx="830160" cy="26352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1320" y="4038480"/>
            <a:ext cx="179280" cy="6696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62480" y="4049640"/>
            <a:ext cx="15696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51320" y="4170240"/>
            <a:ext cx="179280" cy="66960"/>
          </a:xfrm>
          <a:custGeom>
            <a:avLst/>
            <a:gdLst/>
            <a:ahLst/>
            <a:rect l="l" t="t" r="r" b="b"/>
            <a:pathLst>
              <a:path w="113" h="42">
                <a:moveTo>
                  <a:pt x="0" y="0"/>
                </a:moveTo>
                <a:lnTo>
                  <a:pt x="113" y="0"/>
                </a:lnTo>
                <a:lnTo>
                  <a:pt x="113" y="42"/>
                </a:lnTo>
                <a:lnTo>
                  <a:pt x="0" y="4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62480" y="4181400"/>
            <a:ext cx="156960" cy="446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51400" y="375300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40440" y="3741840"/>
            <a:ext cx="830520" cy="2854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61240" y="3797280"/>
            <a:ext cx="156960" cy="6516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72400" y="3808440"/>
            <a:ext cx="135000" cy="428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3929040"/>
            <a:ext cx="156960" cy="65160"/>
          </a:xfrm>
          <a:custGeom>
            <a:avLst/>
            <a:gdLst/>
            <a:ahLst/>
            <a:rect l="l" t="t" r="r" b="b"/>
            <a:pathLst>
              <a:path w="99" h="41">
                <a:moveTo>
                  <a:pt x="0" y="0"/>
                </a:moveTo>
                <a:lnTo>
                  <a:pt x="99" y="0"/>
                </a:lnTo>
                <a:lnTo>
                  <a:pt x="99" y="41"/>
                </a:lnTo>
                <a:lnTo>
                  <a:pt x="0" y="4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2400" y="3940200"/>
            <a:ext cx="135000" cy="428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DB9-E282-43F1-9D3F-60612BC8C7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5 Architectural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tion of patterns can be applied to software architectur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called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chitectural patter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sty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llows you to design flexible systems using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are as independent of each other as pos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7FB-8707-458C-B355-0B63F0BD34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ulti-Lay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yered system, each layer communicates only with the layer immediately below i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ayer has a well-defined interface used by the layer immediately abo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gher layer sees the lower layer as a set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lex system can be built by superposing layers at increasing levels of abs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mportant to have a separate layer for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 immediately below the UI layer provide the application functions determined by the use-c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 layers provide general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network communication, databas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E61-2C71-47E3-9649-EFD15E90EA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multi-lay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270400" y="2311560"/>
            <a:ext cx="1137240" cy="422280"/>
            <a:chOff x="5270400" y="2311560"/>
            <a:chExt cx="1137240" cy="422280"/>
          </a:xfrm>
        </p:grpSpPr>
        <p:sp>
          <p:nvSpPr>
            <p:cNvPr id="467" name=""/>
            <p:cNvSpPr/>
            <p:nvPr/>
          </p:nvSpPr>
          <p:spPr>
            <a:xfrm>
              <a:off x="5270400" y="2317680"/>
              <a:ext cx="1127160" cy="416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82280" y="231156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creen display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80480" y="249408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acilit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535720" y="3006720"/>
            <a:ext cx="1093680" cy="422280"/>
            <a:chOff x="5535720" y="3006720"/>
            <a:chExt cx="1093680" cy="422280"/>
          </a:xfrm>
        </p:grpSpPr>
        <p:sp>
          <p:nvSpPr>
            <p:cNvPr id="471" name=""/>
            <p:cNvSpPr/>
            <p:nvPr/>
          </p:nvSpPr>
          <p:spPr>
            <a:xfrm>
              <a:off x="5535720" y="3014640"/>
              <a:ext cx="10936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9640" y="3006720"/>
              <a:ext cx="1015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User accou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0000" y="3189240"/>
              <a:ext cx="960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867280" y="3686040"/>
            <a:ext cx="1027080" cy="438120"/>
            <a:chOff x="5867280" y="3686040"/>
            <a:chExt cx="1027080" cy="438120"/>
          </a:xfrm>
        </p:grpSpPr>
        <p:sp>
          <p:nvSpPr>
            <p:cNvPr id="475" name=""/>
            <p:cNvSpPr/>
            <p:nvPr/>
          </p:nvSpPr>
          <p:spPr>
            <a:xfrm>
              <a:off x="5867280" y="3710160"/>
              <a:ext cx="1027080" cy="414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24520" y="368604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Fi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25240" y="3868560"/>
              <a:ext cx="52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56040" y="4389480"/>
            <a:ext cx="1623960" cy="61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933080" y="43815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36680" y="4564080"/>
            <a:ext cx="151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(handling process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35240" y="474660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nd swapp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08440" y="1805040"/>
            <a:ext cx="1656000" cy="249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86920" y="179712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57080" y="4183200"/>
            <a:ext cx="3988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5" y="652"/>
                </a:moveTo>
                <a:arcTo wR="10800" hR="10800" stAng="-6600533" swAng="2397952"/>
                <a:lnTo>
                  <a:pt x="10800" y="10800"/>
                </a:lnTo>
                <a:close/>
              </a:path>
              <a:path fill="none" w="21600" h="21600">
                <a:moveTo>
                  <a:pt x="7105" y="652"/>
                </a:moveTo>
                <a:arcTo wR="10800" hR="10800" stAng="-6600533" swAng="239795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356520" y="4116240"/>
            <a:ext cx="1440" cy="82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1920" y="3486240"/>
            <a:ext cx="39600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289560" y="343656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7884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76840" y="3436920"/>
            <a:ext cx="1800" cy="746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59280" y="2800440"/>
            <a:ext cx="39708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7" y="655"/>
                </a:moveTo>
                <a:arcTo wR="10800" hR="10800" stAng="-6602968" swAng="2409063"/>
                <a:lnTo>
                  <a:pt x="10800" y="10800"/>
                </a:lnTo>
                <a:close/>
              </a:path>
              <a:path fill="none" w="21600" h="21600">
                <a:moveTo>
                  <a:pt x="7097" y="655"/>
                </a:moveTo>
                <a:arcTo wR="10800" hR="10800" stAng="-6602968" swAng="24090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5958000" y="27414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13520" y="4165560"/>
            <a:ext cx="39636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1880" y="2741760"/>
            <a:ext cx="1440" cy="144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94040" y="2095560"/>
            <a:ext cx="3974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8" y="658"/>
                </a:moveTo>
                <a:arcTo wR="10800" hR="10800" stAng="-6606095" swAng="2412189"/>
                <a:lnTo>
                  <a:pt x="10800" y="10800"/>
                </a:lnTo>
                <a:close/>
              </a:path>
              <a:path fill="none" w="21600" h="21600">
                <a:moveTo>
                  <a:pt x="7088" y="658"/>
                </a:moveTo>
                <a:arcTo wR="10800" hR="10800" stAng="-6606095" swAng="24121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792760" y="2045880"/>
            <a:ext cx="144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64760" y="41655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164200" y="2046240"/>
            <a:ext cx="1440" cy="213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73200" y="3195720"/>
            <a:ext cx="728640" cy="4158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97680" y="31892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98400" y="3371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25640" y="3892680"/>
            <a:ext cx="182232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00120" y="38847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99040" y="406728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440080" y="4587840"/>
            <a:ext cx="79524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67080" y="457992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6600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333600" y="4579920"/>
            <a:ext cx="1176120" cy="422280"/>
            <a:chOff x="3333600" y="4579920"/>
            <a:chExt cx="1176120" cy="422280"/>
          </a:xfrm>
        </p:grpSpPr>
        <p:sp>
          <p:nvSpPr>
            <p:cNvPr id="508" name=""/>
            <p:cNvSpPr/>
            <p:nvPr/>
          </p:nvSpPr>
          <p:spPr>
            <a:xfrm>
              <a:off x="3333600" y="4587840"/>
              <a:ext cx="117612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60240" y="457992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Networ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61680" y="476244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3458520" y="4363920"/>
            <a:ext cx="39852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6561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6436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86236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13240" y="3668760"/>
            <a:ext cx="39924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813040" y="361908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423200" y="4579920"/>
            <a:ext cx="1060560" cy="422280"/>
            <a:chOff x="7423200" y="4579920"/>
            <a:chExt cx="1060560" cy="422280"/>
          </a:xfrm>
        </p:grpSpPr>
        <p:sp>
          <p:nvSpPr>
            <p:cNvPr id="518" name=""/>
            <p:cNvSpPr/>
            <p:nvPr/>
          </p:nvSpPr>
          <p:spPr>
            <a:xfrm>
              <a:off x="7423200" y="4587840"/>
              <a:ext cx="106056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280" y="4579920"/>
              <a:ext cx="95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Transmitt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280" y="4762440"/>
              <a:ext cx="979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nd receiv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456320" y="3884760"/>
            <a:ext cx="993600" cy="422280"/>
            <a:chOff x="7456320" y="3884760"/>
            <a:chExt cx="993600" cy="422280"/>
          </a:xfrm>
        </p:grpSpPr>
        <p:sp>
          <p:nvSpPr>
            <p:cNvPr id="522" name=""/>
            <p:cNvSpPr/>
            <p:nvPr/>
          </p:nvSpPr>
          <p:spPr>
            <a:xfrm>
              <a:off x="7456320" y="3892680"/>
              <a:ext cx="99360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3320" y="388476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82600" y="40672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456320" y="3189240"/>
            <a:ext cx="993600" cy="422280"/>
            <a:chOff x="7456320" y="3189240"/>
            <a:chExt cx="993600" cy="422280"/>
          </a:xfrm>
        </p:grpSpPr>
        <p:sp>
          <p:nvSpPr>
            <p:cNvPr id="526" name=""/>
            <p:cNvSpPr/>
            <p:nvPr/>
          </p:nvSpPr>
          <p:spPr>
            <a:xfrm>
              <a:off x="7456320" y="3195720"/>
              <a:ext cx="993600" cy="415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3320" y="318924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3680" y="337176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connec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7157880" y="2509920"/>
            <a:ext cx="1590480" cy="422280"/>
            <a:chOff x="7157880" y="2509920"/>
            <a:chExt cx="1590480" cy="422280"/>
          </a:xfrm>
        </p:grpSpPr>
        <p:sp>
          <p:nvSpPr>
            <p:cNvPr id="530" name=""/>
            <p:cNvSpPr/>
            <p:nvPr/>
          </p:nvSpPr>
          <p:spPr>
            <a:xfrm>
              <a:off x="7157880" y="2517840"/>
              <a:ext cx="1590480" cy="414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84880" y="25099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aling with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7040" y="2692440"/>
              <a:ext cx="1500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application protoco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7731000" y="4363920"/>
            <a:ext cx="39744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2" y="657"/>
                </a:moveTo>
                <a:arcTo wR="10800" hR="10800" stAng="-6604952" swAng="2406780"/>
                <a:lnTo>
                  <a:pt x="10800" y="10800"/>
                </a:lnTo>
                <a:close/>
              </a:path>
              <a:path fill="none" w="21600" h="21600">
                <a:moveTo>
                  <a:pt x="7092" y="657"/>
                </a:moveTo>
                <a:arcTo wR="10800" hR="10800" stAng="-6604952" swAng="240678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7927920" y="431460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30280" y="36687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927920" y="3619080"/>
            <a:ext cx="180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30280" y="2982960"/>
            <a:ext cx="3985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01" y="653"/>
                </a:moveTo>
                <a:arcTo wR="10800" hR="10800" stAng="-6601673" swAng="2400228"/>
                <a:lnTo>
                  <a:pt x="10800" y="10800"/>
                </a:lnTo>
                <a:close/>
              </a:path>
              <a:path fill="none" w="21600" h="21600">
                <a:moveTo>
                  <a:pt x="7101" y="653"/>
                </a:moveTo>
                <a:arcTo wR="10800" hR="10800" stAng="-6601673" swAng="240022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27920" y="2923920"/>
            <a:ext cx="1800" cy="6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22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22200" y="5475240"/>
            <a:ext cx="144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9400" y="5292720"/>
            <a:ext cx="164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) Typical layers in a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8320" y="5475240"/>
            <a:ext cx="1253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38360" y="52927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) Simplified view of layer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39440" y="547524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in a communication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65160" y="4587840"/>
            <a:ext cx="1376280" cy="414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4320" y="45799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Operating syste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1440" y="476244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02320" y="4363920"/>
            <a:ext cx="39600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8" y="661"/>
                </a:moveTo>
                <a:arcTo wR="10800" hR="10800" stAng="-6609385" swAng="2415636"/>
                <a:lnTo>
                  <a:pt x="10800" y="10800"/>
                </a:lnTo>
                <a:close/>
              </a:path>
              <a:path fill="none" w="21600" h="21600">
                <a:moveTo>
                  <a:pt x="7078" y="661"/>
                </a:moveTo>
                <a:arcTo wR="10800" hR="10800" stAng="-6609385" swAng="24156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200320" y="4314600"/>
            <a:ext cx="1440" cy="66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65160" y="447192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40080" y="44719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33600" y="447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92564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73200" y="3079800"/>
            <a:ext cx="23184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56040" y="4273560"/>
            <a:ext cx="2336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867280" y="359424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35720" y="28987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70400" y="2201760"/>
            <a:ext cx="233640" cy="117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08440" y="1689120"/>
            <a:ext cx="23184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57880" y="2401920"/>
            <a:ext cx="2494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456320" y="3079800"/>
            <a:ext cx="249480" cy="117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72520" y="3776760"/>
            <a:ext cx="23328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23200" y="4471920"/>
            <a:ext cx="249120" cy="115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B2A-4895-4288-9DAD-0ED3D742423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ayer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ayers have layer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Well-designed lower layers do not know about the higher layers and the only connection between layers is through the A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do not need to know the details of how the lower layers are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lower layers can often be designed gener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5D9-15E5-4F3E-B75B-F3A952CBBF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-lay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often reuse layers built by others that provide the service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ncrease flexibility: you can add new facilities built on lower-level services, or replace higher-level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obsolesc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y isolating components in separate layers, the system becomes more resistant to obsolesc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l the dependent facilities can be isolated in one of the lower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ayers can be tested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APIs of layers are natural places to build in rigorous assertion-che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D2E-16CB-41E3-8D8E-37AB15D3CDF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-Server and other distributed architectur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aiting for and then handling 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t least one component that has the rol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itiating connections in order to obtain some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rther extension is the Peer-to-Peer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mposed of various software components that are distributed over several h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161-F49A-490E-A0F4-B38A9CE05B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that is defined at the programming languag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methods, classes and packages are modules in 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DAE4-E97A-475E-BCC7-075A9336D8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of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34080" y="32655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97200" y="327492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17640" y="330984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32100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17640" y="3446640"/>
            <a:ext cx="182880" cy="69840"/>
          </a:xfrm>
          <a:custGeom>
            <a:avLst/>
            <a:gdLst/>
            <a:ahLst/>
            <a:rect l="l" t="t" r="r" b="b"/>
            <a:pathLst>
              <a:path w="115" h="44">
                <a:moveTo>
                  <a:pt x="0" y="0"/>
                </a:moveTo>
                <a:lnTo>
                  <a:pt x="115" y="0"/>
                </a:lnTo>
                <a:lnTo>
                  <a:pt x="115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28800" y="3457440"/>
            <a:ext cx="160560" cy="478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18880" y="290052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erv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2887560"/>
            <a:ext cx="844560" cy="2970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95960" y="2944800"/>
            <a:ext cx="18288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07120" y="295596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95960" y="3083040"/>
            <a:ext cx="18288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07120" y="3094200"/>
            <a:ext cx="160560" cy="4572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45240" y="21240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08360" y="213516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29160" y="217008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39960" y="218124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29160" y="230652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39960" y="2317680"/>
            <a:ext cx="16056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29600" y="440532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ent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92720" y="4416480"/>
            <a:ext cx="844560" cy="27468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13160" y="4451400"/>
            <a:ext cx="182520" cy="6804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24320" y="446256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13160" y="4587840"/>
            <a:ext cx="182520" cy="68400"/>
          </a:xfrm>
          <a:custGeom>
            <a:avLst/>
            <a:gdLst/>
            <a:ahLst/>
            <a:rect l="l" t="t" r="r" b="b"/>
            <a:pathLst>
              <a:path w="115" h="43">
                <a:moveTo>
                  <a:pt x="0" y="0"/>
                </a:moveTo>
                <a:lnTo>
                  <a:pt x="115" y="0"/>
                </a:lnTo>
                <a:lnTo>
                  <a:pt x="115" y="43"/>
                </a:lnTo>
                <a:lnTo>
                  <a:pt x="0" y="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24320" y="4599000"/>
            <a:ext cx="160200" cy="4608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5920" y="2443320"/>
            <a:ext cx="523800" cy="798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36920" y="2443320"/>
            <a:ext cx="341280" cy="196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46640" y="3560760"/>
            <a:ext cx="1002960" cy="820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64080" y="2284560"/>
            <a:ext cx="2690640" cy="591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021280" y="3195720"/>
            <a:ext cx="2233440" cy="11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96760" y="36068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84600" y="38354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33000" y="392580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00480" y="415440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21800" y="2557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480" y="2786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8720" y="28544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13400" y="3083040"/>
            <a:ext cx="186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12760" y="2033640"/>
            <a:ext cx="184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&lt;communication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00600" y="2262240"/>
            <a:ext cx="164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up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46-39BA-486A-A41C-0E15ADC3D71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viding the system into client and server processes is a strong way to divide the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an be separatel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rver can provide a cohesive service to cli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is usually only one communication channel exchanging simple mess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e distributed components are often good abstr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suitable frameworks on which to build good distribut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client-server systems are often very application speci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08A-5410-46C5-A0F3-A325F8446E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ributed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tributed systems can often be easily reconfigured by adding extra servers or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ithout having to port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clients and server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ut rigorous checks in the message handling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5F5-5519-4095-A792-72AAD382AD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oker architectural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arently distribute aspects of the software system to different 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can call methods of another object without knowing that this object is remotely  lo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 well-known open standard that allows you to build this kind of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6AA-759E-4903-A5C1-BDF5FBC459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Brok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1371600" y="2805120"/>
            <a:ext cx="7391520" cy="7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BAB-B383-47F8-87F9-4602353FD379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ok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emote objects can be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design the remote objects so that other systems can use them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may be able to reuse remote objects that others have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rokers can be updated as required, or the proxy can communicate with a different remot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por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write clients for new platforms while still accessing brokers and remote objects on other platfo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provide careful assertion checking in the remot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1D2-3552-4AFC-9D3A-BA15058A796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ransaction-Processing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ss reads a series of inputs one by on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put describ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 command that typically some change to the data stored by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transacti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 that decides what to do with each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ispatches a procedure call or message to one of a series of component that wi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rans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A2C-6121-42CD-8556-540F08867A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transaction-process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03080" y="310212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2720" y="332280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60520" y="3003480"/>
            <a:ext cx="132408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343368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06440" y="344484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46160" y="3079800"/>
            <a:ext cx="106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645800" y="33004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81640" y="3003480"/>
            <a:ext cx="125712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60200" y="3059280"/>
            <a:ext cx="109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314640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06440" y="31575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16400" y="343368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27560" y="344484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16400" y="314640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27560" y="315756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06960" y="3080520"/>
            <a:ext cx="529560" cy="5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" y="14494"/>
                </a:moveTo>
                <a:arcTo wR="10800" hR="10800" stAng="9600062" swAng="2399875"/>
                <a:lnTo>
                  <a:pt x="10800" y="10800"/>
                </a:lnTo>
                <a:close/>
              </a:path>
              <a:path fill="none" w="21600" h="21600">
                <a:moveTo>
                  <a:pt x="651" y="14494"/>
                </a:moveTo>
                <a:arcTo wR="10800" hR="10800" stAng="9600062" swAng="239987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795760" y="3344760"/>
            <a:ext cx="14335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62840" y="256212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96160" y="299232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07320" y="300348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6160" y="2705040"/>
            <a:ext cx="243000" cy="133560"/>
          </a:xfrm>
          <a:custGeom>
            <a:avLst/>
            <a:gdLst/>
            <a:ahLst/>
            <a:rect l="l" t="t" r="r" b="b"/>
            <a:pathLst>
              <a:path w="153" h="84">
                <a:moveTo>
                  <a:pt x="0" y="0"/>
                </a:moveTo>
                <a:lnTo>
                  <a:pt x="153" y="0"/>
                </a:lnTo>
                <a:lnTo>
                  <a:pt x="153" y="84"/>
                </a:lnTo>
                <a:lnTo>
                  <a:pt x="0" y="8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07320" y="2716200"/>
            <a:ext cx="220680" cy="1112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64400" y="2641320"/>
            <a:ext cx="529560" cy="5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86" y="17571"/>
                </a:moveTo>
                <a:arcTo wR="10800" hR="10800" stAng="8470638" swAng="2366836"/>
                <a:lnTo>
                  <a:pt x="10800" y="10800"/>
                </a:lnTo>
                <a:close/>
              </a:path>
              <a:path fill="none" w="21600" h="21600">
                <a:moveTo>
                  <a:pt x="2386" y="17571"/>
                </a:moveTo>
                <a:arcTo wR="10800" hR="10800" stAng="8470638" swAng="23668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749920" y="2970360"/>
            <a:ext cx="1036800" cy="37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93600" y="257328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92160" y="279396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92880" y="301464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62840" y="3444840"/>
            <a:ext cx="1895400" cy="727200"/>
          </a:xfrm>
          <a:prstGeom prst="rect">
            <a:avLst/>
          </a:prstGeom>
          <a:noFill/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96160" y="387504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07320" y="388620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96160" y="3587760"/>
            <a:ext cx="243000" cy="131760"/>
          </a:xfrm>
          <a:custGeom>
            <a:avLst/>
            <a:gdLst/>
            <a:ahLst/>
            <a:rect l="l" t="t" r="r" b="b"/>
            <a:pathLst>
              <a:path w="153" h="83">
                <a:moveTo>
                  <a:pt x="0" y="0"/>
                </a:moveTo>
                <a:lnTo>
                  <a:pt x="153" y="0"/>
                </a:lnTo>
                <a:lnTo>
                  <a:pt x="153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907320" y="3598920"/>
            <a:ext cx="220680" cy="109440"/>
          </a:xfrm>
          <a:prstGeom prst="rect">
            <a:avLst/>
          </a:prstGeom>
          <a:solidFill>
            <a:srgbClr val="ffffff"/>
          </a:solidFill>
          <a:ln w="223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93600" y="345600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90000" y="3676680"/>
            <a:ext cx="162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ght cance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92880" y="389556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64400" y="3566160"/>
            <a:ext cx="529560" cy="52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" y="11450"/>
                </a:moveTo>
                <a:arcTo wR="10800" hR="10800" stAng="10592887" swAng="2363235"/>
                <a:lnTo>
                  <a:pt x="10800" y="10800"/>
                </a:lnTo>
                <a:close/>
              </a:path>
              <a:path fill="none" w="21600" h="21600">
                <a:moveTo>
                  <a:pt x="20" y="11450"/>
                </a:moveTo>
                <a:arcTo wR="10800" hR="10800" stAng="10592887" swAng="23632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49920" y="3456000"/>
            <a:ext cx="1036800" cy="285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778520" y="4383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8520" y="451476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2040" y="464652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D33-8ECE-43D2-9841-C04145690375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action-processing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ransaction handlers are suitable system divisions that you can give to separate software engine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action handlers are naturally cohesive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parating the dispatcher from the handlers tends to reduce coup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readily add new transaction hand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add assertion checking in each transaction handler and/or in the dispat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915-38D8-47B8-917E-53CF9125E5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pe-and-Filter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eam of data, in a relatively simple format, is passed through a series of proc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which transforms it in some 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constantly fed into the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es work concur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itecture is very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all the components could be rem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could be re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mponents could be inser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components could be reorder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B2E-7837-4574-9447-3D847B1A1F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gical entity, having a set of definable responsibilities or objectives, and consisting of hardware, software or both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an have a specification which is then implemented by a collection of compon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continues to exist, even if its components are changed or repla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requirements analysis is to determine the responsibilities of a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that is part of a larger system, and which has a definite inter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F8E-7A46-4864-AE22-7BDBF33B5E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ipe-and-filt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02840" y="1562040"/>
            <a:ext cx="106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s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252080" y="1770120"/>
            <a:ext cx="105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8400" y="19796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09920" y="378468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r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22160" y="39942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mb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23880" y="42037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5688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71560" y="298620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44360" y="2682720"/>
            <a:ext cx="71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qualiz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36440" y="289260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47520" y="3100320"/>
            <a:ext cx="49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9000" y="268272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76200" y="289260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on-v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96280" y="3100320"/>
            <a:ext cx="99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779520" y="289260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241840" y="289260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82520" y="42228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559200" y="4222800"/>
            <a:ext cx="104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compr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8000" y="4013280"/>
            <a:ext cx="630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91360" y="42228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42040" y="443088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26120" y="1523880"/>
            <a:ext cx="109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11720" y="17319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09200" y="194148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325320" y="215100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64040" y="4051440"/>
            <a:ext cx="56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ist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07160" y="425916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77160" y="2778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94000" y="298620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436760" y="3870360"/>
            <a:ext cx="296640" cy="201600"/>
            <a:chOff x="1436760" y="3870360"/>
            <a:chExt cx="296640" cy="201600"/>
          </a:xfrm>
        </p:grpSpPr>
        <p:sp>
          <p:nvSpPr>
            <p:cNvPr id="698" name=""/>
            <p:cNvSpPr/>
            <p:nvPr/>
          </p:nvSpPr>
          <p:spPr>
            <a:xfrm>
              <a:off x="1465200" y="3917880"/>
              <a:ext cx="266760" cy="15264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12" y="12"/>
                  </a:lnTo>
                  <a:lnTo>
                    <a:pt x="24" y="36"/>
                  </a:lnTo>
                  <a:lnTo>
                    <a:pt x="48" y="48"/>
                  </a:lnTo>
                  <a:lnTo>
                    <a:pt x="72" y="60"/>
                  </a:lnTo>
                  <a:lnTo>
                    <a:pt x="96" y="72"/>
                  </a:lnTo>
                  <a:lnTo>
                    <a:pt x="120" y="84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68" y="84"/>
                  </a:lnTo>
                  <a:lnTo>
                    <a:pt x="156" y="72"/>
                  </a:lnTo>
                  <a:lnTo>
                    <a:pt x="132" y="60"/>
                  </a:lnTo>
                  <a:lnTo>
                    <a:pt x="108" y="48"/>
                  </a:lnTo>
                  <a:lnTo>
                    <a:pt x="96" y="24"/>
                  </a:lnTo>
                  <a:lnTo>
                    <a:pt x="72" y="12"/>
                  </a:lnTo>
                  <a:lnTo>
                    <a:pt x="48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5200" y="391788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84280" y="39369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03360" y="39751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41520" y="3994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9680" y="40132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17840" y="403236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55640" y="4051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9380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12880" y="40705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1731960" y="40510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1712520" y="40320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1674720" y="4012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1636560" y="39938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1617840" y="395604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1579680" y="3936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1541520" y="39175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1503360" y="39178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48392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1464840" y="391788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36760" y="3870360"/>
              <a:ext cx="133200" cy="15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488120" y="3860640"/>
            <a:ext cx="264600" cy="428760"/>
            <a:chOff x="4488120" y="3860640"/>
            <a:chExt cx="264600" cy="428760"/>
          </a:xfrm>
        </p:grpSpPr>
        <p:grpSp>
          <p:nvGrpSpPr>
            <p:cNvPr id="720" name=""/>
            <p:cNvGrpSpPr/>
            <p:nvPr/>
          </p:nvGrpSpPr>
          <p:grpSpPr>
            <a:xfrm>
              <a:off x="4488120" y="3860640"/>
              <a:ext cx="264600" cy="265320"/>
              <a:chOff x="4488120" y="3860640"/>
              <a:chExt cx="264600" cy="265320"/>
            </a:xfrm>
          </p:grpSpPr>
          <p:sp>
            <p:nvSpPr>
              <p:cNvPr id="721" name=""/>
              <p:cNvSpPr/>
              <p:nvPr/>
            </p:nvSpPr>
            <p:spPr>
              <a:xfrm>
                <a:off x="4488120" y="3860640"/>
                <a:ext cx="26460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9" y="2314"/>
                    </a:moveTo>
                    <a:arcTo wR="10800" hR="10800" stAng="-7692891" swAng="94190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9" y="2314"/>
                    </a:moveTo>
                    <a:arcTo wR="10800" hR="10800" stAng="-7692891" swAng="9419072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498560" y="3870360"/>
                <a:ext cx="244440" cy="2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17" y="2316"/>
                    </a:moveTo>
                    <a:arcTo wR="10800" hR="10800" stAng="-7693660" swAng="94191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17" y="2316"/>
                    </a:moveTo>
                    <a:arcTo wR="10800" hR="10800" stAng="-7693660" swAng="9419172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4546080" y="3898800"/>
                <a:ext cx="168480" cy="209520"/>
                <a:chOff x="4546080" y="3898800"/>
                <a:chExt cx="168480" cy="2095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546080" y="3898800"/>
                  <a:ext cx="168480" cy="209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67" y="2277"/>
                      </a:moveTo>
                      <a:arcTo wR="10800" hR="10800" stAng="-7673503" swAng="93928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67" y="2277"/>
                      </a:moveTo>
                      <a:arcTo wR="10800" hR="10800" stAng="-7673503" swAng="9392864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555080" y="3908520"/>
                  <a:ext cx="14976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9" y="2354"/>
                      </a:moveTo>
                      <a:arcTo wR="10800" hR="10800" stAng="-7713006" swAng="93983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9" y="2354"/>
                      </a:moveTo>
                      <a:arcTo wR="10800" hR="10800" stAng="-7713006" swAng="939838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584960" y="3956040"/>
                  <a:ext cx="92880" cy="9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67" y="2356"/>
                      </a:moveTo>
                      <a:arcTo wR="10800" hR="10800" stAng="-7713987" swAng="9417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67" y="2356"/>
                      </a:moveTo>
                      <a:arcTo wR="10800" hR="10800" stAng="-7713987" swAng="941771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593240" y="3965400"/>
                  <a:ext cx="7380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050" y="2370"/>
                      </a:moveTo>
                      <a:arcTo wR="10800" hR="10800" stAng="-7721106" swAng="94187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050" y="2370"/>
                      </a:moveTo>
                      <a:arcTo wR="10800" hR="10800" stAng="-7721106" swAng="941873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4516560" y="4003560"/>
              <a:ext cx="95040" cy="285840"/>
              <a:chOff x="4516560" y="4003560"/>
              <a:chExt cx="95040" cy="285840"/>
            </a:xfrm>
          </p:grpSpPr>
          <p:sp>
            <p:nvSpPr>
              <p:cNvPr id="729" name=""/>
              <p:cNvSpPr/>
              <p:nvPr/>
            </p:nvSpPr>
            <p:spPr>
              <a:xfrm>
                <a:off x="4516560" y="400356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516560" y="4041720"/>
                <a:ext cx="95040" cy="11448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480"/>
                  <a:gd name="textAreaBottom" fmla="*/ 100800 h 114480"/>
                </a:gdLst>
                <a:ahLst/>
                <a:rect l="textAreaLeft" t="textAreaTop" r="textAreaRight" b="textAreaBottom"/>
                <a:pathLst>
                  <a:path w="21600" h="26002">
                    <a:moveTo>
                      <a:pt x="10800" y="0"/>
                    </a:moveTo>
                    <a:arcTo wR="10800" hR="10800" stAng="16200000" swAng="-5400000"/>
                    <a:lnTo>
                      <a:pt x="0" y="15202"/>
                    </a:lnTo>
                    <a:arcTo wR="10800" hR="10800" stAng="10800000" swAng="-5400000"/>
                    <a:lnTo>
                      <a:pt x="10800" y="2600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16560" y="421308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573440" y="421308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1360440" y="2787480"/>
            <a:ext cx="703440" cy="49392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558880" y="2787480"/>
            <a:ext cx="70344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755880" y="2692440"/>
            <a:ext cx="108288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2692440"/>
            <a:ext cx="85392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19640" y="4022640"/>
            <a:ext cx="777960" cy="6843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14560" y="1571760"/>
            <a:ext cx="1139760" cy="68400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11560" y="3795840"/>
            <a:ext cx="1120680" cy="682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824200" y="1647720"/>
            <a:ext cx="295200" cy="201600"/>
            <a:chOff x="2824200" y="1647720"/>
            <a:chExt cx="295200" cy="201600"/>
          </a:xfrm>
        </p:grpSpPr>
        <p:sp>
          <p:nvSpPr>
            <p:cNvPr id="741" name=""/>
            <p:cNvSpPr/>
            <p:nvPr/>
          </p:nvSpPr>
          <p:spPr>
            <a:xfrm>
              <a:off x="2852640" y="169560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52640" y="169560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52640" y="1714680"/>
              <a:ext cx="1908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1720" y="17334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09880" y="17524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48040" y="177156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86200" y="180972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05280" y="182880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1847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08124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00320" y="184788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3099960" y="182844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3080880" y="17906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flipV="1">
              <a:off x="3043080" y="17712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3004920" y="17521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2967120" y="17330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2928960" y="171468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2890800" y="16952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87136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852280" y="169560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24200" y="1647720"/>
              <a:ext cx="133200" cy="1526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862360" y="1951200"/>
            <a:ext cx="295200" cy="201600"/>
            <a:chOff x="2862360" y="1951200"/>
            <a:chExt cx="295200" cy="201600"/>
          </a:xfrm>
        </p:grpSpPr>
        <p:sp>
          <p:nvSpPr>
            <p:cNvPr id="763" name=""/>
            <p:cNvSpPr/>
            <p:nvPr/>
          </p:nvSpPr>
          <p:spPr>
            <a:xfrm>
              <a:off x="2890800" y="1998720"/>
              <a:ext cx="266760" cy="152280"/>
            </a:xfrm>
            <a:custGeom>
              <a:avLst/>
              <a:gdLst/>
              <a:ahLst/>
              <a:rect l="l" t="t" r="r" b="b"/>
              <a:pathLst>
                <a:path w="168" h="96">
                  <a:moveTo>
                    <a:pt x="0" y="0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84" y="72"/>
                  </a:lnTo>
                  <a:lnTo>
                    <a:pt x="96" y="84"/>
                  </a:lnTo>
                  <a:lnTo>
                    <a:pt x="120" y="96"/>
                  </a:lnTo>
                  <a:lnTo>
                    <a:pt x="144" y="96"/>
                  </a:lnTo>
                  <a:lnTo>
                    <a:pt x="156" y="96"/>
                  </a:lnTo>
                  <a:lnTo>
                    <a:pt x="168" y="96"/>
                  </a:lnTo>
                  <a:lnTo>
                    <a:pt x="156" y="84"/>
                  </a:lnTo>
                  <a:lnTo>
                    <a:pt x="144" y="60"/>
                  </a:lnTo>
                  <a:lnTo>
                    <a:pt x="120" y="48"/>
                  </a:lnTo>
                  <a:lnTo>
                    <a:pt x="96" y="36"/>
                  </a:lnTo>
                  <a:lnTo>
                    <a:pt x="72" y="24"/>
                  </a:lnTo>
                  <a:lnTo>
                    <a:pt x="48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90800" y="1998720"/>
              <a:ext cx="1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90800" y="201780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09880" y="203688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48040" y="20559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6200" y="2075040"/>
              <a:ext cx="3816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24360" y="2112840"/>
              <a:ext cx="1872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43080" y="213192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81240" y="21510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1940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38480" y="2151000"/>
              <a:ext cx="19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3138120" y="2131560"/>
              <a:ext cx="190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3119040" y="209376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flipV="1">
              <a:off x="3081240" y="2075040"/>
              <a:ext cx="38160" cy="1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3043080" y="205560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3004920" y="2036520"/>
              <a:ext cx="3780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67120" y="201744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2928960" y="1998360"/>
              <a:ext cx="3816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90952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890440" y="1998720"/>
              <a:ext cx="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62360" y="1951200"/>
              <a:ext cx="13320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035080" y="165708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6" y="7071"/>
                </a:moveTo>
                <a:arcTo wR="10800" hR="10800" stAng="-1211776" swAng="2418087"/>
                <a:lnTo>
                  <a:pt x="10800" y="10800"/>
                </a:lnTo>
                <a:close/>
              </a:path>
              <a:path fill="none" w="21600" h="21600">
                <a:moveTo>
                  <a:pt x="20936" y="7071"/>
                </a:moveTo>
                <a:arcTo wR="10800" hR="10800" stAng="-1211776" swAng="241808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473200" y="1884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073240" y="388044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7" y="14509"/>
                </a:moveTo>
                <a:arcTo wR="10800" hR="10800" stAng="9594818" swAng="2410364"/>
                <a:lnTo>
                  <a:pt x="10800" y="10800"/>
                </a:lnTo>
                <a:close/>
              </a:path>
              <a:path fill="none" w="21600" h="21600">
                <a:moveTo>
                  <a:pt x="657" y="14509"/>
                </a:moveTo>
                <a:arcTo wR="10800" hR="10800" stAng="9594818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8280" y="410832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2092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05416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17920" y="2799000"/>
            <a:ext cx="456840" cy="45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1" y="14521"/>
                </a:moveTo>
                <a:arcTo wR="10800" hR="10800" stAng="9590956" swAng="2418089"/>
                <a:lnTo>
                  <a:pt x="10800" y="10800"/>
                </a:lnTo>
                <a:close/>
              </a:path>
              <a:path fill="none" w="21600" h="21600">
                <a:moveTo>
                  <a:pt x="661" y="14521"/>
                </a:moveTo>
                <a:arcTo wR="10800" hR="10800" stAng="9590956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52960" y="3025800"/>
            <a:ext cx="284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9580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2904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6416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97760" y="3025800"/>
            <a:ext cx="285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81960" y="2806560"/>
            <a:ext cx="9507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908840" y="2799360"/>
            <a:ext cx="456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6" y="14506"/>
                </a:moveTo>
                <a:arcTo wR="10800" hR="10800" stAng="9595813" swAng="2408373"/>
                <a:lnTo>
                  <a:pt x="10800" y="10800"/>
                </a:lnTo>
                <a:close/>
              </a:path>
              <a:path fill="none" w="21600" h="21600">
                <a:moveTo>
                  <a:pt x="656" y="14506"/>
                </a:moveTo>
                <a:arcTo wR="10800" hR="10800" stAng="9595813" swAng="240837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42080" y="3025800"/>
            <a:ext cx="2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45360" y="2806560"/>
            <a:ext cx="817560" cy="47484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45360" y="4137120"/>
            <a:ext cx="81756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4400" y="4128840"/>
            <a:ext cx="456840" cy="45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9" y="7079"/>
                </a:moveTo>
                <a:arcTo wR="10800" hR="10800" stAng="-1209044" swAng="2418089"/>
                <a:lnTo>
                  <a:pt x="10800" y="10800"/>
                </a:lnTo>
                <a:close/>
              </a:path>
              <a:path fill="none" w="21600" h="21600">
                <a:moveTo>
                  <a:pt x="20939" y="7079"/>
                </a:moveTo>
                <a:arcTo wR="10800" hR="10800" stAng="-1209044" swAng="241808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832520" y="4356000"/>
            <a:ext cx="284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92960" y="4137120"/>
            <a:ext cx="1158840" cy="493560"/>
          </a:xfrm>
          <a:prstGeom prst="roundRect">
            <a:avLst>
              <a:gd name="adj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610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6197400" y="4356000"/>
            <a:ext cx="28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489560" y="4317840"/>
            <a:ext cx="264600" cy="427320"/>
            <a:chOff x="4489560" y="4317840"/>
            <a:chExt cx="264600" cy="427320"/>
          </a:xfrm>
        </p:grpSpPr>
        <p:grpSp>
          <p:nvGrpSpPr>
            <p:cNvPr id="807" name=""/>
            <p:cNvGrpSpPr/>
            <p:nvPr/>
          </p:nvGrpSpPr>
          <p:grpSpPr>
            <a:xfrm>
              <a:off x="4489560" y="4317840"/>
              <a:ext cx="264600" cy="264960"/>
              <a:chOff x="4489560" y="4317840"/>
              <a:chExt cx="264600" cy="264960"/>
            </a:xfrm>
          </p:grpSpPr>
          <p:sp>
            <p:nvSpPr>
              <p:cNvPr id="808" name=""/>
              <p:cNvSpPr/>
              <p:nvPr/>
            </p:nvSpPr>
            <p:spPr>
              <a:xfrm>
                <a:off x="4489560" y="4317840"/>
                <a:ext cx="264600" cy="26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498200" y="4327560"/>
                <a:ext cx="244800" cy="24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44" y="2295"/>
                    </a:moveTo>
                    <a:arcTo wR="10800" hR="10800" stAng="-7682921" swAng="94152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44" y="2295"/>
                    </a:moveTo>
                    <a:arcTo wR="10800" hR="10800" stAng="-7682921" swAng="9415243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4545720" y="4356000"/>
                <a:ext cx="168840" cy="207360"/>
                <a:chOff x="4545720" y="4356000"/>
                <a:chExt cx="168840" cy="2073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545720" y="4356000"/>
                  <a:ext cx="168840" cy="207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2253"/>
                      </a:moveTo>
                      <a:arcTo wR="10800" hR="10800" stAng="-7660843" swAng="9388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2253"/>
                      </a:moveTo>
                      <a:arcTo wR="10800" hR="10800" stAng="-7660843" swAng="9388673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556160" y="4365720"/>
                  <a:ext cx="150480" cy="18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04" y="2326"/>
                      </a:moveTo>
                      <a:arcTo wR="10800" hR="10800" stAng="-7698998" swAng="93938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04" y="2326"/>
                      </a:moveTo>
                      <a:arcTo wR="10800" hR="10800" stAng="-7698998" swAng="9393833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584600" y="4413240"/>
                  <a:ext cx="93240" cy="9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594320" y="4422600"/>
                  <a:ext cx="74160" cy="7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36" y="2301"/>
                      </a:moveTo>
                      <a:arcTo wR="10800" hR="10800" stAng="-7685878" swAng="94113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36" y="2301"/>
                      </a:moveTo>
                      <a:arcTo wR="10800" hR="10800" stAng="-7685878" swAng="941133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4516560" y="4459320"/>
              <a:ext cx="95040" cy="285840"/>
              <a:chOff x="4516560" y="4459320"/>
              <a:chExt cx="95040" cy="285840"/>
            </a:xfrm>
          </p:grpSpPr>
          <p:sp>
            <p:nvSpPr>
              <p:cNvPr id="816" name=""/>
              <p:cNvSpPr/>
              <p:nvPr/>
            </p:nvSpPr>
            <p:spPr>
              <a:xfrm>
                <a:off x="4516560" y="4459320"/>
                <a:ext cx="95040" cy="28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516560" y="4497480"/>
                <a:ext cx="95040" cy="11412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14120"/>
                  <a:gd name="textAreaBottom" fmla="*/ 100440 h 114120"/>
                </a:gdLst>
                <a:ahLst/>
                <a:rect l="textAreaLeft" t="textAreaTop" r="textAreaRight" b="textAreaBottom"/>
                <a:pathLst>
                  <a:path w="21600" h="25920">
                    <a:moveTo>
                      <a:pt x="10800" y="0"/>
                    </a:moveTo>
                    <a:arcTo wR="10800" hR="10800" stAng="16200000" swAng="-5400000"/>
                    <a:lnTo>
                      <a:pt x="0" y="15120"/>
                    </a:lnTo>
                    <a:arcTo wR="10800" hR="10800" stAng="10800000" swAng="-5400000"/>
                    <a:lnTo>
                      <a:pt x="10800" y="2592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516560" y="4668840"/>
                <a:ext cx="37800" cy="38160"/>
              </a:xfrm>
              <a:custGeom>
                <a:avLst/>
                <a:gdLst>
                  <a:gd name="textAreaLeft" fmla="*/ 5400 w 37800"/>
                  <a:gd name="textAreaRight" fmla="*/ 32400 w 37800"/>
                  <a:gd name="textAreaTop" fmla="*/ 5400 h 38160"/>
                  <a:gd name="textAreaBottom" fmla="*/ 32760 h 38160"/>
                </a:gdLst>
                <a:ahLst/>
                <a:rect l="textAreaLeft" t="textAreaTop" r="textAreaRight" b="textAreaBottom"/>
                <a:pathLst>
                  <a:path w="21600" h="21804">
                    <a:moveTo>
                      <a:pt x="10800" y="0"/>
                    </a:moveTo>
                    <a:arcTo wR="10800" hR="10800" stAng="16200000" swAng="-5400000"/>
                    <a:lnTo>
                      <a:pt x="0" y="11004"/>
                    </a:lnTo>
                    <a:arcTo wR="10800" hR="10800" stAng="10800000" swAng="-5400000"/>
                    <a:lnTo>
                      <a:pt x="10800" y="21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573440" y="4668840"/>
                <a:ext cx="381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0" name=""/>
          <p:cNvSpPr/>
          <p:nvPr/>
        </p:nvSpPr>
        <p:spPr>
          <a:xfrm>
            <a:off x="4468680" y="4128120"/>
            <a:ext cx="45684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3" y="7091"/>
                </a:moveTo>
                <a:arcTo wR="10800" hR="10800" stAng="-12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20943" y="7091"/>
                </a:moveTo>
                <a:arcTo wR="10800" hR="10800" stAng="-12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4905360" y="4356000"/>
            <a:ext cx="285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555040" y="3841920"/>
            <a:ext cx="571320" cy="57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74" y="663"/>
                </a:moveTo>
                <a:arcTo wR="10800" hR="10800" stAng="-6610999" swAng="2416538"/>
                <a:lnTo>
                  <a:pt x="10800" y="10800"/>
                </a:lnTo>
                <a:close/>
              </a:path>
              <a:path fill="none" w="21600" h="21600">
                <a:moveTo>
                  <a:pt x="7074" y="663"/>
                </a:moveTo>
                <a:arcTo wR="10800" hR="10800" stAng="-6610999" swAng="241653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8839080" y="3290400"/>
            <a:ext cx="1800" cy="56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4680" y="3519360"/>
            <a:ext cx="180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TCP/IP Transmi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46840" y="2530440"/>
            <a:ext cx="457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657"/>
                </a:moveTo>
                <a:arcTo wR="10800" hR="10800" stAng="-6605182" swAng="2410364"/>
                <a:lnTo>
                  <a:pt x="10800" y="10800"/>
                </a:lnTo>
                <a:close/>
              </a:path>
              <a:path fill="none" w="21600" h="21600">
                <a:moveTo>
                  <a:pt x="7091" y="657"/>
                </a:moveTo>
                <a:arcTo wR="10800" hR="10800" stAng="-6605182" swAng="2410364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74720" y="2265480"/>
            <a:ext cx="180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26920" y="304488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1" y="20946"/>
                </a:moveTo>
                <a:arcTo wR="10800" hR="10800" stAng="4197543" swAng="2410363"/>
                <a:lnTo>
                  <a:pt x="10800" y="10800"/>
                </a:lnTo>
                <a:close/>
              </a:path>
              <a:path fill="none" w="21600" h="21600">
                <a:moveTo>
                  <a:pt x="14501" y="20946"/>
                </a:moveTo>
                <a:arcTo wR="10800" hR="10800" stAng="4197543" swAng="24103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852640" y="3481200"/>
            <a:ext cx="180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19160" y="19699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19160" y="170496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6684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6684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4476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44476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60840" y="31114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60840" y="2844720"/>
            <a:ext cx="15228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5780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5780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16160" y="421308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16160" y="3946680"/>
            <a:ext cx="13320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10552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07080" y="3111480"/>
            <a:ext cx="1317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07080" y="2844720"/>
            <a:ext cx="13176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031240" y="3111480"/>
            <a:ext cx="13320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031240" y="2844720"/>
            <a:ext cx="133200" cy="114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31240" y="4441680"/>
            <a:ext cx="15228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31240" y="4175280"/>
            <a:ext cx="15228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97560" y="4441680"/>
            <a:ext cx="133560" cy="11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397560" y="4175280"/>
            <a:ext cx="133560" cy="11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ABC-7AFE-4773-990D-7ABCF067C49A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parate processes can be independent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functional cohe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have only one input and one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bst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ipeline components are often good abstractions, hiding their internal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processes can often be used in many different contex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often possible to find reusable components to insert into a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302-4EF6-4EAC-B26F-78F2DF5809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pe-and-filter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re are several ways in which the system is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normally easy to test the individual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efensive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rigorously check the inputs of each component, or else you can use design by contr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5D9-1504-44AB-8C9A-6377BB715E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-View-Controller (MVC) architectural patt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rchitectural pattern used to help separate the user interface layer from other parts of the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underlying classes whose instances are to be viewed and manipu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objects used to render the appearance of the data from the model in the user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he objects that control and handle the user’s interaction with the view and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ble design pattern is normally used to separate the model from th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B4D-3419-4EB4-9F84-0AB0FAEFEA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the MVC architecture for the 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619760" cy="32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C07-2354-4368-9E44-12FF038E516E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VC architecture and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three components can be somewhat independently desig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cohe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ponents have stronger layer cohesion than if the view and controller were together in a single UI la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coupl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communication channels between the three components are min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e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view and controller normally make extensive use of reusable components for various kinds of UI contro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flexi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t is usually quite easy to change the UI by changing the view, the controller, or bo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for testabil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test the application separately from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354-34A2-47D1-A19A-63CF3FDE45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6 Writing a Good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n aid to making better desig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force you to be explicit and consider the important issues before starting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ow a group of people to review the design and therefore to improv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documents as a means of communic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will need, in the future,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ose who need to create systems or subsystems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system being desig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4F5-AB4E-4515-BE35-D3D25BADA9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design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ystem or part of the system this design document descri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reference to the requirements that are being implemented by this design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ability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riorities used to guide the design proces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high-level description of the design that allows the reader to quickly get a general feeling for it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important issues that had to be resol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the possible alternatives that were considered, the final decision and the rationale for the d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Other details of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4052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ny other details the reader may want to know that have not yet been mentio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9A0-7522-4B5F-A114-12AA53E748F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riting th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ocumenting information that would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ly obvi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skilled programmer or design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in a design document that would be better placed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writing details that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ed automatic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code, such as the list of public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DFA-C7C1-4A21-A18B-8C8C69DBC8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7 Design of a Feature of the SimpleCha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143000" y="1295280"/>
            <a:ext cx="7772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describes important aspects of the implementation of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of the SimpleChat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General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in this document are made based on the following prio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st important first): Maintainability, Usability, Portabil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Outline of th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ing information will be maintained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. The various commands will update and query the data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al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Valu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CA0-FA19-4902-88CE-9BFF20E0705C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diagram of system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65160" y="2201760"/>
            <a:ext cx="815328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A15-EFAC-47CA-B809-98EA82B67A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43000" y="1066680"/>
            <a:ext cx="76960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ajor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 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should we store information regarding the establishment of block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associated with the client requesting th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.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ore the information in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associated with the client that is being blo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int 2.2 of the specification requires that we be able to block a client even if that client is not logged on. This means that we must choose option 1.1 since no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exist for clients that are logged o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A9F-74B6-41DA-8F54-C0354C4C8A99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66680" y="1447920"/>
            <a:ext cx="78487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152280" anchor="t">
            <a:spAutoFit/>
          </a:bodyPr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Details of the desig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new commands will be accepted b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assed unchanged to the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s from the server will be displayed on the UI. There will be no need f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understand that the responses are replies to the comm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180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D4C-1E2C-4BA0-AB62-B49948DE5A0C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43000" y="685800"/>
            <a:ext cx="746748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interpre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by adding a record of the block in the data associated with the originating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will modify the data in response to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will be stored by call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alue("blockedUsers", 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the names of the blocked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also have to have an implementation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un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ill have to save the blocked users as elements of a new instance variable declared thus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 blockedUser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3B7-AB9B-4889-AB4C-C20B8CBDAB37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295280" y="1355760"/>
            <a:ext cx="76201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s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iblo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straightforwardly process the contents of the v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whoblocks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new method will be created in the server class that will be called by both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U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ill take a single argument (the name of the initiating client, or else 'SERVER'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check all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s of the connected clients and also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variable for matching cl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B00-8308-4CEF-8D4F-9783B3739A6D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43000" y="1447920"/>
            <a:ext cx="6934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orwar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ms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s will be modified as needed to reflect the spec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will each examine the relevant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lockedUse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s and take appropriate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A23-6EA0-4864-97A4-1945990F550D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.8 Difficulties and Risks in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modelling, design is a skill that requires considerable exper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software engineers should not attempt the design of large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g software architects should actively study designs of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designs can lead to expensive mainten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follow the principles discussed in this ch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748-C4CE-44F9-AC22-0E2B6B5A7673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ies and Risks i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quires constant effort to ensure a software system’s design remains good throughout its lif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riginal design as flexible as possible so as to anticipate changes and ext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sign documentation is usable and at the correct level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change is carefully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: Architecting and designing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A34-B1A2-41A0-882D-6DD571E3CFF4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27T17:04:37Z</dcterms:modified>
  <cp:revision>136</cp:revision>
  <dc:subject/>
  <dc:title>SEG 2100 Software Design II</dc:title>
</cp:coreProperties>
</file>