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5.pct" ContentType="image/x-pict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552-9645-4FE1-8E2A-36C277C8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513-E904-4AC7-9A1D-270DCFA8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182-24A2-4F71-B829-83D9006D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259-387E-4439-816C-E1A38B65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728-D208-4F01-9438-673B0B75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060-5360-4A1C-BBF8-67D67F0F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23A-4938-419E-900E-CF3EB5D2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A35-4513-4516-92FE-18348F66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B64-8161-4096-B692-F0F0DA38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36D-FE3D-453A-BCBF-4EDBB7E9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3F2-E9E6-4571-8F31-EDE2557E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FD8-E39F-4F28-969B-2A1C5422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C1B1-DEDD-407C-A28F-45D1EB1E2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8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odelling Interactions and Behavi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 object’s life ends, this is shown with an X at the end of the lif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an example with object 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848720" cy="20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903-F76C-45D2-B1DA-55C25FBB58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 diagrams –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82000" y="2722680"/>
            <a:ext cx="155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: addToSchedu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54280" y="3200400"/>
            <a:ext cx="22827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59080" y="2722680"/>
            <a:ext cx="119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: &lt;&lt;create&gt;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8035920" y="2884320"/>
            <a:ext cx="1031760" cy="630360"/>
            <a:chOff x="8035920" y="2884320"/>
            <a:chExt cx="1031760" cy="630360"/>
          </a:xfrm>
        </p:grpSpPr>
        <p:sp>
          <p:nvSpPr>
            <p:cNvPr id="298" name=""/>
            <p:cNvSpPr/>
            <p:nvPr/>
          </p:nvSpPr>
          <p:spPr>
            <a:xfrm>
              <a:off x="8205120" y="3027240"/>
              <a:ext cx="71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:Stud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35920" y="2884320"/>
              <a:ext cx="1031760" cy="63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968720" y="2884320"/>
            <a:ext cx="1195200" cy="630360"/>
            <a:chOff x="4968720" y="2884320"/>
            <a:chExt cx="1195200" cy="630360"/>
          </a:xfrm>
        </p:grpSpPr>
        <p:sp>
          <p:nvSpPr>
            <p:cNvPr id="301" name=""/>
            <p:cNvSpPr/>
            <p:nvPr/>
          </p:nvSpPr>
          <p:spPr>
            <a:xfrm>
              <a:off x="5132160" y="3003480"/>
              <a:ext cx="82548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99680" y="3005280"/>
              <a:ext cx="107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:Registr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68720" y="2884320"/>
              <a:ext cx="1195200" cy="63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990720" y="2906640"/>
            <a:ext cx="1673280" cy="630360"/>
            <a:chOff x="990720" y="2906640"/>
            <a:chExt cx="1673280" cy="630360"/>
          </a:xfrm>
        </p:grpSpPr>
        <p:sp>
          <p:nvSpPr>
            <p:cNvPr id="305" name=""/>
            <p:cNvSpPr/>
            <p:nvPr/>
          </p:nvSpPr>
          <p:spPr>
            <a:xfrm>
              <a:off x="1175040" y="3003480"/>
              <a:ext cx="1305000" cy="2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52000" y="3005280"/>
              <a:ext cx="13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:CourseSec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90720" y="2906640"/>
              <a:ext cx="1673280" cy="6303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6154200" y="3200400"/>
            <a:ext cx="1870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544560" y="3048120"/>
            <a:ext cx="392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871800" y="2982960"/>
            <a:ext cx="85680" cy="152280"/>
            <a:chOff x="3871800" y="2982960"/>
            <a:chExt cx="85680" cy="152280"/>
          </a:xfrm>
        </p:grpSpPr>
        <p:sp>
          <p:nvSpPr>
            <p:cNvPr id="311" name=""/>
            <p:cNvSpPr/>
            <p:nvPr/>
          </p:nvSpPr>
          <p:spPr>
            <a:xfrm>
              <a:off x="3871800" y="2982960"/>
              <a:ext cx="85680" cy="65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871800" y="3048120"/>
              <a:ext cx="85680" cy="8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 flipH="1">
            <a:off x="7002000" y="3048120"/>
            <a:ext cx="390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327800" y="2982960"/>
            <a:ext cx="87120" cy="152280"/>
            <a:chOff x="7327800" y="2982960"/>
            <a:chExt cx="87120" cy="152280"/>
          </a:xfrm>
        </p:grpSpPr>
        <p:sp>
          <p:nvSpPr>
            <p:cNvPr id="315" name=""/>
            <p:cNvSpPr/>
            <p:nvPr/>
          </p:nvSpPr>
          <p:spPr>
            <a:xfrm>
              <a:off x="7327800" y="2982960"/>
              <a:ext cx="87120" cy="65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327800" y="3048120"/>
              <a:ext cx="87120" cy="8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522600" y="3330720"/>
            <a:ext cx="392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522240" y="3243240"/>
            <a:ext cx="66600" cy="152280"/>
            <a:chOff x="3522240" y="3243240"/>
            <a:chExt cx="66600" cy="152280"/>
          </a:xfrm>
        </p:grpSpPr>
        <p:sp>
          <p:nvSpPr>
            <p:cNvPr id="319" name=""/>
            <p:cNvSpPr/>
            <p:nvPr/>
          </p:nvSpPr>
          <p:spPr>
            <a:xfrm flipH="1">
              <a:off x="3522240" y="3243240"/>
              <a:ext cx="66600" cy="87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3522240" y="3330720"/>
              <a:ext cx="66600" cy="64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757600" y="3375000"/>
            <a:ext cx="207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: addToRegistration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8CA-B708-4096-82E6-F264B1CEFDF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on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 diagrams emphasise how the objects collaborate in order to realize an intera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llaboration diagram is a graph with the objects as the vert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links are added betwee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 are attached to these lin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n as arrows labelled with the message 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rdering is indicated by prefixing the message with some numbering sche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FFA-F99A-41AF-944D-4D80AFE5F6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same example, mor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760040" y="3027240"/>
            <a:ext cx="3092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59640" y="2440080"/>
            <a:ext cx="230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: requestToRegister(aStuden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57840" y="2624040"/>
            <a:ext cx="723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local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62680" y="4243320"/>
            <a:ext cx="133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: addToSche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66440" y="442764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parameter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25560" y="398628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aStudent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45080" y="4170240"/>
            <a:ext cx="56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Stud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49520" y="3865680"/>
            <a:ext cx="1047600" cy="625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046920" y="3809880"/>
            <a:ext cx="1032480" cy="533520"/>
            <a:chOff x="6046920" y="3809880"/>
            <a:chExt cx="1032480" cy="533520"/>
          </a:xfrm>
        </p:grpSpPr>
        <p:sp>
          <p:nvSpPr>
            <p:cNvPr id="334" name=""/>
            <p:cNvSpPr/>
            <p:nvPr/>
          </p:nvSpPr>
          <p:spPr>
            <a:xfrm>
              <a:off x="6155280" y="3911760"/>
              <a:ext cx="924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:Registr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46920" y="3809880"/>
              <a:ext cx="101268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869000" y="2706840"/>
            <a:ext cx="1417680" cy="533160"/>
            <a:chOff x="4869000" y="2706840"/>
            <a:chExt cx="1417680" cy="533160"/>
          </a:xfrm>
        </p:grpSpPr>
        <p:sp>
          <p:nvSpPr>
            <p:cNvPr id="337" name=""/>
            <p:cNvSpPr/>
            <p:nvPr/>
          </p:nvSpPr>
          <p:spPr>
            <a:xfrm>
              <a:off x="5006880" y="2789280"/>
              <a:ext cx="110484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90320" y="2789280"/>
              <a:ext cx="1125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:CourseSe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69000" y="2706840"/>
              <a:ext cx="141768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076400" y="2743200"/>
            <a:ext cx="681120" cy="533520"/>
            <a:chOff x="1076400" y="2743200"/>
            <a:chExt cx="681120" cy="533520"/>
          </a:xfrm>
        </p:grpSpPr>
        <p:sp>
          <p:nvSpPr>
            <p:cNvPr id="341" name=""/>
            <p:cNvSpPr/>
            <p:nvPr/>
          </p:nvSpPr>
          <p:spPr>
            <a:xfrm>
              <a:off x="1261080" y="282564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76400" y="2743200"/>
              <a:ext cx="68112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8237520" y="2706840"/>
            <a:ext cx="754200" cy="533160"/>
            <a:chOff x="8237520" y="2706840"/>
            <a:chExt cx="754200" cy="533160"/>
          </a:xfrm>
        </p:grpSpPr>
        <p:sp>
          <p:nvSpPr>
            <p:cNvPr id="344" name=""/>
            <p:cNvSpPr/>
            <p:nvPr/>
          </p:nvSpPr>
          <p:spPr>
            <a:xfrm>
              <a:off x="8237520" y="2706840"/>
              <a:ext cx="75420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72080" y="2808360"/>
              <a:ext cx="57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:Cour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826880" y="3414600"/>
            <a:ext cx="1509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: [hasPrerequisite]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49520" y="359892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create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46720" y="2384280"/>
            <a:ext cx="199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: prereq := getPrerequis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75840" y="3193920"/>
            <a:ext cx="1514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: hasPrerequisite :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56960" y="3378240"/>
            <a:ext cx="1929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sPassedCourse(prereq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51960" y="356220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parameter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619080" y="3162240"/>
            <a:ext cx="123372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06840" y="4076640"/>
            <a:ext cx="2430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57880" y="3230640"/>
            <a:ext cx="38736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073320" y="2843280"/>
            <a:ext cx="331920" cy="147240"/>
            <a:chOff x="3073320" y="2843280"/>
            <a:chExt cx="331920" cy="147240"/>
          </a:xfrm>
        </p:grpSpPr>
        <p:sp>
          <p:nvSpPr>
            <p:cNvPr id="356" name=""/>
            <p:cNvSpPr/>
            <p:nvPr/>
          </p:nvSpPr>
          <p:spPr>
            <a:xfrm flipH="1">
              <a:off x="3073320" y="2917800"/>
              <a:ext cx="331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349800" y="2843280"/>
              <a:ext cx="55440" cy="147240"/>
              <a:chOff x="3349800" y="2843280"/>
              <a:chExt cx="55440" cy="147240"/>
            </a:xfrm>
          </p:grpSpPr>
          <p:sp>
            <p:nvSpPr>
              <p:cNvPr id="358" name=""/>
              <p:cNvSpPr/>
              <p:nvPr/>
            </p:nvSpPr>
            <p:spPr>
              <a:xfrm>
                <a:off x="3349800" y="2843280"/>
                <a:ext cx="554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3349800" y="2917440"/>
                <a:ext cx="55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4711320" y="4114800"/>
            <a:ext cx="351360" cy="145800"/>
            <a:chOff x="4711320" y="4114800"/>
            <a:chExt cx="351360" cy="145800"/>
          </a:xfrm>
        </p:grpSpPr>
        <p:sp>
          <p:nvSpPr>
            <p:cNvPr id="361" name=""/>
            <p:cNvSpPr/>
            <p:nvPr/>
          </p:nvSpPr>
          <p:spPr>
            <a:xfrm>
              <a:off x="4730760" y="4187880"/>
              <a:ext cx="331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4711320" y="4114800"/>
              <a:ext cx="74520" cy="145800"/>
              <a:chOff x="4711320" y="4114800"/>
              <a:chExt cx="74520" cy="145800"/>
            </a:xfrm>
          </p:grpSpPr>
          <p:sp>
            <p:nvSpPr>
              <p:cNvPr id="363" name=""/>
              <p:cNvSpPr/>
              <p:nvPr/>
            </p:nvSpPr>
            <p:spPr>
              <a:xfrm flipH="1">
                <a:off x="4711320" y="4114800"/>
                <a:ext cx="7452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4711320" y="4187520"/>
                <a:ext cx="7452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5" name=""/>
          <p:cNvGrpSpPr/>
          <p:nvPr/>
        </p:nvGrpSpPr>
        <p:grpSpPr>
          <a:xfrm>
            <a:off x="3662280" y="3543480"/>
            <a:ext cx="312840" cy="183600"/>
            <a:chOff x="3662280" y="3543480"/>
            <a:chExt cx="312840" cy="183600"/>
          </a:xfrm>
        </p:grpSpPr>
        <p:sp>
          <p:nvSpPr>
            <p:cNvPr id="366" name=""/>
            <p:cNvSpPr/>
            <p:nvPr/>
          </p:nvSpPr>
          <p:spPr>
            <a:xfrm flipV="1">
              <a:off x="3681360" y="3543480"/>
              <a:ext cx="29376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3662280" y="3616200"/>
              <a:ext cx="92160" cy="110880"/>
              <a:chOff x="3662280" y="3616200"/>
              <a:chExt cx="92160" cy="11088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3662280" y="3616200"/>
                <a:ext cx="36720" cy="74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662280" y="3690720"/>
                <a:ext cx="9216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6221160" y="3377880"/>
            <a:ext cx="220680" cy="294120"/>
            <a:chOff x="6221160" y="3377880"/>
            <a:chExt cx="220680" cy="294120"/>
          </a:xfrm>
        </p:grpSpPr>
        <p:sp>
          <p:nvSpPr>
            <p:cNvPr id="371" name=""/>
            <p:cNvSpPr/>
            <p:nvPr/>
          </p:nvSpPr>
          <p:spPr>
            <a:xfrm flipH="1" flipV="1">
              <a:off x="6221160" y="3377880"/>
              <a:ext cx="18396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313320" y="3579840"/>
              <a:ext cx="128520" cy="92160"/>
              <a:chOff x="6313320" y="3579840"/>
              <a:chExt cx="128520" cy="9216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6424200" y="3579840"/>
                <a:ext cx="17640" cy="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13320" y="3654360"/>
                <a:ext cx="111240" cy="1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6405480" y="3285720"/>
            <a:ext cx="220680" cy="294120"/>
            <a:chOff x="6405480" y="3285720"/>
            <a:chExt cx="220680" cy="294120"/>
          </a:xfrm>
        </p:grpSpPr>
        <p:sp>
          <p:nvSpPr>
            <p:cNvPr id="376" name=""/>
            <p:cNvSpPr/>
            <p:nvPr/>
          </p:nvSpPr>
          <p:spPr>
            <a:xfrm>
              <a:off x="6442200" y="3303720"/>
              <a:ext cx="18396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6405480" y="3285720"/>
              <a:ext cx="128160" cy="92520"/>
              <a:chOff x="6405480" y="3285720"/>
              <a:chExt cx="128160" cy="92520"/>
            </a:xfrm>
          </p:grpSpPr>
          <p:sp>
            <p:nvSpPr>
              <p:cNvPr id="378" name=""/>
              <p:cNvSpPr/>
              <p:nvPr/>
            </p:nvSpPr>
            <p:spPr>
              <a:xfrm flipV="1">
                <a:off x="6405480" y="3286080"/>
                <a:ext cx="36720" cy="9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 flipV="1">
                <a:off x="6441840" y="3285720"/>
                <a:ext cx="91800" cy="1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0" name=""/>
          <p:cNvSpPr/>
          <p:nvPr/>
        </p:nvSpPr>
        <p:spPr>
          <a:xfrm>
            <a:off x="6577200" y="3268800"/>
            <a:ext cx="1783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: addToRegistrationLi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98400" y="345132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&lt;parameter&g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940440" y="2622600"/>
            <a:ext cx="330480" cy="128160"/>
            <a:chOff x="6940440" y="2622600"/>
            <a:chExt cx="330480" cy="128160"/>
          </a:xfrm>
        </p:grpSpPr>
        <p:sp>
          <p:nvSpPr>
            <p:cNvPr id="383" name=""/>
            <p:cNvSpPr/>
            <p:nvPr/>
          </p:nvSpPr>
          <p:spPr>
            <a:xfrm flipH="1">
              <a:off x="6940440" y="2678040"/>
              <a:ext cx="330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7216920" y="2622600"/>
              <a:ext cx="54000" cy="128160"/>
              <a:chOff x="7216920" y="2622600"/>
              <a:chExt cx="54000" cy="128160"/>
            </a:xfrm>
          </p:grpSpPr>
          <p:sp>
            <p:nvSpPr>
              <p:cNvPr id="385" name=""/>
              <p:cNvSpPr/>
              <p:nvPr/>
            </p:nvSpPr>
            <p:spPr>
              <a:xfrm>
                <a:off x="7216920" y="2622600"/>
                <a:ext cx="54000" cy="5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7216920" y="2677680"/>
                <a:ext cx="54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6289560" y="2770200"/>
            <a:ext cx="1933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205-4A73-4ECD-AC72-E04B4CF3439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munication link can exist between two objects whenever it is possible for one object to send a message to the other o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situations can make this message exchange po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e classes of the two objects have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th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most common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ll messages are sent in the same direction, then probably the association can be made unidirect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C8C-FC4D-4EAE-8FB8-091F43D408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communication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receiving object is stored in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 of the sending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ften happens when the object is created in the sending method or when some computation returns an 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reotype to be used is «local» or [L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 reference to the receiving object has been received a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ending meth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reotype is «parameter» or [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409-31AD-4C65-A8F6-88FA1FEFFE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communication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receiving object is glob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case when a reference to an object can be obtained using a static metho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reotype «global», or a [G] symbol is used in this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he objects communicate over a netw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uggest to write «network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A8C-BCE8-49A9-B1C4-55C8F79B5C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hoose between using a sequence or collaboration dia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diagra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explicit the time ordering of the inte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s make time ordering explicit to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equence diagrams are a natural choice when you build an interaction model from a use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it easy to add details to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 diagrams have less space for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C33-3498-4B5B-8783-1D640B4CDC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hoose between using a sequence or collaboratio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 diagram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seen as a projection of the class dia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 be preferred when you a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interaction diagram from a class diag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so useful f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dia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F88-2255-4F87-92C5-B3D4B11AD2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ion diagrams and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llaboration diagram can be used to represent aspects of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patt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6933960" cy="36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53C-00FF-475A-8DE2-81A37D68A2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1 Interaction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diagrams are used to model the dynamic aspects of a software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elp you to visualize how the system ru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raction diagram is often built from a use case and a class diag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ive is to show how a set of objects accomplish the required interactions with an 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B85-A054-4F7C-A71F-354FF0E58C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2 Stat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diagram describes the behaviour of 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m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system, or a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objec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ny given point in time, the system or object is in a certain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in a state means that it is will behave in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wa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response to any events that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vents will cause the system to chang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new state, the system will behave in a different way to ev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diagram is a directed graph where the nodes are states and the arcs are transi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31F-64A1-45FA-8E70-74D9BB7D89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s –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-tac-toe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81240" y="4799160"/>
            <a:ext cx="1406520" cy="763560"/>
          </a:xfrm>
          <a:prstGeom prst="roundRect">
            <a:avLst>
              <a:gd name="adj" fmla="val 30042"/>
            </a:avLst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4320" y="4965840"/>
            <a:ext cx="900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Tur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58520" y="2552760"/>
            <a:ext cx="86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Tur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81240" y="2384280"/>
            <a:ext cx="1406520" cy="763560"/>
          </a:xfrm>
          <a:prstGeom prst="roundRect">
            <a:avLst>
              <a:gd name="adj" fmla="val 30042"/>
            </a:avLst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81400" y="3143160"/>
            <a:ext cx="1800" cy="16509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78320" y="3143160"/>
            <a:ext cx="1440" cy="16509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86960" y="33465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32520" y="4921200"/>
            <a:ext cx="76356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25400" y="4629240"/>
            <a:ext cx="698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94440" y="2124000"/>
            <a:ext cx="668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W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5160" y="2109960"/>
            <a:ext cx="6012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468680" y="4022280"/>
            <a:ext cx="2598840" cy="9162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68680" y="2978280"/>
            <a:ext cx="2598840" cy="9158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481640" y="5165640"/>
            <a:ext cx="259848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481640" y="2690640"/>
            <a:ext cx="256680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5760" y="2751120"/>
            <a:ext cx="7952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054920" y="4921200"/>
            <a:ext cx="426960" cy="459000"/>
            <a:chOff x="7054920" y="4921200"/>
            <a:chExt cx="426960" cy="459000"/>
          </a:xfrm>
        </p:grpSpPr>
        <p:sp>
          <p:nvSpPr>
            <p:cNvPr id="422" name=""/>
            <p:cNvSpPr/>
            <p:nvPr/>
          </p:nvSpPr>
          <p:spPr>
            <a:xfrm>
              <a:off x="7054920" y="4921200"/>
              <a:ext cx="426960" cy="45900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45280" y="5013360"/>
              <a:ext cx="244440" cy="274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981080" y="2536920"/>
            <a:ext cx="397080" cy="398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983280" y="5043600"/>
            <a:ext cx="90720" cy="214200"/>
            <a:chOff x="6983280" y="5043600"/>
            <a:chExt cx="90720" cy="214200"/>
          </a:xfrm>
        </p:grpSpPr>
        <p:sp>
          <p:nvSpPr>
            <p:cNvPr id="426" name=""/>
            <p:cNvSpPr/>
            <p:nvPr/>
          </p:nvSpPr>
          <p:spPr>
            <a:xfrm>
              <a:off x="6983280" y="5043600"/>
              <a:ext cx="90720" cy="122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983280" y="5165640"/>
              <a:ext cx="90720" cy="9216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958080" y="2598840"/>
            <a:ext cx="90360" cy="214200"/>
            <a:chOff x="6958080" y="2598840"/>
            <a:chExt cx="90360" cy="214200"/>
          </a:xfrm>
        </p:grpSpPr>
        <p:sp>
          <p:nvSpPr>
            <p:cNvPr id="429" name=""/>
            <p:cNvSpPr/>
            <p:nvPr/>
          </p:nvSpPr>
          <p:spPr>
            <a:xfrm>
              <a:off x="6958080" y="2598840"/>
              <a:ext cx="90360" cy="9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958080" y="2690640"/>
              <a:ext cx="90360" cy="1224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355920" y="4702320"/>
            <a:ext cx="244080" cy="91800"/>
            <a:chOff x="3355920" y="4702320"/>
            <a:chExt cx="244080" cy="91800"/>
          </a:xfrm>
        </p:grpSpPr>
        <p:sp>
          <p:nvSpPr>
            <p:cNvPr id="432" name=""/>
            <p:cNvSpPr/>
            <p:nvPr/>
          </p:nvSpPr>
          <p:spPr>
            <a:xfrm flipH="1">
              <a:off x="3477960" y="4702320"/>
              <a:ext cx="122040" cy="9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55920" y="4702320"/>
              <a:ext cx="122400" cy="9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59360" y="3142800"/>
            <a:ext cx="244440" cy="122040"/>
            <a:chOff x="4059360" y="3142800"/>
            <a:chExt cx="244440" cy="122040"/>
          </a:xfrm>
        </p:grpSpPr>
        <p:sp>
          <p:nvSpPr>
            <p:cNvPr id="435" name=""/>
            <p:cNvSpPr/>
            <p:nvPr/>
          </p:nvSpPr>
          <p:spPr>
            <a:xfrm flipH="1" flipV="1">
              <a:off x="4181400" y="3142800"/>
              <a:ext cx="122400" cy="122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059360" y="3142800"/>
              <a:ext cx="122040" cy="122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6975360" y="3767040"/>
            <a:ext cx="60480" cy="1224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926400" y="3870360"/>
            <a:ext cx="122040" cy="92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913440" y="3960720"/>
            <a:ext cx="154080" cy="213840"/>
            <a:chOff x="6913440" y="3960720"/>
            <a:chExt cx="154080" cy="213840"/>
          </a:xfrm>
        </p:grpSpPr>
        <p:sp>
          <p:nvSpPr>
            <p:cNvPr id="440" name=""/>
            <p:cNvSpPr/>
            <p:nvPr/>
          </p:nvSpPr>
          <p:spPr>
            <a:xfrm>
              <a:off x="6913440" y="3960720"/>
              <a:ext cx="154080" cy="6192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035840" y="4022280"/>
              <a:ext cx="31680" cy="1522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054920" y="3699000"/>
            <a:ext cx="426960" cy="458640"/>
            <a:chOff x="7054920" y="3699000"/>
            <a:chExt cx="426960" cy="458640"/>
          </a:xfrm>
        </p:grpSpPr>
        <p:sp>
          <p:nvSpPr>
            <p:cNvPr id="443" name=""/>
            <p:cNvSpPr/>
            <p:nvPr/>
          </p:nvSpPr>
          <p:spPr>
            <a:xfrm>
              <a:off x="7054920" y="3699000"/>
              <a:ext cx="426960" cy="45864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45280" y="3790800"/>
              <a:ext cx="244440" cy="274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054920" y="2476440"/>
            <a:ext cx="426960" cy="459000"/>
            <a:chOff x="7054920" y="2476440"/>
            <a:chExt cx="426960" cy="459000"/>
          </a:xfrm>
        </p:grpSpPr>
        <p:sp>
          <p:nvSpPr>
            <p:cNvPr id="446" name=""/>
            <p:cNvSpPr/>
            <p:nvPr/>
          </p:nvSpPr>
          <p:spPr>
            <a:xfrm>
              <a:off x="7054920" y="2476440"/>
              <a:ext cx="426960" cy="459000"/>
            </a:xfrm>
            <a:prstGeom prst="ellipse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45280" y="2568600"/>
              <a:ext cx="244440" cy="274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975040" y="2664000"/>
            <a:ext cx="90360" cy="214200"/>
            <a:chOff x="2975040" y="2664000"/>
            <a:chExt cx="90360" cy="214200"/>
          </a:xfrm>
        </p:grpSpPr>
        <p:sp>
          <p:nvSpPr>
            <p:cNvPr id="449" name=""/>
            <p:cNvSpPr/>
            <p:nvPr/>
          </p:nvSpPr>
          <p:spPr>
            <a:xfrm>
              <a:off x="2975040" y="2664000"/>
              <a:ext cx="90360" cy="9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975040" y="2755800"/>
              <a:ext cx="90360" cy="1224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9D2-B246-40F2-A0E8-76C87DEC3B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ny given point in time, the system is in on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ill remain in this state until an event occurs that causes it to change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is represented by a rounded rectangle containing the name of the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lack circle represents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ircle with a ring around it represents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690-281B-4CDF-B6A9-28691BE153F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ransition represents a change of state in response to an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nsidered to occur instantaneou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bel on each transition is the event that causes the change of sta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867-569E-420E-A059-B5D04621FDA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 flipH="1">
            <a:off x="2850840" y="2997360"/>
            <a:ext cx="114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851200" y="2997000"/>
            <a:ext cx="1440" cy="114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62320" y="3432240"/>
            <a:ext cx="1440" cy="1193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2851200" y="2997360"/>
            <a:ext cx="412560" cy="412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32520" y="389088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30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55880" y="451008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5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86040" y="3065400"/>
            <a:ext cx="1440" cy="711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55880" y="327168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25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8920" y="5003640"/>
            <a:ext cx="1355400" cy="48276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02800" y="508320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06600" y="2571840"/>
            <a:ext cx="137772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88320" y="265104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06600" y="3787920"/>
            <a:ext cx="140004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89040" y="3844800"/>
            <a:ext cx="116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85680" y="3697200"/>
            <a:ext cx="9036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93880" y="3697200"/>
            <a:ext cx="9216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86040" y="4281480"/>
            <a:ext cx="1440" cy="687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885680" y="4915080"/>
            <a:ext cx="90360" cy="68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93880" y="4915080"/>
            <a:ext cx="92160" cy="68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849400" y="4635000"/>
            <a:ext cx="412920" cy="41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077320" y="1596960"/>
            <a:ext cx="1440" cy="3648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18000" y="3065400"/>
            <a:ext cx="1800" cy="711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90360" y="3133800"/>
            <a:ext cx="222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25s since exit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488200" y="3363840"/>
            <a:ext cx="137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e RedLig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64240" y="5003640"/>
            <a:ext cx="1353960" cy="48276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938120" y="508320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41920" y="2571840"/>
            <a:ext cx="314316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48480" y="2651040"/>
            <a:ext cx="290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LightChangeTrigg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741920" y="3787920"/>
            <a:ext cx="140004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24360" y="3844800"/>
            <a:ext cx="116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418000" y="3697200"/>
            <a:ext cx="9216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27640" y="3697200"/>
            <a:ext cx="9036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18000" y="4281480"/>
            <a:ext cx="1800" cy="687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418000" y="4927680"/>
            <a:ext cx="92160" cy="68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27640" y="4927680"/>
            <a:ext cx="90360" cy="680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07040" y="5245200"/>
            <a:ext cx="1970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90720" y="5106960"/>
            <a:ext cx="298440" cy="298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440000" y="5244840"/>
            <a:ext cx="68040" cy="9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0000" y="5176800"/>
            <a:ext cx="6804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97000" y="5245200"/>
            <a:ext cx="298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226040" y="5106960"/>
            <a:ext cx="298440" cy="298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686480" y="5244840"/>
            <a:ext cx="69840" cy="9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86480" y="5176800"/>
            <a:ext cx="69840" cy="68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432320" y="5245200"/>
            <a:ext cx="2984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35720" y="451008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5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155080" y="3890880"/>
            <a:ext cx="86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fter(30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8000" y="1849320"/>
            <a:ext cx="1800" cy="711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5680" y="2055960"/>
            <a:ext cx="19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ehicleWaitingTo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41920" y="1355760"/>
            <a:ext cx="2386080" cy="482400"/>
          </a:xfrm>
          <a:prstGeom prst="roundRect">
            <a:avLst>
              <a:gd name="adj" fmla="val 34093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47040" y="1434960"/>
            <a:ext cx="214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LightNo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5418000" y="2481120"/>
            <a:ext cx="92160" cy="6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27640" y="2481120"/>
            <a:ext cx="90360" cy="6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7129440" y="1574640"/>
            <a:ext cx="68400" cy="9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7129440" y="1504800"/>
            <a:ext cx="68400" cy="6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139160" y="1574640"/>
            <a:ext cx="9381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s – an example of transi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time-outs and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BD4-0099-49D0-B441-34A8CB120272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s – an example with conditional transi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680000" y="2082960"/>
            <a:ext cx="79200" cy="159840"/>
            <a:chOff x="4680000" y="2082960"/>
            <a:chExt cx="79200" cy="159840"/>
          </a:xfrm>
        </p:grpSpPr>
        <p:sp>
          <p:nvSpPr>
            <p:cNvPr id="513" name=""/>
            <p:cNvSpPr/>
            <p:nvPr/>
          </p:nvSpPr>
          <p:spPr>
            <a:xfrm>
              <a:off x="4680000" y="2082960"/>
              <a:ext cx="79200" cy="792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4680000" y="2161800"/>
              <a:ext cx="792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7197120" y="2990880"/>
            <a:ext cx="1468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aStud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96040" y="3444840"/>
            <a:ext cx="150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/create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65800" y="3543480"/>
            <a:ext cx="1440" cy="876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33880" y="2062080"/>
            <a:ext cx="263520" cy="262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4274640" y="2162160"/>
            <a:ext cx="484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94120" y="450540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55960" y="4565520"/>
            <a:ext cx="2219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51800" y="4788000"/>
            <a:ext cx="183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assSize &gt;= max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641680" y="3171960"/>
            <a:ext cx="15127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79960" y="3375000"/>
            <a:ext cx="51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65800" y="2476440"/>
            <a:ext cx="1440" cy="520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421240" y="2506680"/>
            <a:ext cx="134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n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68920" y="1990800"/>
            <a:ext cx="1192320" cy="4856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33160" y="208296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76880" y="4524480"/>
            <a:ext cx="199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Enough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35400" y="3132000"/>
            <a:ext cx="231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NotEnough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63800" y="4413240"/>
            <a:ext cx="990360" cy="4856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284800" y="2930400"/>
            <a:ext cx="161640" cy="79560"/>
            <a:chOff x="5284800" y="2930400"/>
            <a:chExt cx="161640" cy="79560"/>
          </a:xfrm>
        </p:grpSpPr>
        <p:sp>
          <p:nvSpPr>
            <p:cNvPr id="533" name=""/>
            <p:cNvSpPr/>
            <p:nvPr/>
          </p:nvSpPr>
          <p:spPr>
            <a:xfrm flipH="1">
              <a:off x="5365440" y="2930400"/>
              <a:ext cx="81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84800" y="2930400"/>
              <a:ext cx="81000" cy="79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620440" y="3090960"/>
            <a:ext cx="81000" cy="161640"/>
            <a:chOff x="2620440" y="3090960"/>
            <a:chExt cx="81000" cy="161640"/>
          </a:xfrm>
        </p:grpSpPr>
        <p:sp>
          <p:nvSpPr>
            <p:cNvPr id="536" name=""/>
            <p:cNvSpPr/>
            <p:nvPr/>
          </p:nvSpPr>
          <p:spPr>
            <a:xfrm flipH="1" flipV="1">
              <a:off x="2620440" y="317160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620440" y="309096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5441760" y="3798720"/>
            <a:ext cx="178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assSize &gt;= min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30080" y="4424400"/>
            <a:ext cx="1488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aStud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34040" y="4800600"/>
            <a:ext cx="150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/create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2076480" y="4484520"/>
            <a:ext cx="79200" cy="141480"/>
            <a:chOff x="2076480" y="4484520"/>
            <a:chExt cx="79200" cy="141480"/>
          </a:xfrm>
        </p:grpSpPr>
        <p:sp>
          <p:nvSpPr>
            <p:cNvPr id="542" name=""/>
            <p:cNvSpPr/>
            <p:nvPr/>
          </p:nvSpPr>
          <p:spPr>
            <a:xfrm flipH="1" flipV="1">
              <a:off x="2076480" y="4565520"/>
              <a:ext cx="792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2076480" y="4484520"/>
              <a:ext cx="792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284800" y="4313160"/>
            <a:ext cx="161640" cy="81000"/>
            <a:chOff x="5284800" y="4313160"/>
            <a:chExt cx="161640" cy="81000"/>
          </a:xfrm>
        </p:grpSpPr>
        <p:sp>
          <p:nvSpPr>
            <p:cNvPr id="545" name=""/>
            <p:cNvSpPr/>
            <p:nvPr/>
          </p:nvSpPr>
          <p:spPr>
            <a:xfrm flipH="1">
              <a:off x="5365440" y="431316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84800" y="431316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454800" y="2909880"/>
            <a:ext cx="726840" cy="7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3" y="3722"/>
                </a:moveTo>
                <a:arcTo wR="10800" hR="10800" stAng="-8342941" swAng="16639720"/>
                <a:lnTo>
                  <a:pt x="10800" y="10800"/>
                </a:lnTo>
                <a:close/>
              </a:path>
              <a:path fill="none" w="21600" h="21600">
                <a:moveTo>
                  <a:pt x="2643" y="3722"/>
                </a:moveTo>
                <a:arcTo wR="10800" hR="10800" stAng="-8342941" swAng="1663972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65240" y="2919240"/>
            <a:ext cx="706680" cy="70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3" y="3722"/>
                </a:moveTo>
                <a:arcTo wR="10800" hR="10800" stAng="-8342941" swAng="16639720"/>
                <a:lnTo>
                  <a:pt x="10800" y="10800"/>
                </a:lnTo>
                <a:close/>
              </a:path>
              <a:path fill="none" w="21600" h="21600">
                <a:moveTo>
                  <a:pt x="2643" y="3722"/>
                </a:moveTo>
                <a:arcTo wR="10800" hR="10800" stAng="-8342941" swAng="16639720"/>
              </a:path>
            </a:pathLst>
          </a:cu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294600" y="4282920"/>
            <a:ext cx="725040" cy="7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39" y="3726"/>
                </a:moveTo>
                <a:arcTo wR="10800" hR="10800" stAng="-8344725" swAng="16641504"/>
                <a:lnTo>
                  <a:pt x="10800" y="10800"/>
                </a:lnTo>
                <a:close/>
              </a:path>
              <a:path fill="none" w="21600" h="21600">
                <a:moveTo>
                  <a:pt x="2639" y="3726"/>
                </a:moveTo>
                <a:arcTo wR="10800" hR="10800" stAng="-8344725" swAng="16641504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05400" y="4292640"/>
            <a:ext cx="706320" cy="70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39" y="3726"/>
                </a:moveTo>
                <a:arcTo wR="10800" hR="10800" stAng="-8344725" swAng="16641504"/>
                <a:lnTo>
                  <a:pt x="10800" y="10800"/>
                </a:lnTo>
                <a:close/>
              </a:path>
              <a:path fill="none" w="21600" h="21600">
                <a:moveTo>
                  <a:pt x="2639" y="3726"/>
                </a:moveTo>
                <a:arcTo wR="10800" hR="10800" stAng="-8344725" swAng="16641504"/>
              </a:path>
            </a:pathLst>
          </a:cu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05240" y="4413240"/>
            <a:ext cx="2160720" cy="4856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64120" y="3040200"/>
            <a:ext cx="2463840" cy="506160"/>
          </a:xfrm>
          <a:prstGeom prst="roundRect">
            <a:avLst>
              <a:gd name="adj" fmla="val 28847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375240" y="4867200"/>
            <a:ext cx="120600" cy="122400"/>
            <a:chOff x="6375240" y="4867200"/>
            <a:chExt cx="120600" cy="122400"/>
          </a:xfrm>
        </p:grpSpPr>
        <p:sp>
          <p:nvSpPr>
            <p:cNvPr id="554" name=""/>
            <p:cNvSpPr/>
            <p:nvPr/>
          </p:nvSpPr>
          <p:spPr>
            <a:xfrm flipV="1">
              <a:off x="6375240" y="4888080"/>
              <a:ext cx="19080" cy="101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393960" y="4867200"/>
              <a:ext cx="101880" cy="20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556320" y="3495600"/>
            <a:ext cx="100080" cy="100080"/>
            <a:chOff x="6556320" y="3495600"/>
            <a:chExt cx="100080" cy="100080"/>
          </a:xfrm>
        </p:grpSpPr>
        <p:sp>
          <p:nvSpPr>
            <p:cNvPr id="557" name=""/>
            <p:cNvSpPr/>
            <p:nvPr/>
          </p:nvSpPr>
          <p:spPr>
            <a:xfrm flipV="1">
              <a:off x="6556320" y="3495600"/>
              <a:ext cx="1800" cy="100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556320" y="3495600"/>
              <a:ext cx="1000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H="1">
            <a:off x="2620800" y="3394080"/>
            <a:ext cx="15336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36720" y="290988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ose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620440" y="3313080"/>
            <a:ext cx="81000" cy="141480"/>
            <a:chOff x="2620440" y="3313080"/>
            <a:chExt cx="81000" cy="141480"/>
          </a:xfrm>
        </p:grpSpPr>
        <p:sp>
          <p:nvSpPr>
            <p:cNvPr id="562" name=""/>
            <p:cNvSpPr/>
            <p:nvPr/>
          </p:nvSpPr>
          <p:spPr>
            <a:xfrm flipH="1" flipV="1">
              <a:off x="2620440" y="3394080"/>
              <a:ext cx="810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2620440" y="3313080"/>
              <a:ext cx="81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 flipH="1">
            <a:off x="2063880" y="4767120"/>
            <a:ext cx="22190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33520" y="428292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ose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063880" y="4686480"/>
            <a:ext cx="79200" cy="141120"/>
            <a:chOff x="2063880" y="4686480"/>
            <a:chExt cx="79200" cy="141120"/>
          </a:xfrm>
        </p:grpSpPr>
        <p:sp>
          <p:nvSpPr>
            <p:cNvPr id="567" name=""/>
            <p:cNvSpPr/>
            <p:nvPr/>
          </p:nvSpPr>
          <p:spPr>
            <a:xfrm flipH="1" flipV="1">
              <a:off x="2063880" y="4767120"/>
              <a:ext cx="792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063880" y="4686480"/>
              <a:ext cx="79200" cy="806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3664080" y="3838680"/>
            <a:ext cx="51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560320" y="3555720"/>
            <a:ext cx="1800360" cy="873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560320" y="3514680"/>
            <a:ext cx="81000" cy="122040"/>
            <a:chOff x="2560320" y="3514680"/>
            <a:chExt cx="81000" cy="122040"/>
          </a:xfrm>
        </p:grpSpPr>
        <p:sp>
          <p:nvSpPr>
            <p:cNvPr id="572" name=""/>
            <p:cNvSpPr/>
            <p:nvPr/>
          </p:nvSpPr>
          <p:spPr>
            <a:xfrm flipH="1">
              <a:off x="2560320" y="3514680"/>
              <a:ext cx="81000" cy="41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2560320" y="3555720"/>
              <a:ext cx="1908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602720" y="3171960"/>
            <a:ext cx="90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440000" y="3081240"/>
            <a:ext cx="1191960" cy="48600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506-275A-45E2-981C-5112459B1A5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ies in stat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omething that takes place while the system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akes a period of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may take a transition out of the state in response to completion of the activi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ther outgoing transition may result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ruption of the activity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arly exit from the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AB6-EF1E-4C09-80F0-3E0AB4A659C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 – an example with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602400" y="2417760"/>
            <a:ext cx="90360" cy="240840"/>
            <a:chOff x="6602400" y="2417760"/>
            <a:chExt cx="90360" cy="240840"/>
          </a:xfrm>
        </p:grpSpPr>
        <p:sp>
          <p:nvSpPr>
            <p:cNvPr id="580" name=""/>
            <p:cNvSpPr/>
            <p:nvPr/>
          </p:nvSpPr>
          <p:spPr>
            <a:xfrm>
              <a:off x="6602400" y="2417760"/>
              <a:ext cx="90360" cy="120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602400" y="2538000"/>
              <a:ext cx="90360" cy="120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4046400" y="2538360"/>
            <a:ext cx="26751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87840" y="2057400"/>
            <a:ext cx="15937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94760" y="2147760"/>
            <a:ext cx="1468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100" spc="-1" strike="noStrike">
                <a:solidFill>
                  <a:srgbClr val="000000"/>
                </a:solidFill>
                <a:latin typeface="Arial"/>
              </a:rPr>
              <a:t>press butt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32520" y="2959200"/>
            <a:ext cx="1773360" cy="1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916680" y="2943360"/>
            <a:ext cx="1774800" cy="1023840"/>
          </a:xfrm>
          <a:prstGeom prst="rect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137360" y="2960640"/>
            <a:ext cx="37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82360" y="3260880"/>
            <a:ext cx="1424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play chos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51680" y="3562200"/>
            <a:ext cx="105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8435880" y="2928960"/>
            <a:ext cx="239760" cy="2412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 flipH="1">
            <a:off x="4046040" y="2959200"/>
            <a:ext cx="26751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5600" y="2341440"/>
            <a:ext cx="2046600" cy="1776600"/>
          </a:xfrm>
          <a:prstGeom prst="roundRect">
            <a:avLst>
              <a:gd name="adj" fmla="val 12500"/>
            </a:avLst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14800" y="2449440"/>
            <a:ext cx="179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usicPl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86000" y="2462040"/>
            <a:ext cx="2706480" cy="633600"/>
          </a:xfrm>
          <a:prstGeom prst="roundRect">
            <a:avLst>
              <a:gd name="adj" fmla="val 34093"/>
            </a:avLst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35320" y="2538360"/>
            <a:ext cx="238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pose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076640" y="2838600"/>
            <a:ext cx="90720" cy="240840"/>
            <a:chOff x="4076640" y="2838600"/>
            <a:chExt cx="90720" cy="240840"/>
          </a:xfrm>
        </p:grpSpPr>
        <p:sp>
          <p:nvSpPr>
            <p:cNvPr id="597" name=""/>
            <p:cNvSpPr/>
            <p:nvPr/>
          </p:nvSpPr>
          <p:spPr>
            <a:xfrm flipH="1">
              <a:off x="4076640" y="2838600"/>
              <a:ext cx="90720" cy="120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4076640" y="2958840"/>
              <a:ext cx="90720" cy="1206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8DF-845B-44E3-A9EC-3352DD5D30D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 in stat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omething that takes place effectivel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aneous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particular transition is take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entry into a particular state, 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exit from a particular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ction should consume no noticeable amoun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4E9-5F63-4E25-A30A-E366FD2E115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 – an example wi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039000" y="2147760"/>
            <a:ext cx="71280" cy="190440"/>
            <a:chOff x="6039000" y="2147760"/>
            <a:chExt cx="71280" cy="190440"/>
          </a:xfrm>
        </p:grpSpPr>
        <p:sp>
          <p:nvSpPr>
            <p:cNvPr id="603" name=""/>
            <p:cNvSpPr/>
            <p:nvPr/>
          </p:nvSpPr>
          <p:spPr>
            <a:xfrm>
              <a:off x="6039000" y="2147760"/>
              <a:ext cx="71280" cy="95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39000" y="2242800"/>
              <a:ext cx="71280" cy="95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240600" y="1933560"/>
            <a:ext cx="2144520" cy="608040"/>
            <a:chOff x="6240600" y="1933560"/>
            <a:chExt cx="2144520" cy="608040"/>
          </a:xfrm>
        </p:grpSpPr>
        <p:sp>
          <p:nvSpPr>
            <p:cNvPr id="606" name=""/>
            <p:cNvSpPr/>
            <p:nvPr/>
          </p:nvSpPr>
          <p:spPr>
            <a:xfrm>
              <a:off x="6240600" y="1944720"/>
              <a:ext cx="2144520" cy="596880"/>
            </a:xfrm>
            <a:prstGeom prst="rect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23120" y="1957320"/>
              <a:ext cx="63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Enter /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70920" y="2195640"/>
              <a:ext cx="1931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run motor forward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9" name="" descr=""/>
            <p:cNvPicPr/>
            <p:nvPr/>
          </p:nvPicPr>
          <p:blipFill>
            <a:blip r:embed="rId1"/>
            <a:stretch/>
          </p:blipFill>
          <p:spPr>
            <a:xfrm>
              <a:off x="8182080" y="193356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0" name=""/>
          <p:cNvSpPr/>
          <p:nvPr/>
        </p:nvSpPr>
        <p:spPr>
          <a:xfrm>
            <a:off x="1477800" y="4707000"/>
            <a:ext cx="2264040" cy="59688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36920" y="4719600"/>
            <a:ext cx="636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Enter 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95880" y="4957920"/>
            <a:ext cx="205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run motor in rever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3538440" y="4695840"/>
            <a:ext cx="190440" cy="190440"/>
          </a:xfrm>
          <a:prstGeom prst="rect">
            <a:avLst/>
          </a:prstGeom>
          <a:ln w="0">
            <a:noFill/>
          </a:ln>
        </p:spPr>
      </p:pic>
      <p:grpSp>
        <p:nvGrpSpPr>
          <p:cNvPr id="614" name=""/>
          <p:cNvGrpSpPr/>
          <p:nvPr/>
        </p:nvGrpSpPr>
        <p:grpSpPr>
          <a:xfrm>
            <a:off x="6264360" y="4719600"/>
            <a:ext cx="1334880" cy="608040"/>
            <a:chOff x="6264360" y="4719600"/>
            <a:chExt cx="1334880" cy="608040"/>
          </a:xfrm>
        </p:grpSpPr>
        <p:sp>
          <p:nvSpPr>
            <p:cNvPr id="615" name=""/>
            <p:cNvSpPr/>
            <p:nvPr/>
          </p:nvSpPr>
          <p:spPr>
            <a:xfrm>
              <a:off x="6264360" y="4730760"/>
              <a:ext cx="1334880" cy="596880"/>
            </a:xfrm>
            <a:prstGeom prst="rect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46880" y="4743360"/>
              <a:ext cx="63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Enter /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86040" y="4981680"/>
              <a:ext cx="1139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stop mo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8" name="" descr=""/>
            <p:cNvPicPr/>
            <p:nvPr/>
          </p:nvPicPr>
          <p:blipFill>
            <a:blip r:embed="rId3"/>
            <a:stretch/>
          </p:blipFill>
          <p:spPr>
            <a:xfrm>
              <a:off x="7396200" y="471960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9" name=""/>
          <p:cNvGrpSpPr/>
          <p:nvPr/>
        </p:nvGrpSpPr>
        <p:grpSpPr>
          <a:xfrm>
            <a:off x="2311560" y="1909800"/>
            <a:ext cx="1406520" cy="608040"/>
            <a:chOff x="2311560" y="1909800"/>
            <a:chExt cx="1406520" cy="608040"/>
          </a:xfrm>
        </p:grpSpPr>
        <p:sp>
          <p:nvSpPr>
            <p:cNvPr id="620" name=""/>
            <p:cNvSpPr/>
            <p:nvPr/>
          </p:nvSpPr>
          <p:spPr>
            <a:xfrm>
              <a:off x="2311560" y="1920960"/>
              <a:ext cx="1406520" cy="596880"/>
            </a:xfrm>
            <a:prstGeom prst="rect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94080" y="1933560"/>
              <a:ext cx="63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Enter /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33240" y="2171880"/>
              <a:ext cx="1139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CA" sz="1700" spc="-1" strike="noStrike">
                  <a:solidFill>
                    <a:srgbClr val="000000"/>
                  </a:solidFill>
                  <a:latin typeface="Arial"/>
                </a:rPr>
                <a:t>stop mot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3" name="" descr=""/>
            <p:cNvPicPr/>
            <p:nvPr/>
          </p:nvPicPr>
          <p:blipFill>
            <a:blip r:embed="rId4"/>
            <a:stretch/>
          </p:blipFill>
          <p:spPr>
            <a:xfrm>
              <a:off x="3514680" y="1909800"/>
              <a:ext cx="1904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6848640" y="2624040"/>
            <a:ext cx="1440" cy="1762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943320" y="3219480"/>
            <a:ext cx="1818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Arial"/>
              </a:rPr>
              <a:t>openingComple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110040" y="2599920"/>
            <a:ext cx="1440" cy="1762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79520" y="2838600"/>
            <a:ext cx="1722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Arial"/>
              </a:rPr>
              <a:t>closingComple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753000" y="3433680"/>
            <a:ext cx="1380960" cy="9763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5133960" y="2599920"/>
            <a:ext cx="1047600" cy="8334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43880" y="3552840"/>
            <a:ext cx="1154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Arial"/>
              </a:rPr>
              <a:t>pressButt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824280" y="4719600"/>
            <a:ext cx="23335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15480" y="4410000"/>
            <a:ext cx="1154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Arial"/>
              </a:rPr>
              <a:t>pressButt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24280" y="2243160"/>
            <a:ext cx="23097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48080" y="1862280"/>
            <a:ext cx="126216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96320" y="1933560"/>
            <a:ext cx="1154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700" spc="-1" strike="noStrike">
                <a:solidFill>
                  <a:srgbClr val="000000"/>
                </a:solidFill>
                <a:latin typeface="Arial"/>
              </a:rPr>
              <a:t>pressButt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82760" y="4373640"/>
            <a:ext cx="2430360" cy="1025280"/>
          </a:xfrm>
          <a:prstGeom prst="roundRect">
            <a:avLst>
              <a:gd name="adj" fmla="val 17046"/>
            </a:avLst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91040" y="4362480"/>
            <a:ext cx="803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68960" y="4397400"/>
            <a:ext cx="1525680" cy="1001520"/>
          </a:xfrm>
          <a:prstGeom prst="roundRect">
            <a:avLst>
              <a:gd name="adj" fmla="val 17440"/>
            </a:avLst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43880" y="4386240"/>
            <a:ext cx="59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45200" y="1587600"/>
            <a:ext cx="2335320" cy="1025280"/>
          </a:xfrm>
          <a:prstGeom prst="roundRect">
            <a:avLst>
              <a:gd name="adj" fmla="val 17046"/>
            </a:avLst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04080" y="1600200"/>
            <a:ext cx="91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216160" y="1635120"/>
            <a:ext cx="1596960" cy="954000"/>
          </a:xfrm>
          <a:prstGeom prst="roundRect">
            <a:avLst>
              <a:gd name="adj" fmla="val 18292"/>
            </a:avLst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58320" y="1600200"/>
            <a:ext cx="75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6777000" y="4267080"/>
            <a:ext cx="166680" cy="95400"/>
            <a:chOff x="6777000" y="4267080"/>
            <a:chExt cx="166680" cy="95400"/>
          </a:xfrm>
        </p:grpSpPr>
        <p:sp>
          <p:nvSpPr>
            <p:cNvPr id="645" name=""/>
            <p:cNvSpPr/>
            <p:nvPr/>
          </p:nvSpPr>
          <p:spPr>
            <a:xfrm flipH="1">
              <a:off x="6848640" y="4267080"/>
              <a:ext cx="95040" cy="95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777000" y="4267080"/>
              <a:ext cx="71640" cy="95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3823920" y="4624560"/>
            <a:ext cx="95400" cy="190080"/>
            <a:chOff x="3823920" y="4624560"/>
            <a:chExt cx="95400" cy="190080"/>
          </a:xfrm>
        </p:grpSpPr>
        <p:sp>
          <p:nvSpPr>
            <p:cNvPr id="648" name=""/>
            <p:cNvSpPr/>
            <p:nvPr/>
          </p:nvSpPr>
          <p:spPr>
            <a:xfrm flipH="1">
              <a:off x="3823920" y="4624560"/>
              <a:ext cx="95400" cy="950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flipV="1">
              <a:off x="3823920" y="4719240"/>
              <a:ext cx="95400" cy="954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3038400" y="2599920"/>
            <a:ext cx="166680" cy="71640"/>
            <a:chOff x="3038400" y="2599920"/>
            <a:chExt cx="166680" cy="71640"/>
          </a:xfrm>
        </p:grpSpPr>
        <p:sp>
          <p:nvSpPr>
            <p:cNvPr id="651" name=""/>
            <p:cNvSpPr/>
            <p:nvPr/>
          </p:nvSpPr>
          <p:spPr>
            <a:xfrm flipV="1">
              <a:off x="3038400" y="2599920"/>
              <a:ext cx="71640" cy="71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3110040" y="2599920"/>
              <a:ext cx="95040" cy="71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6062760" y="2576160"/>
            <a:ext cx="120600" cy="119160"/>
            <a:chOff x="6062760" y="2576160"/>
            <a:chExt cx="120600" cy="119160"/>
          </a:xfrm>
        </p:grpSpPr>
        <p:sp>
          <p:nvSpPr>
            <p:cNvPr id="654" name=""/>
            <p:cNvSpPr/>
            <p:nvPr/>
          </p:nvSpPr>
          <p:spPr>
            <a:xfrm>
              <a:off x="6062760" y="2576520"/>
              <a:ext cx="11880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181560" y="2576160"/>
              <a:ext cx="1800" cy="1191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629-0E32-44A5-8FF6-00E44879435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s and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diagrams show how a set of actors and objects communicate with each other to per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ps of a use cas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ps of some other piece of function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t of steps, taken together, is called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diagrams can show several different types of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method calls, messages send over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all referred to 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08B-18BE-4393-9964-C853E00D31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s –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7543800" cy="262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3AE-3ED1-4957-826A-47F6304F8C6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sted substates and guar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diagram can be nested inside a stat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s of the inner diagram are calle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15960" y="3909960"/>
            <a:ext cx="7237440" cy="1193760"/>
          </a:xfrm>
          <a:prstGeom prst="roundRect">
            <a:avLst>
              <a:gd name="adj" fmla="val 22032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049480" y="4259160"/>
            <a:ext cx="722160" cy="433440"/>
            <a:chOff x="2049480" y="4259160"/>
            <a:chExt cx="722160" cy="433440"/>
          </a:xfrm>
        </p:grpSpPr>
        <p:sp>
          <p:nvSpPr>
            <p:cNvPr id="662" name=""/>
            <p:cNvSpPr/>
            <p:nvPr/>
          </p:nvSpPr>
          <p:spPr>
            <a:xfrm>
              <a:off x="2049480" y="4259160"/>
              <a:ext cx="722160" cy="433440"/>
            </a:xfrm>
            <a:prstGeom prst="roundRect">
              <a:avLst>
                <a:gd name="adj" fmla="val 34093"/>
              </a:avLst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54320" y="43545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906800" y="4259160"/>
            <a:ext cx="865440" cy="433440"/>
            <a:chOff x="4906800" y="4259160"/>
            <a:chExt cx="865440" cy="433440"/>
          </a:xfrm>
        </p:grpSpPr>
        <p:sp>
          <p:nvSpPr>
            <p:cNvPr id="665" name=""/>
            <p:cNvSpPr/>
            <p:nvPr/>
          </p:nvSpPr>
          <p:spPr>
            <a:xfrm>
              <a:off x="4906800" y="4259160"/>
              <a:ext cx="865440" cy="433440"/>
            </a:xfrm>
            <a:prstGeom prst="roundRect">
              <a:avLst>
                <a:gd name="adj" fmla="val 34093"/>
              </a:avLst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67000" y="435456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867800" y="4259160"/>
            <a:ext cx="699840" cy="433440"/>
            <a:chOff x="7867800" y="4259160"/>
            <a:chExt cx="699840" cy="433440"/>
          </a:xfrm>
        </p:grpSpPr>
        <p:sp>
          <p:nvSpPr>
            <p:cNvPr id="668" name=""/>
            <p:cNvSpPr/>
            <p:nvPr/>
          </p:nvSpPr>
          <p:spPr>
            <a:xfrm>
              <a:off x="7867800" y="4259160"/>
              <a:ext cx="699840" cy="433440"/>
            </a:xfrm>
            <a:prstGeom prst="roundRect">
              <a:avLst>
                <a:gd name="adj" fmla="val 34093"/>
              </a:avLst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48880" y="43545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00000"/>
                  </a:solidFill>
                  <a:latin typeface="Arial"/>
                </a:rPr>
                <a:t>Thi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7704000" y="2882880"/>
            <a:ext cx="966960" cy="433440"/>
          </a:xfrm>
          <a:prstGeom prst="roundRect">
            <a:avLst>
              <a:gd name="adj" fmla="val 34093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11360" y="2955960"/>
            <a:ext cx="75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959120" y="3119400"/>
            <a:ext cx="225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43520" y="2995560"/>
            <a:ext cx="18097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760840" y="4394160"/>
            <a:ext cx="2117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2760480" y="4599000"/>
            <a:ext cx="21366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799440" y="295596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14720" y="2882880"/>
            <a:ext cx="3639960" cy="433440"/>
          </a:xfrm>
          <a:prstGeom prst="roundRect">
            <a:avLst>
              <a:gd name="adj" fmla="val 34093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864040" y="3119400"/>
            <a:ext cx="61560" cy="165240"/>
            <a:chOff x="5864040" y="3119400"/>
            <a:chExt cx="61560" cy="165240"/>
          </a:xfrm>
        </p:grpSpPr>
        <p:sp>
          <p:nvSpPr>
            <p:cNvPr id="679" name=""/>
            <p:cNvSpPr/>
            <p:nvPr/>
          </p:nvSpPr>
          <p:spPr>
            <a:xfrm flipH="1" flipV="1">
              <a:off x="5864040" y="3201840"/>
              <a:ext cx="6156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5864040" y="3119400"/>
              <a:ext cx="6156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690560" y="2995560"/>
            <a:ext cx="268560" cy="268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89040" y="4332240"/>
            <a:ext cx="266760" cy="266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43520" y="3201840"/>
            <a:ext cx="18511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700600" y="3325680"/>
            <a:ext cx="1800" cy="574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81600" y="4394160"/>
            <a:ext cx="20764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61080" y="4578480"/>
            <a:ext cx="20970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31960" y="4456080"/>
            <a:ext cx="2890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5781600" y="4518000"/>
            <a:ext cx="61920" cy="142560"/>
            <a:chOff x="5781600" y="4518000"/>
            <a:chExt cx="61920" cy="142560"/>
          </a:xfrm>
        </p:grpSpPr>
        <p:sp>
          <p:nvSpPr>
            <p:cNvPr id="689" name=""/>
            <p:cNvSpPr/>
            <p:nvPr/>
          </p:nvSpPr>
          <p:spPr>
            <a:xfrm flipH="1" flipV="1">
              <a:off x="5781600" y="457812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5781600" y="4518000"/>
              <a:ext cx="6192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2781360" y="4518000"/>
            <a:ext cx="61920" cy="142560"/>
            <a:chOff x="2781360" y="4518000"/>
            <a:chExt cx="61920" cy="142560"/>
          </a:xfrm>
        </p:grpSpPr>
        <p:sp>
          <p:nvSpPr>
            <p:cNvPr id="692" name=""/>
            <p:cNvSpPr/>
            <p:nvPr/>
          </p:nvSpPr>
          <p:spPr>
            <a:xfrm flipH="1" flipV="1">
              <a:off x="2781360" y="457812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2781360" y="4518000"/>
              <a:ext cx="6192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795920" y="4311720"/>
            <a:ext cx="82440" cy="144000"/>
            <a:chOff x="4795920" y="4311720"/>
            <a:chExt cx="82440" cy="144000"/>
          </a:xfrm>
        </p:grpSpPr>
        <p:sp>
          <p:nvSpPr>
            <p:cNvPr id="695" name=""/>
            <p:cNvSpPr/>
            <p:nvPr/>
          </p:nvSpPr>
          <p:spPr>
            <a:xfrm flipV="1">
              <a:off x="4795920" y="437328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95920" y="4311720"/>
              <a:ext cx="8244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7775640" y="4311720"/>
            <a:ext cx="82440" cy="144000"/>
            <a:chOff x="7775640" y="4311720"/>
            <a:chExt cx="82440" cy="144000"/>
          </a:xfrm>
        </p:grpSpPr>
        <p:sp>
          <p:nvSpPr>
            <p:cNvPr id="698" name=""/>
            <p:cNvSpPr/>
            <p:nvPr/>
          </p:nvSpPr>
          <p:spPr>
            <a:xfrm flipV="1">
              <a:off x="7775640" y="437328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75640" y="4311720"/>
              <a:ext cx="8244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7612200" y="2914560"/>
            <a:ext cx="61920" cy="163080"/>
            <a:chOff x="7612200" y="2914560"/>
            <a:chExt cx="61920" cy="163080"/>
          </a:xfrm>
        </p:grpSpPr>
        <p:sp>
          <p:nvSpPr>
            <p:cNvPr id="701" name=""/>
            <p:cNvSpPr/>
            <p:nvPr/>
          </p:nvSpPr>
          <p:spPr>
            <a:xfrm flipV="1">
              <a:off x="7612200" y="299520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612200" y="2914560"/>
              <a:ext cx="6192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5618160" y="3325680"/>
            <a:ext cx="163080" cy="60480"/>
            <a:chOff x="5618160" y="3325680"/>
            <a:chExt cx="163080" cy="60480"/>
          </a:xfrm>
        </p:grpSpPr>
        <p:sp>
          <p:nvSpPr>
            <p:cNvPr id="704" name=""/>
            <p:cNvSpPr/>
            <p:nvPr/>
          </p:nvSpPr>
          <p:spPr>
            <a:xfrm flipV="1">
              <a:off x="5618160" y="3325680"/>
              <a:ext cx="82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5700240" y="3325680"/>
              <a:ext cx="810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717640" y="3510000"/>
            <a:ext cx="94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Dr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41360" y="3962520"/>
            <a:ext cx="146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reachThird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40280" y="4167360"/>
            <a:ext cx="126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[driveSelecte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83480" y="4578480"/>
            <a:ext cx="1893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dropBelowThird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40760" y="3962520"/>
            <a:ext cx="168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reachSecond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40040" y="4167360"/>
            <a:ext cx="126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[driveSelecte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41840" y="4578480"/>
            <a:ext cx="210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dropBelowSecond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40040" y="4782960"/>
            <a:ext cx="126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[driveSelected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49360" y="3325680"/>
            <a:ext cx="1800" cy="903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2266920" y="4168800"/>
            <a:ext cx="165240" cy="60480"/>
            <a:chOff x="2266920" y="4168800"/>
            <a:chExt cx="165240" cy="60480"/>
          </a:xfrm>
        </p:grpSpPr>
        <p:sp>
          <p:nvSpPr>
            <p:cNvPr id="716" name=""/>
            <p:cNvSpPr/>
            <p:nvPr/>
          </p:nvSpPr>
          <p:spPr>
            <a:xfrm>
              <a:off x="2266920" y="4168800"/>
              <a:ext cx="8244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2349360" y="4168800"/>
              <a:ext cx="82800" cy="60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441800" y="3510000"/>
            <a:ext cx="87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093200" y="3510000"/>
            <a:ext cx="115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Seco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58920" y="3510000"/>
            <a:ext cx="111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Neutr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268960" y="3304800"/>
            <a:ext cx="1440" cy="924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186520" y="4148280"/>
            <a:ext cx="142560" cy="81000"/>
            <a:chOff x="5186520" y="4148280"/>
            <a:chExt cx="142560" cy="81000"/>
          </a:xfrm>
        </p:grpSpPr>
        <p:sp>
          <p:nvSpPr>
            <p:cNvPr id="723" name=""/>
            <p:cNvSpPr/>
            <p:nvPr/>
          </p:nvSpPr>
          <p:spPr>
            <a:xfrm>
              <a:off x="5186520" y="4148280"/>
              <a:ext cx="6192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5248440" y="4148280"/>
              <a:ext cx="8064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3705120" y="3325680"/>
            <a:ext cx="1800" cy="5540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3624120" y="3817800"/>
            <a:ext cx="163800" cy="61920"/>
            <a:chOff x="3624120" y="3817800"/>
            <a:chExt cx="163800" cy="61920"/>
          </a:xfrm>
        </p:grpSpPr>
        <p:sp>
          <p:nvSpPr>
            <p:cNvPr id="727" name=""/>
            <p:cNvSpPr/>
            <p:nvPr/>
          </p:nvSpPr>
          <p:spPr>
            <a:xfrm>
              <a:off x="3624120" y="3817800"/>
              <a:ext cx="810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3705120" y="3817800"/>
              <a:ext cx="828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6252480" y="3181320"/>
            <a:ext cx="111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Neutr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231240" y="2770200"/>
            <a:ext cx="121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Rever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2184480" y="4681440"/>
            <a:ext cx="164520" cy="82800"/>
            <a:chOff x="2184480" y="4681440"/>
            <a:chExt cx="164520" cy="82800"/>
          </a:xfrm>
        </p:grpSpPr>
        <p:sp>
          <p:nvSpPr>
            <p:cNvPr id="732" name=""/>
            <p:cNvSpPr/>
            <p:nvPr/>
          </p:nvSpPr>
          <p:spPr>
            <a:xfrm flipV="1">
              <a:off x="2184480" y="46814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2266560" y="46814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2266920" y="4702320"/>
            <a:ext cx="1440" cy="576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92280" y="5092560"/>
            <a:ext cx="1800" cy="185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66920" y="5278320"/>
            <a:ext cx="225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268960" y="4681440"/>
            <a:ext cx="163080" cy="82800"/>
            <a:chOff x="5268960" y="4681440"/>
            <a:chExt cx="163080" cy="82800"/>
          </a:xfrm>
        </p:grpSpPr>
        <p:sp>
          <p:nvSpPr>
            <p:cNvPr id="738" name=""/>
            <p:cNvSpPr/>
            <p:nvPr/>
          </p:nvSpPr>
          <p:spPr>
            <a:xfrm flipV="1">
              <a:off x="5268960" y="4681440"/>
              <a:ext cx="8100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5349600" y="46814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349960" y="4702320"/>
            <a:ext cx="1440" cy="5760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576760" y="5092560"/>
            <a:ext cx="1800" cy="185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49960" y="5278320"/>
            <a:ext cx="226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57760" y="5297400"/>
            <a:ext cx="87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15440" y="5297400"/>
            <a:ext cx="115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000000"/>
                </a:solidFill>
                <a:latin typeface="Arial"/>
              </a:rPr>
              <a:t>selectSeco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2122560" y="3036960"/>
            <a:ext cx="82440" cy="164520"/>
            <a:chOff x="2122560" y="3036960"/>
            <a:chExt cx="82440" cy="164520"/>
          </a:xfrm>
        </p:grpSpPr>
        <p:sp>
          <p:nvSpPr>
            <p:cNvPr id="746" name=""/>
            <p:cNvSpPr/>
            <p:nvPr/>
          </p:nvSpPr>
          <p:spPr>
            <a:xfrm flipV="1">
              <a:off x="2122560" y="311904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22560" y="303696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1938240" y="4394160"/>
            <a:ext cx="82800" cy="144360"/>
            <a:chOff x="1938240" y="4394160"/>
            <a:chExt cx="82800" cy="144360"/>
          </a:xfrm>
        </p:grpSpPr>
        <p:sp>
          <p:nvSpPr>
            <p:cNvPr id="749" name=""/>
            <p:cNvSpPr/>
            <p:nvPr/>
          </p:nvSpPr>
          <p:spPr>
            <a:xfrm flipV="1">
              <a:off x="1938240" y="4476600"/>
              <a:ext cx="828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938240" y="4394160"/>
              <a:ext cx="8280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17D-43DB-4577-B7CC-F33DC9C1C5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 – an example with sub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79760" y="2716200"/>
            <a:ext cx="2821320" cy="2344680"/>
          </a:xfrm>
          <a:prstGeom prst="roundRect">
            <a:avLst>
              <a:gd name="adj" fmla="val 6579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4722840" y="1855800"/>
            <a:ext cx="82440" cy="166320"/>
            <a:chOff x="4722840" y="1855800"/>
            <a:chExt cx="82440" cy="166320"/>
          </a:xfrm>
        </p:grpSpPr>
        <p:sp>
          <p:nvSpPr>
            <p:cNvPr id="754" name=""/>
            <p:cNvSpPr/>
            <p:nvPr/>
          </p:nvSpPr>
          <p:spPr>
            <a:xfrm>
              <a:off x="4722840" y="1855800"/>
              <a:ext cx="8244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722840" y="1939680"/>
              <a:ext cx="8244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7306200" y="2666880"/>
            <a:ext cx="1641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aStuden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311240" y="3124080"/>
            <a:ext cx="160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/create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62320" y="1835280"/>
            <a:ext cx="270000" cy="26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308480" y="1940040"/>
            <a:ext cx="496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427720" y="2271600"/>
            <a:ext cx="1440" cy="746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87120" y="2290680"/>
            <a:ext cx="1450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open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815000" y="1762200"/>
            <a:ext cx="1225440" cy="5000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096520" y="185580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680720" y="4572000"/>
            <a:ext cx="150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ough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81080" y="3141720"/>
            <a:ext cx="181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nough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345280" y="2935440"/>
            <a:ext cx="164520" cy="61920"/>
            <a:chOff x="5345280" y="2935440"/>
            <a:chExt cx="164520" cy="61920"/>
          </a:xfrm>
        </p:grpSpPr>
        <p:sp>
          <p:nvSpPr>
            <p:cNvPr id="767" name=""/>
            <p:cNvSpPr/>
            <p:nvPr/>
          </p:nvSpPr>
          <p:spPr>
            <a:xfrm flipH="1">
              <a:off x="5427360" y="2935440"/>
              <a:ext cx="8244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345280" y="2935440"/>
              <a:ext cx="8244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5093280" y="3825720"/>
            <a:ext cx="191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lassSize &gt;= minim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4930920" y="4344840"/>
            <a:ext cx="164520" cy="82800"/>
            <a:chOff x="4930920" y="4344840"/>
            <a:chExt cx="164520" cy="82800"/>
          </a:xfrm>
        </p:grpSpPr>
        <p:sp>
          <p:nvSpPr>
            <p:cNvPr id="771" name=""/>
            <p:cNvSpPr/>
            <p:nvPr/>
          </p:nvSpPr>
          <p:spPr>
            <a:xfrm flipH="1">
              <a:off x="5013000" y="43448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30920" y="4344840"/>
              <a:ext cx="8244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6859440" y="3349800"/>
            <a:ext cx="747360" cy="74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67" y="5"/>
                </a:moveTo>
                <a:arcTo wR="10800" hR="10800" stAng="-5506090" swAng="11115426"/>
                <a:lnTo>
                  <a:pt x="10800" y="10800"/>
                </a:lnTo>
                <a:close/>
              </a:path>
              <a:path fill="none" w="21600" h="21600">
                <a:moveTo>
                  <a:pt x="10467" y="5"/>
                </a:moveTo>
                <a:arcTo wR="10800" hR="10800" stAng="-5506090" swAng="11115426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68800" y="3359160"/>
            <a:ext cx="727200" cy="72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67" y="5"/>
                </a:moveTo>
                <a:arcTo wR="10800" hR="10800" stAng="-5506084" swAng="11115407"/>
                <a:lnTo>
                  <a:pt x="10800" y="10800"/>
                </a:lnTo>
                <a:close/>
              </a:path>
              <a:path fill="none" w="21600" h="21600">
                <a:moveTo>
                  <a:pt x="10467" y="5"/>
                </a:moveTo>
                <a:arcTo wR="10800" hR="10800" stAng="-5506084" swAng="11115407"/>
              </a:path>
            </a:pathLst>
          </a:cu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08360" y="4457880"/>
            <a:ext cx="1784520" cy="5000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08360" y="3048120"/>
            <a:ext cx="2095560" cy="4982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36880" y="27068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210440" y="3992400"/>
            <a:ext cx="63360" cy="144720"/>
            <a:chOff x="7210440" y="3992400"/>
            <a:chExt cx="63360" cy="144720"/>
          </a:xfrm>
        </p:grpSpPr>
        <p:sp>
          <p:nvSpPr>
            <p:cNvPr id="779" name=""/>
            <p:cNvSpPr/>
            <p:nvPr/>
          </p:nvSpPr>
          <p:spPr>
            <a:xfrm flipH="1" flipV="1">
              <a:off x="7210440" y="4075200"/>
              <a:ext cx="6336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210440" y="3992400"/>
              <a:ext cx="63360" cy="82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1212120" y="453060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027160" y="4594320"/>
            <a:ext cx="25718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11840" y="4281480"/>
            <a:ext cx="19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lassSize &gt;= maxim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629080" y="3162240"/>
            <a:ext cx="1720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53320" y="2913120"/>
            <a:ext cx="55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00080" y="4437000"/>
            <a:ext cx="1038240" cy="500040"/>
          </a:xfrm>
          <a:prstGeom prst="roundRect">
            <a:avLst>
              <a:gd name="adj" fmla="val 30000"/>
            </a:avLst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608200" y="3079800"/>
            <a:ext cx="61920" cy="166680"/>
            <a:chOff x="2608200" y="3079800"/>
            <a:chExt cx="61920" cy="166680"/>
          </a:xfrm>
        </p:grpSpPr>
        <p:sp>
          <p:nvSpPr>
            <p:cNvPr id="788" name=""/>
            <p:cNvSpPr/>
            <p:nvPr/>
          </p:nvSpPr>
          <p:spPr>
            <a:xfrm flipH="1" flipV="1">
              <a:off x="2608200" y="3162240"/>
              <a:ext cx="6192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2608200" y="307980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027160" y="4510080"/>
            <a:ext cx="82800" cy="146160"/>
            <a:chOff x="2027160" y="4510080"/>
            <a:chExt cx="82800" cy="146160"/>
          </a:xfrm>
        </p:grpSpPr>
        <p:sp>
          <p:nvSpPr>
            <p:cNvPr id="791" name=""/>
            <p:cNvSpPr/>
            <p:nvPr/>
          </p:nvSpPr>
          <p:spPr>
            <a:xfrm flipH="1" flipV="1">
              <a:off x="2027160" y="4594320"/>
              <a:ext cx="828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027160" y="4510080"/>
              <a:ext cx="82800" cy="84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2587680" y="3390840"/>
            <a:ext cx="20113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729160" y="3411360"/>
            <a:ext cx="14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lose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2608200" y="3308400"/>
            <a:ext cx="61920" cy="144360"/>
            <a:chOff x="2608200" y="3308400"/>
            <a:chExt cx="61920" cy="144360"/>
          </a:xfrm>
        </p:grpSpPr>
        <p:sp>
          <p:nvSpPr>
            <p:cNvPr id="796" name=""/>
            <p:cNvSpPr/>
            <p:nvPr/>
          </p:nvSpPr>
          <p:spPr>
            <a:xfrm flipH="1" flipV="1">
              <a:off x="2608200" y="3390840"/>
              <a:ext cx="6192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2608200" y="3308400"/>
              <a:ext cx="6192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2027160" y="4800600"/>
            <a:ext cx="25718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8640" y="4800600"/>
            <a:ext cx="14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lose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027160" y="4718160"/>
            <a:ext cx="82800" cy="144360"/>
            <a:chOff x="2027160" y="4718160"/>
            <a:chExt cx="82800" cy="144360"/>
          </a:xfrm>
        </p:grpSpPr>
        <p:sp>
          <p:nvSpPr>
            <p:cNvPr id="801" name=""/>
            <p:cNvSpPr/>
            <p:nvPr/>
          </p:nvSpPr>
          <p:spPr>
            <a:xfrm flipH="1" flipV="1">
              <a:off x="2027160" y="4800600"/>
              <a:ext cx="82800" cy="61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027160" y="4718160"/>
              <a:ext cx="82800" cy="8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013360" y="3556080"/>
            <a:ext cx="1440" cy="8715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50440" y="2643120"/>
            <a:ext cx="90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187280" y="2549520"/>
            <a:ext cx="1411560" cy="1413000"/>
          </a:xfrm>
          <a:custGeom>
            <a:avLst/>
            <a:gdLst>
              <a:gd name="textAreaLeft" fmla="*/ 44640 w 1411560"/>
              <a:gd name="textAreaRight" fmla="*/ 1366920 w 1411560"/>
              <a:gd name="textAreaTop" fmla="*/ 44640 h 1413000"/>
              <a:gd name="textAreaBottom" fmla="*/ 1368360 h 1413000"/>
            </a:gdLst>
            <a:ahLst/>
            <a:rect l="textAreaLeft" t="textAreaTop" r="textAreaRight" b="textAreaBottom"/>
            <a:pathLst>
              <a:path w="21600" h="21622">
                <a:moveTo>
                  <a:pt x="2348" y="0"/>
                </a:moveTo>
                <a:arcTo wR="2348" hR="2348" stAng="16200000" swAng="-5400000"/>
                <a:lnTo>
                  <a:pt x="0" y="19274"/>
                </a:lnTo>
                <a:arcTo wR="2348" hR="2348" stAng="10800000" swAng="-5400000"/>
                <a:lnTo>
                  <a:pt x="19252" y="21622"/>
                </a:lnTo>
                <a:arcTo wR="2348" hR="2348" stAng="5400000" swAng="-5400000"/>
                <a:lnTo>
                  <a:pt x="21600" y="2348"/>
                </a:lnTo>
                <a:arcTo wR="2348" hR="2348" stAng="0" swAng="-5400000"/>
                <a:close/>
              </a:path>
            </a:pathLst>
          </a:cu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81240" y="3017880"/>
            <a:ext cx="122220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70080" y="3006720"/>
            <a:ext cx="1224000" cy="7063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16240" y="30160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99240" y="3224160"/>
            <a:ext cx="85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regis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52880" y="3432240"/>
            <a:ext cx="72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2317680" y="2997360"/>
            <a:ext cx="165240" cy="16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85A-075C-4A81-870E-891D301BFCA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3 Activity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iagra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ike a state dia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 most transitions are caused by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ents, such as the completion of a compu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ctivity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used to understand the flow of work that an object or component perfor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lso be used to visualize the interrelation and interaction between different use cas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most often associated with several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strengths of activity diagrams is the representation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iv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A62-E463-4942-8B4D-ADE3D2E496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 –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87960" y="2590920"/>
            <a:ext cx="1119240" cy="830160"/>
          </a:xfrm>
          <a:prstGeom prst="roundRect">
            <a:avLst>
              <a:gd name="adj" fmla="val 2840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77200" y="261792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Verif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491800" y="2830680"/>
            <a:ext cx="89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ourse no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02040" y="3043080"/>
            <a:ext cx="246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797280" y="1219320"/>
            <a:ext cx="2259000" cy="598320"/>
          </a:xfrm>
          <a:prstGeom prst="roundRect">
            <a:avLst>
              <a:gd name="adj" fmla="val 3906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49240" y="1247760"/>
            <a:ext cx="1321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ceive cour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31080" y="1460520"/>
            <a:ext cx="164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025800" y="2590920"/>
            <a:ext cx="1544760" cy="579240"/>
          </a:xfrm>
          <a:prstGeom prst="roundRect">
            <a:avLst>
              <a:gd name="adj" fmla="val 4032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661200" y="261792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335400" y="2830680"/>
            <a:ext cx="1099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prerequisi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43040" y="3535200"/>
            <a:ext cx="1351080" cy="889200"/>
          </a:xfrm>
          <a:prstGeom prst="roundRect">
            <a:avLst>
              <a:gd name="adj" fmla="val 2659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081960" y="360360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73320" y="3814920"/>
            <a:ext cx="597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32840" y="4027320"/>
            <a:ext cx="927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permis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64120" y="5195880"/>
            <a:ext cx="1506600" cy="598320"/>
          </a:xfrm>
          <a:prstGeom prst="roundRect">
            <a:avLst>
              <a:gd name="adj" fmla="val 3906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63080" y="5224320"/>
            <a:ext cx="81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38880" y="5437080"/>
            <a:ext cx="95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75280" y="2193840"/>
            <a:ext cx="1504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90840" y="2212920"/>
            <a:ext cx="180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86400" y="2212920"/>
            <a:ext cx="144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6240" y="4800600"/>
            <a:ext cx="16020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908600" y="1808280"/>
            <a:ext cx="1440" cy="36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08600" y="4800600"/>
            <a:ext cx="144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467320" y="3430440"/>
            <a:ext cx="1440" cy="1370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4348080" y="3159000"/>
            <a:ext cx="1800" cy="160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02000" y="3159000"/>
            <a:ext cx="144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84760" y="3873600"/>
            <a:ext cx="444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402000" y="4414680"/>
            <a:ext cx="144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51360" y="3855960"/>
            <a:ext cx="29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[o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187960" y="3411360"/>
            <a:ext cx="29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[o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067280" y="3160800"/>
            <a:ext cx="29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[o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856600" y="3160800"/>
            <a:ext cx="58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[not o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837520" y="4395960"/>
            <a:ext cx="58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[not o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51080" y="1460520"/>
            <a:ext cx="6177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3344760" y="4684680"/>
            <a:ext cx="135000" cy="77760"/>
            <a:chOff x="3344760" y="4684680"/>
            <a:chExt cx="135000" cy="77760"/>
          </a:xfrm>
        </p:grpSpPr>
        <p:sp>
          <p:nvSpPr>
            <p:cNvPr id="850" name=""/>
            <p:cNvSpPr/>
            <p:nvPr/>
          </p:nvSpPr>
          <p:spPr>
            <a:xfrm>
              <a:off x="3344760" y="4684680"/>
              <a:ext cx="572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402000" y="4684680"/>
              <a:ext cx="7776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00520" y="1344600"/>
            <a:ext cx="250560" cy="250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4849920" y="2077920"/>
            <a:ext cx="135000" cy="77760"/>
            <a:chOff x="4849920" y="2077920"/>
            <a:chExt cx="135000" cy="77760"/>
          </a:xfrm>
        </p:grpSpPr>
        <p:sp>
          <p:nvSpPr>
            <p:cNvPr id="854" name=""/>
            <p:cNvSpPr/>
            <p:nvPr/>
          </p:nvSpPr>
          <p:spPr>
            <a:xfrm>
              <a:off x="4849920" y="2077920"/>
              <a:ext cx="586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4908600" y="2077920"/>
              <a:ext cx="7632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232160" y="2484360"/>
            <a:ext cx="135000" cy="57240"/>
            <a:chOff x="4232160" y="2484360"/>
            <a:chExt cx="135000" cy="57240"/>
          </a:xfrm>
        </p:grpSpPr>
        <p:sp>
          <p:nvSpPr>
            <p:cNvPr id="857" name=""/>
            <p:cNvSpPr/>
            <p:nvPr/>
          </p:nvSpPr>
          <p:spPr>
            <a:xfrm>
              <a:off x="4232160" y="2484360"/>
              <a:ext cx="586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290840" y="2484360"/>
              <a:ext cx="763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429160" y="2484360"/>
            <a:ext cx="135000" cy="57240"/>
            <a:chOff x="5429160" y="2484360"/>
            <a:chExt cx="135000" cy="57240"/>
          </a:xfrm>
        </p:grpSpPr>
        <p:sp>
          <p:nvSpPr>
            <p:cNvPr id="860" name=""/>
            <p:cNvSpPr/>
            <p:nvPr/>
          </p:nvSpPr>
          <p:spPr>
            <a:xfrm>
              <a:off x="5429160" y="248436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5486400" y="2484360"/>
              <a:ext cx="777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692520" y="1384200"/>
            <a:ext cx="76320" cy="134640"/>
            <a:chOff x="3692520" y="1384200"/>
            <a:chExt cx="76320" cy="134640"/>
          </a:xfrm>
        </p:grpSpPr>
        <p:sp>
          <p:nvSpPr>
            <p:cNvPr id="863" name=""/>
            <p:cNvSpPr/>
            <p:nvPr/>
          </p:nvSpPr>
          <p:spPr>
            <a:xfrm flipV="1">
              <a:off x="3692520" y="1460160"/>
              <a:ext cx="7632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92520" y="138420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4270320" y="4703760"/>
            <a:ext cx="136440" cy="58680"/>
            <a:chOff x="4270320" y="4703760"/>
            <a:chExt cx="136440" cy="58680"/>
          </a:xfrm>
        </p:grpSpPr>
        <p:sp>
          <p:nvSpPr>
            <p:cNvPr id="866" name=""/>
            <p:cNvSpPr/>
            <p:nvPr/>
          </p:nvSpPr>
          <p:spPr>
            <a:xfrm>
              <a:off x="4270320" y="4703760"/>
              <a:ext cx="5868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329000" y="4703760"/>
              <a:ext cx="7776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391000" y="4703760"/>
            <a:ext cx="135000" cy="58680"/>
            <a:chOff x="5391000" y="4703760"/>
            <a:chExt cx="135000" cy="58680"/>
          </a:xfrm>
        </p:grpSpPr>
        <p:sp>
          <p:nvSpPr>
            <p:cNvPr id="869" name=""/>
            <p:cNvSpPr/>
            <p:nvPr/>
          </p:nvSpPr>
          <p:spPr>
            <a:xfrm>
              <a:off x="5391000" y="4703760"/>
              <a:ext cx="5724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5448240" y="4703760"/>
              <a:ext cx="7776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4849920" y="5089680"/>
            <a:ext cx="135000" cy="58680"/>
            <a:chOff x="4849920" y="5089680"/>
            <a:chExt cx="135000" cy="58680"/>
          </a:xfrm>
        </p:grpSpPr>
        <p:sp>
          <p:nvSpPr>
            <p:cNvPr id="872" name=""/>
            <p:cNvSpPr/>
            <p:nvPr/>
          </p:nvSpPr>
          <p:spPr>
            <a:xfrm>
              <a:off x="4849920" y="5089680"/>
              <a:ext cx="5868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908600" y="5089680"/>
              <a:ext cx="76320" cy="5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3344760" y="3449520"/>
            <a:ext cx="135000" cy="57240"/>
            <a:chOff x="3344760" y="3449520"/>
            <a:chExt cx="135000" cy="57240"/>
          </a:xfrm>
        </p:grpSpPr>
        <p:sp>
          <p:nvSpPr>
            <p:cNvPr id="875" name=""/>
            <p:cNvSpPr/>
            <p:nvPr/>
          </p:nvSpPr>
          <p:spPr>
            <a:xfrm>
              <a:off x="3344760" y="3449520"/>
              <a:ext cx="5724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402000" y="3449520"/>
              <a:ext cx="7776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276720" y="4791240"/>
            <a:ext cx="250560" cy="250560"/>
            <a:chOff x="3276720" y="4791240"/>
            <a:chExt cx="250560" cy="250560"/>
          </a:xfrm>
        </p:grpSpPr>
        <p:sp>
          <p:nvSpPr>
            <p:cNvPr id="878" name=""/>
            <p:cNvSpPr/>
            <p:nvPr/>
          </p:nvSpPr>
          <p:spPr>
            <a:xfrm>
              <a:off x="3276720" y="4791240"/>
              <a:ext cx="250560" cy="250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325680" y="4819680"/>
              <a:ext cx="173160" cy="174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802040" y="5969160"/>
            <a:ext cx="250920" cy="269640"/>
            <a:chOff x="4802040" y="5969160"/>
            <a:chExt cx="250920" cy="269640"/>
          </a:xfrm>
        </p:grpSpPr>
        <p:sp>
          <p:nvSpPr>
            <p:cNvPr id="881" name=""/>
            <p:cNvSpPr/>
            <p:nvPr/>
          </p:nvSpPr>
          <p:spPr>
            <a:xfrm>
              <a:off x="4802040" y="5969160"/>
              <a:ext cx="250920" cy="269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830840" y="6016680"/>
              <a:ext cx="172800" cy="174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4849920" y="5881680"/>
            <a:ext cx="135000" cy="57240"/>
            <a:chOff x="4849920" y="5881680"/>
            <a:chExt cx="135000" cy="57240"/>
          </a:xfrm>
        </p:grpSpPr>
        <p:sp>
          <p:nvSpPr>
            <p:cNvPr id="884" name=""/>
            <p:cNvSpPr/>
            <p:nvPr/>
          </p:nvSpPr>
          <p:spPr>
            <a:xfrm>
              <a:off x="4849920" y="5881680"/>
              <a:ext cx="586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908600" y="5881680"/>
              <a:ext cx="763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 flipV="1">
            <a:off x="4908600" y="5784840"/>
            <a:ext cx="1440" cy="1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92840" y="3430440"/>
            <a:ext cx="144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83920" y="3411360"/>
            <a:ext cx="58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[not o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5834160" y="3719520"/>
            <a:ext cx="135000" cy="57240"/>
            <a:chOff x="5834160" y="3719520"/>
            <a:chExt cx="135000" cy="57240"/>
          </a:xfrm>
        </p:grpSpPr>
        <p:sp>
          <p:nvSpPr>
            <p:cNvPr id="890" name=""/>
            <p:cNvSpPr/>
            <p:nvPr/>
          </p:nvSpPr>
          <p:spPr>
            <a:xfrm>
              <a:off x="5834160" y="3719520"/>
              <a:ext cx="5868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5892840" y="3719520"/>
              <a:ext cx="763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5767560" y="3807000"/>
            <a:ext cx="250560" cy="250560"/>
            <a:chOff x="5767560" y="3807000"/>
            <a:chExt cx="250560" cy="250560"/>
          </a:xfrm>
        </p:grpSpPr>
        <p:sp>
          <p:nvSpPr>
            <p:cNvPr id="893" name=""/>
            <p:cNvSpPr/>
            <p:nvPr/>
          </p:nvSpPr>
          <p:spPr>
            <a:xfrm>
              <a:off x="5767560" y="3807000"/>
              <a:ext cx="250560" cy="250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815080" y="3854520"/>
              <a:ext cx="174600" cy="174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5AE-B259-43F7-9801-FEB2D088CD9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cy is shown using forks, joins and rendezvo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one incoming transition and multiple outgoing transi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ecution splits into two concurrent threa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ezv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multiple incoming and multiple outgoing trans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all the incoming transitions occur  all the outgoing transitions may occu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D09-CBE9-4591-B5D5-A90970A15F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lti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oming transitions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going transi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utgoing transition will be taken when all incoming transitions have occurr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coming transitions must be triggered in separate threa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ne incoming transition occurs, a wait condition occurs at the join until the other transitions occ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6A4-6C07-4DCE-96E0-C12AB461D0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iagrams are most often associated with several class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tition of activities among the existing classes can be explicitly shown usin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mla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26E-7467-44AD-950F-B5B8EC16C46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 – an example with swiml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262480" y="2938320"/>
            <a:ext cx="973080" cy="722520"/>
          </a:xfrm>
          <a:prstGeom prst="roundRect">
            <a:avLst>
              <a:gd name="adj" fmla="val 28407"/>
            </a:avLst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688720" y="296388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Ver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32120" y="314784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ourse no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709600" y="333360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29280" y="1744560"/>
            <a:ext cx="1708200" cy="522360"/>
          </a:xfrm>
          <a:prstGeom prst="roundRect">
            <a:avLst>
              <a:gd name="adj" fmla="val 39065"/>
            </a:avLst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567400" y="177012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Receive cour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378760" y="1955880"/>
            <a:ext cx="1409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87600" y="2938320"/>
            <a:ext cx="1339920" cy="505080"/>
          </a:xfrm>
          <a:prstGeom prst="roundRect">
            <a:avLst>
              <a:gd name="adj" fmla="val 40324"/>
            </a:avLst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41640" y="296388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661920" y="3147840"/>
            <a:ext cx="94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prerequisi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968560" y="3760920"/>
            <a:ext cx="1173240" cy="774720"/>
          </a:xfrm>
          <a:prstGeom prst="roundRect">
            <a:avLst>
              <a:gd name="adj" fmla="val 26597"/>
            </a:avLst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439800" y="38196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432960" y="400536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23800" y="418932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permis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13520" y="5205240"/>
            <a:ext cx="1306440" cy="522360"/>
          </a:xfrm>
          <a:prstGeom prst="roundRect">
            <a:avLst>
              <a:gd name="adj" fmla="val 39065"/>
            </a:avLst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647320" y="523080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542560" y="541656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84800" y="2593800"/>
            <a:ext cx="1304640" cy="18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484520" y="2611440"/>
            <a:ext cx="180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22760" y="2611440"/>
            <a:ext cx="180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34040" y="4862520"/>
            <a:ext cx="1390320" cy="14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522760" y="2259000"/>
            <a:ext cx="180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505480" y="4862520"/>
            <a:ext cx="144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505480" y="3668760"/>
            <a:ext cx="1440" cy="1193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535640" y="3433680"/>
            <a:ext cx="1440" cy="1393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714840" y="3433680"/>
            <a:ext cx="1440" cy="319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32440" y="4056120"/>
            <a:ext cx="385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714840" y="4525920"/>
            <a:ext cx="144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3280" y="403848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[o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265000" y="365292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[o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293360" y="343368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[o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245400" y="3433680"/>
            <a:ext cx="50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[not o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27760" y="4510080"/>
            <a:ext cx="50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[not o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664080" y="4761000"/>
            <a:ext cx="117000" cy="66600"/>
            <a:chOff x="3664080" y="4761000"/>
            <a:chExt cx="117000" cy="66600"/>
          </a:xfrm>
        </p:grpSpPr>
        <p:sp>
          <p:nvSpPr>
            <p:cNvPr id="936" name=""/>
            <p:cNvSpPr/>
            <p:nvPr/>
          </p:nvSpPr>
          <p:spPr>
            <a:xfrm>
              <a:off x="3664080" y="4761000"/>
              <a:ext cx="50760" cy="66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14480" y="4761000"/>
              <a:ext cx="66600" cy="66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5423040" y="1284120"/>
            <a:ext cx="217440" cy="217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5472000" y="2494080"/>
            <a:ext cx="117720" cy="66600"/>
            <a:chOff x="5472000" y="2494080"/>
            <a:chExt cx="117720" cy="66600"/>
          </a:xfrm>
        </p:grpSpPr>
        <p:sp>
          <p:nvSpPr>
            <p:cNvPr id="940" name=""/>
            <p:cNvSpPr/>
            <p:nvPr/>
          </p:nvSpPr>
          <p:spPr>
            <a:xfrm>
              <a:off x="5472000" y="2494080"/>
              <a:ext cx="50760" cy="66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5522760" y="2494080"/>
              <a:ext cx="66960" cy="66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433760" y="2846520"/>
            <a:ext cx="117720" cy="50760"/>
            <a:chOff x="4433760" y="2846520"/>
            <a:chExt cx="117720" cy="50760"/>
          </a:xfrm>
        </p:grpSpPr>
        <p:sp>
          <p:nvSpPr>
            <p:cNvPr id="943" name=""/>
            <p:cNvSpPr/>
            <p:nvPr/>
          </p:nvSpPr>
          <p:spPr>
            <a:xfrm>
              <a:off x="4433760" y="2846520"/>
              <a:ext cx="507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4484520" y="2846520"/>
              <a:ext cx="66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5472000" y="2846520"/>
            <a:ext cx="117720" cy="50760"/>
            <a:chOff x="5472000" y="2846520"/>
            <a:chExt cx="117720" cy="50760"/>
          </a:xfrm>
        </p:grpSpPr>
        <p:sp>
          <p:nvSpPr>
            <p:cNvPr id="946" name=""/>
            <p:cNvSpPr/>
            <p:nvPr/>
          </p:nvSpPr>
          <p:spPr>
            <a:xfrm>
              <a:off x="5472000" y="2846520"/>
              <a:ext cx="507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5522760" y="2846520"/>
              <a:ext cx="66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4467240" y="4778280"/>
            <a:ext cx="117000" cy="49320"/>
            <a:chOff x="4467240" y="4778280"/>
            <a:chExt cx="117000" cy="49320"/>
          </a:xfrm>
        </p:grpSpPr>
        <p:sp>
          <p:nvSpPr>
            <p:cNvPr id="949" name=""/>
            <p:cNvSpPr/>
            <p:nvPr/>
          </p:nvSpPr>
          <p:spPr>
            <a:xfrm>
              <a:off x="4467240" y="4778280"/>
              <a:ext cx="50760" cy="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4517640" y="4778280"/>
              <a:ext cx="66600" cy="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5438880" y="4778280"/>
            <a:ext cx="117000" cy="49320"/>
            <a:chOff x="5438880" y="4778280"/>
            <a:chExt cx="117000" cy="49320"/>
          </a:xfrm>
        </p:grpSpPr>
        <p:sp>
          <p:nvSpPr>
            <p:cNvPr id="952" name=""/>
            <p:cNvSpPr/>
            <p:nvPr/>
          </p:nvSpPr>
          <p:spPr>
            <a:xfrm>
              <a:off x="5438880" y="4778280"/>
              <a:ext cx="50760" cy="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5489280" y="4778280"/>
              <a:ext cx="66600" cy="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5438880" y="5113440"/>
            <a:ext cx="135000" cy="50760"/>
            <a:chOff x="5438880" y="5113440"/>
            <a:chExt cx="135000" cy="50760"/>
          </a:xfrm>
        </p:grpSpPr>
        <p:sp>
          <p:nvSpPr>
            <p:cNvPr id="955" name=""/>
            <p:cNvSpPr/>
            <p:nvPr/>
          </p:nvSpPr>
          <p:spPr>
            <a:xfrm>
              <a:off x="5438880" y="5113440"/>
              <a:ext cx="6660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5505480" y="5113440"/>
              <a:ext cx="6840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664080" y="3686040"/>
            <a:ext cx="117000" cy="50760"/>
            <a:chOff x="3664080" y="3686040"/>
            <a:chExt cx="117000" cy="50760"/>
          </a:xfrm>
        </p:grpSpPr>
        <p:sp>
          <p:nvSpPr>
            <p:cNvPr id="958" name=""/>
            <p:cNvSpPr/>
            <p:nvPr/>
          </p:nvSpPr>
          <p:spPr>
            <a:xfrm>
              <a:off x="3664080" y="3686040"/>
              <a:ext cx="507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3714480" y="3686040"/>
              <a:ext cx="6660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605040" y="4853160"/>
            <a:ext cx="219240" cy="218880"/>
            <a:chOff x="3605040" y="4853160"/>
            <a:chExt cx="219240" cy="218880"/>
          </a:xfrm>
        </p:grpSpPr>
        <p:sp>
          <p:nvSpPr>
            <p:cNvPr id="961" name=""/>
            <p:cNvSpPr/>
            <p:nvPr/>
          </p:nvSpPr>
          <p:spPr>
            <a:xfrm>
              <a:off x="3605040" y="4853160"/>
              <a:ext cx="219240" cy="21888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648240" y="4878360"/>
              <a:ext cx="150480" cy="15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5430960" y="5878440"/>
            <a:ext cx="217440" cy="235080"/>
            <a:chOff x="5430960" y="5878440"/>
            <a:chExt cx="217440" cy="235080"/>
          </a:xfrm>
        </p:grpSpPr>
        <p:sp>
          <p:nvSpPr>
            <p:cNvPr id="964" name=""/>
            <p:cNvSpPr/>
            <p:nvPr/>
          </p:nvSpPr>
          <p:spPr>
            <a:xfrm>
              <a:off x="5430960" y="5878440"/>
              <a:ext cx="217440" cy="23508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56160" y="5919840"/>
              <a:ext cx="1508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472000" y="5802480"/>
            <a:ext cx="117720" cy="50760"/>
            <a:chOff x="5472000" y="5802480"/>
            <a:chExt cx="117720" cy="50760"/>
          </a:xfrm>
        </p:grpSpPr>
        <p:sp>
          <p:nvSpPr>
            <p:cNvPr id="967" name=""/>
            <p:cNvSpPr/>
            <p:nvPr/>
          </p:nvSpPr>
          <p:spPr>
            <a:xfrm>
              <a:off x="5472000" y="5802480"/>
              <a:ext cx="507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5522760" y="5802480"/>
              <a:ext cx="66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 flipV="1">
            <a:off x="5522760" y="5717880"/>
            <a:ext cx="1800" cy="135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873760" y="3668760"/>
            <a:ext cx="144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58360" y="3652920"/>
            <a:ext cx="50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[not ok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5824440" y="3921120"/>
            <a:ext cx="117720" cy="50760"/>
            <a:chOff x="5824440" y="3921120"/>
            <a:chExt cx="117720" cy="50760"/>
          </a:xfrm>
        </p:grpSpPr>
        <p:sp>
          <p:nvSpPr>
            <p:cNvPr id="973" name=""/>
            <p:cNvSpPr/>
            <p:nvPr/>
          </p:nvSpPr>
          <p:spPr>
            <a:xfrm>
              <a:off x="5824440" y="3921120"/>
              <a:ext cx="4932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873760" y="3921120"/>
              <a:ext cx="6840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5765760" y="3995640"/>
            <a:ext cx="217440" cy="220680"/>
            <a:chOff x="5765760" y="3995640"/>
            <a:chExt cx="217440" cy="220680"/>
          </a:xfrm>
        </p:grpSpPr>
        <p:sp>
          <p:nvSpPr>
            <p:cNvPr id="976" name=""/>
            <p:cNvSpPr/>
            <p:nvPr/>
          </p:nvSpPr>
          <p:spPr>
            <a:xfrm>
              <a:off x="5765760" y="3995640"/>
              <a:ext cx="217440" cy="22068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07160" y="4038480"/>
              <a:ext cx="150840" cy="15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5522760" y="1417680"/>
            <a:ext cx="1800" cy="318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5472000" y="1654200"/>
            <a:ext cx="117720" cy="66600"/>
            <a:chOff x="5472000" y="1654200"/>
            <a:chExt cx="117720" cy="66600"/>
          </a:xfrm>
        </p:grpSpPr>
        <p:sp>
          <p:nvSpPr>
            <p:cNvPr id="980" name=""/>
            <p:cNvSpPr/>
            <p:nvPr/>
          </p:nvSpPr>
          <p:spPr>
            <a:xfrm>
              <a:off x="5472000" y="1654200"/>
              <a:ext cx="50760" cy="66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22760" y="1654200"/>
              <a:ext cx="66960" cy="66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 flipV="1">
            <a:off x="4919760" y="931680"/>
            <a:ext cx="1440" cy="5206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2760840" y="931680"/>
            <a:ext cx="1440" cy="5206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7095960" y="931680"/>
            <a:ext cx="1800" cy="5206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760840" y="932040"/>
            <a:ext cx="4335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664800" y="947880"/>
            <a:ext cx="56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58320" y="947880"/>
            <a:ext cx="1079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ourseSe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760840" y="6138720"/>
            <a:ext cx="4335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3EF-A541-4C1A-80FF-69F4A051D17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4 Implementing Classes Based on Interaction and Stat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these diagrams for the parts of your system that you find most co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not for every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, activity and state diagrams help you create a correct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particularly true when behaviour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ross several use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 state diagram is useful when different conditions cause instances to respond differently to the same ev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2A1-CA47-4F7C-89F3-2D6633D22E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found in interactio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s of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n as boxes with the class and object identifier underl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tick-person symbol as in use case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n as arrows from actor to object, or from object to 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3F7-7CC1-459C-A441-8A934C016B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= false &amp;&amp; open =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led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= true &amp;&amp; registrationList.size() =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’ (course section is too full, or being taugh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= true &amp;&amp; registrationList.size(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6C7-ADF1-4306-92F4-231A5E44EC1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’  (accepting registr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noughStudents’ (substate of ‘Open’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= true &amp;&amp; registrationList.size() &lt; course.getMinimu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oughStudents’  (substate of ‘Open’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= true &amp;&amp; registrationList.size() &gt;= course.getMinimu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C90-A1F9-4DBB-A5E5-F3BEAF447B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870280" y="2946240"/>
            <a:ext cx="374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74120" y="27036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5118120" y="2890800"/>
            <a:ext cx="411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403240" y="26478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403240" y="26478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403240" y="26478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403240" y="264780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46760" y="2908440"/>
            <a:ext cx="430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82480" y="2665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254400" y="2600280"/>
            <a:ext cx="1854000" cy="91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263760" y="2984400"/>
            <a:ext cx="1835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412440" y="2684520"/>
            <a:ext cx="134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CourseS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417120" y="3040200"/>
            <a:ext cx="135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538960" y="2619360"/>
            <a:ext cx="1198440" cy="54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645520" y="2703600"/>
            <a:ext cx="111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457280" y="2600280"/>
            <a:ext cx="1403280" cy="69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67000" y="2984400"/>
            <a:ext cx="138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887120" y="2684520"/>
            <a:ext cx="65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18920" y="3040200"/>
            <a:ext cx="1107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getPrerequis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186680" y="2655720"/>
            <a:ext cx="1609560" cy="91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196040" y="3040200"/>
            <a:ext cx="159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664400" y="2739960"/>
            <a:ext cx="70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348320" y="3097080"/>
            <a:ext cx="1152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ToSche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348320" y="3321000"/>
            <a:ext cx="1344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hasPassedCour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17480" y="3265560"/>
            <a:ext cx="160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ToRegistrationLi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 diagra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688-048D-4ECF-A11F-71E55E91725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371600" y="1295280"/>
            <a:ext cx="777240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CourseS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many-1 abstraction-occurence 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Course cour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1-many association to class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ist registation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following are present only to deter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initial state is ‘Planne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oolean open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oolean closedOrCancelled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B62-DB8A-4B5E-BD80-A0823E0E02F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00200" y="1432080"/>
            <a:ext cx="716292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ourseSection(Course cour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course = cour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istrationList = new LinkedLis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cance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‘Cancelled’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registerStudent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56E-091B-40AD-8DB2-6B848FB23B7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295280" y="1371600"/>
            <a:ext cx="7239240" cy="30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openRegistrati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!closedOrCancell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ust be in ‘Planned’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'OpenNotEnoughStudents'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B5D-E3BB-4C98-AB74-CDAF2D196CA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closeRegistratio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'Cancelled' or 'Closed' st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 false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 true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registrationList.size() &lt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rse.getMinimum()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registerStudents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‘Cancelled’ st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280-F410-4BFD-AE2E-17D33402B04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90720" y="1062000"/>
            <a:ext cx="815328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requestToRegister(Student stu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open)  // must be in one of the two 'Open'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he interaction specified in the sequence diagr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rse prereq = course.getPrerequisi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student.hasPassedCourse(prereq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Indirectly calls addToRegistration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Registration(this, stud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heck for automatic transition to 'Closed'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registrationList.size() &gt;= course.getMaximum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to ‘Closed’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dOrCancelled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3A5-8C54-486F-8AF2-8C3F82C357BD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urseS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219320" y="1143000"/>
            <a:ext cx="739116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Activity associated with ‘Cancelled’ st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void unregisterStudent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rator it = registrationList.iterat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(it.hasNext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istration r = (Registration)it.nex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.unregisterStud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.remov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alled within this package only,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onstructor of 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addToRegistrationList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istration newRegist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istrationList.add(newRegistra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282-AC16-4886-A56E-B5429526E5C6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5 Difficulties and Risks in Modelling Interactions and Behavi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modelling is a difficult skill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large system there are a very large number of possible paths a system can t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hard to choose the classes to which to allocate each behaviou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skilled developers lead the process, and ensure that all aspects of your models are properly review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iterativel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initial class diagrams, use cases, responsibilities, interaction diagrams and state diagra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go back and verify that all of these are consistent, modifying them as necessa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ing different diagrams that capture related, but distinct, information will often highlight probl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2A5-C9B2-413D-AC25-1192C179BE5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interactio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develop a class diagram and a use case model before starting to create an interaction diagra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kinds of interaction diagr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A37-A7D0-4B4D-BDAD-1E3ACCC390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 –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60600" y="2570040"/>
            <a:ext cx="1440" cy="1630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81960" y="2570040"/>
            <a:ext cx="1800" cy="16066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380280" y="3184560"/>
            <a:ext cx="1440" cy="9921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46680" y="2570040"/>
            <a:ext cx="1440" cy="1630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1720" y="2971800"/>
            <a:ext cx="21272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33640" y="2712960"/>
            <a:ext cx="118116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68040" y="2712960"/>
            <a:ext cx="178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68920" y="3303720"/>
            <a:ext cx="1181160" cy="2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16440" y="3184560"/>
            <a:ext cx="151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ToSchedu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1720" y="3184560"/>
            <a:ext cx="165276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09760" y="2924280"/>
            <a:ext cx="1107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&lt;create&gt;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67960" y="2027160"/>
            <a:ext cx="80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:Stud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85000" y="1873080"/>
            <a:ext cx="1347840" cy="685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07240" y="2641680"/>
            <a:ext cx="8982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31280" y="2641680"/>
            <a:ext cx="121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:Regist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05640" y="2511360"/>
            <a:ext cx="1301760" cy="685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91040" y="2003400"/>
            <a:ext cx="14173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6560" y="2003400"/>
            <a:ext cx="1480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:CourseSe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9440" y="1873080"/>
            <a:ext cx="1820520" cy="685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96040" y="3195720"/>
            <a:ext cx="190440" cy="73332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97640" y="3444840"/>
            <a:ext cx="184320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00120" y="2841480"/>
            <a:ext cx="190440" cy="125424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71240" y="1849320"/>
            <a:ext cx="354240" cy="720720"/>
            <a:chOff x="1371240" y="1849320"/>
            <a:chExt cx="354240" cy="720720"/>
          </a:xfrm>
        </p:grpSpPr>
        <p:sp>
          <p:nvSpPr>
            <p:cNvPr id="76" name=""/>
            <p:cNvSpPr/>
            <p:nvPr/>
          </p:nvSpPr>
          <p:spPr>
            <a:xfrm>
              <a:off x="1454040" y="1849320"/>
              <a:ext cx="212760" cy="238320"/>
            </a:xfrm>
            <a:prstGeom prst="ellipse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60600" y="2075040"/>
              <a:ext cx="1440" cy="377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60600" y="2452680"/>
              <a:ext cx="164880" cy="117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371240" y="2452680"/>
              <a:ext cx="189000" cy="11736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371600" y="2216160"/>
              <a:ext cx="189000" cy="475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60600" y="2216160"/>
              <a:ext cx="164880" cy="4752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909960" y="2629080"/>
            <a:ext cx="7308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09960" y="2865600"/>
            <a:ext cx="7308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09960" y="4046400"/>
            <a:ext cx="73080" cy="9540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63880" y="2913120"/>
            <a:ext cx="189000" cy="113508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43560" y="4046400"/>
            <a:ext cx="96840" cy="9540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47040" y="4046400"/>
            <a:ext cx="71640" cy="9540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47040" y="3809880"/>
            <a:ext cx="71640" cy="968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47040" y="3338640"/>
            <a:ext cx="7164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47040" y="2865600"/>
            <a:ext cx="7164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47040" y="3102120"/>
            <a:ext cx="7164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47040" y="2629080"/>
            <a:ext cx="71640" cy="95040"/>
          </a:xfrm>
          <a:prstGeom prst="rect">
            <a:avLst/>
          </a:prstGeom>
          <a:solidFill>
            <a:srgbClr val="ffffff"/>
          </a:solidFill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75760" y="3384720"/>
            <a:ext cx="190440" cy="474480"/>
          </a:xfrm>
          <a:prstGeom prst="rect">
            <a:avLst/>
          </a:prstGeom>
          <a:solidFill>
            <a:srgbClr val="ffff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82480" y="3514680"/>
            <a:ext cx="210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ToRegistrationLi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068360" y="3798720"/>
            <a:ext cx="22179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038120" y="3727440"/>
            <a:ext cx="141480" cy="142560"/>
            <a:chOff x="4038120" y="3727440"/>
            <a:chExt cx="141480" cy="142560"/>
          </a:xfrm>
        </p:grpSpPr>
        <p:sp>
          <p:nvSpPr>
            <p:cNvPr id="97" name=""/>
            <p:cNvSpPr/>
            <p:nvPr/>
          </p:nvSpPr>
          <p:spPr>
            <a:xfrm flipH="1" flipV="1">
              <a:off x="4038120" y="3798360"/>
              <a:ext cx="141480" cy="71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038120" y="3727440"/>
              <a:ext cx="141480" cy="71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553000" y="3114720"/>
            <a:ext cx="141480" cy="164880"/>
            <a:chOff x="5553000" y="3114720"/>
            <a:chExt cx="141480" cy="164880"/>
          </a:xfrm>
        </p:grpSpPr>
        <p:sp>
          <p:nvSpPr>
            <p:cNvPr id="100" name=""/>
            <p:cNvSpPr/>
            <p:nvPr/>
          </p:nvSpPr>
          <p:spPr>
            <a:xfrm flipV="1">
              <a:off x="5553000" y="3208320"/>
              <a:ext cx="141480" cy="71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3000" y="3114720"/>
              <a:ext cx="141480" cy="69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686040" y="2901960"/>
            <a:ext cx="142920" cy="141120"/>
            <a:chOff x="3686040" y="2901960"/>
            <a:chExt cx="142920" cy="141120"/>
          </a:xfrm>
        </p:grpSpPr>
        <p:sp>
          <p:nvSpPr>
            <p:cNvPr id="103" name=""/>
            <p:cNvSpPr/>
            <p:nvPr/>
          </p:nvSpPr>
          <p:spPr>
            <a:xfrm flipV="1">
              <a:off x="3686040" y="2971800"/>
              <a:ext cx="142920" cy="71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86040" y="2901960"/>
              <a:ext cx="142920" cy="698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8199360" y="3373560"/>
            <a:ext cx="141480" cy="142560"/>
            <a:chOff x="8199360" y="3373560"/>
            <a:chExt cx="141480" cy="142560"/>
          </a:xfrm>
        </p:grpSpPr>
        <p:sp>
          <p:nvSpPr>
            <p:cNvPr id="106" name=""/>
            <p:cNvSpPr/>
            <p:nvPr/>
          </p:nvSpPr>
          <p:spPr>
            <a:xfrm flipV="1">
              <a:off x="8199360" y="3444480"/>
              <a:ext cx="141480" cy="71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99360" y="3373560"/>
              <a:ext cx="141480" cy="71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946240" y="5184720"/>
            <a:ext cx="374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50440" y="49417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194440" y="5129280"/>
            <a:ext cx="411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79200" y="48862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23080" y="5146560"/>
            <a:ext cx="4302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58800" y="49039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30720" y="4838760"/>
            <a:ext cx="1854000" cy="91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0080" y="5222880"/>
            <a:ext cx="1835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88760" y="4923000"/>
            <a:ext cx="134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CourseS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93440" y="5278320"/>
            <a:ext cx="135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14920" y="4857840"/>
            <a:ext cx="1198800" cy="54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21840" y="4941720"/>
            <a:ext cx="111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600" y="4838760"/>
            <a:ext cx="1403280" cy="69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2960" y="5222880"/>
            <a:ext cx="138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63440" y="4923000"/>
            <a:ext cx="65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5240" y="5278320"/>
            <a:ext cx="1107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getPrerequis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62640" y="4894200"/>
            <a:ext cx="1609920" cy="91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72360" y="5278320"/>
            <a:ext cx="159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40720" y="4978440"/>
            <a:ext cx="70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24640" y="5335560"/>
            <a:ext cx="1152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ToSchedu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24280" y="5559480"/>
            <a:ext cx="1344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hasPassedCour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3800" y="5504040"/>
            <a:ext cx="160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ToRegistrationLi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11B-F600-4949-AC91-E44B0DC693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quence diagram shows the sequence of messages exchanged by the set of objects performing a certain task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s are arranged horizontally across the dia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ctor that initiates the interaction is often shown on the lef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vertical dimension represents ti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rtical line, called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l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attached to each object or act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feline becomes a broad box, called a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box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ve activ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sage is represented as an arrow between activation boxes of the sender and receiv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sage is labelled and can have an argument list and a return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A86-ABDB-41AD-AEF5-36AAD2A0CB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same example, mor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04920" y="2592360"/>
            <a:ext cx="1440" cy="2090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2600" y="2592360"/>
            <a:ext cx="1440" cy="207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093000" y="4354560"/>
            <a:ext cx="1440" cy="311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65720" y="2592360"/>
            <a:ext cx="1440" cy="207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25200" y="2973240"/>
            <a:ext cx="1467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0200" y="2973240"/>
            <a:ext cx="87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67120" y="2782800"/>
            <a:ext cx="8636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59480" y="2782800"/>
            <a:ext cx="125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60920" y="295596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ud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92000" y="4043520"/>
            <a:ext cx="107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To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2178000"/>
            <a:ext cx="11048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05600" y="2195640"/>
            <a:ext cx="65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Stud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74360" y="2368440"/>
            <a:ext cx="52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u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0" y="2082960"/>
            <a:ext cx="986040" cy="5014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54720" y="2178000"/>
            <a:ext cx="6555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877000" y="3551400"/>
            <a:ext cx="950760" cy="501480"/>
            <a:chOff x="5877000" y="3551400"/>
            <a:chExt cx="950760" cy="501480"/>
          </a:xfrm>
        </p:grpSpPr>
        <p:sp>
          <p:nvSpPr>
            <p:cNvPr id="158" name=""/>
            <p:cNvSpPr/>
            <p:nvPr/>
          </p:nvSpPr>
          <p:spPr>
            <a:xfrm>
              <a:off x="5916600" y="3629160"/>
              <a:ext cx="858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:Reg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77000" y="3551400"/>
              <a:ext cx="950760" cy="50148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986280" y="2178000"/>
            <a:ext cx="10364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1880" y="217800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Course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83160" y="2082960"/>
            <a:ext cx="1331640" cy="5014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92640" y="4268880"/>
            <a:ext cx="11746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66680" y="2065320"/>
            <a:ext cx="258840" cy="527040"/>
            <a:chOff x="1066680" y="2065320"/>
            <a:chExt cx="258840" cy="527040"/>
          </a:xfrm>
        </p:grpSpPr>
        <p:sp>
          <p:nvSpPr>
            <p:cNvPr id="165" name=""/>
            <p:cNvSpPr/>
            <p:nvPr/>
          </p:nvSpPr>
          <p:spPr>
            <a:xfrm>
              <a:off x="1127160" y="2065320"/>
              <a:ext cx="155520" cy="1746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04920" y="2230560"/>
              <a:ext cx="1440" cy="27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4920" y="2506680"/>
              <a:ext cx="120600" cy="8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066680" y="2506680"/>
              <a:ext cx="138240" cy="8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066680" y="2333160"/>
              <a:ext cx="138240" cy="34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04920" y="2333520"/>
              <a:ext cx="120600" cy="34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482560" y="21780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70240" y="2082960"/>
            <a:ext cx="623880" cy="5014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53160" y="2697120"/>
            <a:ext cx="125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To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04920" y="2886120"/>
            <a:ext cx="14158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8280" y="2592360"/>
            <a:ext cx="1440" cy="207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74160" y="2082960"/>
            <a:ext cx="817560" cy="5014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02320" y="2195640"/>
            <a:ext cx="53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435200" y="3664080"/>
            <a:ext cx="14158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9640" y="3473280"/>
            <a:ext cx="114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asPrerequisit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02880" y="364644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create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62960" y="2592360"/>
            <a:ext cx="1440" cy="2073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6680" y="4389480"/>
            <a:ext cx="15033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3056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0372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75080" y="4362480"/>
            <a:ext cx="7128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48240" y="4362480"/>
            <a:ext cx="7128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2104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9420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6736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8720" y="4362480"/>
            <a:ext cx="7128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22200" y="4562640"/>
            <a:ext cx="1416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812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3532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6216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90800" y="4535640"/>
            <a:ext cx="522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17640" y="4535640"/>
            <a:ext cx="5256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4448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7168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852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204920" y="4562640"/>
            <a:ext cx="856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81280" y="2635200"/>
            <a:ext cx="5256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81280" y="2808360"/>
            <a:ext cx="5256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38720" y="28083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38720" y="263520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66000" y="4362480"/>
            <a:ext cx="536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66000" y="4535640"/>
            <a:ext cx="536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32520" y="4051440"/>
            <a:ext cx="139680" cy="3124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22880" y="453564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7960" y="2981160"/>
            <a:ext cx="139680" cy="14353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75600" y="263520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75600" y="28083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75600" y="29811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75600" y="315432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75600" y="332568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75600" y="367200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75600" y="419112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75600" y="384480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75600" y="40179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75600" y="436248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7560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40680" y="4241880"/>
            <a:ext cx="139680" cy="12204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77920" y="263520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7920" y="28083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77920" y="29811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77920" y="315432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7920" y="3325680"/>
            <a:ext cx="5400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77920" y="34988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77920" y="367200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7920" y="384480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77920" y="401796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77920" y="4191120"/>
            <a:ext cx="5400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7920" y="436248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7792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35960" y="2635200"/>
            <a:ext cx="7164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535960" y="280836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35960" y="298116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35960" y="3325680"/>
            <a:ext cx="71640" cy="716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35960" y="367200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35960" y="401796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35960" y="419112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535960" y="4362480"/>
            <a:ext cx="716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3600" y="45356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535960" y="3844800"/>
            <a:ext cx="71640" cy="6984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535960" y="3498840"/>
            <a:ext cx="716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35720" y="2868480"/>
            <a:ext cx="6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req :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33200" y="3041640"/>
            <a:ext cx="10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Prerequi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02480" y="3049560"/>
            <a:ext cx="140040" cy="1746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435200" y="3076560"/>
            <a:ext cx="40417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75600" y="3498840"/>
            <a:ext cx="5400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69880" y="3111480"/>
            <a:ext cx="123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Prerequisite :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67000" y="328464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PassedCourse(pre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35200" y="3301920"/>
            <a:ext cx="27795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40680" y="3292560"/>
            <a:ext cx="139680" cy="17280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435560" y="4268880"/>
            <a:ext cx="102960" cy="120600"/>
            <a:chOff x="4435560" y="4268880"/>
            <a:chExt cx="102960" cy="120600"/>
          </a:xfrm>
        </p:grpSpPr>
        <p:sp>
          <p:nvSpPr>
            <p:cNvPr id="255" name=""/>
            <p:cNvSpPr/>
            <p:nvPr/>
          </p:nvSpPr>
          <p:spPr>
            <a:xfrm flipH="1" flipV="1">
              <a:off x="4435560" y="4336920"/>
              <a:ext cx="102960" cy="52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435560" y="426888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112160" y="4199040"/>
            <a:ext cx="102960" cy="121680"/>
            <a:chOff x="7112160" y="4199040"/>
            <a:chExt cx="102960" cy="121680"/>
          </a:xfrm>
        </p:grpSpPr>
        <p:sp>
          <p:nvSpPr>
            <p:cNvPr id="258" name=""/>
            <p:cNvSpPr/>
            <p:nvPr/>
          </p:nvSpPr>
          <p:spPr>
            <a:xfrm flipV="1">
              <a:off x="7112160" y="426852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12160" y="419904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112160" y="3249720"/>
            <a:ext cx="102960" cy="102600"/>
            <a:chOff x="7112160" y="3249720"/>
            <a:chExt cx="102960" cy="102600"/>
          </a:xfrm>
        </p:grpSpPr>
        <p:sp>
          <p:nvSpPr>
            <p:cNvPr id="261" name=""/>
            <p:cNvSpPr/>
            <p:nvPr/>
          </p:nvSpPr>
          <p:spPr>
            <a:xfrm flipV="1">
              <a:off x="7112160" y="3301560"/>
              <a:ext cx="102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12160" y="324972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356680" y="3008160"/>
            <a:ext cx="102960" cy="120960"/>
            <a:chOff x="8356680" y="3008160"/>
            <a:chExt cx="102960" cy="120960"/>
          </a:xfrm>
        </p:grpSpPr>
        <p:sp>
          <p:nvSpPr>
            <p:cNvPr id="264" name=""/>
            <p:cNvSpPr/>
            <p:nvPr/>
          </p:nvSpPr>
          <p:spPr>
            <a:xfrm flipV="1">
              <a:off x="8356680" y="3076560"/>
              <a:ext cx="102960" cy="52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56680" y="3008160"/>
              <a:ext cx="102960" cy="51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462920" y="4113360"/>
            <a:ext cx="148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ToRegistration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765760" y="3611520"/>
            <a:ext cx="102960" cy="104400"/>
            <a:chOff x="5765760" y="3611520"/>
            <a:chExt cx="102960" cy="104400"/>
          </a:xfrm>
        </p:grpSpPr>
        <p:sp>
          <p:nvSpPr>
            <p:cNvPr id="268" name=""/>
            <p:cNvSpPr/>
            <p:nvPr/>
          </p:nvSpPr>
          <p:spPr>
            <a:xfrm flipV="1">
              <a:off x="5765760" y="366372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65760" y="3611520"/>
              <a:ext cx="102960" cy="52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176720" y="2921040"/>
            <a:ext cx="102960" cy="103320"/>
            <a:chOff x="4176720" y="2921040"/>
            <a:chExt cx="102960" cy="103320"/>
          </a:xfrm>
        </p:grpSpPr>
        <p:sp>
          <p:nvSpPr>
            <p:cNvPr id="271" name=""/>
            <p:cNvSpPr/>
            <p:nvPr/>
          </p:nvSpPr>
          <p:spPr>
            <a:xfrm flipV="1">
              <a:off x="4176720" y="2973240"/>
              <a:ext cx="102960" cy="51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76720" y="292104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 flipH="1">
            <a:off x="4452840" y="4336920"/>
            <a:ext cx="1571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57400" y="4362480"/>
            <a:ext cx="6984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84600" y="4362480"/>
            <a:ext cx="71280" cy="7128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46360" y="2911320"/>
            <a:ext cx="139680" cy="167832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776680" y="4321080"/>
            <a:ext cx="102960" cy="120240"/>
            <a:chOff x="2776680" y="4321080"/>
            <a:chExt cx="102960" cy="120240"/>
          </a:xfrm>
        </p:grpSpPr>
        <p:sp>
          <p:nvSpPr>
            <p:cNvPr id="278" name=""/>
            <p:cNvSpPr/>
            <p:nvPr/>
          </p:nvSpPr>
          <p:spPr>
            <a:xfrm flipH="1" flipV="1">
              <a:off x="2776680" y="438912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776680" y="4321080"/>
              <a:ext cx="102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204920" y="4510080"/>
            <a:ext cx="102960" cy="104400"/>
            <a:chOff x="1204920" y="4510080"/>
            <a:chExt cx="102960" cy="104400"/>
          </a:xfrm>
        </p:grpSpPr>
        <p:sp>
          <p:nvSpPr>
            <p:cNvPr id="281" name=""/>
            <p:cNvSpPr/>
            <p:nvPr/>
          </p:nvSpPr>
          <p:spPr>
            <a:xfrm flipH="1" flipV="1">
              <a:off x="1204920" y="456228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04920" y="4510080"/>
              <a:ext cx="102960" cy="52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517840" y="2835360"/>
            <a:ext cx="102960" cy="102600"/>
            <a:chOff x="2517840" y="2835360"/>
            <a:chExt cx="102960" cy="102600"/>
          </a:xfrm>
        </p:grpSpPr>
        <p:sp>
          <p:nvSpPr>
            <p:cNvPr id="284" name=""/>
            <p:cNvSpPr/>
            <p:nvPr/>
          </p:nvSpPr>
          <p:spPr>
            <a:xfrm flipV="1">
              <a:off x="2517840" y="2885760"/>
              <a:ext cx="10296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17840" y="2835360"/>
              <a:ext cx="102960" cy="50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489-62DC-45CF-8440-6B74880516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 objects is indicated by an asterisk preceding the message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819520" y="5133960"/>
            <a:ext cx="3728880" cy="809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5857920" cy="2668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diagrams –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an example with replicated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: Modelling Interactions and Behavio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F5B-2391-4D50-9130-A21F77B917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11-15T19:54:55Z</dcterms:modified>
  <cp:revision>112</cp:revision>
  <dc:subject/>
  <dc:title>SEG 2100 Software Design II</dc:title>
</cp:coreProperties>
</file>