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FD0-F599-466A-A9D7-B8BA59ED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890-00D5-4DDE-A4F5-CB605278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83B-694E-45ED-927D-CFAA29EF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062-4449-4A5E-A58D-42F60A96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018-EA2C-4DC5-B0C5-A3D888D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32A-93C2-4249-9E5B-457B35CC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E60-79E9-47F6-ABE2-B3493067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C0A-1915-462A-9CE1-A79F4CE4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12A-A645-42F9-92CA-EF827F9C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32D-B115-45E7-82AB-9702A87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A82-DD85-4EEA-96D0-2670309C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F5A-6859-4A20-9FA4-1F2EE53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FD4D-40C2-483D-8BEF-29217539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90440" y="1359000"/>
            <a:ext cx="8318520" cy="5537160"/>
            <a:chOff x="190440" y="1359000"/>
            <a:chExt cx="8318520" cy="553716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190440" y="5397480"/>
              <a:ext cx="1511280" cy="14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1701720" y="6235560"/>
              <a:ext cx="6807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812880" y="1359000"/>
              <a:ext cx="12708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2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Object Orienta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Instanc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s defined inside a class corresponding to data present in each in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eOf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to other importan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vi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rses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on these in Chapt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634-6951-40C4-A080-3BAFCA3AAF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vs.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refer to different objects at different points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object can be referred to by several different variables at the sam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vari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what classes of objects it may cont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CF9-6475-4C26-AEA6-9602CE58CF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’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i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ll instances of a clas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alled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instance sets the value of a class variable, then all the other instances see the same changed valu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variables are useful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 ‘constant’ values (e.g. 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s and similar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over-use class 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F4E-4E34-409F-93BB-7B33EFA280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 Methods, Operations and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_x001d_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er-level procedural abs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specif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ype of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any code which implements that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alculating area (in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AC8-9958-49B9-A8A0-72C268C12A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, Operations and 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cedural abstraction used to implement the behaviour of a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different classes can have methods with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implement the same abstract operation in ways suitable to each 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, calculating area in a rectangle is done differently from in a 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228-5631-4CB8-8D38-0B4DC60B58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erty of object oriented software by which an abstract operation may be performed in different ways in different cla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at there be multiple methods of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oice of which one to execute depends on the object that is in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the need for programmers to code m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D26-62C5-4431-B8D2-F1AA785069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 Organizing Classes into Inheritance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cla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features common to a set of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 hierarch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the relationships among superclasses and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angle show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ession by all subclasses of features defined in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988-0954-45BB-8AB0-0D12D8AB77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nheritanc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1143000"/>
          <a:ext cx="7924680" cy="29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92468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4724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ession by all subclasses of features defined in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4B6-3813-42B4-96C9-62CF2A5633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a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 check generalizations to ensure they obey the isa r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cking accou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ou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llag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‘Province’ be a subclass of ‘Country’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it violates the isa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vin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untry” is invali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73C-708F-4F65-89A7-24995FD6E3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possible inheritance hierarchy of mathematical obj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281240"/>
            <a:ext cx="5715000" cy="48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0A9-E12D-4375-BBF1-0F80D796B9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What is Object Orie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al paradig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rganized around the notion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al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as long as the data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data abstrac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together the pieces of data that describe some e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reduce the system’s complex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28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16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oriented paradigm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4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ng procedural abstractions in the context of data abs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C36-C3B6-45A4-9DF9-D96F60CF77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all Inherited Features Make Sense in Sub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1219320"/>
          <a:ext cx="6858000" cy="501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8580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5B9-8D07-4884-BD62-3445E2BD25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 Inheritance, Polymorphism an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362320" y="152280"/>
          <a:ext cx="6324480" cy="61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280"/>
                    <a:ext cx="632448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B69-31BD-4278-ABCB-12D58B6E88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perations in the Shap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66960" y="1371600"/>
          <a:ext cx="59436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371600"/>
                    <a:ext cx="5943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5B8-0D2A-44A1-AAD9-363DD279B4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 Classes and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peration should be declared to exist at the highest class in the hierarchy where it makes sen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on may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cking implementation) at tha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, the class als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stances can be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posite of an abstract class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uperclass has an abstract operation then its subclasses at some level must have a concrete method for th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classes must have or inherit concrete methods for all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classes must be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CC9-541E-4B94-9F35-3EB8E40222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ethod would be inherited, but a subclass contains a new version inste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le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not work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vings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charge an extra fee following every de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Perimeter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uch simpler than the on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0C4-6C9F-4B05-AB3E-EA98CF6660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tabl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ance variables may only be set when an object is first cr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operations allow any changes to the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could only create a new object, not modify an existing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3D9-1ED4-4F18-AB73-7A588DE5B1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 decision is made about which method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a concrete method for the operation in the current class, run that meth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check in the immediate superclass to see if there is a method there; if so, run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 step 2, looking in successively higher superclasses until a concrete method is found and ru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 method is found, then there is an err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8760" indent="-19512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Java and C++ the program would not have 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930-F106-419F-8987-4EF80DB0B2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hen decision about which method to run can only be made at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 is declared to have a superclass as its typ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more than one possible polymorphic method that could be run among the type of the variable and its sub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E9A-4072-447D-98A8-9D5F84B6CB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7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s that Define Object Ori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essary for a system or language to be O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bject is distinct from each other object, and can be referr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bjects are distinct even if they have the sa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de is organized using classes, each of which describes a set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chanism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features in a hierarchy inherit from superclasses to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chanism by which several methods can have the same name and implement the same abstract opera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44E-8418-4F98-AA96-2D676DE437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Key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-&gt; something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-&gt;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 -&gt;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-&gt;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and associations -&gt; 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ula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be constructed entirely of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s can be hidden in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gives rise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hi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s do not need to know all the details of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2F5-D384-4251-AA09-E3241361E8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pproach to the solution of problems in which all computations are performed in the context of object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s are instances of classes, wh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ata abs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procedural abstractions that operation on th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unning program can be seen as a collection of objects collaborating to perform a given t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785-6448-435B-9A86-0F1CB0A344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s of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object oriented programming language was Simula-6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allow programmers to write simulation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arly 1980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talk was developed at Xerox PA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yn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open-sour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reusable code, bytecode, platform independence, garbage col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 1980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was developed by B. Stroustru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d the advantages of OO but also recognized that there were tremendous numbers of C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1, engineers at Sun Microsystems started a project to design a language that could be used in consumer ‘smart devices’: O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Internet gained popularity, Sun saw an opportunity to exploit the technolo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language, renamed Java, was formally presented in 1995 at the SunWorld ’95 con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631-5D9E-4363-9084-B126624A56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up classes and methods is an essential sk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up unknown classes and methods will get you a long way towards understand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documentation can be automatically generated by a program called Java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is generated from the code and its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format your comments as shown in some of the book’s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ay include embeded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556-FD4A-4F68-BA97-1840EB8726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few slides will remind you of several key Java fea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th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he book’s web sit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detailed overview of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tutorials, book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638-33F5-4E26-B84D-BE21A0DF83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 and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c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lass representing Unicode charac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a byte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any worl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primitive data type containing a Unicode charac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lass containing collections of charac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is the operator used to concatenate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ECB-1D04-45BC-B402-F6771EF0030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nd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s are of fixed size and lack methods to manipulate th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most widely used class to hold a collection of other objec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powerful than arrays, but less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are used to access member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0440" indent="-18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were formally used, but were more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 = new Vec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erator i = v.iterato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i.hasN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thod(v.nex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267-67D1-4BB9-8BD7-39CB6DA43C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is very strict about typ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variable is declared to have the type X, you can only invoke operations on it that are defined in class X or its super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an instance of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X may be actually stored in th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nstance of a subclass is stored, then you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variable to the 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if I kn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instance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 can get the next element of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)iterator.n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8CA-5E06-4BAC-925B-117BCE0BCC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thing that can go wrong should result in the raising of an Exce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lass with many subclasses for specific things that can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try - catch block to trap an exce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som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 (ArithmeticException 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code to handle division by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B3A-3010-4E34-88BA-4E45683DBA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abstract classes, but cannot have executable 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et of operations that make sense in sever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lass can implement any number of interfa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have concrete methods for th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declare the type of a variable to be an interfa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just like declaring the type to be an abstra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terfaces in Java’s library inclu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nable, Collection, Iterator, Comparable, Clon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0E4-E3A8-439C-8443-99D4662D00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and im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ckage combines related classes into sub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classes in a particular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in different packages can have the same n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not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ackage is done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finance.banking.accounts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013-AB60-43EC-B01F-E6BA5BC6CE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es to methods and variab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las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in the package, or subclasse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a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in the package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de written in the class ca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 still occu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AC0-72A5-49FF-9623-E2057319A4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ew of the Two paradi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2478240"/>
          <a:ext cx="7543800" cy="258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78240"/>
                    <a:ext cx="7543800" cy="25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128-D38A-4312-B793-7FA2E489FA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and con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a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f executing statements that can be running concurrently with other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reate a thread in Jav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reate a class implement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n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as a loop that does something fo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eate an instance of this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vo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, which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7E9-75DD-44C1-8C29-B4B98CEDBCA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that programs are for people to re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 the simpler 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 clever code that is hard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r code is not necessarily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good nam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them highly descri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worry about using long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713-6931-4388-B31C-873DCD12EC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extensive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 whatever is non-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omment the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should be 25-50% of th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 class elements consistent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, constructors, public methods then private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consistent regarding layout of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67C-4A15-4E9F-BECE-4FC6E90619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styl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 duplication of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‘clone’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new method and ca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 results in two copies that may both have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one copy of the bug is fixed, the other may b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01F-FB3D-4773-A7C3-41CF4BC043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ing styl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re to good object oriented princip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the ‘isa rul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opposed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not mix user interface code with non-user interface c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with the user in separat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kes non-UI classes more re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A10-1CE6-40DD-A38B-9EEB424AC3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0 Difficulties and Risks in 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evolution and deprecated feature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is evolving, so some features are ‘deprecated’ at every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ame thing is true of most othe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an be a concern in some object oriented 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can be less efficient than other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359-78E5-4656-83F2-2C2B07359C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Classes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unk of structured da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running softwar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cts and re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imulate the behaviour of an object in the re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26B-FFFE-48F2-A6C2-63C0739426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6480" y="3479760"/>
            <a:ext cx="1870200" cy="10447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3817800"/>
            <a:ext cx="185724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0920" y="3573360"/>
            <a:ext cx="81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rgare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9920" y="392256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80/03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6040" y="429732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: T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4762440"/>
            <a:ext cx="1755720" cy="8650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97600" y="5100480"/>
            <a:ext cx="17413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31600" y="48560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ransaction 487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53480" y="5205240"/>
            <a:ext cx="10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: 2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2040" y="541656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: 2001/09/01 14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3080" y="2414520"/>
            <a:ext cx="1870200" cy="8668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2160" y="2752560"/>
            <a:ext cx="18558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05040" y="25081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re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36880" y="285768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70/01/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40480" y="3068640"/>
            <a:ext cx="15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75 Object 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73080" y="4013280"/>
            <a:ext cx="2241720" cy="1082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92160" y="4343400"/>
            <a:ext cx="2222640" cy="144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360" y="4113360"/>
            <a:ext cx="21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ortgage Account 2986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1560" y="445608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: 19876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7960" y="467352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ed: 2000/08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4360" y="4883040"/>
            <a:ext cx="154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: 75 Object D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76240" y="5505480"/>
            <a:ext cx="1967040" cy="65556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5320" y="5850000"/>
            <a:ext cx="19526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68920" y="5605560"/>
            <a:ext cx="151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ant Teller 87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2920" y="5948280"/>
            <a:ext cx="176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: Java Valley C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96160" y="2165400"/>
            <a:ext cx="2157120" cy="86508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514600"/>
            <a:ext cx="2133360" cy="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3800" y="2286000"/>
            <a:ext cx="20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avings Account 12876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64640" y="2608200"/>
            <a:ext cx="117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: 1976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60680" y="281772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ed: 1997/03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32200" y="1382760"/>
            <a:ext cx="1863720" cy="106344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1720800"/>
            <a:ext cx="1862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16280" y="146376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a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1825560"/>
            <a:ext cx="166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birth: 1955/02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02480" y="221940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: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00320" y="202248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99 UML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6040" y="4121280"/>
            <a:ext cx="149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: 150 C++ 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549-CA7C-43D9-8A45-E10B7960E8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unit of abstraction in an object oriented (OO)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similar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kind of softwar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its instances’ structure (prope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mplement their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19F-5A19-47BD-871B-976010DBD8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omething a Class or an Ins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should be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could have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should be a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clearly 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of the set defined by 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are individual fil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l of Fil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are physical re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reel with serial number SW1987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elOf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Fic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 the class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Fiction Fil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; instances include ‘Star Wa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ing of ‘Star Wars’ in the Phoenix Cinema at 7 p.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 algn="just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of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owingOf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46A-E6F6-4891-971A-343019D84A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right level of gene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unicip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he name has on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6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‘bus’ has several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: Review of Object Ori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FBE-E090-4ED6-A262-D004AFD1DD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2-09-24T15:29:34Z</dcterms:modified>
  <cp:revision>36</cp:revision>
  <dc:subject/>
  <dc:title>SEG 2100 Software Design II</dc:title>
</cp:coreProperties>
</file>