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D5C-8EE5-451F-A21D-DF944635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8F4-AABC-402B-832B-A37BEC4F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F90-753E-4D0F-8B71-873F37A6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C45-CB41-4C56-B4D5-272FE183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302-11AD-4532-9C9F-F40CAE00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D44-B4BD-4962-A4D9-039F8D89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EBB-6916-4BED-85A4-0531DCCE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054-DAAA-4642-9B0E-4015239D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F28-4830-408B-98B7-873F998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CE5-EE64-4017-9E3C-125BEA8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655-CE49-45C1-8A4B-37E5B1F6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25F-52BC-4055-9E21-BB8BE7F0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7B92-5FDF-43D6-B84E-76741B1D6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1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and Software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ftware Enginee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, time and other constrai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nefit must outweigh th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are competing to do the job cheaper and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te estimates of cost and time have caused many projec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03C8-D5C4-473F-B919-05D9291E44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Software Engineering and the Engineering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rm Software Engineering was coined in 196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began to realize that the principles of engineering should be applied to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 is a licensed profe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protect the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s design artifacts following well accepted practices which involve the application of science, mathematics and 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al practice is also a key tenet of the prof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8A0-94DE-482A-8DCB-4BB0D0E025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 Stakeholders in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U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who use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ustom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who pay for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oftware develop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Development Manag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four roles can be fulfilled by the same pers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F7D-634C-4B1B-9707-E52557A676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Software Qualit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can learn it and fast and get their job don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n’t waste resources such as CPU time an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what it is required to do without fa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ain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easily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us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191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parts can be used in other projects, so reprogramming is not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DB4-D265-4DCD-86E0-FDD6E1CD17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Qualit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236760" y="3197160"/>
            <a:ext cx="1973520" cy="801720"/>
            <a:chOff x="3236760" y="3197160"/>
            <a:chExt cx="1973520" cy="801720"/>
          </a:xfrm>
        </p:grpSpPr>
        <p:sp>
          <p:nvSpPr>
            <p:cNvPr id="72" name=""/>
            <p:cNvSpPr/>
            <p:nvPr/>
          </p:nvSpPr>
          <p:spPr>
            <a:xfrm>
              <a:off x="3236760" y="3197160"/>
              <a:ext cx="1973520" cy="80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62280" y="3259080"/>
              <a:ext cx="119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</a:rPr>
                <a:t>QUA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86400" y="3560760"/>
              <a:ext cx="1373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642680" y="4237200"/>
            <a:ext cx="118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Develo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53360" y="423720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2200" y="4537080"/>
            <a:ext cx="157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desig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3280" y="4836960"/>
            <a:ext cx="180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maintai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9600" y="5138640"/>
            <a:ext cx="218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reuse it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0760" y="133020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Us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6160" y="1631880"/>
            <a:ext cx="1422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y to lear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60960" y="1932120"/>
            <a:ext cx="164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fficient to 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78240" y="2232000"/>
            <a:ext cx="206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helps get work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43760" y="1230480"/>
            <a:ext cx="116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Custom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29600" y="12304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68600" y="1530360"/>
            <a:ext cx="196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olves problem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48440" y="1832040"/>
            <a:ext cx="217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 acceptable cost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48440" y="2131920"/>
            <a:ext cx="260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erms of money pa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39800" y="2433600"/>
            <a:ext cx="149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sourc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50880" y="4160880"/>
            <a:ext cx="254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Development manag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01840" y="4160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91920" y="4462560"/>
            <a:ext cx="153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ells mor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4640" y="4762440"/>
            <a:ext cx="189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leases custom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97320" y="5064120"/>
            <a:ext cx="187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ile costing l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536400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develop and main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08880" y="2301120"/>
            <a:ext cx="599040" cy="6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69" y="17978"/>
                </a:moveTo>
                <a:arcTo wR="10800" hR="10800" stAng="2499398" swAng="2451812"/>
                <a:lnTo>
                  <a:pt x="10800" y="10800"/>
                </a:lnTo>
                <a:close/>
              </a:path>
              <a:path fill="none" w="21600" h="21600">
                <a:moveTo>
                  <a:pt x="18869" y="17978"/>
                </a:moveTo>
                <a:arcTo wR="10800" hR="10800" stAng="2499398" swAng="24518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2240" y="2825640"/>
            <a:ext cx="225360" cy="45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9520" y="4137840"/>
            <a:ext cx="599760" cy="6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12" y="1966"/>
                </a:moveTo>
                <a:arcTo wR="10800" hR="10800" stAng="-3293143" swAng="2416350"/>
                <a:lnTo>
                  <a:pt x="10800" y="10800"/>
                </a:lnTo>
                <a:close/>
              </a:path>
              <a:path fill="none" w="21600" h="21600">
                <a:moveTo>
                  <a:pt x="17012" y="1966"/>
                </a:moveTo>
                <a:arcTo wR="10800" hR="10800" stAng="-3293143" swAng="241635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74760" y="3911760"/>
            <a:ext cx="523800" cy="35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75040" y="4138200"/>
            <a:ext cx="596880" cy="60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1" y="4919"/>
                </a:moveTo>
                <a:arcTo wR="10800" hR="10800" stAng="-8820513" swAng="2398777"/>
                <a:lnTo>
                  <a:pt x="10800" y="10800"/>
                </a:lnTo>
                <a:close/>
              </a:path>
              <a:path fill="none" w="21600" h="21600">
                <a:moveTo>
                  <a:pt x="1741" y="4919"/>
                </a:moveTo>
                <a:arcTo wR="10800" hR="10800" stAng="-8820513" swAng="2398777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7280" y="3936960"/>
            <a:ext cx="2001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96360" y="2422800"/>
            <a:ext cx="599040" cy="60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57" y="20688"/>
                </a:moveTo>
                <a:arcTo wR="10800" hR="10800" stAng="6822610" swAng="2430535"/>
                <a:lnTo>
                  <a:pt x="10800" y="10800"/>
                </a:lnTo>
                <a:close/>
              </a:path>
              <a:path fill="none" w="21600" h="21600">
                <a:moveTo>
                  <a:pt x="6457" y="20688"/>
                </a:moveTo>
                <a:arcTo wR="10800" hR="10800" stAng="6822610" swAng="243053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695480" y="2898720"/>
            <a:ext cx="299880" cy="35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91B-3108-4B30-938A-CAA7377C7B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fferent qualities can confli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efficiency can reduce maintainability or reu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usability can reduce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ing objectives for quality is a key engineering activ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then design to meet th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s ‘over-engineering’ which wastes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ing is also sometimes necess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btain the highest possible reliability using a fixed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D13-4A58-4D1E-8C90-DE90A0207F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Quality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 aspects of the design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 effect on the external quality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commenting of the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lexity of the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8B3-6C63-400E-9467-3629AFBDDE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Term Vs. Long Term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rt ter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software meet the customer’s immediate nee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 sufficiently efficient for the volume of data we have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 ter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’s future nee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C88-81AA-43BE-8DEE-76691A8C64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6 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jects are evolutionary or maintenance projects, involving work 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ive projects: fixing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projects: changing the system in response to chang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and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ment projects: adding new features for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ngineering or  perfective projects: changing the system internally so it is more maintai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F9D-9D21-497E-A15C-BE0996F6D1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field’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ority of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607-AA88-43AC-A955-2E6BF3FFA7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The Nature of Softwa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is intang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understand development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is easy to reprodu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is in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engineering products, manufacturing is the costly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dustry is labor-intens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auto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D61-5685-48EF-AE0D-60BF94A146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 that involve building on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a set of existing compon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amework is an application that is missing some important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Specific rules of this 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pro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 plugging toge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ready develop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significant function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 from reusing reliabl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much of the same freedom to innovate found in green field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C82-11A7-45A8-8FA9-43F79AE4E27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 Activities Common to Software Projec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irements and specif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ing input from as many sources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ing th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detailed instructions about how the software should be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7AF-512B-401C-B52E-EA2E46FD05B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Common to Software Projec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ing how the requirements should be implemented, using the available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engineering: Deciding what should be in hardware and what i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architecture: Dividing the system into subsystems and deciding how the subsystems will inte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design of the internals of a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of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873-99F7-420C-81B4-CDE6B559C87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Common to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representations of the domain or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nd behaviour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s and insp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ing the 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F5C-5389-4702-B29A-DEE69F19AF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8 The Eight Themes of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Understanding the customer and the us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Basing development on solid principles and reusable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Object ori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 modeling using U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Evaluation of alternati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Iterative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Communicating effectively using docu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Risk management in all SE activiti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5A6-C644-42D1-803E-1E11CBAD0D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9 Difficulties and Risks in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xity and large numbers of detai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ertainty about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ertainty about requir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y about software engineering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 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ioration of software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al ris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A65-63A3-41AA-A6FE-056F0BFB7B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 of Softwar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rained people can hack something toge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problems are hard to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is easy to modif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make changes without fully understand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does not ‘wear out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eteriorates by having its design chang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neously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ays that were not anticipated, thus making it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DA3-255C-46DC-B0E2-CEBDDF5861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software has poor design and is getting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for software is high and r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in a perpetual ‘software crisi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learn to ‘engineer’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0E9-00D2-48DE-8176-858F8626F9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oftwa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pecific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 on ope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TS (Commercial Off The Sh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ink-wr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 into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53E-977C-49C6-9548-90343AB222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ces among custom, generic and embedded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2514600"/>
          <a:ext cx="1181124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1181124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8E7-AF59-4067-B149-A8AA005FB1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time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control and monitor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react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often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processing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run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 and security of data ar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me software has both asp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CAA-E09B-4CB0-8472-9054179BB9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What is Software Engineering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cess of solving customers’ problems by the systematic development and evolution of large, high-quality software systems within cost, time and other constrai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customers’ probl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goal of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 solution is to buy, not 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unnecessary features does not help solv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engineers must communicate effectively to identify and understand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1C2-AEFE-4504-B2BA-40396C9C22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ftware Engineering?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atic development and evol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ngineering process involves applying well understood techniques in a organized and disciplined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well-accepted practices have been formally standar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by the IEEE or I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velopment work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, high quality software syste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engineering techniques are needed because large systems cannot be completely understood by one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mwork and co-ordination ar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challenge: Dividing up the work and ensuring that the parts of the system work properly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-product that is produced must be of sufficient qu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: Software and Software Enginee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6D6-1DC5-402C-B1C8-E766E6987B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Timothy C. Lethbridge</cp:lastModifiedBy>
  <dcterms:modified xsi:type="dcterms:W3CDTF">2001-08-02T23:36:51Z</dcterms:modified>
  <cp:revision>24</cp:revision>
  <dc:subject/>
  <dc:title>SEG 2100 Software Design II</dc:title>
</cp:coreProperties>
</file>