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5.pct" ContentType="image/x-pict"/>
  <Override PartName="/ppt/media/image23.pct" ContentType="image/x-pict"/>
  <Override PartName="/ppt/media/image22.pct" ContentType="image/x-pict"/>
  <Override PartName="/ppt/media/image4.pct" ContentType="image/x-pict"/>
  <Override PartName="/ppt/media/image21.pct" ContentType="image/x-pict"/>
  <Override PartName="/ppt/media/image19.pct" ContentType="image/x-pict"/>
  <Override PartName="/ppt/media/image3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ng" ContentType="image/png"/>
  <Override PartName="/ppt/media/image15.pct" ContentType="image/x-pict"/>
  <Override PartName="/ppt/media/image14.pct" ContentType="image/x-pict"/>
  <Override PartName="/ppt/media/image2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DCC8-8FA7-4EA7-ABCD-5F7E9D0F3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4B94-9780-4448-90BF-C4D7436C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5BA2-8512-44A4-BB66-BCE233585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69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788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69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788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B689-A2F6-4441-BB03-B6962122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BE1D-7401-48C0-A258-1BCDB68B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E10A-C7F8-41C8-9162-505F3805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738F-03A2-4BE9-A91F-08BE990E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AFBE-908A-4A4F-A6B8-9F483164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5798-15B6-4A44-80BC-D26F43C1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6482-076E-4053-B5B1-F49E045C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8964-AB00-43AF-B93A-AA992C44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49CE-FAE9-4144-8429-90AD055D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losengMaster" descr=""/>
          <p:cNvPicPr/>
          <p:nvPr/>
        </p:nvPicPr>
        <p:blipFill>
          <a:blip r:embed="rId2"/>
          <a:stretch/>
        </p:blipFill>
        <p:spPr>
          <a:xfrm>
            <a:off x="357120" y="1162080"/>
            <a:ext cx="8429760" cy="5619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601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67616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5333-EF87-4587-A56B-A69F2261C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Software Engineering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Software Development using UML and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6002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pter 5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odelling with Classe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and validating asso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-to-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pany has many employe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employee can only work for one comp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ompany will not store data about the moonlighting activities of employees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pany can have zero employ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a ‘shell’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not possible to be an employee unless you work for a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362320" y="5105520"/>
            <a:ext cx="6248160" cy="58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E676-05D6-4754-9E9E-24096234411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and validating asso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-to-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cretary can work for many mana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anager can have many secret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aries can work in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s can have a group of secret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managers might have zero secretar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it possible for a secretary to have, perhaps temporarily, zero manag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3880" y="4952880"/>
            <a:ext cx="7315200" cy="64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2E49-C7B7-4C81-BD66-A3E0FE3B934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and validating asso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-to-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company, there is exactly one board of dir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oard is the board of only on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pany must always have a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oard must always be of some 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76520" y="4191120"/>
            <a:ext cx="6781680" cy="59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3910-02BC-4472-8C84-1A20163C2E3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and validating asso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625760"/>
                <a:tab algn="l" pos="514368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oid unnecessary one-to-one associ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625760"/>
                <a:tab algn="l" pos="514368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625760"/>
                <a:tab algn="l" pos="514368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oid th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 th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828800" y="2819520"/>
            <a:ext cx="5486400" cy="141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3799-9671-49EC-9ED3-A92EC5F49C7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ore complex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ooking is always for exactly one passen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booking with zero passen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ooking coul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v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volve more than one passenge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assenger can have any number of Book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assenger could have no bookings at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assenger could have more than one book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66680" y="4781520"/>
            <a:ext cx="7925040" cy="78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9801-52D5-4954-8732-E6D54F7CD88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ssociation clas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imes, an attribute that concerns two associated classes cannot be placed in either of the clas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re equiva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438280" y="3200400"/>
            <a:ext cx="3925800" cy="1294920"/>
            <a:chOff x="2438280" y="3200400"/>
            <a:chExt cx="3925800" cy="1294920"/>
          </a:xfrm>
        </p:grpSpPr>
        <p:sp>
          <p:nvSpPr>
            <p:cNvPr id="81" name=""/>
            <p:cNvSpPr/>
            <p:nvPr/>
          </p:nvSpPr>
          <p:spPr>
            <a:xfrm>
              <a:off x="3646080" y="3880080"/>
              <a:ext cx="1124280" cy="61524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55800" y="4187160"/>
              <a:ext cx="11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06560" y="3956040"/>
              <a:ext cx="1040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gist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794400" y="427032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438280" y="3200400"/>
              <a:ext cx="1035000" cy="48204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638440" y="3275640"/>
              <a:ext cx="66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u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13000" y="3200400"/>
              <a:ext cx="1351080" cy="48204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072400" y="3275640"/>
              <a:ext cx="1256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urseS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3463560" y="3441960"/>
              <a:ext cx="15242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68320" y="3225960"/>
              <a:ext cx="8748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67960" y="322596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48120" y="3225960"/>
              <a:ext cx="8712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847400" y="322596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848120" y="3225960"/>
              <a:ext cx="8712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47400" y="322596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48120" y="3225960"/>
              <a:ext cx="8712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47400" y="322596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48120" y="3225960"/>
              <a:ext cx="8712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847400" y="322596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848120" y="3225960"/>
              <a:ext cx="8712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47400" y="322596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48120" y="3225960"/>
              <a:ext cx="8712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47400" y="322596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63760" y="3458520"/>
              <a:ext cx="1440" cy="64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63760" y="3623400"/>
              <a:ext cx="1440" cy="66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63760" y="3789720"/>
              <a:ext cx="1440" cy="66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828800" y="4952880"/>
            <a:ext cx="5046480" cy="615960"/>
            <a:chOff x="1828800" y="4952880"/>
            <a:chExt cx="5046480" cy="615960"/>
          </a:xfrm>
        </p:grpSpPr>
        <p:sp>
          <p:nvSpPr>
            <p:cNvPr id="108" name=""/>
            <p:cNvSpPr/>
            <p:nvPr/>
          </p:nvSpPr>
          <p:spPr>
            <a:xfrm>
              <a:off x="3633840" y="4952880"/>
              <a:ext cx="1122120" cy="61596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43200" y="5261400"/>
              <a:ext cx="1103400" cy="1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92520" y="5028120"/>
              <a:ext cx="1040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gist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80360" y="534312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28800" y="4952880"/>
              <a:ext cx="1035000" cy="48276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28960" y="5028120"/>
              <a:ext cx="66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u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24560" y="4952880"/>
              <a:ext cx="1350720" cy="48276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83600" y="5028120"/>
              <a:ext cx="1256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urseS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46600" y="5194800"/>
              <a:ext cx="752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48800" y="497844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68280" y="497844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71720" y="5194800"/>
              <a:ext cx="754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3D90-BF0D-4141-951F-41DDC94D506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flexive asso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possible for an association to connect a class to itsel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86160" y="3365640"/>
            <a:ext cx="1482480" cy="696600"/>
          </a:xfrm>
          <a:prstGeom prst="rect">
            <a:avLst/>
          </a:prstGeom>
          <a:noFill/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32040" y="3502080"/>
            <a:ext cx="104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83040" y="3471840"/>
            <a:ext cx="6033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86400" y="3471840"/>
            <a:ext cx="1440" cy="4539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983040" y="3925800"/>
            <a:ext cx="60336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81680" y="365436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71720" y="3502080"/>
            <a:ext cx="2850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isMutuallyExclusiveWit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876320" y="3541680"/>
            <a:ext cx="60336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86040" y="3541680"/>
            <a:ext cx="1440" cy="7556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76320" y="4297320"/>
            <a:ext cx="99720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90280" y="402588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28480" y="357192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49360" y="4287960"/>
            <a:ext cx="1392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prerequisi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09240" y="3179880"/>
            <a:ext cx="1203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success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11920" y="323064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54440" y="4056120"/>
            <a:ext cx="1440" cy="2412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AA94-C44B-4A54-B89D-991FF8D3BDC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rectionality in associ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ons are by defaul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-direction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possible to limit the direction of an association by adding an arrow at one 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36880" y="3959280"/>
            <a:ext cx="21938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26240" y="355428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26240" y="355428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30840" y="3865680"/>
            <a:ext cx="299880" cy="936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830480" y="3959280"/>
            <a:ext cx="299880" cy="92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30840" y="3865680"/>
            <a:ext cx="299880" cy="936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830480" y="3959280"/>
            <a:ext cx="299880" cy="92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45120" y="3506760"/>
            <a:ext cx="1774800" cy="903240"/>
          </a:xfrm>
          <a:prstGeom prst="rect">
            <a:avLst/>
          </a:prstGeom>
          <a:noFill/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85560" y="3648240"/>
            <a:ext cx="704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00"/>
                </a:solidFill>
                <a:latin typeface="Arial"/>
              </a:rPr>
              <a:t>No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38280" y="3506760"/>
            <a:ext cx="1384200" cy="903240"/>
          </a:xfrm>
          <a:prstGeom prst="rect">
            <a:avLst/>
          </a:prstGeom>
          <a:noFill/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38240" y="3648240"/>
            <a:ext cx="582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2C0C-AAF8-4B4B-86FB-171646C2658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5.4 Generaliz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izing a superclass into two or more subclas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scriminato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label that describes the criteria used in the spe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0509AnimalDiscriminators" descr=""/>
          <p:cNvPicPr/>
          <p:nvPr/>
        </p:nvPicPr>
        <p:blipFill>
          <a:blip r:embed="rId1"/>
          <a:stretch/>
        </p:blipFill>
        <p:spPr>
          <a:xfrm>
            <a:off x="1243080" y="3246480"/>
            <a:ext cx="6148440" cy="17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D778-3800-4841-AC29-67DF2EB048D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voiding unnecessary generaliz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267080" y="1066680"/>
            <a:ext cx="4876920" cy="1752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840280" y="4979880"/>
            <a:ext cx="1170000" cy="3780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88520" y="5180040"/>
            <a:ext cx="194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ro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62360" y="4979880"/>
            <a:ext cx="1128960" cy="3780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89360" y="5180040"/>
            <a:ext cx="244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blu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40160" y="4979880"/>
            <a:ext cx="1141200" cy="3780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64640" y="5180040"/>
            <a:ext cx="38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classi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28760" y="4979880"/>
            <a:ext cx="1143000" cy="3780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75200" y="5180040"/>
            <a:ext cx="183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jaz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5400" y="4979880"/>
            <a:ext cx="1160280" cy="3780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20600" y="5180040"/>
            <a:ext cx="54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music vide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06560" y="4229280"/>
            <a:ext cx="1203120" cy="3776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5240" y="4427640"/>
            <a:ext cx="244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84480" y="4229280"/>
            <a:ext cx="1197000" cy="3776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34520" y="4427640"/>
            <a:ext cx="24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65520" y="3446640"/>
            <a:ext cx="1125360" cy="398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22400" y="3494160"/>
            <a:ext cx="1064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00" spc="-1" strike="noStrike">
                <a:solidFill>
                  <a:srgbClr val="000000"/>
                </a:solidFill>
                <a:latin typeface="Arial"/>
              </a:rPr>
              <a:t>RecordingCatego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95560" y="3559320"/>
            <a:ext cx="2145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10120" y="3559320"/>
            <a:ext cx="1440" cy="161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895560" y="3720960"/>
            <a:ext cx="21456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04920" y="3624120"/>
            <a:ext cx="40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38760" y="3720960"/>
            <a:ext cx="55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subcatego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70200" y="3645000"/>
            <a:ext cx="11034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03320" y="3687840"/>
            <a:ext cx="49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71600" y="3446640"/>
            <a:ext cx="633240" cy="5158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19840" y="3494160"/>
            <a:ext cx="56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00" spc="-1" strike="noStrike">
                <a:solidFill>
                  <a:srgbClr val="000000"/>
                </a:solidFill>
                <a:latin typeface="Arial"/>
              </a:rPr>
              <a:t>Record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98720" y="3570120"/>
            <a:ext cx="762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31840" y="3462480"/>
            <a:ext cx="40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07080" y="3581280"/>
            <a:ext cx="578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hasCatego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05040" y="4600440"/>
            <a:ext cx="1440" cy="374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016080" y="4600440"/>
            <a:ext cx="1092240" cy="374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4311360" y="4611600"/>
            <a:ext cx="75960" cy="363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65840" y="4600440"/>
            <a:ext cx="920520" cy="374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65600" y="4600440"/>
            <a:ext cx="31680" cy="374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71880" y="4846680"/>
            <a:ext cx="55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subcatego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86440" y="4846680"/>
            <a:ext cx="55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subcatego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33920" y="4846680"/>
            <a:ext cx="55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subcatego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3160" y="4846680"/>
            <a:ext cx="55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subcatego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47760" y="4846680"/>
            <a:ext cx="55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subcatego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63080" y="4245120"/>
            <a:ext cx="1102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CA" sz="900" spc="-1" strike="noStrike" u="sng">
                <a:solidFill>
                  <a:srgbClr val="000000"/>
                </a:solidFill>
                <a:uFillTx/>
                <a:latin typeface="Arial"/>
              </a:rPr>
              <a:t>RecordingCatego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20840" y="4245120"/>
            <a:ext cx="1102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CA" sz="900" spc="-1" strike="noStrike" u="sng">
                <a:solidFill>
                  <a:srgbClr val="000000"/>
                </a:solidFill>
                <a:uFillTx/>
                <a:latin typeface="Arial"/>
              </a:rPr>
              <a:t>RecordingCatego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90960" y="4395960"/>
            <a:ext cx="1190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20240" y="5006880"/>
            <a:ext cx="1102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CA" sz="900" spc="-1" strike="noStrike" u="sng">
                <a:solidFill>
                  <a:srgbClr val="000000"/>
                </a:solidFill>
                <a:uFillTx/>
                <a:latin typeface="Arial"/>
              </a:rPr>
              <a:t>RecordingCatego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65000" y="5006880"/>
            <a:ext cx="1102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CA" sz="900" spc="-1" strike="noStrike" u="sng">
                <a:solidFill>
                  <a:srgbClr val="000000"/>
                </a:solidFill>
                <a:uFillTx/>
                <a:latin typeface="Arial"/>
              </a:rPr>
              <a:t>RecordingCatego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98720" y="5006880"/>
            <a:ext cx="1102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CA" sz="900" spc="-1" strike="noStrike" u="sng">
                <a:solidFill>
                  <a:srgbClr val="000000"/>
                </a:solidFill>
                <a:uFillTx/>
                <a:latin typeface="Arial"/>
              </a:rPr>
              <a:t>RecordingCatego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65480" y="5006880"/>
            <a:ext cx="1102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CA" sz="900" spc="-1" strike="noStrike" u="sng">
                <a:solidFill>
                  <a:srgbClr val="000000"/>
                </a:solidFill>
                <a:uFillTx/>
                <a:latin typeface="Arial"/>
              </a:rPr>
              <a:t>RecordingCatego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11240" y="4395960"/>
            <a:ext cx="11984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53960" y="5006880"/>
            <a:ext cx="1102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CA" sz="900" spc="-1" strike="noStrike" u="sng">
                <a:solidFill>
                  <a:srgbClr val="000000"/>
                </a:solidFill>
                <a:uFillTx/>
                <a:latin typeface="Arial"/>
              </a:rPr>
              <a:t>RecordingCatego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11240" y="5168880"/>
            <a:ext cx="1147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24080" y="5168880"/>
            <a:ext cx="11286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5168880"/>
            <a:ext cx="1163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68840" y="5168880"/>
            <a:ext cx="11224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46760" y="5168880"/>
            <a:ext cx="1163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5732640"/>
            <a:ext cx="1094040" cy="5158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79680" y="5952960"/>
            <a:ext cx="654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9th Sympho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78600" y="5759280"/>
            <a:ext cx="60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CA" sz="900" spc="-1" strike="noStrike" u="sng">
                <a:solidFill>
                  <a:srgbClr val="000000"/>
                </a:solidFill>
                <a:uFillTx/>
                <a:latin typeface="Arial"/>
              </a:rPr>
              <a:t>Record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9160" y="5921280"/>
            <a:ext cx="10717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3905280" y="5351400"/>
            <a:ext cx="54000" cy="36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76840" y="5743440"/>
            <a:ext cx="1093680" cy="4842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05640" y="5942160"/>
            <a:ext cx="365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Let it b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04200" y="5770440"/>
            <a:ext cx="60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CA" sz="900" spc="-1" strike="noStrike" u="sng">
                <a:solidFill>
                  <a:srgbClr val="000000"/>
                </a:solidFill>
                <a:uFillTx/>
                <a:latin typeface="Arial"/>
              </a:rPr>
              <a:t>Record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683320" y="5931000"/>
            <a:ext cx="10713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94480" y="6070680"/>
            <a:ext cx="546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The Beat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380760" y="6081840"/>
            <a:ext cx="488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Beethov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175440" y="5362560"/>
            <a:ext cx="54000" cy="36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377720" y="3645000"/>
            <a:ext cx="610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08680" y="3687840"/>
            <a:ext cx="160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08680" y="3817800"/>
            <a:ext cx="223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art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1143000"/>
            <a:ext cx="344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ppropriate hierarchy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, which should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559840" y="3505320"/>
            <a:ext cx="319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class diagra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its correspo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6E10-3763-4F3A-88CA-03543899A66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1 What is UM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fied Modelling Language is a standard graphical language for modelling object oriented softwa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end of the 1980s and the beginning of 1990s, the first object-oriented development processes appea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proliferation of methods and notations tended to cause considerable confus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important methodologists Rumbaugh and Booch decided to merge their approaches in 199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worked together at the Rational Software Corpo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1995, another methodologist, Jacobson,  joined the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 work focused on use ca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1997 the Object Management Group (OMG) started the process of UML standard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A777-5982-4935-A7FE-30982FD0A3D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andling multiple discrimin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05xxAnimalDupDisc" descr=""/>
          <p:cNvPicPr/>
          <p:nvPr/>
        </p:nvPicPr>
        <p:blipFill>
          <a:blip r:embed="rId1"/>
          <a:stretch/>
        </p:blipFill>
        <p:spPr>
          <a:xfrm>
            <a:off x="1371600" y="2151000"/>
            <a:ext cx="7391520" cy="33354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ng higher-level gener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1516-1D34-4DCA-ABAD-98480444297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ultiple 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the Player-Role pattern (in Chapter 6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andling multiple discrimin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170320" y="1373040"/>
            <a:ext cx="1295640" cy="6368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67680" y="1471680"/>
            <a:ext cx="721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Anim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78040" y="3492360"/>
            <a:ext cx="1800" cy="373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17640" y="2041560"/>
            <a:ext cx="53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habit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81120" y="3470400"/>
            <a:ext cx="328680" cy="263520"/>
          </a:xfrm>
          <a:custGeom>
            <a:avLst/>
            <a:gdLst/>
            <a:ahLst/>
            <a:rect l="l" t="t" r="r" b="b"/>
            <a:pathLst>
              <a:path w="207" h="166">
                <a:moveTo>
                  <a:pt x="110" y="0"/>
                </a:moveTo>
                <a:lnTo>
                  <a:pt x="207" y="166"/>
                </a:lnTo>
                <a:lnTo>
                  <a:pt x="0" y="166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81120" y="3470400"/>
            <a:ext cx="328680" cy="263520"/>
          </a:xfrm>
          <a:custGeom>
            <a:avLst/>
            <a:gdLst/>
            <a:ahLst/>
            <a:rect l="l" t="t" r="r" b="b"/>
            <a:pathLst>
              <a:path w="207" h="166">
                <a:moveTo>
                  <a:pt x="110" y="0"/>
                </a:moveTo>
                <a:lnTo>
                  <a:pt x="207" y="166"/>
                </a:lnTo>
                <a:lnTo>
                  <a:pt x="0" y="166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345360" y="2021040"/>
            <a:ext cx="1440" cy="372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73160" y="2021040"/>
            <a:ext cx="933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typeOfF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68960" y="2021040"/>
            <a:ext cx="330120" cy="263520"/>
          </a:xfrm>
          <a:custGeom>
            <a:avLst/>
            <a:gdLst/>
            <a:ahLst/>
            <a:rect l="l" t="t" r="r" b="b"/>
            <a:pathLst>
              <a:path w="208" h="166">
                <a:moveTo>
                  <a:pt x="111" y="0"/>
                </a:moveTo>
                <a:lnTo>
                  <a:pt x="208" y="166"/>
                </a:lnTo>
                <a:lnTo>
                  <a:pt x="0" y="166"/>
                </a:lnTo>
                <a:lnTo>
                  <a:pt x="11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68960" y="2021040"/>
            <a:ext cx="330120" cy="263520"/>
          </a:xfrm>
          <a:custGeom>
            <a:avLst/>
            <a:gdLst/>
            <a:ahLst/>
            <a:rect l="l" t="t" r="r" b="b"/>
            <a:pathLst>
              <a:path w="208" h="166">
                <a:moveTo>
                  <a:pt x="111" y="0"/>
                </a:moveTo>
                <a:lnTo>
                  <a:pt x="208" y="166"/>
                </a:lnTo>
                <a:lnTo>
                  <a:pt x="0" y="166"/>
                </a:lnTo>
                <a:lnTo>
                  <a:pt x="111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41920" y="2394000"/>
            <a:ext cx="1033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562880" y="2394000"/>
            <a:ext cx="1440" cy="417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6300720" y="2394000"/>
            <a:ext cx="2412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291360" y="2394000"/>
            <a:ext cx="1440" cy="417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497720" y="2822400"/>
            <a:ext cx="1230480" cy="6368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62600" y="2921040"/>
            <a:ext cx="1011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Herbivo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70680" y="2822400"/>
            <a:ext cx="1272960" cy="6368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35560" y="2921040"/>
            <a:ext cx="1011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Carnivo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94000" y="2394000"/>
            <a:ext cx="11192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46800" y="2394000"/>
            <a:ext cx="1440" cy="417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3995280" y="2394000"/>
            <a:ext cx="1983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95640" y="2394000"/>
            <a:ext cx="1800" cy="417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21320" y="2822400"/>
            <a:ext cx="1361880" cy="6368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653000" y="2921040"/>
            <a:ext cx="1239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LandAnim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05160" y="2822400"/>
            <a:ext cx="1689120" cy="6368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57720" y="2921040"/>
            <a:ext cx="1515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AquaticAnim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306440" y="4381560"/>
            <a:ext cx="2019240" cy="636480"/>
            <a:chOff x="1306440" y="4381560"/>
            <a:chExt cx="2019240" cy="636480"/>
          </a:xfrm>
        </p:grpSpPr>
        <p:sp>
          <p:nvSpPr>
            <p:cNvPr id="257" name=""/>
            <p:cNvSpPr/>
            <p:nvPr/>
          </p:nvSpPr>
          <p:spPr>
            <a:xfrm>
              <a:off x="1306440" y="4381560"/>
              <a:ext cx="2019240" cy="6364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381320" y="4481640"/>
              <a:ext cx="1805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700" spc="-1" strike="noStrike">
                  <a:solidFill>
                    <a:srgbClr val="000000"/>
                  </a:solidFill>
                  <a:latin typeface="Arial"/>
                </a:rPr>
                <a:t>AquaticCarnivor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3414600" y="4381560"/>
            <a:ext cx="2041560" cy="636480"/>
            <a:chOff x="3414600" y="4381560"/>
            <a:chExt cx="2041560" cy="636480"/>
          </a:xfrm>
        </p:grpSpPr>
        <p:sp>
          <p:nvSpPr>
            <p:cNvPr id="260" name=""/>
            <p:cNvSpPr/>
            <p:nvPr/>
          </p:nvSpPr>
          <p:spPr>
            <a:xfrm>
              <a:off x="3414600" y="4381560"/>
              <a:ext cx="2041560" cy="6364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489480" y="4481640"/>
              <a:ext cx="1805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700" spc="-1" strike="noStrike">
                  <a:solidFill>
                    <a:srgbClr val="000000"/>
                  </a:solidFill>
                  <a:latin typeface="Arial"/>
                </a:rPr>
                <a:t>AquaticHerbivor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5565600" y="4381560"/>
            <a:ext cx="1690920" cy="636480"/>
            <a:chOff x="5565600" y="4381560"/>
            <a:chExt cx="1690920" cy="636480"/>
          </a:xfrm>
        </p:grpSpPr>
        <p:sp>
          <p:nvSpPr>
            <p:cNvPr id="263" name=""/>
            <p:cNvSpPr/>
            <p:nvPr/>
          </p:nvSpPr>
          <p:spPr>
            <a:xfrm>
              <a:off x="5565600" y="4381560"/>
              <a:ext cx="1690920" cy="6364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40120" y="4481640"/>
              <a:ext cx="1529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700" spc="-1" strike="noStrike">
                  <a:solidFill>
                    <a:srgbClr val="000000"/>
                  </a:solidFill>
                  <a:latin typeface="Arial"/>
                </a:rPr>
                <a:t>LandCarnivor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7365960" y="4381560"/>
            <a:ext cx="1690560" cy="636480"/>
            <a:chOff x="7365960" y="4381560"/>
            <a:chExt cx="1690560" cy="636480"/>
          </a:xfrm>
        </p:grpSpPr>
        <p:sp>
          <p:nvSpPr>
            <p:cNvPr id="266" name=""/>
            <p:cNvSpPr/>
            <p:nvPr/>
          </p:nvSpPr>
          <p:spPr>
            <a:xfrm>
              <a:off x="7365960" y="4381560"/>
              <a:ext cx="1690560" cy="6364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419600" y="4481640"/>
              <a:ext cx="1529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700" spc="-1" strike="noStrike">
                  <a:solidFill>
                    <a:srgbClr val="000000"/>
                  </a:solidFill>
                  <a:latin typeface="Arial"/>
                </a:rPr>
                <a:t>LandHerbivor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6235560" y="3492360"/>
            <a:ext cx="1800" cy="373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59520" y="3470400"/>
            <a:ext cx="330120" cy="263520"/>
          </a:xfrm>
          <a:custGeom>
            <a:avLst/>
            <a:gdLst/>
            <a:ahLst/>
            <a:rect l="l" t="t" r="r" b="b"/>
            <a:pathLst>
              <a:path w="208" h="166">
                <a:moveTo>
                  <a:pt x="111" y="0"/>
                </a:moveTo>
                <a:lnTo>
                  <a:pt x="208" y="166"/>
                </a:lnTo>
                <a:lnTo>
                  <a:pt x="0" y="166"/>
                </a:lnTo>
                <a:lnTo>
                  <a:pt x="11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59520" y="3470400"/>
            <a:ext cx="330120" cy="263520"/>
          </a:xfrm>
          <a:custGeom>
            <a:avLst/>
            <a:gdLst/>
            <a:ahLst/>
            <a:rect l="l" t="t" r="r" b="b"/>
            <a:pathLst>
              <a:path w="208" h="166">
                <a:moveTo>
                  <a:pt x="111" y="0"/>
                </a:moveTo>
                <a:lnTo>
                  <a:pt x="208" y="166"/>
                </a:lnTo>
                <a:lnTo>
                  <a:pt x="0" y="166"/>
                </a:lnTo>
                <a:lnTo>
                  <a:pt x="111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721640" y="3492360"/>
            <a:ext cx="1440" cy="482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53160" y="3470400"/>
            <a:ext cx="328680" cy="263520"/>
          </a:xfrm>
          <a:custGeom>
            <a:avLst/>
            <a:gdLst/>
            <a:ahLst/>
            <a:rect l="l" t="t" r="r" b="b"/>
            <a:pathLst>
              <a:path w="207" h="166">
                <a:moveTo>
                  <a:pt x="110" y="0"/>
                </a:moveTo>
                <a:lnTo>
                  <a:pt x="207" y="166"/>
                </a:lnTo>
                <a:lnTo>
                  <a:pt x="0" y="166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553160" y="3470400"/>
            <a:ext cx="328680" cy="263520"/>
          </a:xfrm>
          <a:custGeom>
            <a:avLst/>
            <a:gdLst/>
            <a:ahLst/>
            <a:rect l="l" t="t" r="r" b="b"/>
            <a:pathLst>
              <a:path w="207" h="166">
                <a:moveTo>
                  <a:pt x="110" y="0"/>
                </a:moveTo>
                <a:lnTo>
                  <a:pt x="207" y="166"/>
                </a:lnTo>
                <a:lnTo>
                  <a:pt x="0" y="166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475840" y="3492360"/>
            <a:ext cx="1440" cy="701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277120" y="3470400"/>
            <a:ext cx="330480" cy="263520"/>
          </a:xfrm>
          <a:custGeom>
            <a:avLst/>
            <a:gdLst/>
            <a:ahLst/>
            <a:rect l="l" t="t" r="r" b="b"/>
            <a:pathLst>
              <a:path w="208" h="166">
                <a:moveTo>
                  <a:pt x="111" y="0"/>
                </a:moveTo>
                <a:lnTo>
                  <a:pt x="208" y="166"/>
                </a:lnTo>
                <a:lnTo>
                  <a:pt x="0" y="166"/>
                </a:lnTo>
                <a:lnTo>
                  <a:pt x="11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277120" y="3470400"/>
            <a:ext cx="330480" cy="263520"/>
          </a:xfrm>
          <a:custGeom>
            <a:avLst/>
            <a:gdLst/>
            <a:ahLst/>
            <a:rect l="l" t="t" r="r" b="b"/>
            <a:pathLst>
              <a:path w="208" h="166">
                <a:moveTo>
                  <a:pt x="111" y="0"/>
                </a:moveTo>
                <a:lnTo>
                  <a:pt x="208" y="166"/>
                </a:lnTo>
                <a:lnTo>
                  <a:pt x="0" y="166"/>
                </a:lnTo>
                <a:lnTo>
                  <a:pt x="111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78040" y="3865680"/>
            <a:ext cx="35575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46640" y="3798720"/>
            <a:ext cx="176040" cy="17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3790800"/>
            <a:ext cx="153720" cy="15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98720" y="3798720"/>
            <a:ext cx="174600" cy="17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9880" y="3790800"/>
            <a:ext cx="152280" cy="15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86200" y="3511440"/>
            <a:ext cx="1440" cy="460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10160" y="3470400"/>
            <a:ext cx="330120" cy="263520"/>
          </a:xfrm>
          <a:custGeom>
            <a:avLst/>
            <a:gdLst/>
            <a:ahLst/>
            <a:rect l="l" t="t" r="r" b="b"/>
            <a:pathLst>
              <a:path w="208" h="166">
                <a:moveTo>
                  <a:pt x="111" y="0"/>
                </a:moveTo>
                <a:lnTo>
                  <a:pt x="208" y="166"/>
                </a:lnTo>
                <a:lnTo>
                  <a:pt x="0" y="166"/>
                </a:lnTo>
                <a:lnTo>
                  <a:pt x="11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710160" y="3470400"/>
            <a:ext cx="330120" cy="263520"/>
          </a:xfrm>
          <a:custGeom>
            <a:avLst/>
            <a:gdLst/>
            <a:ahLst/>
            <a:rect l="l" t="t" r="r" b="b"/>
            <a:pathLst>
              <a:path w="208" h="166">
                <a:moveTo>
                  <a:pt x="111" y="0"/>
                </a:moveTo>
                <a:lnTo>
                  <a:pt x="208" y="166"/>
                </a:lnTo>
                <a:lnTo>
                  <a:pt x="0" y="166"/>
                </a:lnTo>
                <a:lnTo>
                  <a:pt x="111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3886200" y="3975120"/>
            <a:ext cx="38419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246640" y="3909960"/>
            <a:ext cx="176040" cy="17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257800" y="3902040"/>
            <a:ext cx="153720" cy="151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35560" y="3492360"/>
            <a:ext cx="1440" cy="569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137200" y="3470400"/>
            <a:ext cx="330120" cy="263520"/>
          </a:xfrm>
          <a:custGeom>
            <a:avLst/>
            <a:gdLst/>
            <a:ahLst/>
            <a:rect l="l" t="t" r="r" b="b"/>
            <a:pathLst>
              <a:path w="208" h="166">
                <a:moveTo>
                  <a:pt x="111" y="0"/>
                </a:moveTo>
                <a:lnTo>
                  <a:pt x="208" y="166"/>
                </a:lnTo>
                <a:lnTo>
                  <a:pt x="0" y="166"/>
                </a:lnTo>
                <a:lnTo>
                  <a:pt x="11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37200" y="3470400"/>
            <a:ext cx="330120" cy="263520"/>
          </a:xfrm>
          <a:custGeom>
            <a:avLst/>
            <a:gdLst/>
            <a:ahLst/>
            <a:rect l="l" t="t" r="r" b="b"/>
            <a:pathLst>
              <a:path w="208" h="166">
                <a:moveTo>
                  <a:pt x="111" y="0"/>
                </a:moveTo>
                <a:lnTo>
                  <a:pt x="208" y="166"/>
                </a:lnTo>
                <a:lnTo>
                  <a:pt x="0" y="166"/>
                </a:lnTo>
                <a:lnTo>
                  <a:pt x="111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35560" y="4062240"/>
            <a:ext cx="133812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08880" y="3909960"/>
            <a:ext cx="175680" cy="17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620040" y="3902040"/>
            <a:ext cx="153360" cy="151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673680" y="3492360"/>
            <a:ext cx="1800" cy="569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99080" y="3470400"/>
            <a:ext cx="328680" cy="263520"/>
          </a:xfrm>
          <a:custGeom>
            <a:avLst/>
            <a:gdLst/>
            <a:ahLst/>
            <a:rect l="l" t="t" r="r" b="b"/>
            <a:pathLst>
              <a:path w="207" h="166">
                <a:moveTo>
                  <a:pt x="110" y="0"/>
                </a:moveTo>
                <a:lnTo>
                  <a:pt x="207" y="166"/>
                </a:lnTo>
                <a:lnTo>
                  <a:pt x="0" y="166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499080" y="3470400"/>
            <a:ext cx="328680" cy="263520"/>
          </a:xfrm>
          <a:custGeom>
            <a:avLst/>
            <a:gdLst/>
            <a:ahLst/>
            <a:rect l="l" t="t" r="r" b="b"/>
            <a:pathLst>
              <a:path w="207" h="166">
                <a:moveTo>
                  <a:pt x="110" y="0"/>
                </a:moveTo>
                <a:lnTo>
                  <a:pt x="207" y="166"/>
                </a:lnTo>
                <a:lnTo>
                  <a:pt x="0" y="166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53160" y="4194000"/>
            <a:ext cx="272268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64240" y="3798720"/>
            <a:ext cx="175680" cy="17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675400" y="3790800"/>
            <a:ext cx="153720" cy="15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664240" y="3909960"/>
            <a:ext cx="175680" cy="17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675400" y="3892680"/>
            <a:ext cx="153720" cy="151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664240" y="3997440"/>
            <a:ext cx="175680" cy="218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675400" y="3979800"/>
            <a:ext cx="153720" cy="196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53160" y="3492360"/>
            <a:ext cx="1440" cy="701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54800" y="3470400"/>
            <a:ext cx="330120" cy="263520"/>
          </a:xfrm>
          <a:custGeom>
            <a:avLst/>
            <a:gdLst/>
            <a:ahLst/>
            <a:rect l="l" t="t" r="r" b="b"/>
            <a:pathLst>
              <a:path w="208" h="166">
                <a:moveTo>
                  <a:pt x="111" y="0"/>
                </a:moveTo>
                <a:lnTo>
                  <a:pt x="208" y="166"/>
                </a:lnTo>
                <a:lnTo>
                  <a:pt x="0" y="166"/>
                </a:lnTo>
                <a:lnTo>
                  <a:pt x="11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554800" y="3470400"/>
            <a:ext cx="330120" cy="263520"/>
          </a:xfrm>
          <a:custGeom>
            <a:avLst/>
            <a:gdLst/>
            <a:ahLst/>
            <a:rect l="l" t="t" r="r" b="b"/>
            <a:pathLst>
              <a:path w="208" h="166">
                <a:moveTo>
                  <a:pt x="111" y="0"/>
                </a:moveTo>
                <a:lnTo>
                  <a:pt x="208" y="166"/>
                </a:lnTo>
                <a:lnTo>
                  <a:pt x="0" y="166"/>
                </a:lnTo>
                <a:lnTo>
                  <a:pt x="111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21400" y="4062240"/>
            <a:ext cx="1440" cy="3081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7816680" y="4194000"/>
            <a:ext cx="1800" cy="176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4741920" y="3975120"/>
            <a:ext cx="1440" cy="395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205080" y="3865680"/>
            <a:ext cx="1800" cy="504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46640" y="2021040"/>
            <a:ext cx="1800" cy="372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203800" y="2394000"/>
            <a:ext cx="2412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72040" y="2021040"/>
            <a:ext cx="328680" cy="263520"/>
          </a:xfrm>
          <a:custGeom>
            <a:avLst/>
            <a:gdLst/>
            <a:ahLst/>
            <a:rect l="l" t="t" r="r" b="b"/>
            <a:pathLst>
              <a:path w="207" h="166">
                <a:moveTo>
                  <a:pt x="110" y="0"/>
                </a:moveTo>
                <a:lnTo>
                  <a:pt x="207" y="166"/>
                </a:lnTo>
                <a:lnTo>
                  <a:pt x="0" y="166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072040" y="2021040"/>
            <a:ext cx="328680" cy="263520"/>
          </a:xfrm>
          <a:custGeom>
            <a:avLst/>
            <a:gdLst/>
            <a:ahLst/>
            <a:rect l="l" t="t" r="r" b="b"/>
            <a:pathLst>
              <a:path w="207" h="166">
                <a:moveTo>
                  <a:pt x="110" y="0"/>
                </a:moveTo>
                <a:lnTo>
                  <a:pt x="207" y="166"/>
                </a:lnTo>
                <a:lnTo>
                  <a:pt x="0" y="166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D65C-367E-4348-A3BB-14ED1443ED1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voiding having instances change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05XXStudentOneDisc" descr=""/>
          <p:cNvPicPr/>
          <p:nvPr/>
        </p:nvPicPr>
        <p:blipFill>
          <a:blip r:embed="rId1"/>
          <a:stretch/>
        </p:blipFill>
        <p:spPr>
          <a:xfrm>
            <a:off x="2362320" y="2971800"/>
            <a:ext cx="3781440" cy="19512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stance should never need to change 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3C3D-4D17-4FF7-967B-AB9BF6CBE11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5.5 Instance Diagr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n instance of an 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same way that we say an object is an instance of a 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057480" y="5103360"/>
            <a:ext cx="1359000" cy="250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22520" y="4894200"/>
            <a:ext cx="3351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5075280" y="4894200"/>
            <a:ext cx="334800" cy="28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flipV="1">
            <a:off x="5060520" y="3695760"/>
            <a:ext cx="336600" cy="144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3463920" y="3695400"/>
            <a:ext cx="281160" cy="446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408480" y="3556080"/>
            <a:ext cx="336600" cy="139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449520" y="3179880"/>
            <a:ext cx="952560" cy="3063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52520" y="4692600"/>
            <a:ext cx="1163880" cy="40500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345760" y="4754520"/>
            <a:ext cx="1059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 u="sng">
                <a:solidFill>
                  <a:srgbClr val="000000"/>
                </a:solidFill>
                <a:uFillTx/>
                <a:latin typeface="Arial"/>
              </a:rPr>
              <a:t>Carla:Employe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76440" y="3938760"/>
            <a:ext cx="981000" cy="40608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64280" y="4002120"/>
            <a:ext cx="889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 u="sng">
                <a:solidFill>
                  <a:srgbClr val="000000"/>
                </a:solidFill>
                <a:uFillTx/>
                <a:latin typeface="Arial"/>
              </a:rPr>
              <a:t>Ali:Employe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39840" y="3352680"/>
            <a:ext cx="1262160" cy="40644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24800" y="3416400"/>
            <a:ext cx="1160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 u="sng">
                <a:solidFill>
                  <a:srgbClr val="000000"/>
                </a:solidFill>
                <a:uFillTx/>
                <a:latin typeface="Arial"/>
              </a:rPr>
              <a:t>Wayne:Employe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751200" y="3492360"/>
            <a:ext cx="1303560" cy="40644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99080" y="3556080"/>
            <a:ext cx="1230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 u="sng">
                <a:solidFill>
                  <a:srgbClr val="000000"/>
                </a:solidFill>
                <a:uFillTx/>
                <a:latin typeface="Arial"/>
              </a:rPr>
              <a:t>OOCorp:Compan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03960" y="3506760"/>
            <a:ext cx="1301760" cy="40500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450400" y="3570120"/>
            <a:ext cx="1148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 u="sng">
                <a:solidFill>
                  <a:srgbClr val="000000"/>
                </a:solidFill>
                <a:uFillTx/>
                <a:latin typeface="Arial"/>
              </a:rPr>
              <a:t>OOCorp's Board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16560" y="4719600"/>
            <a:ext cx="1289160" cy="40644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65520" y="4782960"/>
            <a:ext cx="1100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 u="sng">
                <a:solidFill>
                  <a:srgbClr val="000000"/>
                </a:solidFill>
                <a:uFillTx/>
                <a:latin typeface="Arial"/>
              </a:rPr>
              <a:t>UML inc's Boar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763800" y="4692600"/>
            <a:ext cx="1305000" cy="40500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50560" y="4754520"/>
            <a:ext cx="1230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 u="sng">
                <a:solidFill>
                  <a:srgbClr val="000000"/>
                </a:solidFill>
                <a:uFillTx/>
                <a:latin typeface="Arial"/>
              </a:rPr>
              <a:t>UML inc:Compan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38320" y="2766960"/>
            <a:ext cx="1024200" cy="40644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27960" y="2830680"/>
            <a:ext cx="927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 u="sng">
                <a:solidFill>
                  <a:srgbClr val="000000"/>
                </a:solidFill>
                <a:uFillTx/>
                <a:latin typeface="Arial"/>
              </a:rPr>
              <a:t>Pat:Employe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17840" y="5361120"/>
            <a:ext cx="1139760" cy="40644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565000" y="5424480"/>
            <a:ext cx="1059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 u="sng">
                <a:solidFill>
                  <a:srgbClr val="000000"/>
                </a:solidFill>
                <a:uFillTx/>
                <a:latin typeface="Arial"/>
              </a:rPr>
              <a:t>Terry:Employe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2A24-3A73-4A2E-96CE-EE0DB21192F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ssociations versus generalizations in instance diagr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ons describe the relationships that will exist betwee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run ti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you show an instance diagram generated from a class diagram, there will be an instance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es joined by an 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izations describe relationships betwee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class diagra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do not appear in instance diagrams at al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stance of any class should also be considered to be an instance of each of that class’s superclas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D52D-F0B5-4C85-B56D-DCAC2DCED55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5.6 More Advanced Features: Aggreg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regations are special associations that represent ‘part-whole’ relationship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‘whole’ side is often called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mbl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reg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symbol is a shorthand notation association named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sPartO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13120" y="4343400"/>
            <a:ext cx="14637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15960" y="411156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115960" y="411156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115960" y="411156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115960" y="411156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13120" y="5075280"/>
            <a:ext cx="14986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50880" y="484344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50880" y="484344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50880" y="484344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150880" y="484344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50880" y="484344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150880" y="484344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19720" y="4815000"/>
            <a:ext cx="1055520" cy="51912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561640" y="4897440"/>
            <a:ext cx="60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84800" y="4083120"/>
            <a:ext cx="1108080" cy="51912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45280" y="4165560"/>
            <a:ext cx="97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hicle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751120" y="4815000"/>
            <a:ext cx="1054080" cy="51912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56320" y="4897440"/>
            <a:ext cx="68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u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751120" y="4083120"/>
            <a:ext cx="1054080" cy="51912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955240" y="4165560"/>
            <a:ext cx="62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795840" y="4253040"/>
            <a:ext cx="285480" cy="179280"/>
          </a:xfrm>
          <a:custGeom>
            <a:avLst/>
            <a:gdLst/>
            <a:ahLst/>
            <a:rect l="l" t="t" r="r" b="b"/>
            <a:pathLst>
              <a:path w="180" h="113">
                <a:moveTo>
                  <a:pt x="90" y="0"/>
                </a:moveTo>
                <a:lnTo>
                  <a:pt x="180" y="57"/>
                </a:lnTo>
                <a:lnTo>
                  <a:pt x="90" y="113"/>
                </a:lnTo>
                <a:lnTo>
                  <a:pt x="0" y="57"/>
                </a:lnTo>
                <a:lnTo>
                  <a:pt x="9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795840" y="4253040"/>
            <a:ext cx="285480" cy="179280"/>
          </a:xfrm>
          <a:custGeom>
            <a:avLst/>
            <a:gdLst/>
            <a:ahLst/>
            <a:rect l="l" t="t" r="r" b="b"/>
            <a:pathLst>
              <a:path w="180" h="113">
                <a:moveTo>
                  <a:pt x="90" y="0"/>
                </a:moveTo>
                <a:lnTo>
                  <a:pt x="180" y="57"/>
                </a:lnTo>
                <a:lnTo>
                  <a:pt x="90" y="113"/>
                </a:lnTo>
                <a:lnTo>
                  <a:pt x="0" y="57"/>
                </a:lnTo>
                <a:lnTo>
                  <a:pt x="90" y="0"/>
                </a:lnTo>
                <a:close/>
              </a:path>
            </a:pathLst>
          </a:custGeom>
          <a:solidFill>
            <a:srgbClr val="fffff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795840" y="4984920"/>
            <a:ext cx="285480" cy="179280"/>
          </a:xfrm>
          <a:custGeom>
            <a:avLst/>
            <a:gdLst/>
            <a:ahLst/>
            <a:rect l="l" t="t" r="r" b="b"/>
            <a:pathLst>
              <a:path w="180" h="113">
                <a:moveTo>
                  <a:pt x="90" y="0"/>
                </a:moveTo>
                <a:lnTo>
                  <a:pt x="180" y="57"/>
                </a:lnTo>
                <a:lnTo>
                  <a:pt x="90" y="113"/>
                </a:lnTo>
                <a:lnTo>
                  <a:pt x="0" y="57"/>
                </a:lnTo>
                <a:lnTo>
                  <a:pt x="9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795840" y="4984920"/>
            <a:ext cx="285480" cy="179280"/>
          </a:xfrm>
          <a:custGeom>
            <a:avLst/>
            <a:gdLst/>
            <a:ahLst/>
            <a:rect l="l" t="t" r="r" b="b"/>
            <a:pathLst>
              <a:path w="180" h="113">
                <a:moveTo>
                  <a:pt x="90" y="0"/>
                </a:moveTo>
                <a:lnTo>
                  <a:pt x="180" y="57"/>
                </a:lnTo>
                <a:lnTo>
                  <a:pt x="90" y="113"/>
                </a:lnTo>
                <a:lnTo>
                  <a:pt x="0" y="57"/>
                </a:lnTo>
                <a:lnTo>
                  <a:pt x="90" y="0"/>
                </a:lnTo>
                <a:close/>
              </a:path>
            </a:pathLst>
          </a:custGeom>
          <a:solidFill>
            <a:srgbClr val="fffff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27F5-6F7F-4E4B-9F57-421AC241CD4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en to use an aggreg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a general rule, you can mark an association as an aggregation if the following are true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state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rts ‘are part of’ the aggreg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the aggregate ‘is composed of’ the par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something owns or controls the aggregate, then they also own or control the par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B3D6-DE42-4A0C-9E2B-9A73361D4F2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trong kind of aggreg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aggregate is destroyed, then the parts are destroyed as we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lternatives for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868560" y="3062160"/>
            <a:ext cx="178776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513040" y="27846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513040" y="27846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513040" y="27846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13040" y="27846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513040" y="27846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665680" y="2752560"/>
            <a:ext cx="1258920" cy="61920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998680" y="2849400"/>
            <a:ext cx="614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Ro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600280" y="2752560"/>
            <a:ext cx="1258920" cy="61920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892600" y="2849400"/>
            <a:ext cx="866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46600" y="2955960"/>
            <a:ext cx="341280" cy="212760"/>
          </a:xfrm>
          <a:custGeom>
            <a:avLst/>
            <a:gdLst/>
            <a:ahLst/>
            <a:rect l="l" t="t" r="r" b="b"/>
            <a:pathLst>
              <a:path w="215" h="134">
                <a:moveTo>
                  <a:pt x="108" y="0"/>
                </a:moveTo>
                <a:lnTo>
                  <a:pt x="215" y="67"/>
                </a:lnTo>
                <a:lnTo>
                  <a:pt x="108" y="134"/>
                </a:lnTo>
                <a:lnTo>
                  <a:pt x="0" y="67"/>
                </a:lnTo>
                <a:lnTo>
                  <a:pt x="10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46600" y="2955960"/>
            <a:ext cx="341280" cy="212760"/>
          </a:xfrm>
          <a:custGeom>
            <a:avLst/>
            <a:gdLst/>
            <a:ahLst/>
            <a:rect l="l" t="t" r="r" b="b"/>
            <a:pathLst>
              <a:path w="215" h="134">
                <a:moveTo>
                  <a:pt x="108" y="0"/>
                </a:moveTo>
                <a:lnTo>
                  <a:pt x="215" y="67"/>
                </a:lnTo>
                <a:lnTo>
                  <a:pt x="108" y="134"/>
                </a:lnTo>
                <a:lnTo>
                  <a:pt x="0" y="67"/>
                </a:lnTo>
                <a:lnTo>
                  <a:pt x="108" y="0"/>
                </a:lnTo>
                <a:close/>
              </a:path>
            </a:pathLst>
          </a:custGeom>
          <a:solidFill>
            <a:srgbClr val="000000"/>
          </a:solidFill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2362320" y="3962520"/>
            <a:ext cx="5562360" cy="139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DF4F-F735-4D4E-8D93-A73531DD4E4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ggregation hierarch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599800" y="2994120"/>
            <a:ext cx="9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485840" y="2994120"/>
            <a:ext cx="9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991040" y="2486160"/>
            <a:ext cx="289080" cy="419040"/>
          </a:xfrm>
          <a:custGeom>
            <a:avLst/>
            <a:gdLst/>
            <a:ahLst/>
            <a:rect l="l" t="t" r="r" b="b"/>
            <a:pathLst>
              <a:path w="182" h="264">
                <a:moveTo>
                  <a:pt x="182" y="132"/>
                </a:moveTo>
                <a:lnTo>
                  <a:pt x="83" y="264"/>
                </a:lnTo>
                <a:lnTo>
                  <a:pt x="0" y="132"/>
                </a:lnTo>
                <a:lnTo>
                  <a:pt x="83" y="0"/>
                </a:lnTo>
                <a:lnTo>
                  <a:pt x="182" y="1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991040" y="2486160"/>
            <a:ext cx="289080" cy="419040"/>
          </a:xfrm>
          <a:custGeom>
            <a:avLst/>
            <a:gdLst/>
            <a:ahLst/>
            <a:rect l="l" t="t" r="r" b="b"/>
            <a:pathLst>
              <a:path w="182" h="264">
                <a:moveTo>
                  <a:pt x="182" y="132"/>
                </a:moveTo>
                <a:lnTo>
                  <a:pt x="83" y="264"/>
                </a:lnTo>
                <a:lnTo>
                  <a:pt x="0" y="132"/>
                </a:lnTo>
                <a:lnTo>
                  <a:pt x="83" y="0"/>
                </a:lnTo>
                <a:lnTo>
                  <a:pt x="182" y="132"/>
                </a:lnTo>
                <a:close/>
              </a:path>
            </a:pathLst>
          </a:custGeom>
          <a:solidFill>
            <a:srgbClr val="ffffff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629160" y="2990880"/>
            <a:ext cx="371952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062200" y="4618080"/>
            <a:ext cx="9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203960" y="4838760"/>
            <a:ext cx="1546200" cy="760320"/>
          </a:xfrm>
          <a:prstGeom prst="rect">
            <a:avLst/>
          </a:pr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610400" y="4930920"/>
            <a:ext cx="785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100" spc="-1" strike="noStrike">
                <a:solidFill>
                  <a:srgbClr val="000000"/>
                </a:solidFill>
                <a:latin typeface="Arial"/>
              </a:rPr>
              <a:t>Whee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003640" y="4838760"/>
            <a:ext cx="1887840" cy="760320"/>
          </a:xfrm>
          <a:prstGeom prst="rect">
            <a:avLst/>
          </a:pr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095080" y="4930920"/>
            <a:ext cx="1735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1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44960" y="4838760"/>
            <a:ext cx="1546200" cy="760320"/>
          </a:xfrm>
          <a:prstGeom prst="rect">
            <a:avLst/>
          </a:pr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98840" y="4930920"/>
            <a:ext cx="890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1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231920" y="4838760"/>
            <a:ext cx="1546200" cy="760320"/>
          </a:xfrm>
          <a:prstGeom prst="rect">
            <a:avLst/>
          </a:pr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611720" y="4930920"/>
            <a:ext cx="801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1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602400" y="3243240"/>
            <a:ext cx="1546200" cy="760320"/>
          </a:xfrm>
          <a:prstGeom prst="rect">
            <a:avLst/>
          </a:pr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142040" y="3362400"/>
            <a:ext cx="62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100" spc="-1" strike="noStrike">
                <a:solidFill>
                  <a:srgbClr val="000000"/>
                </a:solidFill>
                <a:latin typeface="Arial"/>
              </a:rPr>
              <a:t>Do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716360" y="3243240"/>
            <a:ext cx="1546200" cy="760320"/>
          </a:xfrm>
          <a:prstGeom prst="rect">
            <a:avLst/>
          </a:pr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808520" y="3362400"/>
            <a:ext cx="1378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100" spc="-1" strike="noStrike">
                <a:solidFill>
                  <a:srgbClr val="000000"/>
                </a:solidFill>
                <a:latin typeface="Arial"/>
              </a:rPr>
              <a:t>BodyPane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855880" y="3243240"/>
            <a:ext cx="1546200" cy="760320"/>
          </a:xfrm>
          <a:prstGeom prst="rect">
            <a:avLst/>
          </a:pr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10840" y="3362400"/>
            <a:ext cx="1021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100" spc="-1" strike="noStrike">
                <a:solidFill>
                  <a:srgbClr val="000000"/>
                </a:solidFill>
                <a:latin typeface="Arial"/>
              </a:rPr>
              <a:t>Chass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27640" y="1728720"/>
            <a:ext cx="1546200" cy="760320"/>
          </a:xfrm>
          <a:prstGeom prst="rect">
            <a:avLst/>
          </a:pr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80800" y="1847880"/>
            <a:ext cx="934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1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419640" y="4016520"/>
            <a:ext cx="288720" cy="393480"/>
          </a:xfrm>
          <a:custGeom>
            <a:avLst/>
            <a:gdLst/>
            <a:ahLst/>
            <a:rect l="l" t="t" r="r" b="b"/>
            <a:pathLst>
              <a:path w="182" h="248">
                <a:moveTo>
                  <a:pt x="182" y="132"/>
                </a:moveTo>
                <a:lnTo>
                  <a:pt x="83" y="248"/>
                </a:lnTo>
                <a:lnTo>
                  <a:pt x="0" y="132"/>
                </a:lnTo>
                <a:lnTo>
                  <a:pt x="83" y="0"/>
                </a:lnTo>
                <a:lnTo>
                  <a:pt x="182" y="1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419640" y="4016520"/>
            <a:ext cx="288720" cy="393480"/>
          </a:xfrm>
          <a:custGeom>
            <a:avLst/>
            <a:gdLst/>
            <a:ahLst/>
            <a:rect l="l" t="t" r="r" b="b"/>
            <a:pathLst>
              <a:path w="182" h="248">
                <a:moveTo>
                  <a:pt x="182" y="132"/>
                </a:moveTo>
                <a:lnTo>
                  <a:pt x="83" y="248"/>
                </a:lnTo>
                <a:lnTo>
                  <a:pt x="0" y="132"/>
                </a:lnTo>
                <a:lnTo>
                  <a:pt x="83" y="0"/>
                </a:lnTo>
                <a:lnTo>
                  <a:pt x="182" y="132"/>
                </a:lnTo>
                <a:close/>
              </a:path>
            </a:pathLst>
          </a:custGeom>
          <a:solidFill>
            <a:srgbClr val="ffffff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979640" y="4567320"/>
            <a:ext cx="597204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629160" y="3006720"/>
            <a:ext cx="1440" cy="23652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462640" y="3006720"/>
            <a:ext cx="1440" cy="23652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348680" y="3006720"/>
            <a:ext cx="1440" cy="23652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979640" y="4567320"/>
            <a:ext cx="1440" cy="26172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38680" y="4592520"/>
            <a:ext cx="1440" cy="23652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908680" y="4592520"/>
            <a:ext cx="1440" cy="23652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951680" y="4592520"/>
            <a:ext cx="1800" cy="23652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5129280" y="2877840"/>
            <a:ext cx="1440" cy="10476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3552840" y="4416480"/>
            <a:ext cx="1440" cy="13176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7F84-5066-4394-BD32-3FDB80474AA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a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chanism where an operation in an aggregate is implemented by having the aggregate perform that operation on its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same time, properties of the parts are often propagated back to the aggreg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agation is to aggregation as inheritance is to generaliz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jor difference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eritance is an implicit 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agation has to be programmed when requi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3048120" y="5354640"/>
            <a:ext cx="5000400" cy="66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B5FF-0A61-4855-9EFF-845A60689C2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ML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diagra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classes and their relationship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on diagra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 the behaviour of systems in terms of how objects interact with each o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diagrams and activity diagra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 how systems behave internal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and deployment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 how the various components of systems are arranged logically and physical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054E-490D-4786-B503-38F0C7AEAC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terfa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terface describes a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ion of the visible behaviour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 set of objec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similar to a class, except it lacks instance variables and implemented 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478240" y="3227400"/>
            <a:ext cx="1081080" cy="106344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487600" y="3776760"/>
            <a:ext cx="10620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583720" y="3273480"/>
            <a:ext cx="869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300" spc="-1" strike="noStrike">
                <a:solidFill>
                  <a:srgbClr val="000000"/>
                </a:solidFill>
                <a:latin typeface="Arial"/>
              </a:rPr>
              <a:t>«interface»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790360" y="3471840"/>
            <a:ext cx="654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Cash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657880" y="3813120"/>
            <a:ext cx="649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withdra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671920" y="4029120"/>
            <a:ext cx="531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deposi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46320" y="476568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63960" y="4765680"/>
            <a:ext cx="1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17960" y="4765680"/>
            <a:ext cx="1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135240" y="476568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89240" y="476568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206880" y="4765680"/>
            <a:ext cx="1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60880" y="4765680"/>
            <a:ext cx="1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279600" y="476568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33600" y="476568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351240" y="4765680"/>
            <a:ext cx="1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405240" y="4765680"/>
            <a:ext cx="1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422520" y="476568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476520" y="476568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95600" y="476568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49600" y="476568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567240" y="4765680"/>
            <a:ext cx="1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21240" y="4765680"/>
            <a:ext cx="1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638520" y="4765680"/>
            <a:ext cx="1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692520" y="4765680"/>
            <a:ext cx="1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711600" y="4765680"/>
            <a:ext cx="1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765600" y="4765680"/>
            <a:ext cx="1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782880" y="476568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6320" y="429912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6320" y="431640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46320" y="437040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46320" y="4387680"/>
            <a:ext cx="18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046320" y="4441680"/>
            <a:ext cx="18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046320" y="4460760"/>
            <a:ext cx="18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046320" y="4514760"/>
            <a:ext cx="18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046320" y="453240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046320" y="458640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46320" y="4603680"/>
            <a:ext cx="18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046320" y="4657680"/>
            <a:ext cx="18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046320" y="467532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46320" y="472932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046320" y="4748040"/>
            <a:ext cx="18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901960" y="4280040"/>
            <a:ext cx="270000" cy="215640"/>
          </a:xfrm>
          <a:custGeom>
            <a:avLst/>
            <a:gdLst/>
            <a:ahLst/>
            <a:rect l="l" t="t" r="r" b="b"/>
            <a:pathLst>
              <a:path w="170" h="136">
                <a:moveTo>
                  <a:pt x="91" y="0"/>
                </a:moveTo>
                <a:lnTo>
                  <a:pt x="170" y="136"/>
                </a:lnTo>
                <a:lnTo>
                  <a:pt x="0" y="136"/>
                </a:lnTo>
                <a:lnTo>
                  <a:pt x="91" y="0"/>
                </a:lnTo>
                <a:close/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163600" y="476568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182680" y="476568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36680" y="476568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254320" y="4765680"/>
            <a:ext cx="1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308320" y="4765680"/>
            <a:ext cx="1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325600" y="476568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379600" y="476568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398680" y="476568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452680" y="4765680"/>
            <a:ext cx="1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470320" y="4765680"/>
            <a:ext cx="1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523960" y="476568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541600" y="4765680"/>
            <a:ext cx="1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595600" y="4765680"/>
            <a:ext cx="1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614680" y="4765680"/>
            <a:ext cx="1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668680" y="4765680"/>
            <a:ext cx="1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685960" y="476568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739960" y="476568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57600" y="4765680"/>
            <a:ext cx="1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811600" y="4765680"/>
            <a:ext cx="1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30680" y="4765680"/>
            <a:ext cx="1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884320" y="476568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01960" y="4765680"/>
            <a:ext cx="1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955960" y="4765680"/>
            <a:ext cx="1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973240" y="476568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027240" y="476568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046320" y="429912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046320" y="431640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046320" y="437040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046320" y="4387680"/>
            <a:ext cx="18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046320" y="4441680"/>
            <a:ext cx="18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046320" y="4460760"/>
            <a:ext cx="18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46320" y="4514760"/>
            <a:ext cx="18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046320" y="453240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046320" y="458640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046320" y="4603680"/>
            <a:ext cx="18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6320" y="4729320"/>
            <a:ext cx="1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046320" y="4748040"/>
            <a:ext cx="18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901960" y="4280040"/>
            <a:ext cx="270000" cy="215640"/>
          </a:xfrm>
          <a:custGeom>
            <a:avLst/>
            <a:gdLst/>
            <a:ahLst/>
            <a:rect l="l" t="t" r="r" b="b"/>
            <a:pathLst>
              <a:path w="170" h="136">
                <a:moveTo>
                  <a:pt x="91" y="0"/>
                </a:moveTo>
                <a:lnTo>
                  <a:pt x="170" y="136"/>
                </a:lnTo>
                <a:lnTo>
                  <a:pt x="0" y="136"/>
                </a:lnTo>
                <a:lnTo>
                  <a:pt x="9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901960" y="4280040"/>
            <a:ext cx="270000" cy="215640"/>
          </a:xfrm>
          <a:custGeom>
            <a:avLst/>
            <a:gdLst/>
            <a:ahLst/>
            <a:rect l="l" t="t" r="r" b="b"/>
            <a:pathLst>
              <a:path w="170" h="136">
                <a:moveTo>
                  <a:pt x="91" y="0"/>
                </a:moveTo>
                <a:lnTo>
                  <a:pt x="170" y="136"/>
                </a:lnTo>
                <a:lnTo>
                  <a:pt x="0" y="136"/>
                </a:lnTo>
                <a:lnTo>
                  <a:pt x="91" y="0"/>
                </a:lnTo>
                <a:close/>
              </a:path>
            </a:pathLst>
          </a:custGeom>
          <a:solidFill>
            <a:srgbClr val="fffff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359240" y="3867120"/>
            <a:ext cx="1800" cy="6285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214880" y="3848040"/>
            <a:ext cx="269640" cy="216000"/>
          </a:xfrm>
          <a:custGeom>
            <a:avLst/>
            <a:gdLst/>
            <a:ahLst/>
            <a:rect l="l" t="t" r="r" b="b"/>
            <a:pathLst>
              <a:path w="170" h="136">
                <a:moveTo>
                  <a:pt x="91" y="0"/>
                </a:moveTo>
                <a:lnTo>
                  <a:pt x="170" y="136"/>
                </a:lnTo>
                <a:lnTo>
                  <a:pt x="0" y="136"/>
                </a:lnTo>
                <a:lnTo>
                  <a:pt x="9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214880" y="3848040"/>
            <a:ext cx="269640" cy="216000"/>
          </a:xfrm>
          <a:custGeom>
            <a:avLst/>
            <a:gdLst/>
            <a:ahLst/>
            <a:rect l="l" t="t" r="r" b="b"/>
            <a:pathLst>
              <a:path w="170" h="136">
                <a:moveTo>
                  <a:pt x="91" y="0"/>
                </a:moveTo>
                <a:lnTo>
                  <a:pt x="170" y="136"/>
                </a:lnTo>
                <a:lnTo>
                  <a:pt x="0" y="136"/>
                </a:lnTo>
                <a:lnTo>
                  <a:pt x="91" y="0"/>
                </a:lnTo>
                <a:close/>
              </a:path>
            </a:pathLst>
          </a:custGeom>
          <a:solidFill>
            <a:srgbClr val="fffff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606680" y="3867120"/>
            <a:ext cx="1440" cy="6285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461960" y="3848040"/>
            <a:ext cx="270000" cy="216000"/>
          </a:xfrm>
          <a:custGeom>
            <a:avLst/>
            <a:gdLst/>
            <a:ahLst/>
            <a:rect l="l" t="t" r="r" b="b"/>
            <a:pathLst>
              <a:path w="170" h="136">
                <a:moveTo>
                  <a:pt x="91" y="0"/>
                </a:moveTo>
                <a:lnTo>
                  <a:pt x="170" y="136"/>
                </a:lnTo>
                <a:lnTo>
                  <a:pt x="0" y="136"/>
                </a:lnTo>
                <a:lnTo>
                  <a:pt x="9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461960" y="3848040"/>
            <a:ext cx="270000" cy="216000"/>
          </a:xfrm>
          <a:custGeom>
            <a:avLst/>
            <a:gdLst/>
            <a:ahLst/>
            <a:rect l="l" t="t" r="r" b="b"/>
            <a:pathLst>
              <a:path w="170" h="136">
                <a:moveTo>
                  <a:pt x="91" y="0"/>
                </a:moveTo>
                <a:lnTo>
                  <a:pt x="170" y="136"/>
                </a:lnTo>
                <a:lnTo>
                  <a:pt x="0" y="136"/>
                </a:lnTo>
                <a:lnTo>
                  <a:pt x="91" y="0"/>
                </a:lnTo>
                <a:close/>
              </a:path>
            </a:pathLst>
          </a:custGeom>
          <a:solidFill>
            <a:srgbClr val="fffff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827520" y="3325680"/>
            <a:ext cx="1063440" cy="52416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996720" y="3390840"/>
            <a:ext cx="71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827520" y="4503600"/>
            <a:ext cx="1063440" cy="52416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255560" y="4568760"/>
            <a:ext cx="38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092240" y="4503600"/>
            <a:ext cx="1063440" cy="52416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302120" y="4568760"/>
            <a:ext cx="84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074600" y="3335400"/>
            <a:ext cx="1063800" cy="52380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402920" y="3400560"/>
            <a:ext cx="60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064360" y="3867120"/>
            <a:ext cx="1800" cy="6285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920000" y="3848040"/>
            <a:ext cx="270000" cy="216000"/>
          </a:xfrm>
          <a:custGeom>
            <a:avLst/>
            <a:gdLst/>
            <a:ahLst/>
            <a:rect l="l" t="t" r="r" b="b"/>
            <a:pathLst>
              <a:path w="170" h="136">
                <a:moveTo>
                  <a:pt x="91" y="0"/>
                </a:moveTo>
                <a:lnTo>
                  <a:pt x="170" y="136"/>
                </a:lnTo>
                <a:lnTo>
                  <a:pt x="0" y="136"/>
                </a:lnTo>
                <a:lnTo>
                  <a:pt x="9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920000" y="3848040"/>
            <a:ext cx="270000" cy="216000"/>
          </a:xfrm>
          <a:custGeom>
            <a:avLst/>
            <a:gdLst/>
            <a:ahLst/>
            <a:rect l="l" t="t" r="r" b="b"/>
            <a:pathLst>
              <a:path w="170" h="136">
                <a:moveTo>
                  <a:pt x="91" y="0"/>
                </a:moveTo>
                <a:lnTo>
                  <a:pt x="170" y="136"/>
                </a:lnTo>
                <a:lnTo>
                  <a:pt x="0" y="136"/>
                </a:lnTo>
                <a:lnTo>
                  <a:pt x="91" y="0"/>
                </a:lnTo>
                <a:close/>
              </a:path>
            </a:pathLst>
          </a:custGeom>
          <a:solidFill>
            <a:srgbClr val="fffff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211800" y="3867120"/>
            <a:ext cx="1800" cy="6285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67440" y="3848040"/>
            <a:ext cx="270000" cy="216000"/>
          </a:xfrm>
          <a:custGeom>
            <a:avLst/>
            <a:gdLst/>
            <a:ahLst/>
            <a:rect l="l" t="t" r="r" b="b"/>
            <a:pathLst>
              <a:path w="170" h="136">
                <a:moveTo>
                  <a:pt x="91" y="0"/>
                </a:moveTo>
                <a:lnTo>
                  <a:pt x="170" y="136"/>
                </a:lnTo>
                <a:lnTo>
                  <a:pt x="0" y="136"/>
                </a:lnTo>
                <a:lnTo>
                  <a:pt x="9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67440" y="3848040"/>
            <a:ext cx="270000" cy="216000"/>
          </a:xfrm>
          <a:custGeom>
            <a:avLst/>
            <a:gdLst/>
            <a:ahLst/>
            <a:rect l="l" t="t" r="r" b="b"/>
            <a:pathLst>
              <a:path w="170" h="136">
                <a:moveTo>
                  <a:pt x="91" y="0"/>
                </a:moveTo>
                <a:lnTo>
                  <a:pt x="170" y="136"/>
                </a:lnTo>
                <a:lnTo>
                  <a:pt x="0" y="136"/>
                </a:lnTo>
                <a:lnTo>
                  <a:pt x="91" y="0"/>
                </a:lnTo>
                <a:close/>
              </a:path>
            </a:pathLst>
          </a:custGeom>
          <a:solidFill>
            <a:srgbClr val="fffff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785000" y="3325680"/>
            <a:ext cx="1063800" cy="52416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954560" y="3390840"/>
            <a:ext cx="71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785000" y="4503600"/>
            <a:ext cx="1063800" cy="52416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213400" y="4568760"/>
            <a:ext cx="38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950080" y="4503600"/>
            <a:ext cx="1063440" cy="52416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159960" y="4568760"/>
            <a:ext cx="84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932440" y="3325680"/>
            <a:ext cx="1063800" cy="52416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156720" y="3390840"/>
            <a:ext cx="60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674760" y="3902040"/>
            <a:ext cx="60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300" spc="-1" strike="noStrike">
                <a:solidFill>
                  <a:srgbClr val="000000"/>
                </a:solidFill>
                <a:latin typeface="Arial"/>
              </a:rPr>
              <a:t>Cashi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6913440" y="4299120"/>
            <a:ext cx="1800" cy="1792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813720" y="4108320"/>
            <a:ext cx="199800" cy="200160"/>
          </a:xfrm>
          <a:prstGeom prst="ellipse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490960" y="3902040"/>
            <a:ext cx="60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300" spc="-1" strike="noStrike">
                <a:solidFill>
                  <a:srgbClr val="000000"/>
                </a:solidFill>
                <a:latin typeface="Arial"/>
              </a:rPr>
              <a:t>Cashi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8729640" y="4299120"/>
            <a:ext cx="1440" cy="1792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629560" y="4108320"/>
            <a:ext cx="200160" cy="200160"/>
          </a:xfrm>
          <a:prstGeom prst="ellipse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77CF-7A1E-4EE3-B827-4B3CBC21046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otes and descriptive t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ptive text and other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ed your diagrams in a larger docu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can explain aspects of the system using any notation you 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light and expand on important features, and give rati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ote is a small block of text embedde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UML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acts like a comment in a programming langu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4AAE-AEB0-4AAE-BBB9-1324C5124B3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bject Constraint Language (OCL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L is a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atio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ed to formally specify constraints in software mod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CL expression simply specifies a logical fact (a constraint) about the system that must remain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straint cannot have any side-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annot compute a non-Boolean result nor modify any da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L statements in class diagrams can specify what the values of attributes and associations must 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C171-A7D3-4DB5-AB6E-EF24EAC7649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CL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L statements can be built from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s to role names, association names, attributes and the results of oper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ogical values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u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cal operators such as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g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t equa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values such as: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‘a string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s and real numb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ithmetic operations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A415-BA7C-415D-A126-387D6A7B7A8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n example: constraints on Polyg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699000" y="2454120"/>
            <a:ext cx="1320840" cy="363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478640" y="2789280"/>
            <a:ext cx="1397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802680" y="2502000"/>
            <a:ext cx="114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LinearShap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530120" y="2847960"/>
            <a:ext cx="126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startPoint: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161480" y="2617920"/>
            <a:ext cx="27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1..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010120" y="2617920"/>
            <a:ext cx="2449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106760" y="24066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981160" y="3228840"/>
            <a:ext cx="19512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976560" y="3228840"/>
            <a:ext cx="1800" cy="24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913280" y="3822840"/>
            <a:ext cx="287280" cy="230040"/>
          </a:xfrm>
          <a:custGeom>
            <a:avLst/>
            <a:gdLst/>
            <a:ahLst/>
            <a:rect l="l" t="t" r="r" b="b"/>
            <a:pathLst>
              <a:path w="181" h="145">
                <a:moveTo>
                  <a:pt x="97" y="0"/>
                </a:moveTo>
                <a:lnTo>
                  <a:pt x="181" y="145"/>
                </a:lnTo>
                <a:lnTo>
                  <a:pt x="0" y="145"/>
                </a:lnTo>
                <a:lnTo>
                  <a:pt x="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13280" y="3822840"/>
            <a:ext cx="287280" cy="230040"/>
          </a:xfrm>
          <a:custGeom>
            <a:avLst/>
            <a:gdLst/>
            <a:ahLst/>
            <a:rect l="l" t="t" r="r" b="b"/>
            <a:pathLst>
              <a:path w="181" h="145">
                <a:moveTo>
                  <a:pt x="97" y="0"/>
                </a:moveTo>
                <a:lnTo>
                  <a:pt x="181" y="145"/>
                </a:lnTo>
                <a:lnTo>
                  <a:pt x="0" y="145"/>
                </a:lnTo>
                <a:lnTo>
                  <a:pt x="97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981160" y="3228840"/>
            <a:ext cx="1800" cy="24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67360" y="4071960"/>
            <a:ext cx="1440" cy="40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469280" y="2454120"/>
            <a:ext cx="1415880" cy="1109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554240" y="2502000"/>
            <a:ext cx="1197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LineSeg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03600" y="3487680"/>
            <a:ext cx="650880" cy="59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769840" y="3516480"/>
            <a:ext cx="413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Pat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660840" y="3487680"/>
            <a:ext cx="593640" cy="344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745800" y="3535200"/>
            <a:ext cx="39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618080" y="3487680"/>
            <a:ext cx="955800" cy="344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683960" y="3535200"/>
            <a:ext cx="75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Polyg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578480" y="4483080"/>
            <a:ext cx="1703160" cy="344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664880" y="4511520"/>
            <a:ext cx="146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RegularPolyg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531560" y="3038400"/>
            <a:ext cx="121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endPoint: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474680" y="3575160"/>
            <a:ext cx="161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{startPoint &lt;&gt; endPoint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00760" y="2387520"/>
            <a:ext cx="628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{ordered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494520" y="3862440"/>
            <a:ext cx="102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{edge-&gt;size=1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483160" y="4836960"/>
            <a:ext cx="13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{edge-&gt;forAll(e1,e2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481720" y="5010120"/>
            <a:ext cx="162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1.length = e2.length)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48280" y="2808360"/>
            <a:ext cx="287280" cy="230040"/>
          </a:xfrm>
          <a:custGeom>
            <a:avLst/>
            <a:gdLst/>
            <a:ahLst/>
            <a:rect l="l" t="t" r="r" b="b"/>
            <a:pathLst>
              <a:path w="181" h="145">
                <a:moveTo>
                  <a:pt x="97" y="0"/>
                </a:moveTo>
                <a:lnTo>
                  <a:pt x="181" y="145"/>
                </a:lnTo>
                <a:lnTo>
                  <a:pt x="0" y="145"/>
                </a:lnTo>
                <a:lnTo>
                  <a:pt x="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148280" y="2808360"/>
            <a:ext cx="287280" cy="230040"/>
          </a:xfrm>
          <a:custGeom>
            <a:avLst/>
            <a:gdLst/>
            <a:ahLst/>
            <a:rect l="l" t="t" r="r" b="b"/>
            <a:pathLst>
              <a:path w="181" h="145">
                <a:moveTo>
                  <a:pt x="97" y="0"/>
                </a:moveTo>
                <a:lnTo>
                  <a:pt x="181" y="145"/>
                </a:lnTo>
                <a:lnTo>
                  <a:pt x="0" y="145"/>
                </a:lnTo>
                <a:lnTo>
                  <a:pt x="97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302000" y="3038400"/>
            <a:ext cx="1800" cy="190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549600" y="1679400"/>
            <a:ext cx="13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{edge-&gt;forAll(e1,e2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630240" y="1852560"/>
            <a:ext cx="68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1 &lt;&gt; e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548160" y="2023920"/>
            <a:ext cx="2567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mplies e1.startPoint &lt;&gt; e2.start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44560" y="2197080"/>
            <a:ext cx="2367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nd e1.endPoint &lt;&gt; e2.endpoint)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478640" y="3306600"/>
            <a:ext cx="13971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531560" y="3306600"/>
            <a:ext cx="826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length : 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693880" y="3803760"/>
            <a:ext cx="631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749320" y="3824280"/>
            <a:ext cx="48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596680" y="4091040"/>
            <a:ext cx="642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{length 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594160" y="4264200"/>
            <a:ext cx="127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dge.length-&gt;sum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32360" y="3228840"/>
            <a:ext cx="1440" cy="24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236200" y="3843360"/>
            <a:ext cx="159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{edge-&gt;first.startPoint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233320" y="4014720"/>
            <a:ext cx="1501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dge-&gt;last.endPoint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143000" y="2205000"/>
            <a:ext cx="2392200" cy="843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171800" y="2197080"/>
            <a:ext cx="226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a LinearShape is any shap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168200" y="2387520"/>
            <a:ext cx="243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that can be constructed of li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171080" y="2579760"/>
            <a:ext cx="2128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segments (in contrast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169640" y="2770200"/>
            <a:ext cx="2239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shapes that contain curve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3371760" y="2195640"/>
            <a:ext cx="154080" cy="15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4158-2781-4335-AF29-703D5F6298EC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5.7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tailed Example: A Class Diagram for Genealo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066320" y="46479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erson must have two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riages not properly accounte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1600200" y="1054080"/>
            <a:ext cx="4724280" cy="377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6C09-E175-4EE6-AEF7-8D38EB54055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Genealogy example: Possible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147760" y="1619280"/>
            <a:ext cx="1184400" cy="163044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157480" y="1903320"/>
            <a:ext cx="11653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488680" y="1662120"/>
            <a:ext cx="60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368080" y="1989000"/>
            <a:ext cx="38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291400" y="2400480"/>
            <a:ext cx="84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laceOfBi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291400" y="2606760"/>
            <a:ext cx="77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ateOfBi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290320" y="2811600"/>
            <a:ext cx="93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laceOf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290320" y="3017880"/>
            <a:ext cx="86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ateOf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95560" y="3900600"/>
            <a:ext cx="1374840" cy="104760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104920" y="4218120"/>
            <a:ext cx="13557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582640" y="3978360"/>
            <a:ext cx="50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39560" y="4303800"/>
            <a:ext cx="1130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laceOfMarri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239560" y="4510080"/>
            <a:ext cx="1063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ateOfMarri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40280" y="4716360"/>
            <a:ext cx="97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ateOfDiv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678200" y="2982960"/>
            <a:ext cx="1800" cy="13888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525480" y="4373640"/>
            <a:ext cx="46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par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71920" y="41497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402720" y="2778120"/>
            <a:ext cx="287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395880" y="300024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032280" y="3274920"/>
            <a:ext cx="85680" cy="22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070440" y="327492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032280" y="3274920"/>
            <a:ext cx="85680" cy="22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070440" y="327492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032280" y="3274920"/>
            <a:ext cx="85680" cy="22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070440" y="327492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032280" y="3274920"/>
            <a:ext cx="85680" cy="22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070440" y="327492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032280" y="3274920"/>
            <a:ext cx="85680" cy="22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340080" y="2982960"/>
            <a:ext cx="13381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478320" y="4371840"/>
            <a:ext cx="11998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3186000" y="3257640"/>
            <a:ext cx="1800" cy="635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274920" y="367020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706840" y="3274920"/>
            <a:ext cx="445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97240" y="32749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0.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337480" y="2195640"/>
            <a:ext cx="23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521400" y="1638360"/>
            <a:ext cx="1184400" cy="144144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531120" y="1938240"/>
            <a:ext cx="11667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822000" y="1681200"/>
            <a:ext cx="60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665760" y="2008080"/>
            <a:ext cx="38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665040" y="2214720"/>
            <a:ext cx="84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laceOfBi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665040" y="2419200"/>
            <a:ext cx="77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ateOfBi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663960" y="2625840"/>
            <a:ext cx="93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laceOf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663960" y="2830680"/>
            <a:ext cx="86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ateOf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480000" y="4635360"/>
            <a:ext cx="1373400" cy="104796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488280" y="4952880"/>
            <a:ext cx="13554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933240" y="4695840"/>
            <a:ext cx="50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622560" y="5022720"/>
            <a:ext cx="1130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laceOfMarri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22560" y="5229360"/>
            <a:ext cx="1063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ateOfMarri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623280" y="5433840"/>
            <a:ext cx="97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ateOfDiv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9051840" y="2793960"/>
            <a:ext cx="1800" cy="23335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899120" y="5127480"/>
            <a:ext cx="46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par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945560" y="49039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776360" y="2589120"/>
            <a:ext cx="287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769160" y="279576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56560" y="4406760"/>
            <a:ext cx="291960" cy="22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302600" y="4011480"/>
            <a:ext cx="291960" cy="2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330320" y="4030560"/>
            <a:ext cx="287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062840" y="4011480"/>
            <a:ext cx="85680" cy="2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101000" y="401328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062840" y="4011480"/>
            <a:ext cx="85680" cy="2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101000" y="401328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062840" y="4011480"/>
            <a:ext cx="85680" cy="2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101000" y="401328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302600" y="4011480"/>
            <a:ext cx="291960" cy="2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524360" y="4013280"/>
            <a:ext cx="764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malePartn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062840" y="4011480"/>
            <a:ext cx="85680" cy="2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101000" y="401328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062840" y="4011480"/>
            <a:ext cx="85680" cy="2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242480" y="40132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931000" y="4011480"/>
            <a:ext cx="290520" cy="2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958720" y="4030560"/>
            <a:ext cx="287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931000" y="4011480"/>
            <a:ext cx="290520" cy="2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379640" y="441468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713720" y="2793960"/>
            <a:ext cx="13381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7868880" y="5127480"/>
            <a:ext cx="11826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6702480" y="3995640"/>
            <a:ext cx="1440" cy="6336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762240" y="441468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774400" y="4013280"/>
            <a:ext cx="881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femalePartn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7473960" y="3995640"/>
            <a:ext cx="1440" cy="6336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813720" y="40132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6598800" y="3446640"/>
            <a:ext cx="1063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680240" y="3446640"/>
            <a:ext cx="1800" cy="2221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027920" y="3070080"/>
            <a:ext cx="257040" cy="206640"/>
          </a:xfrm>
          <a:custGeom>
            <a:avLst/>
            <a:gdLst/>
            <a:ahLst/>
            <a:rect l="l" t="t" r="r" b="b"/>
            <a:pathLst>
              <a:path w="162" h="130">
                <a:moveTo>
                  <a:pt x="87" y="0"/>
                </a:moveTo>
                <a:lnTo>
                  <a:pt x="162" y="130"/>
                </a:lnTo>
                <a:lnTo>
                  <a:pt x="0" y="130"/>
                </a:lnTo>
                <a:lnTo>
                  <a:pt x="8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027920" y="3070080"/>
            <a:ext cx="257040" cy="206640"/>
          </a:xfrm>
          <a:custGeom>
            <a:avLst/>
            <a:gdLst/>
            <a:ahLst/>
            <a:rect l="l" t="t" r="r" b="b"/>
            <a:pathLst>
              <a:path w="162" h="130">
                <a:moveTo>
                  <a:pt x="87" y="0"/>
                </a:moveTo>
                <a:lnTo>
                  <a:pt x="162" y="130"/>
                </a:lnTo>
                <a:lnTo>
                  <a:pt x="0" y="130"/>
                </a:lnTo>
                <a:lnTo>
                  <a:pt x="87" y="0"/>
                </a:lnTo>
                <a:close/>
              </a:path>
            </a:pathLst>
          </a:custGeom>
          <a:solidFill>
            <a:srgbClr val="fffff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599160" y="3446640"/>
            <a:ext cx="1800" cy="2221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165800" y="3284640"/>
            <a:ext cx="1800" cy="153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972040" y="3676680"/>
            <a:ext cx="1185840" cy="31104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304320" y="3720960"/>
            <a:ext cx="64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Wo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224840" y="3676680"/>
            <a:ext cx="927000" cy="31104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571520" y="3720960"/>
            <a:ext cx="35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002240" y="3327480"/>
            <a:ext cx="1415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{partner-&gt;forAll(p1,p2 |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067760" y="3481560"/>
            <a:ext cx="634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p1 &lt;&gt; p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72000" y="3635280"/>
            <a:ext cx="1718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implies p1.sex &lt;&gt; p2.sex)}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3597-B3A1-4E44-9181-2CE618D8C70C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5.8 The Process of Developing  Class Diagr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create UML models at different stages and with different purposes and levels of detail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oratory domain mod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ed in domain analysis to learn about the dom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domain mod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s aspects of the domain represented by the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mod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s also classes used to build the user interface and system architec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FF57-9BFD-4661-901F-A071711CB1F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domain model vs System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domain mod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mits many classes that are needed to build a complet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ontain less than half the classes of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be developed to be used  independently of particular set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interface clas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tectural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plet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mod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clu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domai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interface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tectural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ty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558D-6C6A-40E8-9197-F8F16977D77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uggested sequence of activ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90360" y="11426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a first set of candidat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o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iz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the main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ibiliti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each 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de on specific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ra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 the entire proc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til the model is satisfa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or delete classes, associations, attributes, generalizations, responsibilities or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 design patterns (Chapter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be too disorganized. Don’t be too rigid eith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70E3-57EB-4B36-8434-20BABEA6A47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ML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has detaile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ant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ha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chanis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has an associated textual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Constraint Languag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OC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bjective of UML is to assist in software developm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not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olo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D6A2-D5C6-47D3-AFA8-4ED65784B5F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classes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developing a domain model you tend 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ov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you work on the user interface or the system architecture, you tend 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ed to solve a particular design probl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venting may also occur when creating a domain m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se should always be a conce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ila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9E3E-1FB0-407E-8BBD-E795FFD8C5E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 simple technique for discovering domain classe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 at a source material such as a description of requir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act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u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un phra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minate nouns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redund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in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vague or highly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needed in th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 attention to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s in a domain model that represen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user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other ac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0B01-3353-47FF-AD8A-79154E78FE3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ssociations and attribu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with classes you think are most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import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de on the clear and obvious data it must contain and its relationships to other clas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 outwards towards the classes that are less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adding many associations and attributes to a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ystem is simpler if it manipulates less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DDC6-FA45-462C-927A-16306B3B109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ips about identifying and specifying valid associ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ssociation should exist if a cla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onnected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related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part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as pa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member of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as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ther class in your 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 the multiplicity at both 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 it clea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37D3-AE69-4F6E-B8D3-3D871160012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s versus asso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mon mistake is to represen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if they were associ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936800" y="3105000"/>
            <a:ext cx="1440" cy="1013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699640" y="310500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1658880" y="2708280"/>
            <a:ext cx="1366920" cy="388800"/>
            <a:chOff x="1658880" y="2708280"/>
            <a:chExt cx="1366920" cy="388800"/>
          </a:xfrm>
        </p:grpSpPr>
        <p:sp>
          <p:nvSpPr>
            <p:cNvPr id="720" name=""/>
            <p:cNvSpPr/>
            <p:nvPr/>
          </p:nvSpPr>
          <p:spPr>
            <a:xfrm>
              <a:off x="1658880" y="2708280"/>
              <a:ext cx="1366920" cy="38880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03960" y="2784600"/>
              <a:ext cx="1079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300" spc="-1" strike="noStrike">
                  <a:solidFill>
                    <a:srgbClr val="000000"/>
                  </a:solidFill>
                  <a:latin typeface="Arial"/>
                </a:rPr>
                <a:t>LibraryPatr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2" name=""/>
          <p:cNvSpPr/>
          <p:nvPr/>
        </p:nvSpPr>
        <p:spPr>
          <a:xfrm>
            <a:off x="1478520" y="3494160"/>
            <a:ext cx="429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borro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4578480" y="3367080"/>
            <a:ext cx="1198440" cy="979560"/>
            <a:chOff x="4578480" y="3367080"/>
            <a:chExt cx="1198440" cy="979560"/>
          </a:xfrm>
        </p:grpSpPr>
        <p:sp>
          <p:nvSpPr>
            <p:cNvPr id="724" name=""/>
            <p:cNvSpPr/>
            <p:nvPr/>
          </p:nvSpPr>
          <p:spPr>
            <a:xfrm>
              <a:off x="4578480" y="3367080"/>
              <a:ext cx="1198440" cy="97956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586400" y="3679920"/>
              <a:ext cx="11649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29040" y="3425760"/>
              <a:ext cx="393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300" spc="-1" strike="noStrike">
                  <a:solidFill>
                    <a:srgbClr val="000000"/>
                  </a:solidFill>
                  <a:latin typeface="Arial"/>
                </a:rPr>
                <a:t>Loa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717080" y="3746520"/>
              <a:ext cx="960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Arial"/>
                </a:rPr>
                <a:t>borrowed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717800" y="3914640"/>
              <a:ext cx="57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Arial"/>
                </a:rPr>
                <a:t>due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717440" y="4083120"/>
              <a:ext cx="893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Arial"/>
                </a:rPr>
                <a:t>returned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1556640" y="4556160"/>
            <a:ext cx="2855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Bad, due to the use of associa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559520" y="4757760"/>
            <a:ext cx="122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that are 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152880" y="3257640"/>
            <a:ext cx="83880" cy="21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190320" y="325584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152880" y="3257640"/>
            <a:ext cx="83880" cy="21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90320" y="325584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52880" y="3257640"/>
            <a:ext cx="83880" cy="21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190320" y="325584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52880" y="3257640"/>
            <a:ext cx="83880" cy="21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190320" y="325584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152880" y="3257640"/>
            <a:ext cx="83880" cy="21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683800" y="396540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242440" y="3494160"/>
            <a:ext cx="36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1658880" y="4143240"/>
            <a:ext cx="1451160" cy="389160"/>
            <a:chOff x="1658880" y="4143240"/>
            <a:chExt cx="1451160" cy="389160"/>
          </a:xfrm>
        </p:grpSpPr>
        <p:sp>
          <p:nvSpPr>
            <p:cNvPr id="744" name=""/>
            <p:cNvSpPr/>
            <p:nvPr/>
          </p:nvSpPr>
          <p:spPr>
            <a:xfrm>
              <a:off x="1658880" y="4143240"/>
              <a:ext cx="1451160" cy="38916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822680" y="4202280"/>
              <a:ext cx="1134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300" spc="-1" strike="noStrike">
                  <a:solidFill>
                    <a:srgbClr val="000000"/>
                  </a:solidFill>
                  <a:latin typeface="Arial"/>
                </a:rPr>
                <a:t>CollectionIte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2612880" y="3105000"/>
            <a:ext cx="1800" cy="1013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025000" y="310500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009160" y="394812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6232680" y="3298680"/>
            <a:ext cx="1384200" cy="389160"/>
            <a:chOff x="6232680" y="3298680"/>
            <a:chExt cx="1384200" cy="389160"/>
          </a:xfrm>
        </p:grpSpPr>
        <p:sp>
          <p:nvSpPr>
            <p:cNvPr id="750" name=""/>
            <p:cNvSpPr/>
            <p:nvPr/>
          </p:nvSpPr>
          <p:spPr>
            <a:xfrm>
              <a:off x="6232680" y="3298680"/>
              <a:ext cx="1384200" cy="38916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377400" y="3359160"/>
              <a:ext cx="1079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300" spc="-1" strike="noStrike">
                  <a:solidFill>
                    <a:srgbClr val="000000"/>
                  </a:solidFill>
                  <a:latin typeface="Arial"/>
                </a:rPr>
                <a:t>LibraryPatr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6232680" y="3973680"/>
            <a:ext cx="1450800" cy="388800"/>
            <a:chOff x="6232680" y="3973680"/>
            <a:chExt cx="1450800" cy="388800"/>
          </a:xfrm>
        </p:grpSpPr>
        <p:sp>
          <p:nvSpPr>
            <p:cNvPr id="753" name=""/>
            <p:cNvSpPr/>
            <p:nvPr/>
          </p:nvSpPr>
          <p:spPr>
            <a:xfrm>
              <a:off x="6232680" y="3973680"/>
              <a:ext cx="1450800" cy="38880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411960" y="4033800"/>
              <a:ext cx="1134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300" spc="-1" strike="noStrike">
                  <a:solidFill>
                    <a:srgbClr val="000000"/>
                  </a:solidFill>
                  <a:latin typeface="Arial"/>
                </a:rPr>
                <a:t>CollectionIte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5769000" y="3443400"/>
            <a:ext cx="4381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769000" y="4118040"/>
            <a:ext cx="4381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839560" y="345924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839560" y="394812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600440" y="4352760"/>
            <a:ext cx="96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Better: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680440" y="4370400"/>
            <a:ext cx="73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Courier New"/>
              </a:rPr>
              <a:t>borr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265800" y="4352760"/>
            <a:ext cx="1622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operation creates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978680" y="4370400"/>
            <a:ext cx="488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Courier New"/>
              </a:rPr>
              <a:t>Lo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8355960" y="4352760"/>
            <a:ext cx="445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597560" y="4556160"/>
            <a:ext cx="29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021640" y="4573440"/>
            <a:ext cx="73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622480" y="4556160"/>
            <a:ext cx="152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operation set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985080" y="4573440"/>
            <a:ext cx="1463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Courier New"/>
              </a:rPr>
              <a:t>returned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8544240" y="45561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602600" y="4757760"/>
            <a:ext cx="727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attribu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1A4C-FFBF-465F-B08A-41021CEA65A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ttribu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 for information that must be maintained about each 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al nouns rejected as classes, may now become attribu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ttribute should generally contain a simple val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string,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0CDC-15AA-4164-BDCE-3441191D5AA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ips about identifying and specifying valid attribu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not good to have many duplicate attribut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 subset of a class’s attributes form a coherent group, then create a distinct class containing these attribu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1447920" y="2776680"/>
            <a:ext cx="7848360" cy="351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7E9C-64E9-4E45-845B-46B034DC5E7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n example (attributes and associ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137280" y="2400480"/>
            <a:ext cx="47304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10320" y="2400480"/>
            <a:ext cx="1440" cy="3538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6137280" y="2754360"/>
            <a:ext cx="47304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237000" y="211608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322680" y="2752560"/>
            <a:ext cx="999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superviso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327800" y="1798560"/>
            <a:ext cx="1652760" cy="115560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340760" y="2235240"/>
            <a:ext cx="162720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412400" y="1903320"/>
            <a:ext cx="1556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000000"/>
                </a:solidFill>
                <a:latin typeface="Arial"/>
              </a:rPr>
              <a:t>RegularFligh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584120" y="2352600"/>
            <a:ext cx="409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528680" y="2635200"/>
            <a:ext cx="1227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flightNumb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950080" y="3036960"/>
            <a:ext cx="1440" cy="9428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737320" y="306072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789160" y="306072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7373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78916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7373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78916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7373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78916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7373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78916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7373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78916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7373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78916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173240" y="1916280"/>
            <a:ext cx="1887480" cy="110952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566360" y="1974960"/>
            <a:ext cx="1220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000000"/>
                </a:solidFill>
                <a:latin typeface="Arial"/>
              </a:rPr>
              <a:t>Passeng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058840" y="3036960"/>
            <a:ext cx="1800" cy="8254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846440" y="355608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898280" y="355608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846440" y="355608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898280" y="355608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846440" y="355608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898280" y="355608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846440" y="355608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898280" y="355608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846440" y="355608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898280" y="355608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846440" y="355608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898280" y="355608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2953800" y="4357800"/>
            <a:ext cx="280692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124080" y="4051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124080" y="4051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124080" y="4051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124080" y="4051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124080" y="4051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124080" y="4051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388280" y="2965320"/>
            <a:ext cx="1440" cy="10144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1755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22772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1755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22772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1755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22772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1755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22772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1755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22772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1755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22772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772240" y="3990960"/>
            <a:ext cx="1698480" cy="87480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784840" y="4429080"/>
            <a:ext cx="167328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854680" y="4097160"/>
            <a:ext cx="1584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000000"/>
                </a:solidFill>
                <a:latin typeface="Arial"/>
              </a:rPr>
              <a:t>SpecificFligh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022800" y="454644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250880" y="216360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202280" y="2446200"/>
            <a:ext cx="1709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employeeNumb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049640" y="1727280"/>
            <a:ext cx="2076480" cy="129852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4062240" y="2139840"/>
            <a:ext cx="205272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565160" y="1762200"/>
            <a:ext cx="1139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203000" y="2706840"/>
            <a:ext cx="1121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jobFun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479600" y="3863880"/>
            <a:ext cx="1463760" cy="87480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492200" y="4300560"/>
            <a:ext cx="143820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751040" y="3970440"/>
            <a:ext cx="966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000000"/>
                </a:solidFill>
                <a:latin typeface="Arial"/>
              </a:rPr>
              <a:t>Book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680840" y="4417920"/>
            <a:ext cx="1178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seatNumb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422000" y="240048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420560" y="2682720"/>
            <a:ext cx="733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185840" y="2352600"/>
            <a:ext cx="183996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0698-6F42-41BE-9394-EF7359AC9E4A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generalizations and interfa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two ways to identify generalization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 together similar classes creating a new super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-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 for more general classes first, specialize them if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stead of a  superclass 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asses are very dissimilar except for having a few operations in comm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of the  classes already have their own superclas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implementations of the same class might be avail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510E-A629-40BE-B66B-E27899AD0B0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n example (generaliz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5992920" y="3249720"/>
            <a:ext cx="4460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438960" y="3249720"/>
            <a:ext cx="1440" cy="333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5992560" y="3583080"/>
            <a:ext cx="4460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152760" y="29606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168960" y="3583080"/>
            <a:ext cx="93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supervi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116840" y="2681280"/>
            <a:ext cx="1558800" cy="10908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128000" y="3094200"/>
            <a:ext cx="15364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193160" y="2782800"/>
            <a:ext cx="147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RegularF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7360200" y="3205080"/>
            <a:ext cx="38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307280" y="3471840"/>
            <a:ext cx="1151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flight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815080" y="3849840"/>
            <a:ext cx="1440" cy="890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614920" y="3871800"/>
            <a:ext cx="11124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663880" y="387360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614920" y="4451400"/>
            <a:ext cx="1112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663880" y="445140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614920" y="4451400"/>
            <a:ext cx="1112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663880" y="445140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614920" y="4451400"/>
            <a:ext cx="1112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663880" y="445140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614920" y="4451400"/>
            <a:ext cx="1112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663880" y="445140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614920" y="4451400"/>
            <a:ext cx="1112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663880" y="445140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614920" y="4451400"/>
            <a:ext cx="1112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663880" y="445140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306440" y="3193920"/>
            <a:ext cx="1781280" cy="644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384920" y="3294000"/>
            <a:ext cx="164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PassengerR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141640" y="3849840"/>
            <a:ext cx="1440" cy="779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941480" y="4340160"/>
            <a:ext cx="11124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990440" y="43401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941480" y="4340160"/>
            <a:ext cx="11124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990440" y="43401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941480" y="4340160"/>
            <a:ext cx="11124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990440" y="43401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941480" y="4340160"/>
            <a:ext cx="11124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990440" y="43401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941480" y="4340160"/>
            <a:ext cx="11124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990440" y="43401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41480" y="4340160"/>
            <a:ext cx="11124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990440" y="43401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2987640" y="5097600"/>
            <a:ext cx="26496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098880" y="4807080"/>
            <a:ext cx="11088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147840" y="48070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098880" y="4807080"/>
            <a:ext cx="11088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147840" y="48070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098880" y="4807080"/>
            <a:ext cx="11088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147840" y="48070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098880" y="4807080"/>
            <a:ext cx="11088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47840" y="48070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098880" y="4807080"/>
            <a:ext cx="11088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147840" y="48070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098880" y="4807080"/>
            <a:ext cx="11088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47840" y="48070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172280" y="3782880"/>
            <a:ext cx="1800" cy="957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972480" y="4451400"/>
            <a:ext cx="1108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021080" y="445140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972480" y="4451400"/>
            <a:ext cx="1108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021080" y="445140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972480" y="4451400"/>
            <a:ext cx="1108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021080" y="445140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972480" y="4451400"/>
            <a:ext cx="1108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021080" y="445140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972480" y="4451400"/>
            <a:ext cx="1108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021080" y="445140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972480" y="4451400"/>
            <a:ext cx="1108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021080" y="445140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648400" y="4751280"/>
            <a:ext cx="1601640" cy="824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659560" y="5164200"/>
            <a:ext cx="15793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724720" y="4853160"/>
            <a:ext cx="150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SpecificF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884920" y="527544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422600" y="1413000"/>
            <a:ext cx="1314720" cy="10904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433760" y="1824120"/>
            <a:ext cx="12924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759920" y="1512720"/>
            <a:ext cx="77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659840" y="193680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613040" y="2203560"/>
            <a:ext cx="88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id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3521160" y="1913040"/>
            <a:ext cx="8906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686400" y="16239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0.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686400" y="16239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0.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686400" y="16239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0.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686400" y="16239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0.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686400" y="16239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0.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686400" y="16239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0.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608200" y="2825640"/>
            <a:ext cx="25164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124600" y="2825640"/>
            <a:ext cx="1440" cy="179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608200" y="2247840"/>
            <a:ext cx="1800" cy="577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430360" y="2247840"/>
            <a:ext cx="335160" cy="266760"/>
          </a:xfrm>
          <a:custGeom>
            <a:avLst/>
            <a:gdLst/>
            <a:ahLst/>
            <a:rect l="l" t="t" r="r" b="b"/>
            <a:pathLst>
              <a:path w="211" h="168">
                <a:moveTo>
                  <a:pt x="112" y="0"/>
                </a:moveTo>
                <a:lnTo>
                  <a:pt x="211" y="168"/>
                </a:lnTo>
                <a:lnTo>
                  <a:pt x="0" y="168"/>
                </a:lnTo>
                <a:lnTo>
                  <a:pt x="1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430360" y="2247840"/>
            <a:ext cx="335160" cy="266760"/>
          </a:xfrm>
          <a:custGeom>
            <a:avLst/>
            <a:gdLst/>
            <a:ahLst/>
            <a:rect l="l" t="t" r="r" b="b"/>
            <a:pathLst>
              <a:path w="211" h="168">
                <a:moveTo>
                  <a:pt x="112" y="0"/>
                </a:moveTo>
                <a:lnTo>
                  <a:pt x="211" y="168"/>
                </a:lnTo>
                <a:lnTo>
                  <a:pt x="0" y="168"/>
                </a:lnTo>
                <a:lnTo>
                  <a:pt x="112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2563560" y="2825640"/>
            <a:ext cx="4428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563920" y="2825640"/>
            <a:ext cx="1440" cy="357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289400" y="3016080"/>
            <a:ext cx="1692360" cy="82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300560" y="3427560"/>
            <a:ext cx="16700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367160" y="3116160"/>
            <a:ext cx="157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EmployeeR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476960" y="3538440"/>
            <a:ext cx="105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job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595520" y="4640400"/>
            <a:ext cx="1380960" cy="8236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606680" y="5051520"/>
            <a:ext cx="13586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895040" y="4740120"/>
            <a:ext cx="91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Boo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786320" y="5164200"/>
            <a:ext cx="110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seat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130480" y="1590840"/>
            <a:ext cx="1379520" cy="6458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208240" y="1690560"/>
            <a:ext cx="127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PersonR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62DE-42F7-44A5-8B1D-05460B521734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at constitutes a good model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odel shoul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 standard no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understandable by clients and us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 software engineers to have insights about the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abs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s are us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help create desig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ermit analysis and review of those desig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the core documentation describing the system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180F-D7B6-46AE-8B34-15ACF6A4FCE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llocating responsibilities to clas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ibilit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something that the system is required to do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functional requirement must be attributed to one of the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the responsibilities of a given class should b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ly rela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 class has too many responsibilities, consid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lit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 into distinct clas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 class has no responsibilities attached to it, then it is probab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l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 responsibility cannot be attributed to any of the existing classes, then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hould be crea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termine responsibil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 use case analys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 for verbs and nouns describ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system descrip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EBD5-CF2B-41BA-862D-59197794287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ategories of responsi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and getting the values of attribu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initializing new insta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ing to and saving from persistent stor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roying insta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and deleting links of associ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ing, converting, transforming, transmitting or output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ing numerical resul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igating and search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specialized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91FD-8A57-4469-A61D-5CDFAFC629A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 (responsibilit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590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ing a new regular 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ing for a 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ying attributes of a 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ing a specific 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ing a passe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celing a boo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810480" y="3216240"/>
            <a:ext cx="379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189920" y="3216240"/>
            <a:ext cx="1440" cy="28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6810480" y="3502080"/>
            <a:ext cx="379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945480" y="296856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946920" y="3502080"/>
            <a:ext cx="825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supervi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765920" y="2732040"/>
            <a:ext cx="1324080" cy="932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775640" y="3083040"/>
            <a:ext cx="1305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831080" y="2816280"/>
            <a:ext cx="1229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RegularFligh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965360" y="3178080"/>
            <a:ext cx="337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923240" y="3406680"/>
            <a:ext cx="1011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flight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659640" y="3730680"/>
            <a:ext cx="1440" cy="76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489720" y="3749760"/>
            <a:ext cx="9360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529680" y="374796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489720" y="4243320"/>
            <a:ext cx="936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529680" y="424332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489720" y="4243320"/>
            <a:ext cx="936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529680" y="424332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489720" y="4243320"/>
            <a:ext cx="936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529680" y="424332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489720" y="4243320"/>
            <a:ext cx="936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529680" y="424332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489720" y="4243320"/>
            <a:ext cx="936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529680" y="424332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489720" y="4243320"/>
            <a:ext cx="936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529680" y="424332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828880" y="3168720"/>
            <a:ext cx="1513080" cy="552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894760" y="3254400"/>
            <a:ext cx="137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PassengerRo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538440" y="3730680"/>
            <a:ext cx="1800" cy="66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368520" y="4148280"/>
            <a:ext cx="9396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408480" y="414828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368520" y="4148280"/>
            <a:ext cx="9396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408480" y="414828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368520" y="4148280"/>
            <a:ext cx="9396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408480" y="414828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368520" y="4148280"/>
            <a:ext cx="9396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408480" y="414828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368520" y="4148280"/>
            <a:ext cx="9396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408480" y="414828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368520" y="4148280"/>
            <a:ext cx="9396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408480" y="414828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H="1">
            <a:off x="4257360" y="4794120"/>
            <a:ext cx="2251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391280" y="454824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391280" y="454824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391280" y="454824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391280" y="454824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391280" y="454824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391280" y="454824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813800" y="3673440"/>
            <a:ext cx="1440" cy="817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642080" y="4243320"/>
            <a:ext cx="954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682040" y="424332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642080" y="4243320"/>
            <a:ext cx="954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682040" y="424332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642080" y="4243320"/>
            <a:ext cx="954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682040" y="424332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642080" y="4243320"/>
            <a:ext cx="954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682040" y="424332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642080" y="4243320"/>
            <a:ext cx="954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682040" y="424332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642080" y="4243320"/>
            <a:ext cx="954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682040" y="424332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518160" y="4491000"/>
            <a:ext cx="1360440" cy="703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526080" y="4842000"/>
            <a:ext cx="1343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580440" y="4575240"/>
            <a:ext cx="1252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SpecificFligh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676920" y="493704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153280" y="2170080"/>
            <a:ext cx="1800" cy="552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983360" y="2475000"/>
            <a:ext cx="954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023320" y="24750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983360" y="2475000"/>
            <a:ext cx="954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023320" y="24750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7983360" y="2475000"/>
            <a:ext cx="954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023320" y="24750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983360" y="2475000"/>
            <a:ext cx="954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023320" y="24750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983360" y="2475000"/>
            <a:ext cx="954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8023320" y="24750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983360" y="2475000"/>
            <a:ext cx="954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8023320" y="24750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6602400" y="1905120"/>
            <a:ext cx="814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697800" y="1657440"/>
            <a:ext cx="936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737760" y="165744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697800" y="1657440"/>
            <a:ext cx="936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737760" y="165744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697800" y="1657440"/>
            <a:ext cx="936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737760" y="165744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697800" y="1657440"/>
            <a:ext cx="936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737760" y="165744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697800" y="1657440"/>
            <a:ext cx="936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737760" y="165744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697800" y="1657440"/>
            <a:ext cx="936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737760" y="165744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477040" y="1647720"/>
            <a:ext cx="1116000" cy="932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486400" y="2000160"/>
            <a:ext cx="10969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768640" y="1733400"/>
            <a:ext cx="64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670000" y="2093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635440" y="2322360"/>
            <a:ext cx="77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id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flipH="1">
            <a:off x="4711320" y="2075040"/>
            <a:ext cx="75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844520" y="1828800"/>
            <a:ext cx="29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0.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844520" y="1828800"/>
            <a:ext cx="29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0.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844520" y="1828800"/>
            <a:ext cx="29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0.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844520" y="1828800"/>
            <a:ext cx="29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0.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44520" y="1828800"/>
            <a:ext cx="29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0.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844520" y="1828800"/>
            <a:ext cx="29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0.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935520" y="2855880"/>
            <a:ext cx="21366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072120" y="2855880"/>
            <a:ext cx="1800" cy="15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935520" y="2360520"/>
            <a:ext cx="1440" cy="49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784680" y="2360520"/>
            <a:ext cx="282600" cy="228600"/>
          </a:xfrm>
          <a:custGeom>
            <a:avLst/>
            <a:gdLst/>
            <a:ahLst/>
            <a:rect l="l" t="t" r="r" b="b"/>
            <a:pathLst>
              <a:path w="178" h="144">
                <a:moveTo>
                  <a:pt x="95" y="0"/>
                </a:moveTo>
                <a:lnTo>
                  <a:pt x="178" y="144"/>
                </a:lnTo>
                <a:lnTo>
                  <a:pt x="0" y="144"/>
                </a:lnTo>
                <a:lnTo>
                  <a:pt x="9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784680" y="2360520"/>
            <a:ext cx="282600" cy="228600"/>
          </a:xfrm>
          <a:custGeom>
            <a:avLst/>
            <a:gdLst/>
            <a:ahLst/>
            <a:rect l="l" t="t" r="r" b="b"/>
            <a:pathLst>
              <a:path w="178" h="144">
                <a:moveTo>
                  <a:pt x="95" y="0"/>
                </a:moveTo>
                <a:lnTo>
                  <a:pt x="178" y="144"/>
                </a:lnTo>
                <a:lnTo>
                  <a:pt x="0" y="144"/>
                </a:lnTo>
                <a:lnTo>
                  <a:pt x="95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3897360" y="2855880"/>
            <a:ext cx="381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897360" y="2855880"/>
            <a:ext cx="1440" cy="303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364000" y="3016080"/>
            <a:ext cx="1436760" cy="704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373720" y="3368520"/>
            <a:ext cx="14176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428440" y="3102120"/>
            <a:ext cx="1314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EmployeeRo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521320" y="3463920"/>
            <a:ext cx="922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job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075120" y="4405320"/>
            <a:ext cx="1172880" cy="703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084480" y="4757760"/>
            <a:ext cx="1154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337200" y="4491000"/>
            <a:ext cx="761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Book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232080" y="4851360"/>
            <a:ext cx="971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seat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529080" y="1800360"/>
            <a:ext cx="1173240" cy="550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595320" y="1884240"/>
            <a:ext cx="105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PersonRo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7426440" y="1609560"/>
            <a:ext cx="1114200" cy="551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751880" y="1695600"/>
            <a:ext cx="595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Airlin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26E4-C5A4-4745-87FA-0A9DD8B1A35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typing a class diagram on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you identify classes, you write their names on small c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you identify attributes and responsibilities, you list them on the car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cannot fit all the responsibilities on one car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suggests you should split the class into two related classes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e the cards around on a whiteboard to arrange them into a class diagra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w lines among the cards to represent associations and generalization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5829-A5A3-488E-AB4D-D308E814FE6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oper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s are needed to realize the responsibilities of each clas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may be several operations per responsi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in operations that implement a responsibility are normally declared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methods that collaborate to perform the responsibility must be as private as possib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4F2B-34F5-4881-9F45-29D9061178D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n example (class collabor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330960" y="3063960"/>
            <a:ext cx="2739960" cy="925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340320" y="3451320"/>
            <a:ext cx="2721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376040" y="3147840"/>
            <a:ext cx="764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Airplan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497640" y="3508200"/>
            <a:ext cx="2341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ddLinkToSpecificFlight [a2, d3]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496920" y="3735360"/>
            <a:ext cx="2241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deleteLinkToSpecificFlight [d2]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514680" y="3195720"/>
            <a:ext cx="2059200" cy="1625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522600" y="3583080"/>
            <a:ext cx="2022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880080" y="3281400"/>
            <a:ext cx="1252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SpecificFligh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678840" y="3639960"/>
            <a:ext cx="1578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+ specifyAirplane [a1]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680280" y="3867120"/>
            <a:ext cx="159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+ createFlightLog [b1]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051200" y="4888080"/>
            <a:ext cx="1450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+ makeBooking [c1]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679560" y="4075200"/>
            <a:ext cx="1605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+ changeAirplane [d1]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680280" y="4302000"/>
            <a:ext cx="1715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+ findCrewMember [e1]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438360" y="1797120"/>
            <a:ext cx="1436760" cy="698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448080" y="2184480"/>
            <a:ext cx="14176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504600" y="1882800"/>
            <a:ext cx="1314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EmployeeRo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602160" y="2241720"/>
            <a:ext cx="1130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+ getName [e2]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292800" y="4311720"/>
            <a:ext cx="1303560" cy="698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302520" y="4699080"/>
            <a:ext cx="1284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527880" y="4395960"/>
            <a:ext cx="86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FlightLo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455880" y="4754520"/>
            <a:ext cx="997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FlightLog [b2]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359000" y="3119400"/>
            <a:ext cx="1228680" cy="77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368360" y="3506760"/>
            <a:ext cx="1209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659240" y="3205080"/>
            <a:ext cx="761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Book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595520" y="3564000"/>
            <a:ext cx="906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Booking [c2]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000080" y="4443480"/>
            <a:ext cx="2022480" cy="963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009800" y="4830840"/>
            <a:ext cx="2003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310400" y="4527720"/>
            <a:ext cx="137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PassengerRo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202760" y="5114880"/>
            <a:ext cx="1674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ddLinkToBooking [c4]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1954080" y="3905280"/>
            <a:ext cx="1800" cy="52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803240" y="3941640"/>
            <a:ext cx="954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846080" y="394164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597040" y="3470400"/>
            <a:ext cx="9082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735280" y="348948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735280" y="348948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735280" y="348948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735280" y="348948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735280" y="348948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735280" y="348948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H="1">
            <a:off x="5582880" y="4660920"/>
            <a:ext cx="7002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943960" y="44197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5583240" y="3544920"/>
            <a:ext cx="7192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645160" y="331956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V="1">
            <a:off x="4562640" y="2504880"/>
            <a:ext cx="1440" cy="680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392720" y="2523960"/>
            <a:ext cx="950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92440" y="252576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392720" y="2940120"/>
            <a:ext cx="9504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435560" y="294012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392720" y="2940120"/>
            <a:ext cx="9504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435560" y="294012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392720" y="2940120"/>
            <a:ext cx="9504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435560" y="294012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392720" y="2940120"/>
            <a:ext cx="9504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435560" y="294012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392720" y="2940120"/>
            <a:ext cx="9504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435560" y="294012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392720" y="2940120"/>
            <a:ext cx="9504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492440" y="294012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539880" y="2506680"/>
            <a:ext cx="88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rew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012360" y="32814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830040" y="4510080"/>
            <a:ext cx="1674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ddLinkToBooking [c3]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242A-B80B-4B7F-B599-87D5843BB88B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lass collaboration ‘a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11426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ing a bi-directional link between two existing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adding a link between an instance of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ecificFl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n instance of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irpla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ublic) The instance of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ecificFligh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240" indent="-380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a one-directional link to the instance of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ir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240" indent="-380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calls operation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n-public) The instance of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irpla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240" indent="-380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a one-directional link back to the instance of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ecificF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1"/>
          <a:stretch/>
        </p:blipFill>
        <p:spPr>
          <a:xfrm>
            <a:off x="4495680" y="411120"/>
            <a:ext cx="4572000" cy="69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09AD-CA9F-4C94-BB75-CA80230518B5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lass collaboration ‘b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 object and linking it to an existing objec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creating a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lightLo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linking it to a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ecificFl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(public) The instance of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ecificFligh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584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s the constructor of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light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operation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584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makes a one-directional link to the new instance of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light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(non-public) Class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lightLo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construct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584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a one-directional link back to the instance of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ecificFligh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3" name="" descr=""/>
          <p:cNvPicPr/>
          <p:nvPr/>
        </p:nvPicPr>
        <p:blipFill>
          <a:blip r:embed="rId1"/>
          <a:stretch/>
        </p:blipFill>
        <p:spPr>
          <a:xfrm>
            <a:off x="5105520" y="533520"/>
            <a:ext cx="3809880" cy="70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653F-E93E-4D7E-8641-9340469BD6A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lass collaboration ‘c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1218960" y="9903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53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 association class, given two existing ob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creating an instance of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ok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will link a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ecificFl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a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ssengerRo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ublic) The instance of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ssengerRol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89920" indent="-353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s the constructor of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ok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operation 2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n-public) Class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ok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constructor, among its other ac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89920" indent="-353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a one-directional link back to the instance of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ssenger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89920" indent="-353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a one-directional link to the instance of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ecific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89920" indent="-353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s operations 3 and 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n-public) The instance of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ecific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89920" indent="-353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a one-directional link to the instance of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ok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n-public) The instance of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ssengerRol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89920" indent="-353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a one-directional link to the instance of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ok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6" name="" descr=""/>
          <p:cNvPicPr/>
          <p:nvPr/>
        </p:nvPicPr>
        <p:blipFill>
          <a:blip r:embed="rId1"/>
          <a:stretch/>
        </p:blipFill>
        <p:spPr>
          <a:xfrm>
            <a:off x="4419720" y="254160"/>
            <a:ext cx="4686120" cy="79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7882-4C11-4329-ADE5-E4DF509AD1E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lass collaboration ‘d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7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 the destination of a lin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changing 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irpla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o a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ecificFl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rom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irplane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irplane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(public) The instance of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ecific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4560" indent="-2145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es the link to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irplan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4560" indent="-2145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a one-directional link to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irplan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4560" indent="-2145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s operat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4560" indent="-2145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calls operation 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(non-public)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irplane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4560" indent="-2145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es its one-directional link to the instance of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ecificFl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(non-public)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irplane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4560" indent="-2145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a one-directional link to the instance of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ecificFl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9" name="" descr=""/>
          <p:cNvPicPr/>
          <p:nvPr/>
        </p:nvPicPr>
        <p:blipFill>
          <a:blip r:embed="rId1"/>
          <a:stretch/>
        </p:blipFill>
        <p:spPr>
          <a:xfrm>
            <a:off x="4648320" y="380880"/>
            <a:ext cx="4432320" cy="75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6F9D-C5DB-4AAB-A922-9EC93ACA4A7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5.2 Essentials of UML Class Diagr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in symbols shown on class diagrams are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1760" indent="-22608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the types of data themselv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1760" indent="-22608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linkages between instances of class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1760" indent="-22608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simple data found in classes and their instan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1760" indent="-22608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the functions performed by the classes and their instan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1760" indent="-22608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 classes into inheritance hierarch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B60A-5E72-4B49-9FB1-733EB40178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lass collaboration ‘e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rching for an associated inst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searching for a crew member associated with a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ecificFl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has a certain nam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ublic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stance of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ecificFl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240" indent="-38088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an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 all the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wMe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nks of the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ecificFl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240" indent="-38088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of them call operation 2, until it finds a mat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ay be public) The instance of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mployeeRo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turns its nam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2" name="" descr=""/>
          <p:cNvPicPr/>
          <p:nvPr/>
        </p:nvPicPr>
        <p:blipFill>
          <a:blip r:embed="rId1"/>
          <a:stretch/>
        </p:blipFill>
        <p:spPr>
          <a:xfrm>
            <a:off x="4876920" y="484200"/>
            <a:ext cx="4038480" cy="64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9AD2-971D-4BAB-BF4A-682FE04278A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5.9 Implementing Class Diagrams in 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1066320" y="9140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es are implemented as instance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izations are implemented using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tend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are implemented using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ons are normally implemented using instance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e each two-way association into two one-way associ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51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each associated class has an instance vari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 one-way association where the multiplicity at the other end is ‘one’ or ‘optional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51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are a variable of that 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 refere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 one-way association where the multiplicity at the other end is ‘many’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 algn="just">
              <a:spcBef>
                <a:spcPts val="451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 collection class implementing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uch as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ec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85C3-89CB-46BA-AA48-5CF5AAE3851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ecificFligh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371600" y="1447920"/>
            <a:ext cx="7391520" cy="42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Specific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Calendar da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RegularFlight regularFligh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TerminalOfAirport destina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Airplane airplan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FlightLog flightLo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ArrayList crewMember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of Employee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ArrayList book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614E-7B4B-4D5A-AE67-DF30125F22F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ecificF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Constructor that should only be called fr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addSpecificF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ecificFlight(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endar aDate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gularFlight aRegularFlight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 = aDate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gularFlight = aRegularFlight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8D9C-A4DA-4A12-B9C3-AF9F28E1C41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gularF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447920" y="1066680"/>
            <a:ext cx="69339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Regular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ArrayList specificFligh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Method that has pri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respons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addSpecificFlight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endar aD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ecificFlight newSpecificFligh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SpecificFlight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SpecificFlight(aDate, thi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ecificFlights.add(newSpecificFligh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EE5A-ADE5-409C-BF2F-DA44CF60A1AB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ass is simply represented as a box with the name of the class insi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agram may also show the attributes and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plete signature of an operation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Name(parameterName: parameterType …): return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19320" y="4343400"/>
            <a:ext cx="7238880" cy="166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F4B4-BB91-4E7E-9023-E1B14E0585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5.3 Associations and Multiplic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sociatio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ed to show how two classes are related to each oth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s indicating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c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shown at each end of the associ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0502PossibleMultip" descr=""/>
          <p:cNvPicPr/>
          <p:nvPr/>
        </p:nvPicPr>
        <p:blipFill>
          <a:blip r:embed="rId1"/>
          <a:stretch/>
        </p:blipFill>
        <p:spPr>
          <a:xfrm>
            <a:off x="1905120" y="2954160"/>
            <a:ext cx="4190760" cy="325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EFC9-7BFD-42C4-A6B9-206736E696F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belling associ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association can be labelled, to make explicit the nature of the associ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0503PossibleMultipAssoc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7162920" cy="394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DD3E-114D-401C-ADF3-E993E58606D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6:59:35Z</dcterms:created>
  <dc:creator>Timothy C. Lethbridge</dc:creator>
  <dc:description/>
  <dc:language>en-US</dc:language>
  <cp:lastModifiedBy>Timothy C. Lethbridge</cp:lastModifiedBy>
  <dcterms:modified xsi:type="dcterms:W3CDTF">2001-11-07T04:37:24Z</dcterms:modified>
  <cp:revision>108</cp:revision>
  <dc:subject/>
  <dc:title>SEG 2100 Software Design II</dc:title>
</cp:coreProperties>
</file>