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892-0D16-4320-968B-9EA546CF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BB7-C2C4-4E6E-B4D1-50AE9F05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FF8-63DE-4735-A39B-CD61F87F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06D-C1D0-40FC-B93A-F8421DFD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BB5-3E9C-4182-A5F1-7E244F79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63E-6C10-4499-8FC0-64A8B94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5DC-6404-4129-8DB1-F8F49267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BB3-6B16-48FF-853A-A6FD1C5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8D4-42E6-4EB5-923E-80CECD7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04D-3414-4FB0-AC6B-10735F15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029-443F-4F1D-BCEA-CD954A7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1F4-CB4D-4CA5-979E-2EB7C61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FA68-4511-4865-9FFC-86523FC88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5: CS 577 Case Studies and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ven effective MBA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reas that ne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15000" y="3919680"/>
            <a:ext cx="147744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perations Model`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4640" y="4361040"/>
            <a:ext cx="111168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7800" y="3424320"/>
            <a:ext cx="2067120" cy="28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ability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15720" y="1935000"/>
            <a:ext cx="1395000" cy="27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ystem Defin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3200" y="5202360"/>
            <a:ext cx="160020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lass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13200" y="2473200"/>
            <a:ext cx="2035440" cy="27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ject Require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1703520"/>
            <a:ext cx="0" cy="394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08640" y="1716120"/>
            <a:ext cx="0" cy="39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1947960"/>
            <a:ext cx="1655640" cy="27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atement of Purpo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2760" y="2503440"/>
            <a:ext cx="1128600" cy="27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ject Go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1000" y="2757600"/>
            <a:ext cx="1523160" cy="27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ganization Go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47000" y="3430440"/>
            <a:ext cx="1652760" cy="28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2760" y="4361040"/>
            <a:ext cx="147636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omponent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3480" y="4548240"/>
            <a:ext cx="1660320" cy="27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ganization Ent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3480" y="3921120"/>
            <a:ext cx="135864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ehavior  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3840" y="5194440"/>
            <a:ext cx="136764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nterprise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6160" y="1704960"/>
            <a:ext cx="890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7360" y="1398600"/>
            <a:ext cx="214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03520" y="1398600"/>
            <a:ext cx="1761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91040" y="1398600"/>
            <a:ext cx="159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28760" y="3906720"/>
            <a:ext cx="29232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62480" y="343692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8760" y="2500200"/>
            <a:ext cx="29232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8760" y="1920960"/>
            <a:ext cx="292320" cy="29196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28760" y="4349880"/>
            <a:ext cx="292320" cy="29196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28760" y="5200560"/>
            <a:ext cx="29232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2480" y="247824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62480" y="192096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2480" y="457200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62480" y="390852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2480" y="5200560"/>
            <a:ext cx="29196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040" y="5753160"/>
            <a:ext cx="457200" cy="2286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040" y="6438960"/>
            <a:ext cx="457200" cy="2286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8360" y="5753160"/>
            <a:ext cx="3529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al Concept Description (OC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040" y="6094440"/>
            <a:ext cx="457200" cy="228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1960" y="6127920"/>
            <a:ext cx="46605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and Software Requirements Definition (SS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7440" y="6438960"/>
            <a:ext cx="4719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and Software Architecture Description (SS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80" y="2004840"/>
            <a:ext cx="2064240" cy="29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ganization  Backgrou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3656160"/>
            <a:ext cx="195624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zation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6160" y="5194440"/>
            <a:ext cx="1456200" cy="29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action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2760" y="2952720"/>
            <a:ext cx="1782720" cy="27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evels of Service Go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1040" y="2952720"/>
            <a:ext cx="1617480" cy="28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22640" y="294012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68960" y="295272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4908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Coverage/Traceability of MBASE Product Model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6413400"/>
            <a:ext cx="34084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* Does not include all MBASE mod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1919160"/>
            <a:ext cx="0" cy="365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53720" y="1793880"/>
            <a:ext cx="1596240" cy="271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lease Descri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53360" y="2475000"/>
            <a:ext cx="1471680" cy="271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qs. Satisfa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49040" y="3443400"/>
            <a:ext cx="1395000" cy="286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ability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53360" y="4726080"/>
            <a:ext cx="1387440" cy="27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62000" y="3921120"/>
            <a:ext cx="1454400" cy="27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ethods/fun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40440" y="3449520"/>
            <a:ext cx="29232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40440" y="2468520"/>
            <a:ext cx="29232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0440" y="2100240"/>
            <a:ext cx="292320" cy="29196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0440" y="3921120"/>
            <a:ext cx="292320" cy="29196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4727520"/>
            <a:ext cx="29232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53360" y="2952720"/>
            <a:ext cx="1351080" cy="271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OS Tes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952720"/>
            <a:ext cx="291960" cy="291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13680" y="1120680"/>
            <a:ext cx="1743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1160" y="5765760"/>
            <a:ext cx="4572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0040" y="5778360"/>
            <a:ext cx="35510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tion,Transition,Support (CT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28760" y="3436920"/>
            <a:ext cx="292320" cy="29196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18160" y="6095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57800" y="6108840"/>
            <a:ext cx="21416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 to M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52640" y="2114640"/>
            <a:ext cx="1130040" cy="271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40440" y="1766880"/>
            <a:ext cx="292320" cy="29196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4200" y="4754520"/>
            <a:ext cx="86040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30560" y="4743360"/>
            <a:ext cx="29196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4080" y="4776840"/>
            <a:ext cx="1084320" cy="271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sign View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rac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9760" y="2208240"/>
            <a:ext cx="21747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USC Leavy Library maintains research books and periodicals for use by the USC commun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2612880"/>
            <a:ext cx="811080" cy="2764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9440" y="1968480"/>
            <a:ext cx="517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7160" y="1703520"/>
            <a:ext cx="81108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32040" y="3105000"/>
            <a:ext cx="952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90720" y="2814480"/>
            <a:ext cx="81144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2865600"/>
            <a:ext cx="95076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C Pat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575080"/>
            <a:ext cx="81108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02280" y="2220840"/>
            <a:ext cx="5284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91040" y="2335320"/>
            <a:ext cx="222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25480" y="1866960"/>
            <a:ext cx="64764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4480" y="1943280"/>
            <a:ext cx="1281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 lending of books to patr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84640" y="1703520"/>
            <a:ext cx="81108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130640" y="1817280"/>
            <a:ext cx="4716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" y="3747960"/>
            <a:ext cx="21762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ystem manages book checkout, check-in, and overdue notifications for the Leavy Library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55880" y="4178160"/>
            <a:ext cx="81108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155680" y="288396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49680" y="3370320"/>
            <a:ext cx="952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rary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0680" y="3117960"/>
            <a:ext cx="81108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4.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789360" y="2360520"/>
            <a:ext cx="22392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25800" y="4770360"/>
            <a:ext cx="1246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 book lending for library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9720" y="4479840"/>
            <a:ext cx="81108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CD 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25960" y="3319200"/>
            <a:ext cx="184608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90360" y="4360680"/>
            <a:ext cx="43524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1720" y="4556160"/>
            <a:ext cx="1246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rarian checkout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6960" y="4265640"/>
            <a:ext cx="81108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AD 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071960" y="4437000"/>
            <a:ext cx="1023840" cy="1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602160" y="2403360"/>
            <a:ext cx="69840" cy="208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53000" y="3192480"/>
            <a:ext cx="1247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out Input 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6920" y="2940120"/>
            <a:ext cx="81108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AD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9520" y="3962520"/>
            <a:ext cx="1245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out Input Panel 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710160"/>
            <a:ext cx="81144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AD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530680" y="3438360"/>
            <a:ext cx="37656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707080" y="3868560"/>
            <a:ext cx="82224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13280" y="5705640"/>
            <a:ext cx="1245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out book from patron with library card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37200" y="5452920"/>
            <a:ext cx="81108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RD 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001760" y="5130360"/>
            <a:ext cx="42228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280" y="5073480"/>
            <a:ext cx="2174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ystem provides an automated interface for Leavy Librarians for manging book lending for walk-in patr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5616720"/>
            <a:ext cx="81108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RD 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532240" y="4457520"/>
            <a:ext cx="0" cy="11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11920" y="2195640"/>
            <a:ext cx="12463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ok Checkout Table (Orac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0600" y="1943280"/>
            <a:ext cx="111780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387840" y="2387520"/>
            <a:ext cx="623880" cy="4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70760" y="5288040"/>
            <a:ext cx="1246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nel Controller class (Jav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29440" y="5035680"/>
            <a:ext cx="1117800" cy="2775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129080" y="4330800"/>
            <a:ext cx="42372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0880" y="5452920"/>
            <a:ext cx="12459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out boo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30680" y="5162400"/>
            <a:ext cx="81144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AD 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071600" y="4760640"/>
            <a:ext cx="142236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18280" y="6310440"/>
            <a:ext cx="1245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ify library ca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18080" y="6021360"/>
            <a:ext cx="811440" cy="277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AD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2920" y="6323040"/>
            <a:ext cx="1247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e book in checkout table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080" y="6033960"/>
            <a:ext cx="811080" cy="2764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SAD 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883120" y="565596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435360" y="5492880"/>
            <a:ext cx="76356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612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TS A First Class Deliver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8520" y="1397160"/>
          <a:ext cx="6523200" cy="557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397160"/>
                    <a:ext cx="6523200" cy="55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61840" y="639360"/>
            <a:ext cx="78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licit Use of Prototypes, COTS, and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023920"/>
            <a:ext cx="7854840" cy="47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CD 5. Prototy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TS Integration process, FRD, SSAD Design Views, Requirements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numbers of 577 projects are largely or entirely COTS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8: 5 of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9: 8 of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: 13 of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re explicit MBASE COTS/Prototype integration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e, MSProject, CVS/ClearCas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ing work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prototype revi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ype integral part of AR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9696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CD 5. Prototyping 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95480" y="1609560"/>
            <a:ext cx="4968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toty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 and Ex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on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ven effective MBA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3276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3280" y="649080"/>
            <a:ext cx="87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: What Needs Impr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8640" y="181080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Rational Unified Process (R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herent use in SS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, Enterprise, Object, Class, design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hesive use throug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D Activity, Entity, usag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RD requirements use cases and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TS 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ct reporting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s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1840" y="812520"/>
            <a:ext cx="87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: What Needs Improv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6320" y="180936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7 generally constrains transition to 99% “cold turkey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 leave project after class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typically do not have adequate support personal to ded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than two weeks to complete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typically can’t allocate adequate resources i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le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get students to continue after class ends (some internships, but not 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lace to get additional time if there ar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have sever budget constraints and bureaucrati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ven effective MBA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09680" y="609480"/>
            <a:ext cx="502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Ad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752480"/>
          <a:ext cx="84582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458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ven effective MBA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3623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3320" y="37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Results 1996-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27200" y="1332000"/>
          <a:ext cx="8286480" cy="56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332000"/>
                    <a:ext cx="8286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1200" y="57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: What’s Working 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6600" y="1676160"/>
            <a:ext cx="8472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Review Boards: LCO, LCA, RLCA, T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Library domain specific software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rs and compl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10 risks and managemen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particular models (WinWin, Results Chai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“Domain Exper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development tools via M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WinWin, Rose, MSProject, COCOMO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9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: What’s Working W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5680" y="2413080"/>
            <a:ext cx="847224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s classified in advance according to expec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y transitioned, operational system in 24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 after 24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prototype after 12 or 24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feasibil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74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: What’s Working W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7200" y="194292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ing as first class delive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BASE section OCD 5. 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and often” 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yping workshops, guidance in use of proto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kinds modeled in different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Level of Service versus System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er integration with WinWin and proto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manages priories and future desir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lict avoide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4080" y="78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: What’s Working W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800" y="1962000"/>
            <a:ext cx="7772400" cy="47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s and 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odels and deliverables are scaling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isk base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models for identification analysis, mitigation, contingencies, impacts, risk-exposur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D as first class deliv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usiness Case, reqs. satisfaction, process ra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er integration betwee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model cl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7640" y="925200"/>
            <a:ext cx="50068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ome Best Practices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577a 2000 Team 1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P 4.1.4, FRD 4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749160" y="905040"/>
          <a:ext cx="5632200" cy="34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49160" y="905040"/>
                    <a:ext cx="56322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429000" y="3952800"/>
          <a:ext cx="5548320" cy="303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952800"/>
                    <a:ext cx="55483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964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Some Best Practices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577a 2000 Team 8 – FRD 2.2 Requirements 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2760" y="1558800"/>
          <a:ext cx="822960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558800"/>
                    <a:ext cx="82296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00240" y="6291360"/>
            <a:ext cx="66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so excellent conceptual integrity, see tabl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ght Model 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age ma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xplicit tracing built in to man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ace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TS first class delive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into main MBASE models and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to and from OCD, SSRD, SSAD, LCP, FRD, Prototypes, WinW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MBASE Guidelines V.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16:17:53Z</dcterms:created>
  <dc:creator>Dan</dc:creator>
  <dc:description/>
  <dc:language>en-US</dc:language>
  <cp:lastModifiedBy>Valued Sony Customer</cp:lastModifiedBy>
  <dcterms:modified xsi:type="dcterms:W3CDTF">2002-02-25T06:10:46Z</dcterms:modified>
  <cp:revision>34</cp:revision>
  <dc:subject/>
  <dc:title>Educating Software Engineering Students to Manage Risk </dc:title>
</cp:coreProperties>
</file>