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5BE-E9FA-4FB4-8F86-523344DC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very last slide of the whol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7AB-5EF8-497D-9C8C-90D24231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527-F472-4632-94F5-8E7C6CD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AC4-F1BC-44FB-94D9-980D4F50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BC9-8233-40AA-8F0A-5A4C4AA6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1EC-0F56-435C-A46C-6E1ED8E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63F-B8E7-4DD2-958E-E3BC6A8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DB7-173F-4F98-8A89-8CB813D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651-8440-4F71-8260-40EEC99B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4DC-D0EB-42B9-8864-1A924E3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889-9CD1-4CA0-BC8B-B93147F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67D-BDF9-4ADB-9BDA-A86E947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970-4212-4AD4-A08E-AD8D17E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8D71-65FD-4AF1-BCFE-B1492BF0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unset.usc.ed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6: References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lides will be made available after 2/26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sunset.usc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under “presentations”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62240" y="64764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160" y="1143000"/>
            <a:ext cx="88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BASE material available at http://sunset.usc.edu/M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0" y="1752480"/>
            <a:ext cx="9050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Blanchard, W. Fabrycky, Systems Engineering and Analysis (3rd ed.), Prentice Hall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Boehm, D. Port, “When Models Collide: Lessons from Software Systems Analysis,” IEE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T Profession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January/February 1999, pp. 49-5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Boehm, D. Port, “Escaping the Software Tar Pit: Model Clashes and How To Avoid Them,”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M Software Engineering No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January, 1999, pp. 36-4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Boehm et al., “Using the Win Win Spiral Model: A Case Study,” IEE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July 1998, pp. 33-4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Boehm et al., “Developing Multimedia Applications with the WinWin Spiral Model,”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edin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EC/FSE 9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Springer Verlag,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.E. Royce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Project Management: A Unified Frame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ddison Wesley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Thorp and DMR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Information Parado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McGraw Hill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rth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22960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. Basili, G. Caldeira, and H. Rombach, “The Experience Factory” and “The Goal Question Metric Approach,” in J. Marciniak (ed.)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Encyclopedia of Software Engineering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Wiley, 1994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. Boehm, C. Abts, A.W. Brown, S. Chulani, B. Clark, E. Horowitz, R. Madachy, D. Reifer, and B. Steece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oftware Cost Estimation with COCOMO II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Prentice Hall, 2000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. Boehm, D. Port, “Escaping the Software Tar Pit: Model Clashes and How to Avoid Them,”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CM Software Engineering Not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January, 1999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. Boehm et al., “Using the Win Win Spiral Model: A Case Study,” IEEE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July 1998, pp. 33-44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. Butler and W. Lipke, “Software Process Achievement at Tinker Air Force Base, Oklahoma,” CMU/SEI-2000-TR-014, September 2000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. Ferguson et al., “Software Process Improvement Works! (Advanced Information Services, Inc.), CMU/SEI-99-TR-027, November 1999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. van Solingen and E. Berghout, The Goal/Question/Metric Method, McGraw Hill, 1999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COMO II, MBASE items :  http://sunset.usc.ed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BASE items : http://www.cebase.or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ts of Available Web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219320"/>
          <a:ext cx="830592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3059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3520" y="0"/>
          <a:ext cx="8246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0"/>
                    <a:ext cx="8246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yWinWin Web Resour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sea.uni-linz.ac.at/Research/Projects/eww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sunset.usc.edu/research/WINWIN/EasyWin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groupsystems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16:17:53Z</dcterms:created>
  <dc:creator>Dan</dc:creator>
  <dc:description/>
  <dc:language>en-US</dc:language>
  <cp:lastModifiedBy>Valued Sony Customer</cp:lastModifiedBy>
  <dcterms:modified xsi:type="dcterms:W3CDTF">2002-02-25T06:15:46Z</dcterms:modified>
  <cp:revision>36</cp:revision>
  <dc:subject/>
  <dc:title>Educating Software Engineering Students to Manage Risk </dc:title>
</cp:coreProperties>
</file>