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92544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9254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9254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2189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2189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9254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9254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9254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00200" y="228240"/>
            <a:ext cx="72388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39254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2189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7840" y="39254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2544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04920" y="392544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254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7840" y="39254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90680" y="12189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76080" y="12189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04920" y="39254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90680" y="39254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76080" y="39254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600200" y="228240"/>
            <a:ext cx="72388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9254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9254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2189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92544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1066680"/>
            <a:ext cx="8226360" cy="320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2189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28600" y="228600"/>
            <a:ext cx="1371600" cy="844560"/>
            <a:chOff x="228600" y="228600"/>
            <a:chExt cx="1371600" cy="844560"/>
          </a:xfrm>
        </p:grpSpPr>
        <p:graphicFrame>
          <p:nvGraphicFramePr>
            <p:cNvPr id="4" name=""/>
            <p:cNvGraphicFramePr/>
            <p:nvPr/>
          </p:nvGraphicFramePr>
          <p:xfrm>
            <a:off x="304920" y="228600"/>
            <a:ext cx="1295280" cy="762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04920" y="228600"/>
                      <a:ext cx="1295280" cy="76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" name=""/>
            <p:cNvSpPr/>
            <p:nvPr/>
          </p:nvSpPr>
          <p:spPr>
            <a:xfrm>
              <a:off x="228600" y="750960"/>
              <a:ext cx="838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99cc00"/>
                  </a:solidFill>
                  <a:latin typeface="Verdana"/>
                </a:rPr>
                <a:t>DAR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304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3352680" y="655308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0AD8-9CE9-4181-8C5E-0A77C8413CD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52280" y="289548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 Black"/>
              </a:rPr>
              <a:t>D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655308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934320" y="655308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8BAD-80A1-454C-9B35-A449D34E823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04920" y="2514600"/>
            <a:ext cx="8229600" cy="741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LC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chitectural Review Boa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ebruary 14, 200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CP Changes (cont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ject Archiv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am web site and ClearCase structur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dated all relevant URL referen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COMO Run I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timate analy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CP Changes (cont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k L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w risks introduced in CS577b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isk Management Pl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ality Management Pl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Assessment Activities Histo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BASE v.2.3.6c complian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Highligh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D - Anton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SRD – Mik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SAD – Pallav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CP – Anton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D – Mik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eration 1 Development Breakdown/Plan – Lu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ment Status to Date – Chr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ks Moving Forward – Mi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Feasibility Rationa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Co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67 man-hour weeks (5 people) for 12 weeks for CS577a class based on data collec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60 man-hour weeks (5 people) for 10 weeks for CS577b class based on average COCOMO estima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1 man-hour weeks for 48 weeks for maintena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5 man-hour weeks for 48 weeks for evolutionary capabilit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Savin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1.5 man-hours per week per project for CS577a/b tea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0.2 man-hours per week per project for CS577a/b T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9.9 man-hours per project for CS577a/b tea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Tahoma"/>
              </a:rPr>
              <a:t>Benefi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  <a:ea typeface="Times New Roman"/>
              </a:rPr>
              <a:t>Improve the quality of a software project</a:t>
            </a: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Reduce long-term project costs and problem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Tahoma"/>
              </a:rPr>
              <a:t>Improved data quality and accessibility to review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turn on Investmen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09760" y="1319040"/>
          <a:ext cx="8143560" cy="498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1319040"/>
                    <a:ext cx="8143560" cy="49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Highligh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D - Anton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SRD – Mik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SAD – Pallav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CP – Anton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D – Mik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eration 1 Development Breakdown/Plan – Lu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ment Status to Date – Chr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ks Moving Forward – Mi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teration 1 Development Pla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hedu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arget CCD Date of March 25, 2002 – 5 wks to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4 wks for development/integr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 wk for tes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allel Task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completed by Feb. 27, 2002 – 1.5 wk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)  Database – P. Raghav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eate and populate database table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enerate SQL statements for JSP’s and for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)  User Interface – L. Wo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scading Style She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eate 6 HTML Pag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eration 1 Development Plan (cont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)  Integration – C. Pat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reate a DataManager Servlet – use stub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tart converting HTML Page to JSP pages &amp; display dat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rojectListPage.jsp &amp; ProjectMainPage.js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allel Tasks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completed by March. 15, 2002 – 2.5 wk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)  RiskModel – P. Raghav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parate Java Class - Calculates RE and saves history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)  Integ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ML to JSP’s, Datamanager &amp; Usermanager - C. Pate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istAllPage.jsp, VotingPage.jsp, ProjectSetupPage.js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TML to JSP &amp; GUI tweaks – L. Wo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c0c0c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ditRiskPage.js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CD – From Users Prospectiv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jectLogin.jsp – User logs in (only one projec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jectMain.jsp  – User see project &amp; stakeholder inf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istAllPage.jsp   – User sees list of all project risks (R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lu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otingPage.jsp  –  User’s votes will be collected and sav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jectSetup.jsp – User can close voting assessment peri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–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 the project name &amp; descrip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itRiskPage.jsp – User will ADD, EDIT, DELETE risk item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–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date mitigation plans per risk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Highligh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D - Anton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SRD – Mik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SAD – Pallav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CP – Anton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D – Mik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eration 1 Development Breakdown/Plan – Lu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ment Status to Date – Chr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ks Moving Forward – Mi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Highligh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D – Anton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SRD – Mik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SAD – Pallav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CP – Anton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D – Mik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eration 1 Development Breakdown/Plan – Lu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ment Status to Date – Chr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ks Moving Forward – Mi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Development Status to Dat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btain Hard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ing a Sun Ultra 5 owned by the CS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ugu.usc.ed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pare Environ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alled Solaris 8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pplied OS security patch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ve accounts on mugu for Team 15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alled development packag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mca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pach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ySQ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ment Status to Date (cont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arn Development Packa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hort learning curve for MySQL, Apache, Tomc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velopers are already familiar with required softw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ady to begin development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Highligh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D - Anton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SRD – Mik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SAD – Pallav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CP – Anton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D – Mik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eration 1 Development Breakdown/Plan – Lu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ment Status to Date – Chr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ks Moving Forward – Mi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isks Moving Forwar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b Server Secu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ed a firewa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intainer’s Knowledge 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vide information for maintainer to get sufficient trai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sting Ti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 “risk-driven” test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ining Participa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eed to identify with the cli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S577a Deployment Pl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lementary notes supplied at IOC as a separate docu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isks Moving Forward (cont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ck of Performance Requir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Risk-driven” stress tes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ck of Understanding of Documentation Proc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arly identification of document nee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KIWISI GUI Requirement (R3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eep client informed a show early releas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b Server Memo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pgrade coming this semester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quirements Cree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eep client inform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of Datab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atch development time for slip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Q &amp; 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ank You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OCD Chang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Client and Maintain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CD 4.3 Proposed System Capabil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re descriptive capabil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dated Rose Mod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Highligh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D - Anton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SRD – Mik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SAD – Pallav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CP – Anton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D – Mik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eration 1 Development Breakdown/Plan – Lu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ment Status to Date – Chr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ks Moving Forward – Mi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Requirements Chang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ded COTS Vers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ache v1.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ava v1.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mcat v4.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ySQL v3.2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ded Language Requirement for Ja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ded Java Coding Standard Requir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ded GUI Color Scheme Requir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Highligh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D - Anton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SRD – Mik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SAD – Pallav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CP – Anton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D – Mik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eration 1 Development Breakdown/Plan – Lu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ment Status to Date – Chr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ks Moving Forward – Mi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SAD Chang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major changes to the docu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were some minor diagram changes t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ke descriptions of the system more accura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eep the SSAD consistent with the MBASE guidel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serve data integrity with in the document and with other docu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se changes affected the following sections of the document: 2.3, 3.1, 3.2, 3.3, 3.4, 3.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ptured in the change summary section of SS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ange Highligh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CD - Anton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SRD – Mik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SAD – Pallav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CP – Anton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RD – Mik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eration 1 Development Breakdown/Plan – Luc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ment Status to Date – Chr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ks Moving Forward – Mik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238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LCP Chang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w Te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rganization cha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oles and responsibil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pdated Dat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anged all TBD to concrete d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5T21:49:23Z</dcterms:created>
  <dc:creator>klug</dc:creator>
  <dc:description/>
  <dc:language>en-US</dc:language>
  <cp:lastModifiedBy>Michael James Klug</cp:lastModifiedBy>
  <dcterms:modified xsi:type="dcterms:W3CDTF">2002-02-14T04:21:20Z</dcterms:modified>
  <cp:revision>37</cp:revision>
  <dc:subject/>
  <dc:title>PowerPoint Presentation</dc:title>
</cp:coreProperties>
</file>