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81E3-BAF9-4E5F-BB86-21A2D7F3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A287-2D1A-4776-B34C-BB99B845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DC96-9348-4896-B05B-9944C2C3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498C-9824-4D92-9C19-27D460A2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9646-EA53-4344-9702-EA6F4C3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F81-4887-47E7-A68D-2A4B59C4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BD56-D36A-4F15-A272-5D66CFBA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EA4F-FB1B-4C51-8B50-9714D897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9B1C-3B74-4B76-B7C2-C7E3B63F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A782-A54F-4E4C-84EB-543F6727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AA3C-4650-4002-B1A1-ED96E425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984-16E3-43FB-B471-F94FBD37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600C-F250-4C54-9308-2C222E3D0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ives For Topic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are the cognitive demands of software engineering project courses and how to satisfy the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kills should be taugh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o are the stakeholders? What do they care abou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n educationally sound approach to meeting the demand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We will exemplify this through what we do at US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ly Complex Se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Stakeholders and Win Conditi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1447920"/>
          <a:ext cx="7772400" cy="544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54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1: Cognitive demands of software engineering project cour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/CU Background on SWE project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stakeholders and w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C’s CS 577 course CRESST model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al Strateg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CRESST style “cognitive demands analysis” to determine which software economics skills and what sequence of educational experiences help the students learn the skill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057400" y="3124080"/>
            <a:ext cx="4876560" cy="2971080"/>
            <a:chOff x="2057400" y="3124080"/>
            <a:chExt cx="4876560" cy="2971080"/>
          </a:xfrm>
        </p:grpSpPr>
        <p:sp>
          <p:nvSpPr>
            <p:cNvPr id="67" name=""/>
            <p:cNvSpPr/>
            <p:nvPr/>
          </p:nvSpPr>
          <p:spPr>
            <a:xfrm flipH="1" flipV="1">
              <a:off x="5226120" y="4961880"/>
              <a:ext cx="244080" cy="62532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520800" y="4962240"/>
              <a:ext cx="244440" cy="61272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057400" y="3838680"/>
              <a:ext cx="1463400" cy="990360"/>
            </a:xfrm>
            <a:custGeom>
              <a:avLst/>
              <a:gdLst/>
              <a:ahLst/>
              <a:rect l="l" t="t" r="r" b="b"/>
              <a:pathLst>
                <a:path w="1258" h="414">
                  <a:moveTo>
                    <a:pt x="1153" y="414"/>
                  </a:moveTo>
                  <a:lnTo>
                    <a:pt x="1176" y="411"/>
                  </a:lnTo>
                  <a:lnTo>
                    <a:pt x="1199" y="404"/>
                  </a:lnTo>
                  <a:lnTo>
                    <a:pt x="1218" y="392"/>
                  </a:lnTo>
                  <a:lnTo>
                    <a:pt x="1235" y="375"/>
                  </a:lnTo>
                  <a:lnTo>
                    <a:pt x="1248" y="355"/>
                  </a:lnTo>
                  <a:lnTo>
                    <a:pt x="1255" y="333"/>
                  </a:lnTo>
                  <a:lnTo>
                    <a:pt x="1258" y="309"/>
                  </a:lnTo>
                  <a:lnTo>
                    <a:pt x="1258" y="105"/>
                  </a:lnTo>
                  <a:lnTo>
                    <a:pt x="1255" y="81"/>
                  </a:lnTo>
                  <a:lnTo>
                    <a:pt x="1248" y="60"/>
                  </a:lnTo>
                  <a:lnTo>
                    <a:pt x="1235" y="39"/>
                  </a:lnTo>
                  <a:lnTo>
                    <a:pt x="1218" y="22"/>
                  </a:lnTo>
                  <a:lnTo>
                    <a:pt x="1199" y="10"/>
                  </a:lnTo>
                  <a:lnTo>
                    <a:pt x="1176" y="3"/>
                  </a:lnTo>
                  <a:lnTo>
                    <a:pt x="1153" y="0"/>
                  </a:lnTo>
                  <a:lnTo>
                    <a:pt x="105" y="0"/>
                  </a:lnTo>
                  <a:lnTo>
                    <a:pt x="83" y="3"/>
                  </a:lnTo>
                  <a:lnTo>
                    <a:pt x="60" y="10"/>
                  </a:lnTo>
                  <a:lnTo>
                    <a:pt x="41" y="22"/>
                  </a:lnTo>
                  <a:lnTo>
                    <a:pt x="24" y="39"/>
                  </a:lnTo>
                  <a:lnTo>
                    <a:pt x="11" y="60"/>
                  </a:lnTo>
                  <a:lnTo>
                    <a:pt x="3" y="81"/>
                  </a:lnTo>
                  <a:lnTo>
                    <a:pt x="0" y="105"/>
                  </a:lnTo>
                  <a:lnTo>
                    <a:pt x="0" y="309"/>
                  </a:lnTo>
                  <a:lnTo>
                    <a:pt x="3" y="333"/>
                  </a:lnTo>
                  <a:lnTo>
                    <a:pt x="11" y="355"/>
                  </a:lnTo>
                  <a:lnTo>
                    <a:pt x="24" y="375"/>
                  </a:lnTo>
                  <a:lnTo>
                    <a:pt x="41" y="392"/>
                  </a:lnTo>
                  <a:lnTo>
                    <a:pt x="60" y="404"/>
                  </a:lnTo>
                  <a:lnTo>
                    <a:pt x="83" y="411"/>
                  </a:lnTo>
                  <a:lnTo>
                    <a:pt x="105" y="414"/>
                  </a:lnTo>
                  <a:lnTo>
                    <a:pt x="1153" y="41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25520" y="4098960"/>
              <a:ext cx="1148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765600" y="4466880"/>
              <a:ext cx="1460520" cy="991080"/>
            </a:xfrm>
            <a:custGeom>
              <a:avLst/>
              <a:gdLst/>
              <a:ahLst/>
              <a:rect l="l" t="t" r="r" b="b"/>
              <a:pathLst>
                <a:path w="1257" h="414">
                  <a:moveTo>
                    <a:pt x="1153" y="414"/>
                  </a:moveTo>
                  <a:lnTo>
                    <a:pt x="1176" y="411"/>
                  </a:lnTo>
                  <a:lnTo>
                    <a:pt x="1199" y="403"/>
                  </a:lnTo>
                  <a:lnTo>
                    <a:pt x="1218" y="390"/>
                  </a:lnTo>
                  <a:lnTo>
                    <a:pt x="1235" y="374"/>
                  </a:lnTo>
                  <a:lnTo>
                    <a:pt x="1248" y="354"/>
                  </a:lnTo>
                  <a:lnTo>
                    <a:pt x="1255" y="332"/>
                  </a:lnTo>
                  <a:lnTo>
                    <a:pt x="1257" y="309"/>
                  </a:lnTo>
                  <a:lnTo>
                    <a:pt x="1257" y="105"/>
                  </a:lnTo>
                  <a:lnTo>
                    <a:pt x="1255" y="81"/>
                  </a:lnTo>
                  <a:lnTo>
                    <a:pt x="1248" y="59"/>
                  </a:lnTo>
                  <a:lnTo>
                    <a:pt x="1235" y="39"/>
                  </a:lnTo>
                  <a:lnTo>
                    <a:pt x="1218" y="22"/>
                  </a:lnTo>
                  <a:lnTo>
                    <a:pt x="1199" y="10"/>
                  </a:lnTo>
                  <a:lnTo>
                    <a:pt x="1176" y="1"/>
                  </a:lnTo>
                  <a:lnTo>
                    <a:pt x="1153" y="0"/>
                  </a:lnTo>
                  <a:lnTo>
                    <a:pt x="105" y="0"/>
                  </a:lnTo>
                  <a:lnTo>
                    <a:pt x="82" y="1"/>
                  </a:lnTo>
                  <a:lnTo>
                    <a:pt x="60" y="10"/>
                  </a:lnTo>
                  <a:lnTo>
                    <a:pt x="41" y="22"/>
                  </a:lnTo>
                  <a:lnTo>
                    <a:pt x="24" y="39"/>
                  </a:lnTo>
                  <a:lnTo>
                    <a:pt x="11" y="59"/>
                  </a:lnTo>
                  <a:lnTo>
                    <a:pt x="3" y="81"/>
                  </a:lnTo>
                  <a:lnTo>
                    <a:pt x="0" y="105"/>
                  </a:lnTo>
                  <a:lnTo>
                    <a:pt x="0" y="309"/>
                  </a:lnTo>
                  <a:lnTo>
                    <a:pt x="3" y="332"/>
                  </a:lnTo>
                  <a:lnTo>
                    <a:pt x="11" y="354"/>
                  </a:lnTo>
                  <a:lnTo>
                    <a:pt x="24" y="374"/>
                  </a:lnTo>
                  <a:lnTo>
                    <a:pt x="41" y="390"/>
                  </a:lnTo>
                  <a:lnTo>
                    <a:pt x="60" y="403"/>
                  </a:lnTo>
                  <a:lnTo>
                    <a:pt x="82" y="411"/>
                  </a:lnTo>
                  <a:lnTo>
                    <a:pt x="105" y="414"/>
                  </a:lnTo>
                  <a:lnTo>
                    <a:pt x="1153" y="414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23440" y="4723560"/>
              <a:ext cx="752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ear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70560" y="3823200"/>
              <a:ext cx="1463400" cy="993960"/>
            </a:xfrm>
            <a:custGeom>
              <a:avLst/>
              <a:gdLst/>
              <a:ahLst/>
              <a:rect l="l" t="t" r="r" b="b"/>
              <a:pathLst>
                <a:path w="1257" h="415">
                  <a:moveTo>
                    <a:pt x="1153" y="415"/>
                  </a:moveTo>
                  <a:lnTo>
                    <a:pt x="1176" y="412"/>
                  </a:lnTo>
                  <a:lnTo>
                    <a:pt x="1199" y="405"/>
                  </a:lnTo>
                  <a:lnTo>
                    <a:pt x="1218" y="392"/>
                  </a:lnTo>
                  <a:lnTo>
                    <a:pt x="1235" y="375"/>
                  </a:lnTo>
                  <a:lnTo>
                    <a:pt x="1248" y="356"/>
                  </a:lnTo>
                  <a:lnTo>
                    <a:pt x="1255" y="333"/>
                  </a:lnTo>
                  <a:lnTo>
                    <a:pt x="1257" y="310"/>
                  </a:lnTo>
                  <a:lnTo>
                    <a:pt x="1257" y="105"/>
                  </a:lnTo>
                  <a:lnTo>
                    <a:pt x="1255" y="82"/>
                  </a:lnTo>
                  <a:lnTo>
                    <a:pt x="1248" y="61"/>
                  </a:lnTo>
                  <a:lnTo>
                    <a:pt x="1235" y="40"/>
                  </a:lnTo>
                  <a:lnTo>
                    <a:pt x="1218" y="23"/>
                  </a:lnTo>
                  <a:lnTo>
                    <a:pt x="1199" y="10"/>
                  </a:lnTo>
                  <a:lnTo>
                    <a:pt x="1176" y="3"/>
                  </a:lnTo>
                  <a:lnTo>
                    <a:pt x="1153" y="0"/>
                  </a:lnTo>
                  <a:lnTo>
                    <a:pt x="105" y="0"/>
                  </a:lnTo>
                  <a:lnTo>
                    <a:pt x="82" y="3"/>
                  </a:lnTo>
                  <a:lnTo>
                    <a:pt x="60" y="10"/>
                  </a:lnTo>
                  <a:lnTo>
                    <a:pt x="41" y="23"/>
                  </a:lnTo>
                  <a:lnTo>
                    <a:pt x="24" y="40"/>
                  </a:lnTo>
                  <a:lnTo>
                    <a:pt x="11" y="61"/>
                  </a:lnTo>
                  <a:lnTo>
                    <a:pt x="3" y="82"/>
                  </a:lnTo>
                  <a:lnTo>
                    <a:pt x="0" y="105"/>
                  </a:lnTo>
                  <a:lnTo>
                    <a:pt x="0" y="310"/>
                  </a:lnTo>
                  <a:lnTo>
                    <a:pt x="3" y="333"/>
                  </a:lnTo>
                  <a:lnTo>
                    <a:pt x="11" y="356"/>
                  </a:lnTo>
                  <a:lnTo>
                    <a:pt x="24" y="375"/>
                  </a:lnTo>
                  <a:lnTo>
                    <a:pt x="41" y="392"/>
                  </a:lnTo>
                  <a:lnTo>
                    <a:pt x="60" y="405"/>
                  </a:lnTo>
                  <a:lnTo>
                    <a:pt x="82" y="412"/>
                  </a:lnTo>
                  <a:lnTo>
                    <a:pt x="105" y="415"/>
                  </a:lnTo>
                  <a:lnTo>
                    <a:pt x="1153" y="41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46760" y="3853800"/>
              <a:ext cx="71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bl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889240" y="4318560"/>
              <a:ext cx="643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v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7400" y="5064840"/>
              <a:ext cx="1463400" cy="1017720"/>
            </a:xfrm>
            <a:custGeom>
              <a:avLst/>
              <a:gdLst/>
              <a:ahLst/>
              <a:rect l="l" t="t" r="r" b="b"/>
              <a:pathLst>
                <a:path w="1258" h="426">
                  <a:moveTo>
                    <a:pt x="1153" y="426"/>
                  </a:moveTo>
                  <a:lnTo>
                    <a:pt x="1176" y="423"/>
                  </a:lnTo>
                  <a:lnTo>
                    <a:pt x="1199" y="416"/>
                  </a:lnTo>
                  <a:lnTo>
                    <a:pt x="1218" y="403"/>
                  </a:lnTo>
                  <a:lnTo>
                    <a:pt x="1235" y="387"/>
                  </a:lnTo>
                  <a:lnTo>
                    <a:pt x="1248" y="367"/>
                  </a:lnTo>
                  <a:lnTo>
                    <a:pt x="1255" y="345"/>
                  </a:lnTo>
                  <a:lnTo>
                    <a:pt x="1258" y="321"/>
                  </a:lnTo>
                  <a:lnTo>
                    <a:pt x="1258" y="105"/>
                  </a:lnTo>
                  <a:lnTo>
                    <a:pt x="1255" y="82"/>
                  </a:lnTo>
                  <a:lnTo>
                    <a:pt x="1248" y="61"/>
                  </a:lnTo>
                  <a:lnTo>
                    <a:pt x="1235" y="40"/>
                  </a:lnTo>
                  <a:lnTo>
                    <a:pt x="1218" y="23"/>
                  </a:lnTo>
                  <a:lnTo>
                    <a:pt x="1199" y="10"/>
                  </a:lnTo>
                  <a:lnTo>
                    <a:pt x="1176" y="3"/>
                  </a:lnTo>
                  <a:lnTo>
                    <a:pt x="1153" y="0"/>
                  </a:lnTo>
                  <a:lnTo>
                    <a:pt x="105" y="0"/>
                  </a:lnTo>
                  <a:lnTo>
                    <a:pt x="83" y="3"/>
                  </a:lnTo>
                  <a:lnTo>
                    <a:pt x="60" y="10"/>
                  </a:lnTo>
                  <a:lnTo>
                    <a:pt x="41" y="23"/>
                  </a:lnTo>
                  <a:lnTo>
                    <a:pt x="24" y="40"/>
                  </a:lnTo>
                  <a:lnTo>
                    <a:pt x="11" y="61"/>
                  </a:lnTo>
                  <a:lnTo>
                    <a:pt x="3" y="82"/>
                  </a:lnTo>
                  <a:lnTo>
                    <a:pt x="0" y="105"/>
                  </a:lnTo>
                  <a:lnTo>
                    <a:pt x="0" y="321"/>
                  </a:lnTo>
                  <a:lnTo>
                    <a:pt x="3" y="345"/>
                  </a:lnTo>
                  <a:lnTo>
                    <a:pt x="11" y="367"/>
                  </a:lnTo>
                  <a:lnTo>
                    <a:pt x="24" y="387"/>
                  </a:lnTo>
                  <a:lnTo>
                    <a:pt x="41" y="403"/>
                  </a:lnTo>
                  <a:lnTo>
                    <a:pt x="60" y="416"/>
                  </a:lnTo>
                  <a:lnTo>
                    <a:pt x="83" y="423"/>
                  </a:lnTo>
                  <a:lnTo>
                    <a:pt x="105" y="426"/>
                  </a:lnTo>
                  <a:lnTo>
                    <a:pt x="1153" y="426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27600" y="5342760"/>
              <a:ext cx="1344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470560" y="5080320"/>
              <a:ext cx="1463400" cy="1014840"/>
            </a:xfrm>
            <a:custGeom>
              <a:avLst/>
              <a:gdLst/>
              <a:ahLst/>
              <a:rect l="l" t="t" r="r" b="b"/>
              <a:pathLst>
                <a:path w="1257" h="425">
                  <a:moveTo>
                    <a:pt x="1153" y="425"/>
                  </a:moveTo>
                  <a:lnTo>
                    <a:pt x="1176" y="423"/>
                  </a:lnTo>
                  <a:lnTo>
                    <a:pt x="1199" y="416"/>
                  </a:lnTo>
                  <a:lnTo>
                    <a:pt x="1218" y="403"/>
                  </a:lnTo>
                  <a:lnTo>
                    <a:pt x="1235" y="386"/>
                  </a:lnTo>
                  <a:lnTo>
                    <a:pt x="1248" y="367"/>
                  </a:lnTo>
                  <a:lnTo>
                    <a:pt x="1255" y="344"/>
                  </a:lnTo>
                  <a:lnTo>
                    <a:pt x="1257" y="320"/>
                  </a:lnTo>
                  <a:lnTo>
                    <a:pt x="1257" y="105"/>
                  </a:lnTo>
                  <a:lnTo>
                    <a:pt x="1255" y="81"/>
                  </a:lnTo>
                  <a:lnTo>
                    <a:pt x="1248" y="60"/>
                  </a:lnTo>
                  <a:lnTo>
                    <a:pt x="1235" y="39"/>
                  </a:lnTo>
                  <a:lnTo>
                    <a:pt x="1218" y="22"/>
                  </a:lnTo>
                  <a:lnTo>
                    <a:pt x="1199" y="10"/>
                  </a:lnTo>
                  <a:lnTo>
                    <a:pt x="1176" y="3"/>
                  </a:lnTo>
                  <a:lnTo>
                    <a:pt x="1153" y="0"/>
                  </a:lnTo>
                  <a:lnTo>
                    <a:pt x="105" y="0"/>
                  </a:lnTo>
                  <a:lnTo>
                    <a:pt x="82" y="3"/>
                  </a:lnTo>
                  <a:lnTo>
                    <a:pt x="60" y="10"/>
                  </a:lnTo>
                  <a:lnTo>
                    <a:pt x="41" y="22"/>
                  </a:lnTo>
                  <a:lnTo>
                    <a:pt x="24" y="39"/>
                  </a:lnTo>
                  <a:lnTo>
                    <a:pt x="11" y="60"/>
                  </a:lnTo>
                  <a:lnTo>
                    <a:pt x="3" y="81"/>
                  </a:lnTo>
                  <a:lnTo>
                    <a:pt x="0" y="105"/>
                  </a:lnTo>
                  <a:lnTo>
                    <a:pt x="0" y="320"/>
                  </a:lnTo>
                  <a:lnTo>
                    <a:pt x="3" y="344"/>
                  </a:lnTo>
                  <a:lnTo>
                    <a:pt x="11" y="367"/>
                  </a:lnTo>
                  <a:lnTo>
                    <a:pt x="24" y="386"/>
                  </a:lnTo>
                  <a:lnTo>
                    <a:pt x="41" y="403"/>
                  </a:lnTo>
                  <a:lnTo>
                    <a:pt x="60" y="416"/>
                  </a:lnTo>
                  <a:lnTo>
                    <a:pt x="82" y="423"/>
                  </a:lnTo>
                  <a:lnTo>
                    <a:pt x="105" y="425"/>
                  </a:lnTo>
                  <a:lnTo>
                    <a:pt x="1153" y="42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548680" y="5352840"/>
              <a:ext cx="1306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lf-Regul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3520440" y="4333680"/>
              <a:ext cx="244440" cy="6282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5226120" y="4321440"/>
              <a:ext cx="244080" cy="6408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495680" y="4138920"/>
              <a:ext cx="2520" cy="327600"/>
            </a:xfrm>
            <a:prstGeom prst="line">
              <a:avLst/>
            </a:prstGeom>
            <a:ln w="1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65600" y="3124080"/>
              <a:ext cx="1460520" cy="1014840"/>
            </a:xfrm>
            <a:custGeom>
              <a:avLst/>
              <a:gdLst/>
              <a:ahLst/>
              <a:rect l="l" t="t" r="r" b="b"/>
              <a:pathLst>
                <a:path w="1257" h="425">
                  <a:moveTo>
                    <a:pt x="1153" y="425"/>
                  </a:moveTo>
                  <a:lnTo>
                    <a:pt x="1176" y="422"/>
                  </a:lnTo>
                  <a:lnTo>
                    <a:pt x="1199" y="414"/>
                  </a:lnTo>
                  <a:lnTo>
                    <a:pt x="1218" y="401"/>
                  </a:lnTo>
                  <a:lnTo>
                    <a:pt x="1235" y="386"/>
                  </a:lnTo>
                  <a:lnTo>
                    <a:pt x="1248" y="365"/>
                  </a:lnTo>
                  <a:lnTo>
                    <a:pt x="1255" y="342"/>
                  </a:lnTo>
                  <a:lnTo>
                    <a:pt x="1257" y="320"/>
                  </a:lnTo>
                  <a:lnTo>
                    <a:pt x="1257" y="105"/>
                  </a:lnTo>
                  <a:lnTo>
                    <a:pt x="1255" y="81"/>
                  </a:lnTo>
                  <a:lnTo>
                    <a:pt x="1248" y="58"/>
                  </a:lnTo>
                  <a:lnTo>
                    <a:pt x="1235" y="39"/>
                  </a:lnTo>
                  <a:lnTo>
                    <a:pt x="1218" y="22"/>
                  </a:lnTo>
                  <a:lnTo>
                    <a:pt x="1199" y="9"/>
                  </a:lnTo>
                  <a:lnTo>
                    <a:pt x="1176" y="3"/>
                  </a:lnTo>
                  <a:lnTo>
                    <a:pt x="1153" y="0"/>
                  </a:lnTo>
                  <a:lnTo>
                    <a:pt x="105" y="0"/>
                  </a:lnTo>
                  <a:lnTo>
                    <a:pt x="82" y="3"/>
                  </a:lnTo>
                  <a:lnTo>
                    <a:pt x="60" y="9"/>
                  </a:lnTo>
                  <a:lnTo>
                    <a:pt x="41" y="22"/>
                  </a:lnTo>
                  <a:lnTo>
                    <a:pt x="24" y="39"/>
                  </a:lnTo>
                  <a:lnTo>
                    <a:pt x="11" y="58"/>
                  </a:lnTo>
                  <a:lnTo>
                    <a:pt x="3" y="81"/>
                  </a:lnTo>
                  <a:lnTo>
                    <a:pt x="0" y="105"/>
                  </a:lnTo>
                  <a:lnTo>
                    <a:pt x="0" y="320"/>
                  </a:lnTo>
                  <a:lnTo>
                    <a:pt x="3" y="342"/>
                  </a:lnTo>
                  <a:lnTo>
                    <a:pt x="11" y="365"/>
                  </a:lnTo>
                  <a:lnTo>
                    <a:pt x="24" y="386"/>
                  </a:lnTo>
                  <a:lnTo>
                    <a:pt x="41" y="401"/>
                  </a:lnTo>
                  <a:lnTo>
                    <a:pt x="60" y="414"/>
                  </a:lnTo>
                  <a:lnTo>
                    <a:pt x="82" y="422"/>
                  </a:lnTo>
                  <a:lnTo>
                    <a:pt x="105" y="425"/>
                  </a:lnTo>
                  <a:lnTo>
                    <a:pt x="1153" y="425"/>
                  </a:lnTo>
                  <a:close/>
                </a:path>
              </a:pathLst>
            </a:custGeom>
            <a:solidFill>
              <a:srgbClr val="ffffff"/>
            </a:solidFill>
            <a:ln w="1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62320" y="3161160"/>
              <a:ext cx="671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75400" y="3634200"/>
              <a:ext cx="1254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dersta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763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Demands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52280" y="638280"/>
            <a:ext cx="876312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398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Cognitive Demands Analysis for MBASE Inceptio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247760"/>
          <a:ext cx="784872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247760"/>
                    <a:ext cx="784872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762120" y="5562720"/>
          <a:ext cx="7619760" cy="419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5562720"/>
                    <a:ext cx="761976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Demands Analysis: Early Risk Management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90560"/>
            <a:ext cx="838188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al Strategi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(cont.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n extension of the Boehm risk assessment and control frame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essment: risk identification, analysis, priori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: planning, resolution,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ed by the SEI risk taxonomy and the project risk techniques in [Hall]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everal reflection-in-action techniques to provide feed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ctions, architecture review boards, grading criteria, monitoring of their risk management plans, student critiques of their project experiences, and client eval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Practic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rtup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ng a project, form t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risk ident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rly Project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COMO effort estimates, Process selection, business case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hieve Stakeholders’ Shared 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WinWin, Simplifiers and Complicators, Results Ch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ulate, Validate Concept of Ope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based degree of d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 to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-N risk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ous Risk Assessment and Contr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management “mini” spi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Demands Analysis and its associated educational activities help students become effective in SWE economic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rther enhance skills as process definition, client interaction, requirements negotiation, business case analysis, software and system architecting, project organizing and planning, and product validation and transi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do not just learn SWE econom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 their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also learn SWE economic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 their hea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keholder win-win negotiations, top-N risk item lis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y learn SWE economics manageme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n their g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coming their built-in desires to please, to do the easy things or fun things first, to avoid confrontation in face-to-face discussions with clients to convince them that there are serious risks that need to be addres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t students become basically effective managers in a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taught; can expose to 15 years “real world”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1: Cognitive demands of software engineering project cour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USC/CU Background on SWE project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stakeholders and w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’s CS 577 course CRESST model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477 USC Undergraduate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3156 CU Undergraduate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ove required by many CS, CE major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577a,b USC 2-sem. Masters 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S4156 CU grad.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ther undergrad courses have no SWE content and thus this often is students ONLY SWE exposu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n’t that where you teach Make, YACC, and stuf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 cs prof. (robotic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E Courses at US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’s two-semester software engineering cour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client team-project course based on the CRESST (Center for Research on Evaluation, Standards, and Student Testing, UCLA) model of team-performance le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s come mainly from Library, some from Information Services, some internal to Center for Software Engineering, a few from other departments (medical school, management, etc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evelopment lifecycle from inception through tran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xth year of “new and improved”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pid ev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 “laborator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conomics Experi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riences in SWE Economic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icit project (architectural and economic) risk identification, assessment, and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-driven (strategic) specifications, Risk driven spir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Vision and “Success Model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specific simplifier and complicator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hedule as an independent variable (SAIV) proces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iness cas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ivation &amp; Context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WE Economics 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okbook solution approaches to current IT applications frequently lead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solutions to the wrong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mounts of late r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emphasized or underemphasized activities through inability to determine “how much is enough?” and level of detail eff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address the above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it take 15 years to get the experience to do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! Can rapidly educate for SW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ucation Challeng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153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ajor challenges are learning how to recognize and deal with particularly risky personal and organizational tendencies and external constraints.  These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sire to please, “Just Build Something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eld of Dreams “Build it and they will co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easible product concept, poor business case for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-centric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 cl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endency to focus on a single criterion (budget, schedule, performance, features, correctn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appropriate solution paradigms, such as “Do the easiest parts first, and the hard parts will get easier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-insensitive progress metrics, such as “finish the requirements by Day X (even if they haven’t been verified for feasibility)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ills of crisis management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SCA Syndrome, “why isn’t Sam coding anything?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se Approa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olved key economic techniques from over 8 years teaching graduate level software engineering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merse students in a full life cycle (through product transition) team project with real clien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irst-hand personal experience in the effects of making risky deci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 risk-driven process model for the project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-Based (System) Architecting and Software Engineering (MBASE) is an risk driven extension of the spir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ggest risk is delivering an unsatisfactory architecture package within 12 weeks in the fall semester and to deliver and transition an unsatisfactory product within 12 weeks in the spring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, the best process model is SAIV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104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ic 1: Cognitive demands of software engineering project cour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/CU Background on SWE project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ourse stakeholders and win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C’s CS 577 course CRESST model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0:12:33Z</dcterms:created>
  <dc:creator>dport</dc:creator>
  <dc:description/>
  <dc:language>en-US</dc:language>
  <cp:lastModifiedBy>Valued Sony Customer</cp:lastModifiedBy>
  <dcterms:modified xsi:type="dcterms:W3CDTF">2002-02-24T21:24:25Z</dcterms:modified>
  <cp:revision>5</cp:revision>
  <dc:subject/>
  <dc:title>Topic 1: Cognitive demands of software engineering project courses</dc:title>
</cp:coreProperties>
</file>