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8BD6-8686-4083-84D1-FA178D8C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1F29-4D61-4966-81DA-4EEFDE62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6C60-92ED-4360-B933-38968CB25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6BDE-9787-413D-B81A-B36BEB63B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099C-1914-4EF0-82A7-9A0D1865D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4170-3F44-41B8-A44B-ECB9566E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FE4E-CA70-4023-8A5F-FAE1D793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2B0E-547D-4ECB-84AF-9F9D32AD0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10F5-5F63-425B-A7DB-7F9C1965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14F1-7523-4007-832B-575136016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34F2-173A-4F87-A6A8-EB9C27E6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378A-E76C-40BE-8555-B835657C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E112-61AF-42D0-87F8-E7A2BA34E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ing Software Economics Within Software Engineering Project Courses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EE&amp;T 2002 Tutorial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200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rry Boehm, Daniel Por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ity of Southern Californ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artment of Computer Sci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 for S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76320"/>
            <a:ext cx="89917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굴림"/>
              </a:rPr>
              <a:t>SWE Economics a </a:t>
            </a:r>
            <a:r>
              <a:rPr b="0" lang="en-US" sz="3400" spc="-1" strike="noStrike" u="sng">
                <a:solidFill>
                  <a:srgbClr val="000000"/>
                </a:solidFill>
                <a:uFillTx/>
                <a:latin typeface="Times New Roman"/>
                <a:ea typeface="굴림"/>
              </a:rPr>
              <a:t>VAS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굴림"/>
              </a:rPr>
              <a:t> subject well beyond cost estim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굴림"/>
              </a:rPr>
              <a:t>Software Decision Analysis Techniques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굴림"/>
              </a:rPr>
              <a:t>Chapters 10-20 in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Times New Roman"/>
                <a:ea typeface="굴림"/>
              </a:rPr>
              <a:t>Software Engineering Economic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굴림"/>
              </a:rPr>
              <a:t>Economics – The study of how people make decisions in resource-limited situa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굴림"/>
              </a:rPr>
              <a:t>Macroeconomic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굴림"/>
              </a:rPr>
              <a:t>Inflation, taxation, balance of paymen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굴림"/>
              </a:rPr>
              <a:t>Microeconomic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굴림"/>
              </a:rPr>
              <a:t>Make-or-buy, pricing, how much to buil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굴림"/>
              </a:rPr>
              <a:t>Software economics decis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굴림"/>
              </a:rPr>
              <a:t>Make-or-buy: Software Produc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굴림"/>
              </a:rPr>
              <a:t>How many options to build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굴림"/>
              </a:rPr>
              <a:t>Which DP architecture to use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굴림"/>
              </a:rPr>
              <a:t>How much testing (prototyping, specifying) is enough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굴림"/>
              </a:rPr>
              <a:t>How much software to re-use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굴림"/>
              </a:rPr>
              <a:t>Which new features to add first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644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n Software Engineering 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to build? Why? How well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Stakeholder needs balancing; business ca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om to build it with? Where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 Staffing; organizing; outsou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to build? When; in what order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Process, methods, tools, components, inc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to adapt to change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In user needs, technology, market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much is enough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Functionality, quality, specifying, prototyping,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85800" y="1859040"/>
          <a:ext cx="7391520" cy="423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9040"/>
                    <a:ext cx="739152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228600" y="837720"/>
            <a:ext cx="9601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Software Engineering Is Not Well-Practiced Today</a:t>
            </a:r>
            <a:br>
              <a:rPr sz="30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Standish Group CHAOS Report 19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75440" y="2057400"/>
            <a:ext cx="13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n-ti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n-bud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2743200"/>
            <a:ext cx="21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Arial"/>
              </a:rPr>
              <a:t>Discontinu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49816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Aver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9% of original bud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1% of original 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1% of original function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15840" y="441972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eriously </a:t>
            </a:r>
            <a:br>
              <a:rPr sz="1800"/>
            </a:b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Overr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7621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conomics-Driven Proces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-958320" y="3303360"/>
            <a:ext cx="274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 to fix de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1760" y="1981080"/>
            <a:ext cx="6058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32480" y="53341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q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171240" y="53341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71600" y="1905120"/>
            <a:ext cx="0" cy="335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5257800"/>
            <a:ext cx="2666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724280" y="1828800"/>
            <a:ext cx="4191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Arial"/>
              </a:rPr>
              <a:t>Early concept validatio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Arial"/>
              </a:rPr>
              <a:t>Prototyp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Arial"/>
              </a:rPr>
              <a:t>Thorough specifica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Arial"/>
              </a:rPr>
              <a:t>Planning and contro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Arial"/>
              </a:rPr>
              <a:t>Continuous improve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Arial"/>
              </a:rPr>
              <a:t>Risk manage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Arial"/>
              </a:rPr>
              <a:t>Domain Engineeri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Arial"/>
              </a:rPr>
              <a:t>Business Case Analysi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-1447200" y="-913320"/>
            <a:ext cx="5638320" cy="6096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3184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31844"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Risk Manag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colored%20spiral%20model%20copy" descr=""/>
          <p:cNvPicPr/>
          <p:nvPr/>
        </p:nvPicPr>
        <p:blipFill>
          <a:blip r:embed="rId1"/>
          <a:srcRect l="0" t="0" r="0" b="1470"/>
          <a:stretch/>
        </p:blipFill>
        <p:spPr>
          <a:xfrm>
            <a:off x="228600" y="1447920"/>
            <a:ext cx="4095720" cy="3622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266720" y="1752120"/>
            <a:ext cx="4800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Arial"/>
              </a:rPr>
              <a:t>Use Risk Exposure for management prioriti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33cc"/>
                </a:solidFill>
                <a:latin typeface="Arial"/>
              </a:rPr>
              <a:t>RE = Prob(Loss)*Size(Loss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Arial"/>
              </a:rPr>
              <a:t>Basis for spiral model decis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Arial"/>
              </a:rPr>
              <a:t>Helps answer “how much is enough?”</a:t>
            </a:r>
            <a:r>
              <a:rPr b="1" lang="en-US" sz="2500" spc="-1" strike="noStrike">
                <a:solidFill>
                  <a:srgbClr val="0033cc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00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33cc"/>
                </a:solidFill>
                <a:latin typeface="Arial"/>
              </a:rPr>
              <a:t>Testing, prototyping, COTS evaluation, etc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28600" y="99072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RE Profile: Time to 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ss due to unacceptable dependability</a:t>
            </a:r>
            <a:br>
              <a:rPr sz="40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- Loss due to market share ero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506600" y="2603160"/>
            <a:ext cx="0" cy="29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22640" y="5638680"/>
            <a:ext cx="4679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to Ship (amount of tes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160" y="3692520"/>
            <a:ext cx="1476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(L) * S(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06600" y="5575320"/>
            <a:ext cx="6248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87480" y="53722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47720" y="4495680"/>
            <a:ext cx="2160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Few rivals: low P(L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Weak rivals: low S(L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97640" y="285768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80520" y="2666880"/>
            <a:ext cx="2390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Many rivals: high P(L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Strong rivals: high S(L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58880" y="2705040"/>
            <a:ext cx="4952880" cy="2743200"/>
          </a:xfrm>
          <a:custGeom>
            <a:avLst/>
            <a:gdLst/>
            <a:ahLst/>
            <a:rect l="l" t="t" r="r" b="b"/>
            <a:pathLst>
              <a:path w="3120" h="1728">
                <a:moveTo>
                  <a:pt x="0" y="1728"/>
                </a:moveTo>
                <a:cubicBezTo>
                  <a:pt x="892" y="1560"/>
                  <a:pt x="1784" y="1392"/>
                  <a:pt x="2304" y="1104"/>
                </a:cubicBezTo>
                <a:cubicBezTo>
                  <a:pt x="2824" y="816"/>
                  <a:pt x="2972" y="408"/>
                  <a:pt x="3120" y="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08160" y="284472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11280" y="2666880"/>
            <a:ext cx="26175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any defects: high P(L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ritical defects: high S(L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086600" y="53848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25840" y="4724280"/>
            <a:ext cx="23767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ew defects: low P(L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nor defects: low S(L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2641680"/>
            <a:ext cx="5791320" cy="2819160"/>
          </a:xfrm>
          <a:custGeom>
            <a:avLst/>
            <a:gdLst/>
            <a:ahLst/>
            <a:rect l="l" t="t" r="r" b="b"/>
            <a:pathLst>
              <a:path w="3648" h="1776">
                <a:moveTo>
                  <a:pt x="0" y="0"/>
                </a:moveTo>
                <a:cubicBezTo>
                  <a:pt x="368" y="548"/>
                  <a:pt x="736" y="1096"/>
                  <a:pt x="1344" y="1392"/>
                </a:cubicBezTo>
                <a:cubicBezTo>
                  <a:pt x="1952" y="1688"/>
                  <a:pt x="2800" y="1732"/>
                  <a:pt x="3648" y="177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320" y="762120"/>
            <a:ext cx="896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RE Profile: Time to Ship</a:t>
            </a:r>
            <a:br>
              <a:rPr sz="40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- Sum of Risk Expo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9160" y="2449440"/>
            <a:ext cx="8988120" cy="3496680"/>
            <a:chOff x="29160" y="2449440"/>
            <a:chExt cx="8988120" cy="3496680"/>
          </a:xfrm>
        </p:grpSpPr>
        <p:sp>
          <p:nvSpPr>
            <p:cNvPr id="102" name=""/>
            <p:cNvSpPr/>
            <p:nvPr/>
          </p:nvSpPr>
          <p:spPr>
            <a:xfrm flipV="1">
              <a:off x="1568160" y="2450880"/>
              <a:ext cx="0" cy="297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76640" y="5486400"/>
              <a:ext cx="48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me to Ship (amount of testing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160" y="3527280"/>
              <a:ext cx="1529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RE =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P(L) * S(L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68160" y="5423040"/>
              <a:ext cx="614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43280" y="5219640"/>
              <a:ext cx="7452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22520" y="4354560"/>
              <a:ext cx="220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Few rivals: low P(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Weak rivals: low S(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78920" y="2705040"/>
              <a:ext cx="7488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597720" y="2502000"/>
              <a:ext cx="2419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Many rivals: high P(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Strong rivals: high S(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45960" y="3543480"/>
              <a:ext cx="916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Swe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Spo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51600" y="4229280"/>
              <a:ext cx="299880" cy="304560"/>
            </a:xfrm>
            <a:prstGeom prst="ellipse">
              <a:avLst/>
            </a:prstGeom>
            <a:solidFill>
              <a:srgbClr val="3333cc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19520" y="5219640"/>
              <a:ext cx="7488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455520" y="2705040"/>
              <a:ext cx="7488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94520" y="2552760"/>
              <a:ext cx="4873680" cy="2743200"/>
            </a:xfrm>
            <a:custGeom>
              <a:avLst/>
              <a:gdLst/>
              <a:ahLst/>
              <a:rect l="l" t="t" r="r" b="b"/>
              <a:pathLst>
                <a:path w="3120" h="1728">
                  <a:moveTo>
                    <a:pt x="0" y="1728"/>
                  </a:moveTo>
                  <a:cubicBezTo>
                    <a:pt x="892" y="1560"/>
                    <a:pt x="1784" y="1392"/>
                    <a:pt x="2304" y="1104"/>
                  </a:cubicBezTo>
                  <a:cubicBezTo>
                    <a:pt x="2824" y="816"/>
                    <a:pt x="2972" y="408"/>
                    <a:pt x="312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78640" y="2489040"/>
              <a:ext cx="5698440" cy="2819520"/>
            </a:xfrm>
            <a:custGeom>
              <a:avLst/>
              <a:gdLst/>
              <a:ahLst/>
              <a:rect l="l" t="t" r="r" b="b"/>
              <a:pathLst>
                <a:path w="3648" h="1776">
                  <a:moveTo>
                    <a:pt x="0" y="0"/>
                  </a:moveTo>
                  <a:cubicBezTo>
                    <a:pt x="368" y="548"/>
                    <a:pt x="736" y="1096"/>
                    <a:pt x="1344" y="1392"/>
                  </a:cubicBezTo>
                  <a:cubicBezTo>
                    <a:pt x="1952" y="1688"/>
                    <a:pt x="2800" y="1732"/>
                    <a:pt x="3648" y="177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41640" y="2590920"/>
              <a:ext cx="745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358000" y="2449440"/>
              <a:ext cx="2632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any defects: high P(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ritical defects: high S(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77440" y="5219640"/>
              <a:ext cx="745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03920" y="4595760"/>
              <a:ext cx="240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ew defects: low P(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nor defects: low S(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3400" y="3200400"/>
              <a:ext cx="1479240" cy="1222200"/>
            </a:xfrm>
            <a:custGeom>
              <a:avLst/>
              <a:gdLst/>
              <a:ahLst/>
              <a:rect l="l" t="t" r="r" b="b"/>
              <a:pathLst>
                <a:path w="947" h="770">
                  <a:moveTo>
                    <a:pt x="0" y="0"/>
                  </a:moveTo>
                  <a:cubicBezTo>
                    <a:pt x="116" y="140"/>
                    <a:pt x="232" y="280"/>
                    <a:pt x="336" y="384"/>
                  </a:cubicBezTo>
                  <a:cubicBezTo>
                    <a:pt x="440" y="488"/>
                    <a:pt x="522" y="560"/>
                    <a:pt x="624" y="624"/>
                  </a:cubicBezTo>
                  <a:cubicBezTo>
                    <a:pt x="726" y="688"/>
                    <a:pt x="880" y="740"/>
                    <a:pt x="947" y="77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4477320" y="3200400"/>
              <a:ext cx="1574280" cy="1219320"/>
            </a:xfrm>
            <a:custGeom>
              <a:avLst/>
              <a:gdLst/>
              <a:ahLst/>
              <a:rect l="l" t="t" r="r" b="b"/>
              <a:pathLst>
                <a:path w="1008" h="768">
                  <a:moveTo>
                    <a:pt x="0" y="0"/>
                  </a:moveTo>
                  <a:cubicBezTo>
                    <a:pt x="116" y="140"/>
                    <a:pt x="232" y="280"/>
                    <a:pt x="336" y="384"/>
                  </a:cubicBezTo>
                  <a:cubicBezTo>
                    <a:pt x="440" y="488"/>
                    <a:pt x="512" y="560"/>
                    <a:pt x="624" y="624"/>
                  </a:cubicBezTo>
                  <a:cubicBezTo>
                    <a:pt x="736" y="688"/>
                    <a:pt x="872" y="728"/>
                    <a:pt x="1008" y="768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7796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굴림"/>
              </a:rPr>
              <a:t>Software Project Diseconomies of Sca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689040" y="1981080"/>
          <a:ext cx="7765920" cy="409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981080"/>
                    <a:ext cx="7765920" cy="409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295280" y="1523880"/>
            <a:ext cx="0" cy="327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4800600"/>
            <a:ext cx="662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771280" y="4876920"/>
            <a:ext cx="34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Person – Months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440" y="2971800"/>
            <a:ext cx="11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L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343760" y="403848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PM =  C (KSL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97640" y="3860640"/>
            <a:ext cx="5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1 +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1400" y="5638680"/>
            <a:ext cx="870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he best way to combat diseconomies of scale is t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Reduce the Sc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1447920"/>
            <a:ext cx="6019920" cy="3352680"/>
          </a:xfrm>
          <a:custGeom>
            <a:avLst/>
            <a:gdLst/>
            <a:ahLst/>
            <a:rect l="l" t="t" r="r" b="b"/>
            <a:pathLst>
              <a:path w="3504" h="2256">
                <a:moveTo>
                  <a:pt x="0" y="2256"/>
                </a:moveTo>
                <a:lnTo>
                  <a:pt x="3504" y="0"/>
                </a:lnTo>
                <a:lnTo>
                  <a:pt x="3374" y="189"/>
                </a:lnTo>
                <a:lnTo>
                  <a:pt x="3312" y="336"/>
                </a:lnTo>
                <a:lnTo>
                  <a:pt x="3216" y="576"/>
                </a:lnTo>
                <a:lnTo>
                  <a:pt x="3132" y="923"/>
                </a:lnTo>
                <a:lnTo>
                  <a:pt x="3105" y="1164"/>
                </a:lnTo>
                <a:lnTo>
                  <a:pt x="2736" y="1200"/>
                </a:lnTo>
                <a:lnTo>
                  <a:pt x="2448" y="1248"/>
                </a:lnTo>
                <a:lnTo>
                  <a:pt x="2160" y="1296"/>
                </a:lnTo>
                <a:lnTo>
                  <a:pt x="1536" y="1488"/>
                </a:lnTo>
                <a:lnTo>
                  <a:pt x="1152" y="1632"/>
                </a:lnTo>
                <a:lnTo>
                  <a:pt x="624" y="1872"/>
                </a:lnTo>
                <a:lnTo>
                  <a:pt x="0" y="225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248840"/>
            <a:ext cx="7772400" cy="4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COTS/New Development Cost Tradeof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590920" y="2211480"/>
            <a:ext cx="152280" cy="2741400"/>
            <a:chOff x="2590920" y="2211480"/>
            <a:chExt cx="152280" cy="2741400"/>
          </a:xfrm>
        </p:grpSpPr>
        <p:sp>
          <p:nvSpPr>
            <p:cNvPr id="135" name=""/>
            <p:cNvSpPr/>
            <p:nvPr/>
          </p:nvSpPr>
          <p:spPr>
            <a:xfrm>
              <a:off x="2666880" y="2211480"/>
              <a:ext cx="0" cy="274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590920" y="274464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90920" y="320184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90920" y="365904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90920" y="411624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590920" y="457344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90920" y="2287440"/>
              <a:ext cx="152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057400" y="2165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1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26226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30798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35370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3994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057400" y="4451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00800" y="32018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05884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O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66880" y="3430440"/>
            <a:ext cx="3810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2776680"/>
            <a:ext cx="1143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s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$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6880" y="4952880"/>
            <a:ext cx="3810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170080" y="5411880"/>
            <a:ext cx="473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umber of Regional Concentrators,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00400" y="48769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48769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48769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48769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487692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95480" y="51055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51055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43400" y="51055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952880" y="51055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510552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4495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4080" y="41148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09880" y="36576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31240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26668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2209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666880" y="2057040"/>
            <a:ext cx="358164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90920" y="335268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988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9568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33526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601992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ow, we need to address the benefit tradeof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7464240" y="1258920"/>
            <a:ext cx="153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Animated displ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790600" y="1563840"/>
            <a:ext cx="253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Secondary application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6000" y="2173320"/>
            <a:ext cx="126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User ame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76520" y="1030320"/>
            <a:ext cx="7086600" cy="4648320"/>
          </a:xfrm>
          <a:custGeom>
            <a:avLst/>
            <a:gdLst/>
            <a:ahLst/>
            <a:rect l="l" t="t" r="r" b="b"/>
            <a:pathLst>
              <a:path w="2784" h="2448">
                <a:moveTo>
                  <a:pt x="0" y="2448"/>
                </a:moveTo>
                <a:lnTo>
                  <a:pt x="432" y="2400"/>
                </a:lnTo>
                <a:lnTo>
                  <a:pt x="816" y="2256"/>
                </a:lnTo>
                <a:lnTo>
                  <a:pt x="1104" y="1920"/>
                </a:lnTo>
                <a:lnTo>
                  <a:pt x="1296" y="816"/>
                </a:lnTo>
                <a:lnTo>
                  <a:pt x="1488" y="432"/>
                </a:lnTo>
                <a:lnTo>
                  <a:pt x="1776" y="192"/>
                </a:lnTo>
                <a:lnTo>
                  <a:pt x="2016" y="96"/>
                </a:lnTo>
                <a:lnTo>
                  <a:pt x="2304" y="48"/>
                </a:lnTo>
                <a:lnTo>
                  <a:pt x="2784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5526000"/>
            <a:ext cx="152640" cy="15264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57600" y="5221440"/>
            <a:ext cx="152280" cy="15228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4611600"/>
            <a:ext cx="152280" cy="15264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2478240"/>
            <a:ext cx="152280" cy="15228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1716120"/>
            <a:ext cx="152640" cy="15228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1335240"/>
            <a:ext cx="152640" cy="15228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81680" y="1106640"/>
            <a:ext cx="152640" cy="15228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10480" y="954000"/>
            <a:ext cx="152640" cy="15264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467480" y="1030320"/>
            <a:ext cx="152640" cy="15228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802760" y="3392640"/>
            <a:ext cx="210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Main application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57080" y="685800"/>
            <a:ext cx="16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Natural speech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86200" y="990720"/>
            <a:ext cx="231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Tertairy application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840" y="4916520"/>
            <a:ext cx="21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Basic application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28880" y="5450040"/>
            <a:ext cx="20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Data managemen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34840" y="502920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Operating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52974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172200" y="1182600"/>
            <a:ext cx="304920" cy="76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4840" y="1182600"/>
            <a:ext cx="228600" cy="152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72400" y="878040"/>
            <a:ext cx="304920" cy="15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3352680" y="5449680"/>
            <a:ext cx="457200" cy="75960"/>
          </a:xfrm>
          <a:prstGeom prst="line">
            <a:avLst/>
          </a:prstGeom>
          <a:ln w="255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567864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76520" y="878040"/>
            <a:ext cx="0" cy="4800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41200" y="567540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Inves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33200" y="567540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High-pay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43600" y="5675400"/>
            <a:ext cx="16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Diminishing ret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2485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3392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735000" y="6095880"/>
            <a:ext cx="2439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Cost of software produ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-591840" y="3027600"/>
            <a:ext cx="3944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  <a:ea typeface="굴림"/>
              </a:rPr>
              <a:t>Value of software product to organiz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696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996, USC changed its core two-semester software engineering cour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ginally hypothetical-project, homework-and-exam course based on the Bloom taxono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real-client team-project course based on the CRESST model of learning objec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S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gnitive demands analys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termine necessary student skills required for applying software economics and the other major SWE project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fining approach over the last four years of 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sed versions for one-semester undergraduate and graduate project course at Colum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sed versions for COTS based systems develop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76440"/>
            <a:ext cx="777240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Times New Roman"/>
                <a:ea typeface="굴림"/>
              </a:rPr>
              <a:t>Cost-Effectiveness Decision Criteria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9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Maximum available bu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Minimum performance requi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Maximum effectiveness/cost rat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Maximum effectiveness – cost dif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Return on investment (RO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Composite 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"/>
          <p:cNvGrpSpPr/>
          <p:nvPr/>
        </p:nvGrpSpPr>
        <p:grpSpPr>
          <a:xfrm>
            <a:off x="1168560" y="1436400"/>
            <a:ext cx="5715000" cy="4648320"/>
            <a:chOff x="1168560" y="1436400"/>
            <a:chExt cx="5715000" cy="4648320"/>
          </a:xfrm>
        </p:grpSpPr>
        <p:sp>
          <p:nvSpPr>
            <p:cNvPr id="214" name=""/>
            <p:cNvSpPr/>
            <p:nvPr/>
          </p:nvSpPr>
          <p:spPr>
            <a:xfrm>
              <a:off x="1168560" y="6084720"/>
              <a:ext cx="571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1168560" y="1436400"/>
              <a:ext cx="0" cy="464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1462320" y="5811480"/>
              <a:ext cx="5420520" cy="272880"/>
              <a:chOff x="1462320" y="5811480"/>
              <a:chExt cx="5420520" cy="272880"/>
            </a:xfrm>
          </p:grpSpPr>
          <p:grpSp>
            <p:nvGrpSpPr>
              <p:cNvPr id="217" name=""/>
              <p:cNvGrpSpPr/>
              <p:nvPr/>
            </p:nvGrpSpPr>
            <p:grpSpPr>
              <a:xfrm>
                <a:off x="1462320" y="5811480"/>
                <a:ext cx="1249920" cy="272880"/>
                <a:chOff x="1462320" y="5811480"/>
                <a:chExt cx="1249920" cy="272880"/>
              </a:xfrm>
            </p:grpSpPr>
            <p:sp>
              <p:nvSpPr>
                <p:cNvPr id="218" name=""/>
                <p:cNvSpPr/>
                <p:nvPr/>
              </p:nvSpPr>
              <p:spPr>
                <a:xfrm flipV="1">
                  <a:off x="1462320" y="5948280"/>
                  <a:ext cx="0" cy="136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V="1">
                  <a:off x="1878480" y="5811480"/>
                  <a:ext cx="0" cy="27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V="1">
                  <a:off x="2295720" y="5948280"/>
                  <a:ext cx="0" cy="136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V="1">
                  <a:off x="2712240" y="5811480"/>
                  <a:ext cx="0" cy="27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3129840" y="5811480"/>
                <a:ext cx="1249920" cy="272880"/>
                <a:chOff x="3129840" y="5811480"/>
                <a:chExt cx="1249920" cy="272880"/>
              </a:xfrm>
            </p:grpSpPr>
            <p:sp>
              <p:nvSpPr>
                <p:cNvPr id="223" name=""/>
                <p:cNvSpPr/>
                <p:nvPr/>
              </p:nvSpPr>
              <p:spPr>
                <a:xfrm flipV="1">
                  <a:off x="3129840" y="5948280"/>
                  <a:ext cx="0" cy="136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V="1">
                  <a:off x="3546000" y="5811480"/>
                  <a:ext cx="0" cy="27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V="1">
                  <a:off x="3963240" y="5948280"/>
                  <a:ext cx="0" cy="136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V="1">
                  <a:off x="4379760" y="5811480"/>
                  <a:ext cx="0" cy="27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798440" y="5811480"/>
                <a:ext cx="1249920" cy="272880"/>
                <a:chOff x="4798440" y="5811480"/>
                <a:chExt cx="1249920" cy="272880"/>
              </a:xfrm>
            </p:grpSpPr>
            <p:sp>
              <p:nvSpPr>
                <p:cNvPr id="228" name=""/>
                <p:cNvSpPr/>
                <p:nvPr/>
              </p:nvSpPr>
              <p:spPr>
                <a:xfrm flipV="1">
                  <a:off x="4798440" y="5948280"/>
                  <a:ext cx="0" cy="136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5214600" y="5811480"/>
                  <a:ext cx="0" cy="27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V="1">
                  <a:off x="5631840" y="5948280"/>
                  <a:ext cx="0" cy="136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V="1">
                  <a:off x="6048360" y="5811480"/>
                  <a:ext cx="0" cy="27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 flipV="1">
                <a:off x="6465960" y="5948280"/>
                <a:ext cx="0" cy="13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6882840" y="5811480"/>
                <a:ext cx="0" cy="27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1168560" y="1504800"/>
              <a:ext cx="296640" cy="4260600"/>
              <a:chOff x="1168560" y="1504800"/>
              <a:chExt cx="296640" cy="4260600"/>
            </a:xfrm>
          </p:grpSpPr>
          <p:sp>
            <p:nvSpPr>
              <p:cNvPr id="235" name=""/>
              <p:cNvSpPr/>
              <p:nvPr/>
            </p:nvSpPr>
            <p:spPr>
              <a:xfrm>
                <a:off x="1168560" y="1504800"/>
                <a:ext cx="29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168560" y="189288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168560" y="2280240"/>
                <a:ext cx="294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1171440" y="2665800"/>
                <a:ext cx="293760" cy="1161720"/>
                <a:chOff x="1171440" y="2665800"/>
                <a:chExt cx="293760" cy="116172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1172160" y="2665800"/>
                  <a:ext cx="146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1171440" y="3052440"/>
                  <a:ext cx="293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172160" y="3440520"/>
                  <a:ext cx="146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171440" y="3827520"/>
                  <a:ext cx="293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1171440" y="4215600"/>
                <a:ext cx="293760" cy="1161720"/>
                <a:chOff x="1171440" y="4215600"/>
                <a:chExt cx="293760" cy="11617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1172160" y="4215600"/>
                  <a:ext cx="146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171440" y="4602240"/>
                  <a:ext cx="293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172160" y="4990320"/>
                  <a:ext cx="1465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171440" y="5377320"/>
                  <a:ext cx="2937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8" name=""/>
              <p:cNvSpPr/>
              <p:nvPr/>
            </p:nvSpPr>
            <p:spPr>
              <a:xfrm>
                <a:off x="1171440" y="5765400"/>
                <a:ext cx="146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"/>
          <p:cNvSpPr/>
          <p:nvPr/>
        </p:nvSpPr>
        <p:spPr>
          <a:xfrm>
            <a:off x="609840" y="36576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840" y="213372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840" y="289548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16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6520" y="44197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8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1720" y="522144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840" y="137160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2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26120" y="60595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464560" y="60595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02640" y="60595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3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140720" y="60595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4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79160" y="60595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17240" y="60595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79360" y="605952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  <a:ea typeface="굴림"/>
              </a:rPr>
              <a:t>7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47640" y="1828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781680" y="1905120"/>
            <a:ext cx="152640" cy="114120"/>
          </a:xfrm>
          <a:prstGeom prst="flowChartConnector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04120" y="167004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1168560" y="1360080"/>
            <a:ext cx="2514600" cy="472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906640" y="220968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08320" y="2286000"/>
            <a:ext cx="11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Eff/Cost =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59280" y="4114800"/>
            <a:ext cx="30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426480" y="434340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Eff/Cost = 3.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06320" y="64008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C, $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6200000">
            <a:off x="61560" y="309276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E (tr/se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39960" y="761760"/>
            <a:ext cx="777240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Maximum Effectiveness/Cost Rat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130720" y="463716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969160" y="27316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6858000" y="190476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130720" y="4660560"/>
            <a:ext cx="0" cy="142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511960" y="3462120"/>
            <a:ext cx="0" cy="11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511960" y="3462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969160" y="27320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400800" y="2438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0080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1143000" y="1676520"/>
            <a:ext cx="6172200" cy="441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9810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828800" y="609480"/>
            <a:ext cx="57913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Sample of USC Proj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4920" y="1752480"/>
          <a:ext cx="845820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52480"/>
                    <a:ext cx="84582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utorial 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8483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principles and practice of introducing software economics within a real-client based software engineering project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not expect everything to apply to your particular situat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monstrate a number of general economic-based techniq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-driven specifications, domain specific simplifier and complicators, and the schedule as an independent variable (SSIV) process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uss how application of these techniques have contributed significantly to our overall positive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utorial Objectives (cont.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ver the basic process we follow to generate and evolve the course subject areas that incorporate SWE ec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highlights of particular software economics related principles and practices used within our graduate level software engineering cour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 of our model based software engineering framework (MBASE/CeBASE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 from actual student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resources for you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utorial Approa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our first time trying to “export” our experience and approach for educ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 a sampling of the practice and theory behind our SWE project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related to the SWE economic asp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e to stimulate discu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need to strictly follow 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dwell on some interesting things, bypass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need to go through all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ly more of a workshop with tutorial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5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re you participate, the more we all we gai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5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ruptions and suggestions are very wel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p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371600"/>
            <a:ext cx="7696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gnitive demands of software engineering project 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of MBASE/CeBASE for software engineering project cour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ons of CS 577 MBASE software engineering economics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 577 Case Studie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s for your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 of SWE Economic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630360" y="1968480"/>
          <a:ext cx="8020080" cy="27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968480"/>
                    <a:ext cx="8020080" cy="27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457200" y="533520"/>
            <a:ext cx="8229600" cy="12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Engineering”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disciplines which distinguish the coding of a computer program from the development of a software produ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4952880"/>
            <a:ext cx="79246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ly outside of typical CS degree pr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udent backgrounds highly varied, usually little experi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16:17:53Z</dcterms:created>
  <dc:creator>Dan</dc:creator>
  <dc:description/>
  <dc:language>en-US</dc:language>
  <cp:lastModifiedBy>Valued Sony Customer</cp:lastModifiedBy>
  <dcterms:modified xsi:type="dcterms:W3CDTF">2002-02-25T04:43:07Z</dcterms:modified>
  <cp:revision>36</cp:revision>
  <dc:subject/>
  <dc:title>Educating Software Engineering Students to Manage Risk </dc:title>
</cp:coreProperties>
</file>